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1CA-F168-4220-B542-39B06A9A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4FE-74A9-4FC2-943D-D9B51E88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67B-F72E-4D3C-BA3C-6AD881EE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778-37E7-4EB6-8183-D0190FBA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633-C604-4AED-B0BC-66BFB16D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366-BA11-442F-A55F-A1051BCE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2BC-F5C1-42A4-A422-9689D599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6A6-AC6F-42C2-9540-DB1EAD79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B98-A603-4487-B02E-3029E1B1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D81-83D1-4DE3-AA32-1A3E9FC1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851-BA2D-4E98-9C7D-5B285561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61F-1B8C-48CD-8BBA-8BDEFCB5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A7AE-E393-4DD0-9AC3-2C42539ECD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>
            <a:hlinkClick r:id="rId1" action="ppaction://hlinksldjump"/>
          </p:cNvPr>
          <p:cNvSpPr/>
          <p:nvPr/>
        </p:nvSpPr>
        <p:spPr>
          <a:xfrm>
            <a:off x="1547640" y="2708280"/>
            <a:ext cx="56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彩云"/>
              </a:rPr>
              <a:t>万以上数的大小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62064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青岛版四年级数学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738360" y="1773360"/>
            <a:ext cx="7667280" cy="581400"/>
          </a:xfrm>
          <a:prstGeom prst="rect">
            <a:avLst/>
          </a:prstGeom>
          <a:solidFill>
            <a:srgbClr val="4f81bd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亿以内数的大小比较，位数不同的两个数，位数多的数大，位数少的数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847800" y="3429000"/>
            <a:ext cx="7521480" cy="581400"/>
          </a:xfrm>
          <a:prstGeom prst="rect">
            <a:avLst/>
          </a:prstGeom>
          <a:solidFill>
            <a:srgbClr val="4f81bd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数相同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高位上的数字大的数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774720" y="4257720"/>
            <a:ext cx="7777080" cy="581400"/>
          </a:xfrm>
          <a:prstGeom prst="rect">
            <a:avLst/>
          </a:prstGeom>
          <a:solidFill>
            <a:srgbClr val="4f81bd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数相同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最高位相同，就看下一位，下一位上的数字谁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数就大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方法总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987640" y="620640"/>
            <a:ext cx="468360" cy="504720"/>
          </a:xfrm>
          <a:custGeom>
            <a:avLst/>
            <a:gdLst>
              <a:gd name="textAreaLeft" fmla="*/ 192960 w 468360"/>
              <a:gd name="textAreaRight" fmla="*/ 275400 w 468360"/>
              <a:gd name="textAreaTop" fmla="*/ 208080 h 504720"/>
              <a:gd name="textAreaBottom" fmla="*/ 2966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4"/>
          <p:cNvSpPr txBox="1"/>
          <p:nvPr/>
        </p:nvSpPr>
        <p:spPr>
          <a:xfrm>
            <a:off x="2843280" y="90792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本课小结</a:t>
            </a:r>
            <a:endParaRPr b="0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835280" y="2781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本节课我们主要来学习万以上数的大小比较，同学们要掌握比较的方法，可以正确的比较两个数的大小，并能解决相关的实际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2916360" y="549360"/>
            <a:ext cx="365760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教学目标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76360" y="2781360"/>
            <a:ext cx="6120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本节课我们主要来学习万以上数的大小比较，同学们结合具体的例子归纳比较万以上数的大小的方法，能够正确的比较两个数的大小，可以解决相关的实际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4337280" y="371520"/>
            <a:ext cx="3546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黑体"/>
              </a:rPr>
              <a:t>下面是我国面积最大的六个省份（单位：平方千米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395280" y="1052640"/>
            <a:ext cx="8137440" cy="4826880"/>
            <a:chOff x="395280" y="1052640"/>
            <a:chExt cx="8137440" cy="4826880"/>
          </a:xfrm>
        </p:grpSpPr>
        <p:pic>
          <p:nvPicPr>
            <p:cNvPr id="48" name="Picture 5" descr="布达拉宫1"/>
            <p:cNvPicPr/>
            <p:nvPr/>
          </p:nvPicPr>
          <p:blipFill>
            <a:blip r:embed="rId1"/>
            <a:stretch/>
          </p:blipFill>
          <p:spPr>
            <a:xfrm>
              <a:off x="3228840" y="3478320"/>
              <a:ext cx="2521080" cy="18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工"/>
            <p:cNvPicPr/>
            <p:nvPr/>
          </p:nvPicPr>
          <p:blipFill>
            <a:blip r:embed="rId2"/>
            <a:stretch/>
          </p:blipFill>
          <p:spPr>
            <a:xfrm>
              <a:off x="6037200" y="3502080"/>
              <a:ext cx="2495520" cy="18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7" descr="雪景2"/>
            <p:cNvPicPr/>
            <p:nvPr/>
          </p:nvPicPr>
          <p:blipFill>
            <a:blip r:embed="rId3"/>
            <a:stretch/>
          </p:blipFill>
          <p:spPr>
            <a:xfrm>
              <a:off x="395280" y="1052640"/>
              <a:ext cx="244800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8" descr="Image00000"/>
            <p:cNvPicPr/>
            <p:nvPr/>
          </p:nvPicPr>
          <p:blipFill>
            <a:blip r:embed="rId4"/>
            <a:stretch/>
          </p:blipFill>
          <p:spPr>
            <a:xfrm>
              <a:off x="420840" y="3502080"/>
              <a:ext cx="2476440" cy="18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9" descr="Image00001"/>
            <p:cNvPicPr/>
            <p:nvPr/>
          </p:nvPicPr>
          <p:blipFill>
            <a:blip r:embed="rId5"/>
            <a:stretch/>
          </p:blipFill>
          <p:spPr>
            <a:xfrm>
              <a:off x="6012000" y="1052640"/>
              <a:ext cx="2476440" cy="18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0" descr="Image00002"/>
            <p:cNvPicPr/>
            <p:nvPr/>
          </p:nvPicPr>
          <p:blipFill>
            <a:blip r:embed="rId6"/>
            <a:stretch/>
          </p:blipFill>
          <p:spPr>
            <a:xfrm>
              <a:off x="3193920" y="1052640"/>
              <a:ext cx="24577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1"/>
            <p:cNvSpPr/>
            <p:nvPr/>
          </p:nvSpPr>
          <p:spPr>
            <a:xfrm>
              <a:off x="631080" y="2924280"/>
              <a:ext cx="20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黑龙江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54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2"/>
            <p:cNvSpPr/>
            <p:nvPr/>
          </p:nvSpPr>
          <p:spPr>
            <a:xfrm>
              <a:off x="3354480" y="2924280"/>
              <a:ext cx="216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内蒙古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3"/>
            <p:cNvSpPr/>
            <p:nvPr/>
          </p:nvSpPr>
          <p:spPr>
            <a:xfrm>
              <a:off x="6314400" y="2924280"/>
              <a:ext cx="181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青海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4"/>
            <p:cNvSpPr/>
            <p:nvPr/>
          </p:nvSpPr>
          <p:spPr>
            <a:xfrm>
              <a:off x="750240" y="5419800"/>
              <a:ext cx="181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四川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85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3482640" y="5419800"/>
              <a:ext cx="198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西藏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6"/>
            <p:cNvSpPr/>
            <p:nvPr/>
          </p:nvSpPr>
          <p:spPr>
            <a:xfrm>
              <a:off x="6276600" y="5373720"/>
              <a:ext cx="198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新疆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66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7"/>
          <p:cNvGrpSpPr/>
          <p:nvPr/>
        </p:nvGrpSpPr>
        <p:grpSpPr>
          <a:xfrm>
            <a:off x="1187280" y="6021360"/>
            <a:ext cx="6048720" cy="825480"/>
            <a:chOff x="1187280" y="6021360"/>
            <a:chExt cx="6048720" cy="825480"/>
          </a:xfrm>
        </p:grpSpPr>
        <p:sp>
          <p:nvSpPr>
            <p:cNvPr id="61" name="AutoShape 18"/>
            <p:cNvSpPr/>
            <p:nvPr/>
          </p:nvSpPr>
          <p:spPr>
            <a:xfrm>
              <a:off x="1187280" y="6021360"/>
              <a:ext cx="6048720" cy="503280"/>
            </a:xfrm>
            <a:prstGeom prst="cloudCallout">
              <a:avLst>
                <a:gd name="adj1" fmla="val 51050"/>
                <a:gd name="adj2" fmla="val 64194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9"/>
            <p:cNvSpPr/>
            <p:nvPr/>
          </p:nvSpPr>
          <p:spPr>
            <a:xfrm>
              <a:off x="1835280" y="6021360"/>
              <a:ext cx="496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你会比较每两个省面积的大小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20" descr="witch_ani22"/>
          <p:cNvPicPr/>
          <p:nvPr/>
        </p:nvPicPr>
        <p:blipFill>
          <a:blip r:embed="rId7"/>
          <a:stretch/>
        </p:blipFill>
        <p:spPr>
          <a:xfrm>
            <a:off x="7451640" y="5445000"/>
            <a:ext cx="6778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947160" y="1674720"/>
            <a:ext cx="136944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4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753840" y="2262240"/>
            <a:ext cx="156744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2484360" y="1844640"/>
            <a:ext cx="216000" cy="792360"/>
          </a:xfrm>
          <a:custGeom>
            <a:avLst/>
            <a:gdLst>
              <a:gd name="textAreaLeft" fmla="*/ 0 w 216000"/>
              <a:gd name="textAreaRight" fmla="*/ 78120 w 216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2987640" y="1844640"/>
            <a:ext cx="3888000" cy="719280"/>
            <a:chOff x="2987640" y="1844640"/>
            <a:chExt cx="3888000" cy="719280"/>
          </a:xfrm>
        </p:grpSpPr>
        <p:sp>
          <p:nvSpPr>
            <p:cNvPr id="68" name="AutoShape 6"/>
            <p:cNvSpPr/>
            <p:nvPr/>
          </p:nvSpPr>
          <p:spPr>
            <a:xfrm>
              <a:off x="2987640" y="1844640"/>
              <a:ext cx="3888000" cy="719280"/>
            </a:xfrm>
            <a:prstGeom prst="cloudCallout">
              <a:avLst>
                <a:gd name="adj1" fmla="val 43671"/>
                <a:gd name="adj2" fmla="val 86425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4053960" y="18763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位数多的数就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8"/>
          <p:cNvGrpSpPr/>
          <p:nvPr/>
        </p:nvGrpSpPr>
        <p:grpSpPr>
          <a:xfrm>
            <a:off x="324000" y="4076640"/>
            <a:ext cx="3563640" cy="719280"/>
            <a:chOff x="324000" y="4076640"/>
            <a:chExt cx="3563640" cy="719280"/>
          </a:xfrm>
        </p:grpSpPr>
        <p:sp>
          <p:nvSpPr>
            <p:cNvPr id="71" name="AutoShape 9"/>
            <p:cNvSpPr/>
            <p:nvPr/>
          </p:nvSpPr>
          <p:spPr>
            <a:xfrm>
              <a:off x="324000" y="4076640"/>
              <a:ext cx="3563640" cy="719280"/>
            </a:xfrm>
            <a:prstGeom prst="cloudCallout">
              <a:avLst>
                <a:gd name="adj1" fmla="val -26615"/>
                <a:gd name="adj2" fmla="val 96356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1725480" y="4202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试着比一比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1"/>
          <p:cNvGrpSpPr/>
          <p:nvPr/>
        </p:nvGrpSpPr>
        <p:grpSpPr>
          <a:xfrm>
            <a:off x="3635280" y="3521160"/>
            <a:ext cx="4969080" cy="2571840"/>
            <a:chOff x="3635280" y="3521160"/>
            <a:chExt cx="4969080" cy="2571840"/>
          </a:xfrm>
        </p:grpSpPr>
        <p:sp>
          <p:nvSpPr>
            <p:cNvPr id="74" name="AutoShape 12"/>
            <p:cNvSpPr/>
            <p:nvPr/>
          </p:nvSpPr>
          <p:spPr>
            <a:xfrm>
              <a:off x="3635280" y="3645000"/>
              <a:ext cx="4969080" cy="244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3"/>
            <p:cNvSpPr/>
            <p:nvPr/>
          </p:nvSpPr>
          <p:spPr>
            <a:xfrm>
              <a:off x="4264200" y="35211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4"/>
            <p:cNvSpPr/>
            <p:nvPr/>
          </p:nvSpPr>
          <p:spPr>
            <a:xfrm>
              <a:off x="5940360" y="5013360"/>
              <a:ext cx="2890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5"/>
            <p:cNvSpPr/>
            <p:nvPr/>
          </p:nvSpPr>
          <p:spPr>
            <a:xfrm>
              <a:off x="5940360" y="5587920"/>
              <a:ext cx="289080" cy="28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6"/>
            <p:cNvGrpSpPr/>
            <p:nvPr/>
          </p:nvGrpSpPr>
          <p:grpSpPr>
            <a:xfrm>
              <a:off x="4140720" y="3713040"/>
              <a:ext cx="3775680" cy="2238840"/>
              <a:chOff x="4140720" y="3713040"/>
              <a:chExt cx="3775680" cy="2238840"/>
            </a:xfrm>
          </p:grpSpPr>
          <p:sp>
            <p:nvSpPr>
              <p:cNvPr id="79" name="Text Box 17"/>
              <p:cNvSpPr/>
              <p:nvPr/>
            </p:nvSpPr>
            <p:spPr>
              <a:xfrm>
                <a:off x="4140720" y="3713040"/>
                <a:ext cx="3775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660000     485000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18"/>
              <p:cNvSpPr/>
              <p:nvPr/>
            </p:nvSpPr>
            <p:spPr>
              <a:xfrm>
                <a:off x="5940360" y="3860640"/>
                <a:ext cx="289080" cy="28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19"/>
              <p:cNvSpPr/>
              <p:nvPr/>
            </p:nvSpPr>
            <p:spPr>
              <a:xfrm>
                <a:off x="4428000" y="4292640"/>
                <a:ext cx="343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78234      132000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20"/>
              <p:cNvSpPr/>
              <p:nvPr/>
            </p:nvSpPr>
            <p:spPr>
              <a:xfrm>
                <a:off x="5940360" y="4437000"/>
                <a:ext cx="289080" cy="28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21"/>
              <p:cNvSpPr/>
              <p:nvPr/>
            </p:nvSpPr>
            <p:spPr>
              <a:xfrm>
                <a:off x="4285080" y="4865760"/>
                <a:ext cx="343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530000      89654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22"/>
              <p:cNvSpPr/>
              <p:nvPr/>
            </p:nvSpPr>
            <p:spPr>
              <a:xfrm>
                <a:off x="4501440" y="5370480"/>
                <a:ext cx="3338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99999      10000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Rectangle 23"/>
          <p:cNvSpPr/>
          <p:nvPr/>
        </p:nvSpPr>
        <p:spPr>
          <a:xfrm>
            <a:off x="5920560" y="3789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5920560" y="4365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5"/>
          <p:cNvSpPr/>
          <p:nvPr/>
        </p:nvSpPr>
        <p:spPr>
          <a:xfrm>
            <a:off x="5920560" y="4941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6"/>
          <p:cNvSpPr/>
          <p:nvPr/>
        </p:nvSpPr>
        <p:spPr>
          <a:xfrm>
            <a:off x="5914440" y="5516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"/>
          <p:cNvPicPr/>
          <p:nvPr/>
        </p:nvPicPr>
        <p:blipFill>
          <a:blip r:embed="rId1"/>
          <a:stretch/>
        </p:blipFill>
        <p:spPr>
          <a:xfrm>
            <a:off x="468360" y="1052640"/>
            <a:ext cx="923760" cy="8571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3"/>
          <p:cNvSpPr/>
          <p:nvPr/>
        </p:nvSpPr>
        <p:spPr>
          <a:xfrm>
            <a:off x="1332000" y="836640"/>
            <a:ext cx="5184720" cy="649440"/>
          </a:xfrm>
          <a:prstGeom prst="cloudCallout">
            <a:avLst>
              <a:gd name="adj1" fmla="val -48560"/>
              <a:gd name="adj2" fmla="val 67115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舒体"/>
              </a:rPr>
              <a:t>如果位数相同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042920" y="1844640"/>
            <a:ext cx="1735560" cy="1096920"/>
            <a:chOff x="1042920" y="1844640"/>
            <a:chExt cx="1735560" cy="1096920"/>
          </a:xfrm>
        </p:grpSpPr>
        <p:sp>
          <p:nvSpPr>
            <p:cNvPr id="92" name="Rectangle 5"/>
            <p:cNvSpPr/>
            <p:nvPr/>
          </p:nvSpPr>
          <p:spPr>
            <a:xfrm>
              <a:off x="1405800" y="242100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2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1409040" y="184464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548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 flipH="1">
              <a:off x="1042920" y="1989000"/>
              <a:ext cx="216000" cy="792360"/>
            </a:xfrm>
            <a:custGeom>
              <a:avLst/>
              <a:gdLst>
                <a:gd name="textAreaLeft" fmla="*/ 360 w 216000"/>
                <a:gd name="textAreaRight" fmla="*/ 78480 w 21600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4067280" y="1828800"/>
            <a:ext cx="1661040" cy="1096920"/>
            <a:chOff x="4067280" y="1828800"/>
            <a:chExt cx="1661040" cy="1096920"/>
          </a:xfrm>
        </p:grpSpPr>
        <p:sp>
          <p:nvSpPr>
            <p:cNvPr id="96" name="Rectangle 9"/>
            <p:cNvSpPr/>
            <p:nvPr/>
          </p:nvSpPr>
          <p:spPr>
            <a:xfrm>
              <a:off x="4358880" y="182880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548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4358880" y="240516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85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1"/>
            <p:cNvSpPr/>
            <p:nvPr/>
          </p:nvSpPr>
          <p:spPr>
            <a:xfrm flipH="1">
              <a:off x="4067280" y="1987560"/>
              <a:ext cx="216000" cy="792000"/>
            </a:xfrm>
            <a:custGeom>
              <a:avLst/>
              <a:gdLst>
                <a:gd name="textAreaLeft" fmla="*/ 360 w 216000"/>
                <a:gd name="textAreaRight" fmla="*/ 78480 w 21600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2"/>
          <p:cNvGrpSpPr/>
          <p:nvPr/>
        </p:nvGrpSpPr>
        <p:grpSpPr>
          <a:xfrm>
            <a:off x="2987640" y="4356000"/>
            <a:ext cx="6192720" cy="2313000"/>
            <a:chOff x="2987640" y="4356000"/>
            <a:chExt cx="6192720" cy="2313000"/>
          </a:xfrm>
        </p:grpSpPr>
        <p:sp>
          <p:nvSpPr>
            <p:cNvPr id="100" name="AutoShape 13"/>
            <p:cNvSpPr/>
            <p:nvPr/>
          </p:nvSpPr>
          <p:spPr>
            <a:xfrm>
              <a:off x="2987640" y="4356000"/>
              <a:ext cx="6192720" cy="2313000"/>
            </a:xfrm>
            <a:prstGeom prst="cloudCallout">
              <a:avLst>
                <a:gd name="adj1" fmla="val 27620"/>
                <a:gd name="adj2" fmla="val -1071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3895560" y="4603680"/>
              <a:ext cx="48722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如果位数相同，先比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左起第一位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如果左起第一位也相同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再比较左起第二位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5"/>
          <p:cNvGrpSpPr/>
          <p:nvPr/>
        </p:nvGrpSpPr>
        <p:grpSpPr>
          <a:xfrm>
            <a:off x="1104480" y="3573360"/>
            <a:ext cx="1664280" cy="1096560"/>
            <a:chOff x="1104480" y="3573360"/>
            <a:chExt cx="1664280" cy="1096560"/>
          </a:xfrm>
        </p:grpSpPr>
        <p:sp>
          <p:nvSpPr>
            <p:cNvPr id="103" name="Rectangle 16"/>
            <p:cNvSpPr/>
            <p:nvPr/>
          </p:nvSpPr>
          <p:spPr>
            <a:xfrm>
              <a:off x="1399320" y="357336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85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1399320" y="414936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851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8"/>
            <p:cNvSpPr/>
            <p:nvPr/>
          </p:nvSpPr>
          <p:spPr>
            <a:xfrm flipH="1">
              <a:off x="1104120" y="3732120"/>
              <a:ext cx="215640" cy="792000"/>
            </a:xfrm>
            <a:custGeom>
              <a:avLst/>
              <a:gdLst>
                <a:gd name="textAreaLeft" fmla="*/ -360 w 215640"/>
                <a:gd name="textAreaRight" fmla="*/ 77400 w 2156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9"/>
          <p:cNvSpPr/>
          <p:nvPr/>
        </p:nvSpPr>
        <p:spPr>
          <a:xfrm>
            <a:off x="1929600" y="6211800"/>
            <a:ext cx="10951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试试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821880" y="2924280"/>
            <a:ext cx="25394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48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3769920" y="2924280"/>
            <a:ext cx="253944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48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859320" y="4653000"/>
            <a:ext cx="264744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5200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51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Image00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3"/>
          <p:cNvGrpSpPr/>
          <p:nvPr/>
        </p:nvGrpSpPr>
        <p:grpSpPr>
          <a:xfrm>
            <a:off x="397080" y="333360"/>
            <a:ext cx="5823000" cy="3531600"/>
            <a:chOff x="397080" y="333360"/>
            <a:chExt cx="5823000" cy="3531600"/>
          </a:xfrm>
        </p:grpSpPr>
        <p:grpSp>
          <p:nvGrpSpPr>
            <p:cNvPr id="112" name="Group 4"/>
            <p:cNvGrpSpPr/>
            <p:nvPr/>
          </p:nvGrpSpPr>
          <p:grpSpPr>
            <a:xfrm>
              <a:off x="420120" y="333360"/>
              <a:ext cx="2638800" cy="459720"/>
              <a:chOff x="420120" y="333360"/>
              <a:chExt cx="2638800" cy="459720"/>
            </a:xfrm>
          </p:grpSpPr>
          <p:sp>
            <p:nvSpPr>
              <p:cNvPr id="113" name="Text Box 5"/>
              <p:cNvSpPr/>
              <p:nvPr/>
            </p:nvSpPr>
            <p:spPr>
              <a:xfrm>
                <a:off x="420120" y="333360"/>
                <a:ext cx="2638800" cy="459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08910       8888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6"/>
              <p:cNvSpPr/>
              <p:nvPr/>
            </p:nvSpPr>
            <p:spPr>
              <a:xfrm>
                <a:off x="1692000" y="40644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7"/>
            <p:cNvGrpSpPr/>
            <p:nvPr/>
          </p:nvGrpSpPr>
          <p:grpSpPr>
            <a:xfrm>
              <a:off x="3600720" y="333360"/>
              <a:ext cx="2555280" cy="459720"/>
              <a:chOff x="3600720" y="333360"/>
              <a:chExt cx="2555280" cy="459720"/>
            </a:xfrm>
          </p:grpSpPr>
          <p:sp>
            <p:nvSpPr>
              <p:cNvPr id="116" name="Text Box 8"/>
              <p:cNvSpPr/>
              <p:nvPr/>
            </p:nvSpPr>
            <p:spPr>
              <a:xfrm>
                <a:off x="3600720" y="333360"/>
                <a:ext cx="2555280" cy="4597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0120        4000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9"/>
              <p:cNvSpPr/>
              <p:nvPr/>
            </p:nvSpPr>
            <p:spPr>
              <a:xfrm>
                <a:off x="4824360" y="40644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10"/>
            <p:cNvGrpSpPr/>
            <p:nvPr/>
          </p:nvGrpSpPr>
          <p:grpSpPr>
            <a:xfrm>
              <a:off x="406800" y="1892160"/>
              <a:ext cx="3146400" cy="459720"/>
              <a:chOff x="406800" y="1892160"/>
              <a:chExt cx="3146400" cy="459720"/>
            </a:xfrm>
          </p:grpSpPr>
          <p:sp>
            <p:nvSpPr>
              <p:cNvPr id="119" name="Text Box 11"/>
              <p:cNvSpPr/>
              <p:nvPr/>
            </p:nvSpPr>
            <p:spPr>
              <a:xfrm>
                <a:off x="406800" y="1892160"/>
                <a:ext cx="3146400" cy="459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003000       300300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12"/>
              <p:cNvSpPr/>
              <p:nvPr/>
            </p:nvSpPr>
            <p:spPr>
              <a:xfrm>
                <a:off x="1844280" y="1965240"/>
                <a:ext cx="28764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13"/>
            <p:cNvGrpSpPr/>
            <p:nvPr/>
          </p:nvGrpSpPr>
          <p:grpSpPr>
            <a:xfrm>
              <a:off x="407520" y="2684520"/>
              <a:ext cx="3484800" cy="459720"/>
              <a:chOff x="407520" y="2684520"/>
              <a:chExt cx="3484800" cy="459720"/>
            </a:xfrm>
          </p:grpSpPr>
          <p:sp>
            <p:nvSpPr>
              <p:cNvPr id="122" name="Text Box 14"/>
              <p:cNvSpPr/>
              <p:nvPr/>
            </p:nvSpPr>
            <p:spPr>
              <a:xfrm>
                <a:off x="407520" y="2684520"/>
                <a:ext cx="3484800" cy="4597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1320030       413200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5"/>
              <p:cNvSpPr/>
              <p:nvPr/>
            </p:nvSpPr>
            <p:spPr>
              <a:xfrm>
                <a:off x="2082600" y="275760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6"/>
            <p:cNvGrpSpPr/>
            <p:nvPr/>
          </p:nvGrpSpPr>
          <p:grpSpPr>
            <a:xfrm>
              <a:off x="397080" y="1100160"/>
              <a:ext cx="2808000" cy="459720"/>
              <a:chOff x="397080" y="1100160"/>
              <a:chExt cx="2808000" cy="459720"/>
            </a:xfrm>
          </p:grpSpPr>
          <p:sp>
            <p:nvSpPr>
              <p:cNvPr id="125" name="Text Box 17"/>
              <p:cNvSpPr/>
              <p:nvPr/>
            </p:nvSpPr>
            <p:spPr>
              <a:xfrm>
                <a:off x="397080" y="1100160"/>
                <a:ext cx="2808000" cy="4597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67900       2682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18"/>
              <p:cNvSpPr/>
              <p:nvPr/>
            </p:nvSpPr>
            <p:spPr>
              <a:xfrm>
                <a:off x="1692360" y="1172880"/>
                <a:ext cx="287280" cy="287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9"/>
            <p:cNvGrpSpPr/>
            <p:nvPr/>
          </p:nvGrpSpPr>
          <p:grpSpPr>
            <a:xfrm>
              <a:off x="3581280" y="1100160"/>
              <a:ext cx="2638800" cy="459720"/>
              <a:chOff x="3581280" y="1100160"/>
              <a:chExt cx="2638800" cy="459720"/>
            </a:xfrm>
          </p:grpSpPr>
          <p:sp>
            <p:nvSpPr>
              <p:cNvPr id="128" name="Text Box 20"/>
              <p:cNvSpPr/>
              <p:nvPr/>
            </p:nvSpPr>
            <p:spPr>
              <a:xfrm>
                <a:off x="3581280" y="1100160"/>
                <a:ext cx="2638800" cy="4597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50000       4852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21"/>
              <p:cNvSpPr/>
              <p:nvPr/>
            </p:nvSpPr>
            <p:spPr>
              <a:xfrm>
                <a:off x="4840200" y="117324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22"/>
            <p:cNvGrpSpPr/>
            <p:nvPr/>
          </p:nvGrpSpPr>
          <p:grpSpPr>
            <a:xfrm>
              <a:off x="1425600" y="3405240"/>
              <a:ext cx="1692360" cy="459720"/>
              <a:chOff x="1425600" y="3405240"/>
              <a:chExt cx="1692360" cy="459720"/>
            </a:xfrm>
          </p:grpSpPr>
          <p:sp>
            <p:nvSpPr>
              <p:cNvPr id="131" name="Text Box 23"/>
              <p:cNvSpPr/>
              <p:nvPr/>
            </p:nvSpPr>
            <p:spPr>
              <a:xfrm>
                <a:off x="1425600" y="3405240"/>
                <a:ext cx="1692360" cy="4597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最小的六位数      十个一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24"/>
              <p:cNvSpPr/>
              <p:nvPr/>
            </p:nvSpPr>
            <p:spPr>
              <a:xfrm>
                <a:off x="2494080" y="347832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WordArt 25"/>
          <p:cNvSpPr txBox="1"/>
          <p:nvPr/>
        </p:nvSpPr>
        <p:spPr>
          <a:xfrm rot="19084200">
            <a:off x="4362480" y="2371320"/>
            <a:ext cx="259236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10374000"/>
                </a:gradFill>
                <a:latin typeface="华文新魏"/>
              </a:rPr>
              <a:t>考考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10374000"/>
              </a:gradFill>
              <a:latin typeface="华文新魏"/>
              <a:ea typeface="华文新魏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1672560" y="333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4769640" y="333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1672560" y="1087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9"/>
          <p:cNvSpPr/>
          <p:nvPr/>
        </p:nvSpPr>
        <p:spPr>
          <a:xfrm>
            <a:off x="1816920" y="1879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0"/>
          <p:cNvSpPr/>
          <p:nvPr/>
        </p:nvSpPr>
        <p:spPr>
          <a:xfrm>
            <a:off x="4833360" y="1087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1"/>
          <p:cNvSpPr/>
          <p:nvPr/>
        </p:nvSpPr>
        <p:spPr>
          <a:xfrm>
            <a:off x="2098080" y="2671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2"/>
          <p:cNvSpPr/>
          <p:nvPr/>
        </p:nvSpPr>
        <p:spPr>
          <a:xfrm>
            <a:off x="2474640" y="340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BCKLC029"/>
          <p:cNvPicPr/>
          <p:nvPr/>
        </p:nvPicPr>
        <p:blipFill>
          <a:blip r:embed="rId1"/>
          <a:stretch/>
        </p:blipFill>
        <p:spPr>
          <a:xfrm>
            <a:off x="-181080" y="-243000"/>
            <a:ext cx="9504360" cy="720108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3"/>
          <p:cNvGrpSpPr/>
          <p:nvPr/>
        </p:nvGrpSpPr>
        <p:grpSpPr>
          <a:xfrm>
            <a:off x="331200" y="3921120"/>
            <a:ext cx="2245320" cy="1452600"/>
            <a:chOff x="331200" y="3921120"/>
            <a:chExt cx="2245320" cy="1452600"/>
          </a:xfrm>
        </p:grpSpPr>
        <p:pic>
          <p:nvPicPr>
            <p:cNvPr id="143" name="Picture 4" descr="fish19"/>
            <p:cNvPicPr/>
            <p:nvPr/>
          </p:nvPicPr>
          <p:blipFill>
            <a:blip r:embed="rId2"/>
            <a:stretch/>
          </p:blipFill>
          <p:spPr>
            <a:xfrm>
              <a:off x="1082520" y="424188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5"/>
            <p:cNvSpPr/>
            <p:nvPr/>
          </p:nvSpPr>
          <p:spPr>
            <a:xfrm>
              <a:off x="331200" y="392112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0204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6"/>
          <p:cNvGrpSpPr/>
          <p:nvPr/>
        </p:nvGrpSpPr>
        <p:grpSpPr>
          <a:xfrm>
            <a:off x="2275920" y="3632040"/>
            <a:ext cx="2242080" cy="1452600"/>
            <a:chOff x="2275920" y="3632040"/>
            <a:chExt cx="2242080" cy="1452600"/>
          </a:xfrm>
        </p:grpSpPr>
        <p:pic>
          <p:nvPicPr>
            <p:cNvPr id="146" name="Picture 7" descr="fish19"/>
            <p:cNvPicPr/>
            <p:nvPr/>
          </p:nvPicPr>
          <p:blipFill>
            <a:blip r:embed="rId3"/>
            <a:stretch/>
          </p:blipFill>
          <p:spPr>
            <a:xfrm>
              <a:off x="3024000" y="395280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8"/>
            <p:cNvSpPr/>
            <p:nvPr/>
          </p:nvSpPr>
          <p:spPr>
            <a:xfrm>
              <a:off x="2275920" y="363204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0304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9"/>
          <p:cNvGrpSpPr/>
          <p:nvPr/>
        </p:nvGrpSpPr>
        <p:grpSpPr>
          <a:xfrm>
            <a:off x="5878080" y="3573360"/>
            <a:ext cx="2242080" cy="1452600"/>
            <a:chOff x="5878080" y="3573360"/>
            <a:chExt cx="2242080" cy="1452600"/>
          </a:xfrm>
        </p:grpSpPr>
        <p:pic>
          <p:nvPicPr>
            <p:cNvPr id="149" name="Picture 10" descr="fish19"/>
            <p:cNvPicPr/>
            <p:nvPr/>
          </p:nvPicPr>
          <p:blipFill>
            <a:blip r:embed="rId4"/>
            <a:stretch/>
          </p:blipFill>
          <p:spPr>
            <a:xfrm>
              <a:off x="6626160" y="389412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1"/>
            <p:cNvSpPr/>
            <p:nvPr/>
          </p:nvSpPr>
          <p:spPr>
            <a:xfrm>
              <a:off x="5878080" y="357336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2040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2"/>
          <p:cNvGrpSpPr/>
          <p:nvPr/>
        </p:nvGrpSpPr>
        <p:grpSpPr>
          <a:xfrm>
            <a:off x="4058640" y="5216400"/>
            <a:ext cx="2241720" cy="1452600"/>
            <a:chOff x="4058640" y="5216400"/>
            <a:chExt cx="2241720" cy="1452600"/>
          </a:xfrm>
        </p:grpSpPr>
        <p:pic>
          <p:nvPicPr>
            <p:cNvPr id="152" name="Picture 13" descr="fish19"/>
            <p:cNvPicPr/>
            <p:nvPr/>
          </p:nvPicPr>
          <p:blipFill>
            <a:blip r:embed="rId5"/>
            <a:stretch/>
          </p:blipFill>
          <p:spPr>
            <a:xfrm>
              <a:off x="4806720" y="55371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4"/>
            <p:cNvSpPr/>
            <p:nvPr/>
          </p:nvSpPr>
          <p:spPr>
            <a:xfrm>
              <a:off x="4058640" y="5216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402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5"/>
          <p:cNvGrpSpPr/>
          <p:nvPr/>
        </p:nvGrpSpPr>
        <p:grpSpPr>
          <a:xfrm>
            <a:off x="7154280" y="5576760"/>
            <a:ext cx="2241720" cy="1452600"/>
            <a:chOff x="7154280" y="5576760"/>
            <a:chExt cx="2241720" cy="1452600"/>
          </a:xfrm>
        </p:grpSpPr>
        <p:pic>
          <p:nvPicPr>
            <p:cNvPr id="155" name="Picture 16" descr="fish19"/>
            <p:cNvPicPr/>
            <p:nvPr/>
          </p:nvPicPr>
          <p:blipFill>
            <a:blip r:embed="rId6"/>
            <a:stretch/>
          </p:blipFill>
          <p:spPr>
            <a:xfrm>
              <a:off x="7902360" y="589752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17"/>
            <p:cNvSpPr/>
            <p:nvPr/>
          </p:nvSpPr>
          <p:spPr>
            <a:xfrm>
              <a:off x="7154280" y="557676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0208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8"/>
          <p:cNvGrpSpPr/>
          <p:nvPr/>
        </p:nvGrpSpPr>
        <p:grpSpPr>
          <a:xfrm>
            <a:off x="73080" y="-458640"/>
            <a:ext cx="5435280" cy="2270160"/>
            <a:chOff x="73080" y="-458640"/>
            <a:chExt cx="5435280" cy="2270160"/>
          </a:xfrm>
        </p:grpSpPr>
        <p:sp>
          <p:nvSpPr>
            <p:cNvPr id="158" name="Text Box 19"/>
            <p:cNvSpPr/>
            <p:nvPr/>
          </p:nvSpPr>
          <p:spPr>
            <a:xfrm>
              <a:off x="73080" y="620280"/>
              <a:ext cx="5435280" cy="11912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给小金鱼排排队吧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（按照从小到大的顺序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 flipV="1">
              <a:off x="2712240" y="-458640"/>
              <a:ext cx="0" cy="1152000"/>
            </a:xfrm>
            <a:prstGeom prst="line">
              <a:avLst/>
            </a:prstGeom>
            <a:ln w="349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1"/>
          <p:cNvGrpSpPr/>
          <p:nvPr/>
        </p:nvGrpSpPr>
        <p:grpSpPr>
          <a:xfrm>
            <a:off x="2329560" y="4424400"/>
            <a:ext cx="2245320" cy="1452600"/>
            <a:chOff x="2329560" y="4424400"/>
            <a:chExt cx="2245320" cy="1452600"/>
          </a:xfrm>
        </p:grpSpPr>
        <p:pic>
          <p:nvPicPr>
            <p:cNvPr id="161" name="Picture 22" descr="fish19"/>
            <p:cNvPicPr/>
            <p:nvPr/>
          </p:nvPicPr>
          <p:blipFill>
            <a:blip r:embed="rId7"/>
            <a:stretch/>
          </p:blipFill>
          <p:spPr>
            <a:xfrm>
              <a:off x="3080880" y="474516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23"/>
            <p:cNvSpPr/>
            <p:nvPr/>
          </p:nvSpPr>
          <p:spPr>
            <a:xfrm>
              <a:off x="2329560" y="4424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0204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4"/>
          <p:cNvGrpSpPr/>
          <p:nvPr/>
        </p:nvGrpSpPr>
        <p:grpSpPr>
          <a:xfrm>
            <a:off x="736200" y="4424400"/>
            <a:ext cx="2242080" cy="1452600"/>
            <a:chOff x="736200" y="4424400"/>
            <a:chExt cx="2242080" cy="1452600"/>
          </a:xfrm>
        </p:grpSpPr>
        <p:pic>
          <p:nvPicPr>
            <p:cNvPr id="164" name="Picture 25" descr="fish19"/>
            <p:cNvPicPr/>
            <p:nvPr/>
          </p:nvPicPr>
          <p:blipFill>
            <a:blip r:embed="rId8"/>
            <a:stretch/>
          </p:blipFill>
          <p:spPr>
            <a:xfrm>
              <a:off x="1484280" y="474516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26"/>
            <p:cNvSpPr/>
            <p:nvPr/>
          </p:nvSpPr>
          <p:spPr>
            <a:xfrm>
              <a:off x="736200" y="4424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0304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7"/>
          <p:cNvGrpSpPr/>
          <p:nvPr/>
        </p:nvGrpSpPr>
        <p:grpSpPr>
          <a:xfrm>
            <a:off x="3968280" y="4424400"/>
            <a:ext cx="2242080" cy="1452600"/>
            <a:chOff x="3968280" y="4424400"/>
            <a:chExt cx="2242080" cy="1452600"/>
          </a:xfrm>
        </p:grpSpPr>
        <p:pic>
          <p:nvPicPr>
            <p:cNvPr id="167" name="Picture 28" descr="fish19"/>
            <p:cNvPicPr/>
            <p:nvPr/>
          </p:nvPicPr>
          <p:blipFill>
            <a:blip r:embed="rId9"/>
            <a:stretch/>
          </p:blipFill>
          <p:spPr>
            <a:xfrm>
              <a:off x="4716360" y="474516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29"/>
            <p:cNvSpPr/>
            <p:nvPr/>
          </p:nvSpPr>
          <p:spPr>
            <a:xfrm>
              <a:off x="3968280" y="4424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2040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0"/>
          <p:cNvGrpSpPr/>
          <p:nvPr/>
        </p:nvGrpSpPr>
        <p:grpSpPr>
          <a:xfrm>
            <a:off x="7154280" y="4424400"/>
            <a:ext cx="2241720" cy="1452600"/>
            <a:chOff x="7154280" y="4424400"/>
            <a:chExt cx="2241720" cy="1452600"/>
          </a:xfrm>
        </p:grpSpPr>
        <p:pic>
          <p:nvPicPr>
            <p:cNvPr id="170" name="Picture 31" descr="fish19"/>
            <p:cNvPicPr/>
            <p:nvPr/>
          </p:nvPicPr>
          <p:blipFill>
            <a:blip r:embed="rId10"/>
            <a:stretch/>
          </p:blipFill>
          <p:spPr>
            <a:xfrm>
              <a:off x="7902360" y="47451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32"/>
            <p:cNvSpPr/>
            <p:nvPr/>
          </p:nvSpPr>
          <p:spPr>
            <a:xfrm>
              <a:off x="7154280" y="4424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402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3"/>
          <p:cNvGrpSpPr/>
          <p:nvPr/>
        </p:nvGrpSpPr>
        <p:grpSpPr>
          <a:xfrm>
            <a:off x="5569920" y="4424400"/>
            <a:ext cx="2241720" cy="1452600"/>
            <a:chOff x="5569920" y="4424400"/>
            <a:chExt cx="2241720" cy="1452600"/>
          </a:xfrm>
        </p:grpSpPr>
        <p:pic>
          <p:nvPicPr>
            <p:cNvPr id="173" name="Picture 34" descr="fish19"/>
            <p:cNvPicPr/>
            <p:nvPr/>
          </p:nvPicPr>
          <p:blipFill>
            <a:blip r:embed="rId11"/>
            <a:stretch/>
          </p:blipFill>
          <p:spPr>
            <a:xfrm>
              <a:off x="6318000" y="47451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35"/>
            <p:cNvSpPr/>
            <p:nvPr/>
          </p:nvSpPr>
          <p:spPr>
            <a:xfrm>
              <a:off x="5569920" y="4424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0208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36">
            <a:hlinkClick r:id="rId12" action="ppaction://hlinksldjump"/>
          </p:cNvPr>
          <p:cNvSpPr/>
          <p:nvPr/>
        </p:nvSpPr>
        <p:spPr>
          <a:xfrm>
            <a:off x="324000" y="609300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86" h="21600">
                <a:moveTo>
                  <a:pt x="13444" y="10800"/>
                </a:moveTo>
                <a:lnTo>
                  <a:pt x="23949" y="3794"/>
                </a:lnTo>
                <a:lnTo>
                  <a:pt x="23949" y="17806"/>
                </a:lnTo>
                <a:close/>
              </a:path>
              <a:path fill="darken" w="33886" h="21600">
                <a:moveTo>
                  <a:pt x="9936" y="3794"/>
                </a:moveTo>
                <a:lnTo>
                  <a:pt x="11599" y="3794"/>
                </a:lnTo>
                <a:lnTo>
                  <a:pt x="11599" y="17806"/>
                </a:lnTo>
                <a:lnTo>
                  <a:pt x="9936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0153"/>
          <p:cNvPicPr/>
          <p:nvPr/>
        </p:nvPicPr>
        <p:blipFill>
          <a:blip r:embed="rId1"/>
          <a:stretch/>
        </p:blipFill>
        <p:spPr>
          <a:xfrm>
            <a:off x="1219320" y="0"/>
            <a:ext cx="7086600" cy="25146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990720" y="22096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比较两个数的大小，如果位数不同，那么位数多的就大；如果位数相同，左起第一位上的数大的那个数就大；如果左起第一位上的数相同，就比较左起第二位上的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>
            <a:hlinkClick r:id="rId2" action="ppaction://hlinksldjump"/>
          </p:cNvPr>
          <p:cNvSpPr/>
          <p:nvPr/>
        </p:nvSpPr>
        <p:spPr>
          <a:xfrm>
            <a:off x="7238880" y="6019920"/>
            <a:ext cx="10670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55640" y="26028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比较下面每组中两个数的大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1474920" y="1279440"/>
            <a:ext cx="6329520" cy="4095360"/>
            <a:chOff x="1474920" y="1279440"/>
            <a:chExt cx="6329520" cy="4095360"/>
          </a:xfrm>
        </p:grpSpPr>
        <p:grpSp>
          <p:nvGrpSpPr>
            <p:cNvPr id="181" name="Group 4"/>
            <p:cNvGrpSpPr/>
            <p:nvPr/>
          </p:nvGrpSpPr>
          <p:grpSpPr>
            <a:xfrm>
              <a:off x="1481040" y="1279440"/>
              <a:ext cx="5990760" cy="825120"/>
              <a:chOff x="1481040" y="1279440"/>
              <a:chExt cx="5990760" cy="825120"/>
            </a:xfrm>
          </p:grpSpPr>
          <p:sp>
            <p:nvSpPr>
              <p:cNvPr id="182" name="Rectangle 5"/>
              <p:cNvSpPr/>
              <p:nvPr/>
            </p:nvSpPr>
            <p:spPr>
              <a:xfrm>
                <a:off x="1481040" y="1279440"/>
                <a:ext cx="2549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501114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6"/>
              <p:cNvSpPr/>
              <p:nvPr/>
            </p:nvSpPr>
            <p:spPr>
              <a:xfrm>
                <a:off x="4052880" y="1330200"/>
                <a:ext cx="647640" cy="720720"/>
              </a:xfrm>
              <a:prstGeom prst="ellipse">
                <a:avLst/>
              </a:prstGeom>
              <a:noFill/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7"/>
              <p:cNvSpPr/>
              <p:nvPr/>
            </p:nvSpPr>
            <p:spPr>
              <a:xfrm>
                <a:off x="4922640" y="1279440"/>
                <a:ext cx="2549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631424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8"/>
            <p:cNvGrpSpPr/>
            <p:nvPr/>
          </p:nvGrpSpPr>
          <p:grpSpPr>
            <a:xfrm>
              <a:off x="1474920" y="2306520"/>
              <a:ext cx="6329520" cy="825120"/>
              <a:chOff x="1474920" y="2306520"/>
              <a:chExt cx="6329520" cy="825120"/>
            </a:xfrm>
          </p:grpSpPr>
          <p:sp>
            <p:nvSpPr>
              <p:cNvPr id="186" name="Rectangle 9"/>
              <p:cNvSpPr/>
              <p:nvPr/>
            </p:nvSpPr>
            <p:spPr>
              <a:xfrm>
                <a:off x="1474920" y="2306520"/>
                <a:ext cx="2549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726050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10"/>
              <p:cNvSpPr/>
              <p:nvPr/>
            </p:nvSpPr>
            <p:spPr>
              <a:xfrm>
                <a:off x="4046760" y="2357280"/>
                <a:ext cx="647640" cy="720720"/>
              </a:xfrm>
              <a:prstGeom prst="ellipse">
                <a:avLst/>
              </a:prstGeom>
              <a:noFill/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1"/>
              <p:cNvSpPr/>
              <p:nvPr/>
            </p:nvSpPr>
            <p:spPr>
              <a:xfrm>
                <a:off x="4917240" y="2306520"/>
                <a:ext cx="2887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1028000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2"/>
            <p:cNvGrpSpPr/>
            <p:nvPr/>
          </p:nvGrpSpPr>
          <p:grpSpPr>
            <a:xfrm>
              <a:off x="1481040" y="3459240"/>
              <a:ext cx="5990760" cy="825120"/>
              <a:chOff x="1481040" y="3459240"/>
              <a:chExt cx="5990760" cy="825120"/>
            </a:xfrm>
          </p:grpSpPr>
          <p:sp>
            <p:nvSpPr>
              <p:cNvPr id="190" name="Rectangle 13"/>
              <p:cNvSpPr/>
              <p:nvPr/>
            </p:nvSpPr>
            <p:spPr>
              <a:xfrm>
                <a:off x="1481040" y="3459240"/>
                <a:ext cx="2549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3823546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4"/>
              <p:cNvSpPr/>
              <p:nvPr/>
            </p:nvSpPr>
            <p:spPr>
              <a:xfrm>
                <a:off x="4052880" y="3510000"/>
                <a:ext cx="647640" cy="720720"/>
              </a:xfrm>
              <a:prstGeom prst="ellipse">
                <a:avLst/>
              </a:prstGeom>
              <a:noFill/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5"/>
              <p:cNvSpPr/>
              <p:nvPr/>
            </p:nvSpPr>
            <p:spPr>
              <a:xfrm>
                <a:off x="4922640" y="3459240"/>
                <a:ext cx="2549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3823456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6"/>
            <p:cNvGrpSpPr/>
            <p:nvPr/>
          </p:nvGrpSpPr>
          <p:grpSpPr>
            <a:xfrm>
              <a:off x="1481040" y="4549680"/>
              <a:ext cx="5990760" cy="825120"/>
              <a:chOff x="1481040" y="4549680"/>
              <a:chExt cx="5990760" cy="825120"/>
            </a:xfrm>
          </p:grpSpPr>
          <p:sp>
            <p:nvSpPr>
              <p:cNvPr id="194" name="Rectangle 17"/>
              <p:cNvSpPr/>
              <p:nvPr/>
            </p:nvSpPr>
            <p:spPr>
              <a:xfrm>
                <a:off x="1481040" y="4549680"/>
                <a:ext cx="2549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410200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18"/>
              <p:cNvSpPr/>
              <p:nvPr/>
            </p:nvSpPr>
            <p:spPr>
              <a:xfrm>
                <a:off x="4052880" y="4600440"/>
                <a:ext cx="647640" cy="720720"/>
              </a:xfrm>
              <a:prstGeom prst="ellipse">
                <a:avLst/>
              </a:prstGeom>
              <a:noFill/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9"/>
              <p:cNvSpPr/>
              <p:nvPr/>
            </p:nvSpPr>
            <p:spPr>
              <a:xfrm>
                <a:off x="4922640" y="4549680"/>
                <a:ext cx="2549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409300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Rectangle 20"/>
          <p:cNvSpPr/>
          <p:nvPr/>
        </p:nvSpPr>
        <p:spPr>
          <a:xfrm>
            <a:off x="3789360" y="79380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3789360" y="184464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2"/>
          <p:cNvSpPr/>
          <p:nvPr/>
        </p:nvSpPr>
        <p:spPr>
          <a:xfrm rot="10800000">
            <a:off x="3862440" y="321192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3"/>
          <p:cNvSpPr/>
          <p:nvPr/>
        </p:nvSpPr>
        <p:spPr>
          <a:xfrm rot="10800000">
            <a:off x="3862440" y="432000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1:37:37Z</dcterms:created>
  <dc:creator/>
  <dc:description/>
  <cp:keywords/>
  <dc:language>en-US</dc:language>
  <cp:lastModifiedBy>Administrator</cp:lastModifiedBy>
  <dcterms:modified xsi:type="dcterms:W3CDTF">2015-02-20T16:54:25Z</dcterms:modified>
  <cp:revision>10</cp:revision>
  <dc:subject/>
  <dc:title>幻灯片 1</dc:title>
</cp:coreProperties>
</file>