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801-C941-4EB9-A2B3-951FCAC7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19C-889A-4EDF-B11D-9036B4BF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E4F-FDF6-4E38-B4D7-CCBBEAAB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F74-6D9C-4BDD-90D8-B8FFF874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76B6-2694-49F7-BFD2-38F7C176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024-6BE6-4AA7-AF65-45DDB81C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120B-E3A3-4735-BEF4-46547703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0ABC-5509-4C3B-8ECF-DB6BD848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2656-DBA2-41CA-B470-65881740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F6B-8621-4E48-ACDE-1076B411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432B-D957-44AE-987E-298F6B20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710-E06D-4BAB-B55F-251A17F9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60C7-E153-492C-ABAF-23303CC59A36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华文彩云"/>
              </a:rPr>
              <a:t>用四舍五入法求近似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87280" y="403200"/>
            <a:ext cx="88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11030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大约是多少万？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178680000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大约是多少亿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971640" y="2492280"/>
            <a:ext cx="3816360" cy="1068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03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万多一些，比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万少得多，所以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03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接近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万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971640" y="4508640"/>
            <a:ext cx="3960720" cy="1068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868000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一亿多得多，比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亿少一些，接近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亿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9080" y="982800"/>
            <a:ext cx="89283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0004≈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（          ）万    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1000≈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（          ）万   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4000≈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（         ） 万     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    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16000" y="260280"/>
            <a:ext cx="882000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求下面各数的近似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省略万位后面的尾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708360" y="69372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635280" y="2349360"/>
            <a:ext cx="8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635280" y="1413000"/>
            <a:ext cx="8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140360" y="4581360"/>
            <a:ext cx="86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684360" y="981000"/>
            <a:ext cx="0" cy="792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684360" y="1844640"/>
            <a:ext cx="0" cy="792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684360" y="2349360"/>
            <a:ext cx="0" cy="792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09280" y="3355560"/>
            <a:ext cx="625536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000 ≈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          ）万  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000 ≈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          ）万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000 ≈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          ）万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645080" y="382284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4356000" y="337680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572000" y="4077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4500720" y="4797000"/>
            <a:ext cx="68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6"/>
          <p:cNvSpPr/>
          <p:nvPr/>
        </p:nvSpPr>
        <p:spPr>
          <a:xfrm>
            <a:off x="755640" y="3357720"/>
            <a:ext cx="0" cy="792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900000" y="4078440"/>
            <a:ext cx="0" cy="792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900000" y="4941720"/>
            <a:ext cx="0" cy="792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2360" y="117000"/>
            <a:ext cx="8785440" cy="15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Calibri"/>
              </a:rPr>
              <a:t>用”亿”作单位写出下面各数的近似数。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68360" y="1773360"/>
            <a:ext cx="424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240000000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0920" y="4078440"/>
            <a:ext cx="4610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0780000000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79280" y="5445000"/>
            <a:ext cx="3745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70000000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427640" y="162864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Verdana"/>
              </a:rPr>
              <a:t>≈</a:t>
            </a:r>
            <a:r>
              <a:rPr b="1" lang="en-US" sz="5400" spc="-1" strike="noStrike">
                <a:solidFill>
                  <a:srgbClr val="0000ff"/>
                </a:solidFill>
                <a:latin typeface="Verdana"/>
              </a:rPr>
              <a:t>82</a:t>
            </a:r>
            <a:r>
              <a:rPr b="1" lang="zh-CN" sz="5400" spc="-1" strike="noStrike">
                <a:solidFill>
                  <a:srgbClr val="0000ff"/>
                </a:solidFill>
                <a:latin typeface="Verdana"/>
              </a:rPr>
              <a:t>亿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572000" y="400536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Verdana"/>
              </a:rPr>
              <a:t>≈</a:t>
            </a:r>
            <a:r>
              <a:rPr b="1" lang="en-US" sz="5400" spc="-1" strike="noStrike">
                <a:solidFill>
                  <a:srgbClr val="0000ff"/>
                </a:solidFill>
                <a:latin typeface="Verdana"/>
              </a:rPr>
              <a:t>308</a:t>
            </a:r>
            <a:r>
              <a:rPr b="1" lang="zh-CN" sz="5400" spc="-1" strike="noStrike">
                <a:solidFill>
                  <a:srgbClr val="0000ff"/>
                </a:solidFill>
                <a:latin typeface="Verdana"/>
              </a:rPr>
              <a:t>亿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780000" y="544500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Verdana"/>
              </a:rPr>
              <a:t>≈</a:t>
            </a:r>
            <a:r>
              <a:rPr b="1" lang="en-US" sz="5400" spc="-1" strike="noStrike">
                <a:solidFill>
                  <a:srgbClr val="0000ff"/>
                </a:solidFill>
                <a:latin typeface="Verdana"/>
              </a:rPr>
              <a:t>10</a:t>
            </a:r>
            <a:r>
              <a:rPr b="1" lang="zh-CN" sz="5400" spc="-1" strike="noStrike">
                <a:solidFill>
                  <a:srgbClr val="0000ff"/>
                </a:solidFill>
                <a:latin typeface="Verdana"/>
              </a:rPr>
              <a:t>亿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50920" y="270864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940000000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782240" y="2434320"/>
            <a:ext cx="189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≈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亿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332000" y="11736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Verdana"/>
              </a:rPr>
              <a:t>四舍五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的方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50920" y="8380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按要求先确定这个数保留到哪一位，并把它后面的尾数省略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79280" y="263844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尾数最高位上的数如果是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或比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小，就把尾数舍去，并把尾数的各位都改写成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79280" y="494172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如果是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或比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大，要在尾数的前一位加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再把尾数各位改写成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1736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Calibri"/>
              </a:rPr>
              <a:t>省略万后面的尾数：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alibri"/>
              </a:rPr>
              <a:t>1306063≈</a:t>
            </a:r>
            <a:r>
              <a:rPr b="1" lang="zh-CN" sz="4700" spc="-1" strike="noStrike">
                <a:solidFill>
                  <a:srgbClr val="000000"/>
                </a:solidFill>
                <a:latin typeface="Calibri"/>
              </a:rPr>
              <a:t>（     ）万   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alibri"/>
              </a:rPr>
              <a:t>295400≈</a:t>
            </a:r>
            <a:r>
              <a:rPr b="1" lang="zh-CN" sz="4700" spc="-1" strike="noStrike">
                <a:solidFill>
                  <a:srgbClr val="000000"/>
                </a:solidFill>
                <a:latin typeface="Calibri"/>
              </a:rPr>
              <a:t>（    ）万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Calibri"/>
              </a:rPr>
              <a:t>省略亿后面的尾数：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alibri"/>
              </a:rPr>
              <a:t>960650000≈</a:t>
            </a:r>
            <a:r>
              <a:rPr b="1" lang="zh-CN" sz="4700" spc="-1" strike="noStrike">
                <a:solidFill>
                  <a:srgbClr val="000000"/>
                </a:solidFill>
                <a:latin typeface="Calibri"/>
              </a:rPr>
              <a:t>（     ）亿      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alibri"/>
              </a:rPr>
              <a:t>132</a:t>
            </a:r>
            <a:r>
              <a:rPr b="1" lang="zh-CN" sz="47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4700" spc="-1" strike="noStrike">
                <a:solidFill>
                  <a:srgbClr val="000000"/>
                </a:solidFill>
                <a:latin typeface="Calibri"/>
              </a:rPr>
              <a:t>2900329≈</a:t>
            </a:r>
            <a:r>
              <a:rPr b="1" lang="zh-CN" sz="4700" spc="-1" strike="noStrike">
                <a:solidFill>
                  <a:srgbClr val="000000"/>
                </a:solidFill>
                <a:latin typeface="Calibri"/>
              </a:rPr>
              <a:t>（   ）亿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646520" y="570240"/>
            <a:ext cx="119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131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435640" y="2638440"/>
            <a:ext cx="79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717800" y="14986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30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217120" y="27856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10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289480" y="3570480"/>
            <a:ext cx="119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132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920" y="549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Calibri"/>
              </a:rPr>
              <a:t>用“万”作单位写出下面各数的近似数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763640" y="1844640"/>
            <a:ext cx="287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498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690560" y="2924280"/>
            <a:ext cx="288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3928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690560" y="4076640"/>
            <a:ext cx="288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99540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690560" y="5157720"/>
            <a:ext cx="288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100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419640" y="18748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</a:rPr>
              <a:t>≈</a:t>
            </a:r>
            <a:r>
              <a:rPr b="1" lang="en-US" sz="4400" spc="-1" strike="noStrike">
                <a:solidFill>
                  <a:srgbClr val="0000ff"/>
                </a:solidFill>
                <a:latin typeface="Verdana"/>
              </a:rPr>
              <a:t>7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</a:rPr>
              <a:t>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635280" y="292428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</a:rPr>
              <a:t>≈</a:t>
            </a:r>
            <a:r>
              <a:rPr b="1" lang="en-US" sz="4400" spc="-1" strike="noStrike">
                <a:solidFill>
                  <a:srgbClr val="0000ff"/>
                </a:solidFill>
                <a:latin typeface="Verdana"/>
              </a:rPr>
              <a:t>64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</a:rPr>
              <a:t>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851280" y="4149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</a:rPr>
              <a:t>≈</a:t>
            </a:r>
            <a:r>
              <a:rPr b="1" lang="en-US" sz="4400" spc="-1" strike="noStrike">
                <a:solidFill>
                  <a:srgbClr val="0000ff"/>
                </a:solidFill>
                <a:latin typeface="Verdana"/>
              </a:rPr>
              <a:t>800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</a:rPr>
              <a:t>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211640" y="522936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</a:rPr>
              <a:t>≈</a:t>
            </a:r>
            <a:r>
              <a:rPr b="1" lang="en-US" sz="4400" spc="-1" strike="noStrike">
                <a:solidFill>
                  <a:srgbClr val="0000ff"/>
                </a:solidFill>
                <a:latin typeface="Verdana"/>
              </a:rPr>
              <a:t>2000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</a:rPr>
              <a:t>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8000" y="105408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Calibri"/>
              </a:rPr>
              <a:t> ⑴   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700" spc="-1" strike="noStrike">
                <a:solidFill>
                  <a:srgbClr val="000000"/>
                </a:solidFill>
                <a:latin typeface="Calibri"/>
              </a:rPr>
              <a:t>（   ）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230≈5</a:t>
            </a:r>
            <a:r>
              <a:rPr b="0" lang="zh-CN" sz="3700" spc="-1" strike="noStrike">
                <a:solidFill>
                  <a:srgbClr val="000000"/>
                </a:solidFill>
                <a:latin typeface="Calibri"/>
              </a:rPr>
              <a:t>万 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Calibri"/>
              </a:rPr>
              <a:t>           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Calibri"/>
              </a:rPr>
              <a:t>⑵  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700" spc="-1" strike="noStrike">
                <a:solidFill>
                  <a:srgbClr val="000000"/>
                </a:solidFill>
                <a:latin typeface="Calibri"/>
              </a:rPr>
              <a:t>（    ）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230 ≈6</a:t>
            </a:r>
            <a:r>
              <a:rPr b="0" lang="zh-CN" sz="3700" spc="-1" strike="noStrike">
                <a:solidFill>
                  <a:srgbClr val="000000"/>
                </a:solidFill>
                <a:latin typeface="Calibri"/>
              </a:rPr>
              <a:t>万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          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17440" y="260280"/>
            <a:ext cx="8891640" cy="825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提高题：（   ）里最大能填几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643040" y="78588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357200" y="18572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9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50920" y="3500280"/>
            <a:ext cx="806616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提高题：（   ）里最小填几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611280" y="4365720"/>
            <a:ext cx="8229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  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   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30≈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  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    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30 ≈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780000" y="4292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0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3564000" y="5805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⑴  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（    ）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4800≈6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万 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          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 ⑵  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（     ）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5800≈6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537372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所填答案不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96720" y="260280"/>
            <a:ext cx="7344000" cy="825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、（   ）应填什么数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195640" y="1557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340000" y="335772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先分级再读一读后改写近似数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5280" y="213336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4880≈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       ）万   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44880  ≈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        ）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7000≈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       ）万    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8880≈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         ）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46000≈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       ）万    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095030≈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        ）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14720" y="20718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857920" y="20001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5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14720" y="30718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572080" y="30718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428920" y="40719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5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929200" y="41432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91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03280" y="549360"/>
            <a:ext cx="8640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50000=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（       ）万           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800000=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（      ）万             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680000=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（      ）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000000000=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（        ）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11240" y="0"/>
            <a:ext cx="9032760" cy="7034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把下面的数改写成用万或亿作单位的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276720" y="5493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276720" y="1413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80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348000" y="2349360"/>
            <a:ext cx="194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368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788000" y="321300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20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4005360"/>
            <a:ext cx="87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把整万数改写成用“万”做单位时，去掉万位后面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个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0”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并写上“万”字。整亿数改写成“亿”做单位时，去掉亿位后面的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个“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0”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并写上“亿”字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200000000000000001952"/>
          <p:cNvPicPr/>
          <p:nvPr/>
        </p:nvPicPr>
        <p:blipFill>
          <a:blip r:embed="rId1"/>
          <a:srcRect l="7007" t="1983" r="9064" b="57836"/>
          <a:stretch/>
        </p:blipFill>
        <p:spPr>
          <a:xfrm>
            <a:off x="38160" y="44280"/>
            <a:ext cx="907092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79280" y="486900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你知道下面的哪些数是近似数吗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85816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Verdana"/>
                <a:ea typeface="黑体"/>
              </a:rPr>
              <a:t>生活中一些事物的数量，有时不用准确的数表示，而只用一个与它比较接近的数来表示，这样的数是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Verdana"/>
                <a:ea typeface="黑体"/>
              </a:rPr>
              <a:t>近似数</a:t>
            </a: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9173" t="19105" r="9798" b="4052"/>
          <a:stretch/>
        </p:blipFill>
        <p:spPr>
          <a:xfrm>
            <a:off x="181080" y="117360"/>
            <a:ext cx="8858160" cy="5975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3789000"/>
            <a:ext cx="82090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24000" y="3357720"/>
            <a:ext cx="88200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2003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年末，我国有公共图书馆</a:t>
            </a:r>
            <a:r>
              <a:rPr b="1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2709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个，图书馆藏书约</a:t>
            </a:r>
            <a:r>
              <a:rPr b="1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43776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万册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4526" t="9081" r="6125" b="0"/>
          <a:stretch/>
        </p:blipFill>
        <p:spPr>
          <a:xfrm>
            <a:off x="108000" y="190440"/>
            <a:ext cx="9001080" cy="5902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789000"/>
            <a:ext cx="82090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24000" y="3213000"/>
            <a:ext cx="88200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2003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年末，我国自然保护区</a:t>
            </a:r>
            <a:r>
              <a:rPr b="1" lang="en-US" sz="6000" spc="-1" strike="noStrike">
                <a:solidFill>
                  <a:srgbClr val="008000"/>
                </a:solidFill>
                <a:latin typeface="黑体"/>
                <a:ea typeface="黑体"/>
              </a:rPr>
              <a:t>1999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个，自然保护区的面积大约</a:t>
            </a:r>
            <a:r>
              <a:rPr b="1" lang="en-US" sz="6000" spc="-1" strike="noStrike">
                <a:solidFill>
                  <a:srgbClr val="008000"/>
                </a:solidFill>
                <a:latin typeface="黑体"/>
                <a:ea typeface="黑体"/>
              </a:rPr>
              <a:t>14398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万公顷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8752" t="17691" r="7121" b="3826"/>
          <a:stretch/>
        </p:blipFill>
        <p:spPr>
          <a:xfrm>
            <a:off x="324000" y="117360"/>
            <a:ext cx="8640720" cy="5256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24000" y="3933720"/>
            <a:ext cx="8820000" cy="178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沪宁高速公路全长约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274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千米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投资近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6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亿元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35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alibri"/>
              </a:rPr>
              <a:t>近似数有什么作用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428760" y="2647800"/>
            <a:ext cx="835812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新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一、全市总面积</a:t>
            </a: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1065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平方公里，其中市区</a:t>
            </a: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110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平方公里，胶州、即墨、平度、胶南、莱西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市</a:t>
            </a: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955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平方公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二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年底，全市共有</a:t>
            </a: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7311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人，其中市区</a:t>
            </a: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258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年国家投入了约</a:t>
            </a: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万元用于局属学校校舍的建设和维修，不断改善学校的办学条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/>
  <dc:language>en-US</dc:language>
  <cp:lastModifiedBy>Administrator</cp:lastModifiedBy>
  <cp:lastPrinted>1899-12-30T00:00:00Z</cp:lastPrinted>
  <dcterms:modified xsi:type="dcterms:W3CDTF">2015-02-27T09:39:05Z</dcterms:modified>
  <cp:revision>15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