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5BB-F653-4A48-9CC3-E4C104B0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B10-4494-455A-8A46-0A2340DA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AEC-306F-4F0A-AD64-089AB823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73D-33D7-41E9-9EBE-81516FE9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F6D-1178-42EE-A46B-46BB7D51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9CA-75E9-465E-8F4F-580AF99B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3DE-0A1D-47C3-849F-63B09B47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870-654E-4196-87FB-900CB08F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904-B50F-46BC-801F-D0B3C16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1AD-896E-4DA3-8C03-F0CD3DEC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A04-B479-4EAD-826C-1E8BD4F2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EF2-2C15-4F95-A6AD-2B50CDF5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9693-1FE7-4694-94B2-717BF30CB4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.baidu.com/i?ct=503316480&amp;z=0&amp;tn=baiduimagedetail&amp;word=&#809;&#637;%C4%CF%CC%EC%C3%C5&amp;in=5&amp;cl=2&amp;cm=1&amp;sc=0&amp;lm=-1&amp;pn=4&amp;rn=1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95280" y="1052640"/>
            <a:ext cx="633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66"/>
                </a:solidFill>
                <a:latin typeface="GulimChe"/>
              </a:rPr>
              <a:t>大数知多少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66"/>
              </a:solidFill>
              <a:latin typeface="GulimChe"/>
              <a:ea typeface="GulimChe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187280" y="4157640"/>
            <a:ext cx="64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WordArt 6" descr=""/>
          <p:cNvPicPr/>
          <p:nvPr/>
        </p:nvPicPr>
        <p:blipFill>
          <a:blip r:embed="rId2"/>
          <a:stretch/>
        </p:blipFill>
        <p:spPr>
          <a:xfrm>
            <a:off x="3267000" y="3054240"/>
            <a:ext cx="3908520" cy="530280"/>
          </a:xfrm>
          <a:prstGeom prst="rect">
            <a:avLst/>
          </a:prstGeom>
          <a:ln w="0">
            <a:noFill/>
          </a:ln>
        </p:spPr>
      </p:pic>
      <p:pic>
        <p:nvPicPr>
          <p:cNvPr id="44" name="腾格尔 - 天堂.mp3" descr=""/>
          <p:cNvPicPr/>
          <p:nvPr/>
        </p:nvPicPr>
        <p:blipFill>
          <a:blip r:embed="rId3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24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9640" y="1628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一亿个小学生手拉手可以绕地球三圈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others6"/>
          <p:cNvPicPr/>
          <p:nvPr/>
        </p:nvPicPr>
        <p:blipFill>
          <a:blip r:embed="rId2"/>
          <a:stretch/>
        </p:blipFill>
        <p:spPr>
          <a:xfrm>
            <a:off x="7315200" y="380880"/>
            <a:ext cx="1073160" cy="90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3"/>
          <a:stretch/>
        </p:blipFill>
        <p:spPr>
          <a:xfrm>
            <a:off x="1116000" y="2421000"/>
            <a:ext cx="6553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400"/>
                            </p:stCondLst>
                            <p:childTnLst>
                              <p:par>
                                <p:cTn id="3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0" y="21337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一般情况下</a:t>
            </a: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成年人的头发约有</a:t>
            </a: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万根</a:t>
            </a: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11280" y="2997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1000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个正常成年人的头发大约有一亿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others6"/>
          <p:cNvPicPr/>
          <p:nvPr/>
        </p:nvPicPr>
        <p:blipFill>
          <a:blip r:embed="rId2"/>
          <a:stretch/>
        </p:blipFill>
        <p:spPr>
          <a:xfrm>
            <a:off x="7315200" y="380880"/>
            <a:ext cx="10731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187280" y="148428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方正少儿简体"/>
                <a:ea typeface="方正少儿简体"/>
              </a:rPr>
              <a:t>一（个）、十、百、千、万、十万、百万、千万、亿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都是计数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187280" y="315432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方正少儿简体"/>
                <a:ea typeface="方正少儿简体"/>
              </a:rPr>
              <a:t>个位、十位、百位、千位、万位、十万位、百万位、千万位、亿位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都是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00000" y="1700280"/>
          <a:ext cx="7413840" cy="15145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900000" y="3213000"/>
          <a:ext cx="7413840" cy="151308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计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单 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一 </a:t>
                      </a: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（个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66"/>
          <p:cNvSpPr/>
          <p:nvPr/>
        </p:nvSpPr>
        <p:spPr>
          <a:xfrm>
            <a:off x="522792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十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7"/>
          <p:cNvSpPr/>
          <p:nvPr/>
        </p:nvSpPr>
        <p:spPr>
          <a:xfrm>
            <a:off x="472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百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8"/>
          <p:cNvSpPr/>
          <p:nvPr/>
        </p:nvSpPr>
        <p:spPr>
          <a:xfrm>
            <a:off x="421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千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9"/>
          <p:cNvSpPr/>
          <p:nvPr/>
        </p:nvSpPr>
        <p:spPr>
          <a:xfrm>
            <a:off x="328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十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0"/>
          <p:cNvSpPr/>
          <p:nvPr/>
        </p:nvSpPr>
        <p:spPr>
          <a:xfrm>
            <a:off x="277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百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1"/>
          <p:cNvSpPr/>
          <p:nvPr/>
        </p:nvSpPr>
        <p:spPr>
          <a:xfrm>
            <a:off x="2273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千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2"/>
          <p:cNvSpPr/>
          <p:nvPr/>
        </p:nvSpPr>
        <p:spPr>
          <a:xfrm>
            <a:off x="2273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千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3"/>
          <p:cNvSpPr/>
          <p:nvPr/>
        </p:nvSpPr>
        <p:spPr>
          <a:xfrm>
            <a:off x="277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百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4"/>
          <p:cNvSpPr/>
          <p:nvPr/>
        </p:nvSpPr>
        <p:spPr>
          <a:xfrm>
            <a:off x="328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十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5"/>
          <p:cNvSpPr/>
          <p:nvPr/>
        </p:nvSpPr>
        <p:spPr>
          <a:xfrm>
            <a:off x="421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千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6"/>
          <p:cNvSpPr/>
          <p:nvPr/>
        </p:nvSpPr>
        <p:spPr>
          <a:xfrm>
            <a:off x="472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百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7"/>
          <p:cNvSpPr/>
          <p:nvPr/>
        </p:nvSpPr>
        <p:spPr>
          <a:xfrm>
            <a:off x="5224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十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8"/>
          <p:cNvSpPr/>
          <p:nvPr/>
        </p:nvSpPr>
        <p:spPr>
          <a:xfrm>
            <a:off x="2864160" y="6890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  位  顺  序 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900000" y="1700280"/>
          <a:ext cx="7413840" cy="15145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900000" y="3213000"/>
          <a:ext cx="7413840" cy="151308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计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单 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一 </a:t>
                      </a: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（个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66"/>
          <p:cNvSpPr/>
          <p:nvPr/>
        </p:nvSpPr>
        <p:spPr>
          <a:xfrm>
            <a:off x="522792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7"/>
          <p:cNvSpPr/>
          <p:nvPr/>
        </p:nvSpPr>
        <p:spPr>
          <a:xfrm>
            <a:off x="472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8"/>
          <p:cNvSpPr/>
          <p:nvPr/>
        </p:nvSpPr>
        <p:spPr>
          <a:xfrm>
            <a:off x="421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9"/>
          <p:cNvSpPr/>
          <p:nvPr/>
        </p:nvSpPr>
        <p:spPr>
          <a:xfrm>
            <a:off x="328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0"/>
          <p:cNvSpPr/>
          <p:nvPr/>
        </p:nvSpPr>
        <p:spPr>
          <a:xfrm>
            <a:off x="277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1"/>
          <p:cNvSpPr/>
          <p:nvPr/>
        </p:nvSpPr>
        <p:spPr>
          <a:xfrm>
            <a:off x="2273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2"/>
          <p:cNvSpPr/>
          <p:nvPr/>
        </p:nvSpPr>
        <p:spPr>
          <a:xfrm>
            <a:off x="2273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3"/>
          <p:cNvSpPr/>
          <p:nvPr/>
        </p:nvSpPr>
        <p:spPr>
          <a:xfrm>
            <a:off x="277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4"/>
          <p:cNvSpPr/>
          <p:nvPr/>
        </p:nvSpPr>
        <p:spPr>
          <a:xfrm>
            <a:off x="328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5"/>
          <p:cNvSpPr/>
          <p:nvPr/>
        </p:nvSpPr>
        <p:spPr>
          <a:xfrm>
            <a:off x="421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6"/>
          <p:cNvSpPr/>
          <p:nvPr/>
        </p:nvSpPr>
        <p:spPr>
          <a:xfrm>
            <a:off x="472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7"/>
          <p:cNvSpPr/>
          <p:nvPr/>
        </p:nvSpPr>
        <p:spPr>
          <a:xfrm>
            <a:off x="5224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8"/>
          <p:cNvSpPr/>
          <p:nvPr/>
        </p:nvSpPr>
        <p:spPr>
          <a:xfrm>
            <a:off x="2864160" y="617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  位  顺  序 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9.24855E-007 L 0.00399 -0.07884 E">
                                      <p:cBhvr>
                                        <p:cTn id="43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93064E-006 L -0.00018 -0.08208 E">
                                      <p:cBhvr>
                                        <p:cTn id="434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93064E-006 L 0.00017 -0.08208 E">
                                      <p:cBhvr>
                                        <p:cTn id="43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3064E-006 L 0.00017 -0.08208 E">
                                      <p:cBhvr>
                                        <p:cTn id="43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93064E-006 L 0.00017 -0.09249 E">
                                      <p:cBhvr>
                                        <p:cTn id="440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3064E-006 L 0.00018 -0.09249 E">
                                      <p:cBhvr>
                                        <p:cTn id="44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3064E-006 L 0.00017 -0.09249 E">
                                      <p:cBhvr>
                                        <p:cTn id="44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68208E-006 L 0.00399 0.07862 E">
                                      <p:cBhvr>
                                        <p:cTn id="44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62428E-007 L 0.00017 0.06728 E">
                                      <p:cBhvr>
                                        <p:cTn id="44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62428E-007 L 0.00018 0.06728 E">
                                      <p:cBhvr>
                                        <p:cTn id="45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62428E-007 L 0.00017 0.06728 E">
                                      <p:cBhvr>
                                        <p:cTn id="452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62428E-007 L 0.00017 0.07769 E">
                                      <p:cBhvr>
                                        <p:cTn id="45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62428E-007 L 0.00017 0.07769 E">
                                      <p:cBhvr>
                                        <p:cTn id="45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62428E-007 L 0.00017 0.07769 E">
                                      <p:cBhvr>
                                        <p:cTn id="45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900000" y="1125360"/>
          <a:ext cx="7413840" cy="15145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900000" y="3787920"/>
          <a:ext cx="7413840" cy="15127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计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单 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一 </a:t>
                      </a: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（个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66"/>
          <p:cNvSpPr/>
          <p:nvPr/>
        </p:nvSpPr>
        <p:spPr>
          <a:xfrm>
            <a:off x="522792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7"/>
          <p:cNvSpPr/>
          <p:nvPr/>
        </p:nvSpPr>
        <p:spPr>
          <a:xfrm>
            <a:off x="472140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8"/>
          <p:cNvSpPr/>
          <p:nvPr/>
        </p:nvSpPr>
        <p:spPr>
          <a:xfrm>
            <a:off x="421668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9"/>
          <p:cNvSpPr/>
          <p:nvPr/>
        </p:nvSpPr>
        <p:spPr>
          <a:xfrm>
            <a:off x="328140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0"/>
          <p:cNvSpPr/>
          <p:nvPr/>
        </p:nvSpPr>
        <p:spPr>
          <a:xfrm>
            <a:off x="277668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1"/>
          <p:cNvSpPr/>
          <p:nvPr/>
        </p:nvSpPr>
        <p:spPr>
          <a:xfrm>
            <a:off x="227340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2"/>
          <p:cNvSpPr/>
          <p:nvPr/>
        </p:nvSpPr>
        <p:spPr>
          <a:xfrm>
            <a:off x="227340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3"/>
          <p:cNvSpPr/>
          <p:nvPr/>
        </p:nvSpPr>
        <p:spPr>
          <a:xfrm>
            <a:off x="277668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4"/>
          <p:cNvSpPr/>
          <p:nvPr/>
        </p:nvSpPr>
        <p:spPr>
          <a:xfrm>
            <a:off x="328140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5"/>
          <p:cNvSpPr/>
          <p:nvPr/>
        </p:nvSpPr>
        <p:spPr>
          <a:xfrm>
            <a:off x="421668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6"/>
          <p:cNvSpPr/>
          <p:nvPr/>
        </p:nvSpPr>
        <p:spPr>
          <a:xfrm>
            <a:off x="472140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7"/>
          <p:cNvSpPr/>
          <p:nvPr/>
        </p:nvSpPr>
        <p:spPr>
          <a:xfrm>
            <a:off x="522468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637000"/>
          <a:ext cx="7413840" cy="115236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1954080"/>
                <a:gridCol w="1954440"/>
                <a:gridCol w="214308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92"/>
          <p:cNvSpPr/>
          <p:nvPr/>
        </p:nvSpPr>
        <p:spPr>
          <a:xfrm>
            <a:off x="665964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个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3"/>
          <p:cNvSpPr/>
          <p:nvPr/>
        </p:nvSpPr>
        <p:spPr>
          <a:xfrm>
            <a:off x="457200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万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4"/>
          <p:cNvSpPr/>
          <p:nvPr/>
        </p:nvSpPr>
        <p:spPr>
          <a:xfrm>
            <a:off x="270036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亿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5"/>
          <p:cNvSpPr/>
          <p:nvPr/>
        </p:nvSpPr>
        <p:spPr>
          <a:xfrm>
            <a:off x="2853720" y="5461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  位  顺  序 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1" dur="1" fill="hold"/>
                                  <p:tgtEl>
                                    <p:spTgt spid="2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611280" y="184464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方正少儿简体"/>
                <a:ea typeface="方正少儿简体"/>
              </a:rPr>
              <a:t>每相邻两个计数单位间的进率都是十，这种计数方法叫做十进制计数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863640" y="1649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中山大学图书馆累计藏书约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方正少儿简体"/>
                <a:ea typeface="方正少儿简体"/>
              </a:rPr>
              <a:t>4086000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6920" y="2441520"/>
            <a:ext cx="75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山东省图书馆累计藏书约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方正少儿简体"/>
                <a:ea typeface="方正少儿简体"/>
              </a:rPr>
              <a:t>5094600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8360" y="33066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中国国家图书馆累计藏书约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方正少儿简体"/>
                <a:ea typeface="方正少儿简体"/>
              </a:rPr>
              <a:t>21600900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00000" y="40734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美国国会图书馆累计藏书约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方正少儿简体"/>
                <a:ea typeface="方正少儿简体"/>
              </a:rPr>
              <a:t>119000000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25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45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7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2771640" y="1836720"/>
            <a:ext cx="71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06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年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方正少儿简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十一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方正少儿简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黄金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泰山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接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游客为</a:t>
            </a: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154800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人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2843280" y="35082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门票收入共计</a:t>
            </a:r>
            <a:r>
              <a:rPr b="1" lang="en-US" sz="36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10779000</a:t>
            </a:r>
            <a:r>
              <a:rPr b="1" lang="zh-CN" sz="36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u=2157243155,794122671&amp;gp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916280"/>
            <a:ext cx="21524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(1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说出万以内的计数单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2)1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个一是多少？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个十是多少？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个百是多少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一和十，十和百，百和千每相邻的两个单位之间的关系是怎样的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．读出下面各数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876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025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008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02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2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．从右到左说出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65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各数字的数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448000" cy="152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111"/>
          <p:cNvPicPr/>
          <p:nvPr/>
        </p:nvPicPr>
        <p:blipFill>
          <a:blip r:embed="rId3"/>
          <a:stretch/>
        </p:blipFill>
        <p:spPr>
          <a:xfrm>
            <a:off x="5003640" y="1413000"/>
            <a:ext cx="3241800" cy="252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tretch/>
        </p:blipFill>
        <p:spPr>
          <a:xfrm>
            <a:off x="615636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5"/>
          <a:stretch/>
        </p:blipFill>
        <p:spPr>
          <a:xfrm>
            <a:off x="6372360" y="2349360"/>
            <a:ext cx="28872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6"/>
          <a:stretch/>
        </p:blipFill>
        <p:spPr>
          <a:xfrm>
            <a:off x="6659640" y="2349360"/>
            <a:ext cx="28872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7"/>
          <a:stretch/>
        </p:blipFill>
        <p:spPr>
          <a:xfrm>
            <a:off x="689940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8"/>
          <a:stretch/>
        </p:blipFill>
        <p:spPr>
          <a:xfrm>
            <a:off x="7115040" y="2349360"/>
            <a:ext cx="265320" cy="107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9"/>
          <a:stretch/>
        </p:blipFill>
        <p:spPr>
          <a:xfrm>
            <a:off x="738036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10"/>
          <a:stretch/>
        </p:blipFill>
        <p:spPr>
          <a:xfrm>
            <a:off x="759636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11">
            <a:lum bright="24000"/>
          </a:blip>
          <a:stretch/>
        </p:blipFill>
        <p:spPr>
          <a:xfrm rot="360000">
            <a:off x="5722560" y="2352600"/>
            <a:ext cx="287280" cy="108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12"/>
          <a:stretch/>
        </p:blipFill>
        <p:spPr>
          <a:xfrm rot="447600">
            <a:off x="5508360" y="2349360"/>
            <a:ext cx="22212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13"/>
          <a:stretch/>
        </p:blipFill>
        <p:spPr>
          <a:xfrm rot="259200">
            <a:off x="5951520" y="2347920"/>
            <a:ext cx="255600" cy="1079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4"/>
          <p:cNvSpPr/>
          <p:nvPr/>
        </p:nvSpPr>
        <p:spPr>
          <a:xfrm>
            <a:off x="785880" y="4154400"/>
            <a:ext cx="23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小盒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5394240" y="4221000"/>
            <a:ext cx="25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大盒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0000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2"/>
          <p:cNvSpPr/>
          <p:nvPr/>
        </p:nvSpPr>
        <p:spPr>
          <a:xfrm>
            <a:off x="3041640" y="5157720"/>
            <a:ext cx="34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大盒就是十万个订书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222"/>
          <p:cNvPicPr/>
          <p:nvPr/>
        </p:nvPicPr>
        <p:blipFill>
          <a:blip r:embed="rId2"/>
          <a:stretch/>
        </p:blipFill>
        <p:spPr>
          <a:xfrm>
            <a:off x="3492360" y="371628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222"/>
          <p:cNvPicPr/>
          <p:nvPr/>
        </p:nvPicPr>
        <p:blipFill>
          <a:blip r:embed="rId3"/>
          <a:stretch/>
        </p:blipFill>
        <p:spPr>
          <a:xfrm>
            <a:off x="3492360" y="342900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222"/>
          <p:cNvPicPr/>
          <p:nvPr/>
        </p:nvPicPr>
        <p:blipFill>
          <a:blip r:embed="rId4"/>
          <a:stretch/>
        </p:blipFill>
        <p:spPr>
          <a:xfrm>
            <a:off x="3492360" y="314172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222"/>
          <p:cNvPicPr/>
          <p:nvPr/>
        </p:nvPicPr>
        <p:blipFill>
          <a:blip r:embed="rId5"/>
          <a:stretch/>
        </p:blipFill>
        <p:spPr>
          <a:xfrm>
            <a:off x="3492360" y="2852640"/>
            <a:ext cx="2232000" cy="1094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222"/>
          <p:cNvPicPr/>
          <p:nvPr/>
        </p:nvPicPr>
        <p:blipFill>
          <a:blip r:embed="rId6"/>
          <a:stretch/>
        </p:blipFill>
        <p:spPr>
          <a:xfrm>
            <a:off x="3492360" y="256536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222"/>
          <p:cNvPicPr/>
          <p:nvPr/>
        </p:nvPicPr>
        <p:blipFill>
          <a:blip r:embed="rId7"/>
          <a:stretch/>
        </p:blipFill>
        <p:spPr>
          <a:xfrm>
            <a:off x="3492360" y="227664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222"/>
          <p:cNvPicPr/>
          <p:nvPr/>
        </p:nvPicPr>
        <p:blipFill>
          <a:blip r:embed="rId8"/>
          <a:stretch/>
        </p:blipFill>
        <p:spPr>
          <a:xfrm>
            <a:off x="3492360" y="1989000"/>
            <a:ext cx="2232000" cy="1094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222"/>
          <p:cNvPicPr/>
          <p:nvPr/>
        </p:nvPicPr>
        <p:blipFill>
          <a:blip r:embed="rId9"/>
          <a:stretch/>
        </p:blipFill>
        <p:spPr>
          <a:xfrm>
            <a:off x="3492360" y="1701720"/>
            <a:ext cx="2232000" cy="1094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222"/>
          <p:cNvPicPr/>
          <p:nvPr/>
        </p:nvPicPr>
        <p:blipFill>
          <a:blip r:embed="rId10"/>
          <a:stretch/>
        </p:blipFill>
        <p:spPr>
          <a:xfrm>
            <a:off x="3492360" y="141300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222"/>
          <p:cNvPicPr/>
          <p:nvPr/>
        </p:nvPicPr>
        <p:blipFill>
          <a:blip r:embed="rId11"/>
          <a:stretch/>
        </p:blipFill>
        <p:spPr>
          <a:xfrm>
            <a:off x="3492360" y="1125360"/>
            <a:ext cx="223200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763640" y="4221000"/>
            <a:ext cx="525636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229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43672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533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781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916360" y="4437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12544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3154320" y="1052640"/>
            <a:ext cx="2844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2340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2916360" y="393372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3998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48132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5629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6445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6"/>
          <p:cNvSpPr/>
          <p:nvPr/>
        </p:nvSpPr>
        <p:spPr>
          <a:xfrm>
            <a:off x="2916360" y="3654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7"/>
          <p:cNvSpPr/>
          <p:nvPr/>
        </p:nvSpPr>
        <p:spPr>
          <a:xfrm>
            <a:off x="2916360" y="336564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8"/>
          <p:cNvSpPr/>
          <p:nvPr/>
        </p:nvSpPr>
        <p:spPr>
          <a:xfrm>
            <a:off x="2916360" y="307800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9"/>
          <p:cNvSpPr/>
          <p:nvPr/>
        </p:nvSpPr>
        <p:spPr>
          <a:xfrm>
            <a:off x="2916360" y="278928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0"/>
          <p:cNvSpPr/>
          <p:nvPr/>
        </p:nvSpPr>
        <p:spPr>
          <a:xfrm>
            <a:off x="2916360" y="250200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1"/>
          <p:cNvSpPr/>
          <p:nvPr/>
        </p:nvSpPr>
        <p:spPr>
          <a:xfrm>
            <a:off x="2916360" y="2214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2"/>
          <p:cNvSpPr/>
          <p:nvPr/>
        </p:nvSpPr>
        <p:spPr>
          <a:xfrm>
            <a:off x="2916360" y="192708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3"/>
          <p:cNvSpPr/>
          <p:nvPr/>
        </p:nvSpPr>
        <p:spPr>
          <a:xfrm>
            <a:off x="2916360" y="163836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4"/>
          <p:cNvSpPr/>
          <p:nvPr/>
        </p:nvSpPr>
        <p:spPr>
          <a:xfrm>
            <a:off x="2916360" y="1098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244 E">
                                      <p:cBhvr>
                                        <p:cTn id="23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79769E-006 L -4.16667E-006 -0.48393 E">
                                      <p:cBhvr>
                                        <p:cTn id="23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7283E-006 L -4.16667E-006 -0.44185 E">
                                      <p:cBhvr>
                                        <p:cTn id="24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L -4.16667E-006 -0.4 E">
                                      <p:cBhvr>
                                        <p:cTn id="24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23699E-006 L -4.16667E-006 -0.35792 E">
                                      <p:cBhvr>
                                        <p:cTn id="24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52601E-006 L -4.16667E-006 -0.31607 E">
                                      <p:cBhvr>
                                        <p:cTn id="24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1503E-006 L -4.16667E-006 -0.27422 E">
                                      <p:cBhvr>
                                        <p:cTn id="24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0405E-006 L -4.16667E-006 -0.23237 E">
                                      <p:cBhvr>
                                        <p:cTn id="25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17919E-006 L -4.16667E-006 -0.19029 E">
                                      <p:cBhvr>
                                        <p:cTn id="25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62428E-007 L -4.16667E-006 -0.11168 E">
                                      <p:cBhvr>
                                        <p:cTn id="2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763640" y="4221000"/>
            <a:ext cx="525636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229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43672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33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781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916360" y="4437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12544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3154320" y="1052640"/>
            <a:ext cx="2844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2340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3998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48132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5629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6445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2916360" y="333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2428E-006 L -0.04531 4.62428E-006 C -0.06562 4.62428E-006 -0.09045 0.14427 -0.09045 0.26196 L -0.09045 0.52416 E">
                                      <p:cBhvr>
                                        <p:cTn id="26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547640" y="4221000"/>
            <a:ext cx="604872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913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049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109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393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527280" y="443700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73672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2938320" y="1052640"/>
            <a:ext cx="2880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124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2700360" y="393372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3782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459756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5413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62294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6"/>
          <p:cNvSpPr/>
          <p:nvPr/>
        </p:nvSpPr>
        <p:spPr>
          <a:xfrm>
            <a:off x="2700360" y="3654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7"/>
          <p:cNvSpPr/>
          <p:nvPr/>
        </p:nvSpPr>
        <p:spPr>
          <a:xfrm>
            <a:off x="2700360" y="336564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8"/>
          <p:cNvSpPr/>
          <p:nvPr/>
        </p:nvSpPr>
        <p:spPr>
          <a:xfrm>
            <a:off x="2700360" y="307800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2700360" y="278928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0"/>
          <p:cNvSpPr/>
          <p:nvPr/>
        </p:nvSpPr>
        <p:spPr>
          <a:xfrm>
            <a:off x="2700360" y="250200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1"/>
          <p:cNvSpPr/>
          <p:nvPr/>
        </p:nvSpPr>
        <p:spPr>
          <a:xfrm>
            <a:off x="2700360" y="2214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2"/>
          <p:cNvSpPr/>
          <p:nvPr/>
        </p:nvSpPr>
        <p:spPr>
          <a:xfrm>
            <a:off x="2700360" y="192708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3"/>
          <p:cNvSpPr/>
          <p:nvPr/>
        </p:nvSpPr>
        <p:spPr>
          <a:xfrm>
            <a:off x="2700360" y="163836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2700360" y="1098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7093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190800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244 E">
                                      <p:cBhvr>
                                        <p:cTn id="32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79769E-006 L -4.16667E-006 -0.48393 E">
                                      <p:cBhvr>
                                        <p:cTn id="32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7283E-006 L -4.16667E-006 -0.44185 E">
                                      <p:cBhvr>
                                        <p:cTn id="33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L -4.16667E-006 -0.4 E">
                                      <p:cBhvr>
                                        <p:cTn id="33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23699E-006 L -4.16667E-006 -0.35792 E">
                                      <p:cBhvr>
                                        <p:cTn id="33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52601E-006 L -4.16667E-006 -0.31607 E">
                                      <p:cBhvr>
                                        <p:cTn id="33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1503E-006 L -4.16667E-006 -0.27422 E">
                                      <p:cBhvr>
                                        <p:cTn id="33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0405E-006 L -4.16667E-006 -0.23237 E">
                                      <p:cBhvr>
                                        <p:cTn id="34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17919E-006 L -4.16667E-006 -0.19029 E">
                                      <p:cBhvr>
                                        <p:cTn id="34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62428E-007 L -4.16667E-006 -0.11168 E">
                                      <p:cBhvr>
                                        <p:cTn id="34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47640" y="4221000"/>
            <a:ext cx="604872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913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049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109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393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529080" y="4437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73672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2938320" y="1052640"/>
            <a:ext cx="2880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2124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3782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459756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5413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62294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2700360" y="333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7093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90800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2428E-006 L -0.04531 4.62428E-006 C -0.06562 4.62428E-006 -0.09045 0.14427 -0.09045 0.26196 L -0.09045 0.52416 E">
                                      <p:cBhvr>
                                        <p:cTn id="35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2484360" y="2205000"/>
            <a:ext cx="446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钟表上的秒针跳动一亿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需要用三年多的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others6"/>
          <p:cNvPicPr/>
          <p:nvPr/>
        </p:nvPicPr>
        <p:blipFill>
          <a:blip r:embed="rId2"/>
          <a:stretch/>
        </p:blipFill>
        <p:spPr>
          <a:xfrm>
            <a:off x="7315200" y="380880"/>
            <a:ext cx="10731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0:10:33Z</dcterms:created>
  <dc:creator/>
  <dc:description/>
  <cp:keywords/>
  <dc:language>en-US</dc:language>
  <cp:lastModifiedBy>Administrator</cp:lastModifiedBy>
  <dcterms:modified xsi:type="dcterms:W3CDTF">2015-02-20T17:10:35Z</dcterms:modified>
  <cp:revision>165</cp:revision>
  <dc:subject/>
  <dc:title>幻灯片 1</dc:title>
</cp:coreProperties>
</file>