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camera.wav" ContentType="audio/x-wav"/>
  <Override PartName="/ppt/media/coin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B15E-596A-4C13-A365-A500187B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1A1-98B3-4EE8-847F-BA64A22B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8C50-8049-4489-A28D-935C2020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BDE-DC70-4340-A1D2-3CD7C9BF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FED-B1FB-4A2A-9490-F0A3D32B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10D5-4F89-48E1-8073-EDC6AFF7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8EB-3C38-4A32-A8FB-EC9255FF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2AB-3F93-4C6B-AD0D-146C0251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A9CD-B061-499D-84B9-AC31052C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C9B-3838-4A8F-B0F6-BCF8762F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DA1-3399-40BD-A3DB-D20883EB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DEA-861F-40CF-B717-38C3F734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EB1E-093D-4778-9A9C-79A868D542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29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单元    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大数知多少</a:t>
            </a:r>
            <a:br>
              <a:rPr sz="5900"/>
            </a:br>
            <a:br>
              <a:rPr sz="900"/>
            </a:br>
            <a:br>
              <a:rPr sz="900"/>
            </a:br>
            <a:r>
              <a:rPr b="0" lang="en-US" sz="59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5900" spc="-1" strike="noStrike">
                <a:solidFill>
                  <a:srgbClr val="000000"/>
                </a:solidFill>
                <a:latin typeface="黑体"/>
                <a:ea typeface="黑体"/>
              </a:rPr>
              <a:t>万以上数的认识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复 习 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万以上数的读法、写法的相同点、不同点是什么？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相同点：读数和写数都是先读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写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高级，再读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写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低级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不同点：有关零的问题，读数和写数是不一样的。写数时，哪一位上一个也没有，就在那一位上写“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0”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；读数时，每级末尾不管有几个“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0”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都不读，其他数位上有一个“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0”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或连续有几个“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0”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都只读一个零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大 小 比 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12952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小结：①、位数多的时候，这个数就比较大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、当这两个数位数相同的时候，我们就应该从左起的第一位比起，也就是从最高位开始比，哪个数最高位上的数大，这个数就大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、如果碰到最高位上的数相同的时候，就再比下一位，以此类推，直到我们比较出相同的数位上的那个数，哪个数大的时候，我们就可以断定这个数比较大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在○里填上“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&lt;”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“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&gt;”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或“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=”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0000○9999      60000○600000      9998○8999       94537○9453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十七亿○七十亿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三十八万○三百八十万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1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万元○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10000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万米○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000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米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吨○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00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千克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000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万○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改 写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改写成用万作单位的数，只要去掉个级的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个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改写成用亿作单位的数，只要去掉个级和万级的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个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改  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30000=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（    ）万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6700000=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（   ）万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635000000=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（   ）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800000000=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（    ）万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000000000=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（     ）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063000000000=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（  ）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3048120" y="1219320"/>
            <a:ext cx="0" cy="5400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1905120" y="1219320"/>
            <a:ext cx="0" cy="5400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2988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求近似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四舍五入”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求近似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981080"/>
            <a:ext cx="8229600" cy="29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2540000000≈               2957000000≈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90000000≈             29536000000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35100≈          1996527≈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5600≈            209943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36720" cy="1146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36720" cy="1146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5867280" y="1981080"/>
            <a:ext cx="36720" cy="1146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4"/>
          <a:stretch/>
        </p:blipFill>
        <p:spPr>
          <a:xfrm>
            <a:off x="6781680" y="1981080"/>
            <a:ext cx="36720" cy="1146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5"/>
          <a:stretch/>
        </p:blipFill>
        <p:spPr>
          <a:xfrm>
            <a:off x="4419720" y="3124080"/>
            <a:ext cx="36360" cy="1146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6"/>
          <a:stretch/>
        </p:blipFill>
        <p:spPr>
          <a:xfrm>
            <a:off x="1295280" y="3200400"/>
            <a:ext cx="36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探究题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最高位是十亿位的数是（       ）位数，七位数的最高位是（       ）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最大的五位数是加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（       ），最小的九位数减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（        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万组成的数是（               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   988≈6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万 ，  里最大能填（   ）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3   5000000≈2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亿，   里最小能填（   ）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3"/>
          <p:cNvSpPr/>
          <p:nvPr/>
        </p:nvSpPr>
        <p:spPr>
          <a:xfrm>
            <a:off x="1747800" y="4419720"/>
            <a:ext cx="304920" cy="380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4038480" y="4429080"/>
            <a:ext cx="304920" cy="380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1981080" y="5029200"/>
            <a:ext cx="304920" cy="380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486400" y="5029200"/>
            <a:ext cx="304920" cy="380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编    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个数字可以用来表示数量，也可以用来表示顺序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如果把数字按一定方法编排起来，它们会发挥更大的作用，这就形成了一个新的事物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编码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张老师的身份证号码是：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5052419730316002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14400" y="257148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张老师是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年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月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日出生，性别是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9960" y="533520"/>
          <a:ext cx="8744040" cy="4868640"/>
        </p:xfrm>
        <a:graphic>
          <a:graphicData uri="http://schemas.openxmlformats.org/drawingml/2006/table">
            <a:tbl>
              <a:tblPr/>
              <a:tblGrid>
                <a:gridCol w="768600"/>
                <a:gridCol w="507960"/>
                <a:gridCol w="604800"/>
                <a:gridCol w="555480"/>
                <a:gridCol w="557280"/>
                <a:gridCol w="555480"/>
                <a:gridCol w="555840"/>
                <a:gridCol w="555480"/>
                <a:gridCol w="557280"/>
                <a:gridCol w="712800"/>
                <a:gridCol w="601560"/>
                <a:gridCol w="600120"/>
                <a:gridCol w="601560"/>
                <a:gridCol w="601920"/>
                <a:gridCol w="407880"/>
              </a:tblGrid>
              <a:tr h="853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数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数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计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单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5050219670101204X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这是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35050219380715307X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这是（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）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5050219661203509X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这是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57168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下面是小红的爸爸、妈妈和爷爷的身份证号码，请用你学到的知识判断每个身份证号码到底是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64296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小明家住在幸福小区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号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单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号，我家的编号是“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-2-30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3143160"/>
            <a:ext cx="82296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小华家也住在幸福小区，编号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-3-60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小华家住在几号楼几单元几层几号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Calibri"/>
              </a:rPr>
              <a:t>县人民医院给每位住院病人设计了一个病历号，从中可看出该病人住哪个科室、住院时间以</a:t>
            </a:r>
            <a:br>
              <a:rPr sz="3100"/>
            </a:br>
            <a:r>
              <a:rPr b="0" lang="zh-CN" sz="3100" spc="-1" strike="noStrike">
                <a:solidFill>
                  <a:srgbClr val="000000"/>
                </a:solidFill>
                <a:latin typeface="Calibri"/>
              </a:rPr>
              <a:t>及床号，一个病人的病历号是“内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2007121509</a:t>
            </a:r>
            <a:r>
              <a:rPr b="0" lang="zh-CN" sz="31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31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85520" y="3571560"/>
            <a:ext cx="835812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有一个病人住在外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号床，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号入院，这个病人的病历号是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内容占位符 2"/>
          <p:cNvSpPr/>
          <p:nvPr/>
        </p:nvSpPr>
        <p:spPr>
          <a:xfrm>
            <a:off x="500040" y="2357280"/>
            <a:ext cx="822960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么，这位病人住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科，入院时间是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他住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号病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228560" y="2357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1093320" y="2928960"/>
            <a:ext cx="30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007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5862600" y="2857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1705680" y="442908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0080511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1300320" y="4500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自 然 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表示物体个数的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1……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是自然数。一个物体也没有，用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表示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也是自然数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最小的自然数是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没有最大的自然数，自然数的个数是无限的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基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个一万是（ ）万，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个十万是（ ）万，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个一百万是（  ）万，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个一千万是（  ）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相邻两个计数单位之间的进率是（       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3808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5073261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是（   ）位数，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在（   ）位上，表示有（   ）个（      ），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在（    ）位上，它的计数单位是（    ），表示有（   ）个（    ），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在（   ）位上，表示有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个（     ）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）一千万是（  ）个十万，（   ）个一千是十万。一亿是一千万的（  ）倍，是一百万的（  ）倍，是一的（   ）倍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10089470235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的个级上的数字是（   ），表示有（   ）个（      ），万级上的数字是（   ），表示有（   ）个（      ），亿级上的数字是（   ），表示有（   ）个（      ）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读   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zh-CN" sz="3700" spc="-1" strike="noStrike">
                <a:solidFill>
                  <a:srgbClr val="000000"/>
                </a:solidFill>
                <a:latin typeface="Calibri"/>
              </a:rPr>
              <a:t>、从高位数读起，一级一级往下读。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zh-CN" sz="3700" spc="-1" strike="noStrike">
                <a:solidFill>
                  <a:srgbClr val="000000"/>
                </a:solidFill>
                <a:latin typeface="Calibri"/>
              </a:rPr>
              <a:t>、万（亿）级的数要按照个级的数的读法来读，再在后面加一个万（亿）字。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zh-CN" sz="3700" spc="-1" strike="noStrike">
                <a:solidFill>
                  <a:srgbClr val="000000"/>
                </a:solidFill>
                <a:latin typeface="Calibri"/>
              </a:rPr>
              <a:t>、每级末尾不管有几个零都不读，其他数位有一个“零”或连续几个“零”，都只读一个“零”。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基  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1523520"/>
            <a:ext cx="89917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34578919  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读作：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76008704  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读作：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30607080  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读作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0000004  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读作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0990900008  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读作：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7080023040  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读作：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2543040" y="1231920"/>
            <a:ext cx="0" cy="5400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1319040" y="1143000"/>
            <a:ext cx="0" cy="5400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写   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小结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、从高级写起，一级一级往下写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、当哪一位上一个计数单位也没有，就在哪一位上写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-360" y="151920"/>
            <a:ext cx="89917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三千零一           写作：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五千七百亿零三千五百零四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四千二百零三    写作：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九亿零七           写作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二千五百四十六亿七千八百五十二万六千四百八十五     写作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三百亿零四万零四     写作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2-20T17:08:18Z</dcterms:modified>
  <cp:revision>48</cp:revision>
  <dc:subject/>
  <dc:title>第一单元      大数知多少   ——万以上数的认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