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D88-3EB0-467C-869E-37A60A04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516-E68C-4B61-899B-AFC7BF7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DC3-FC44-4016-980F-4671E441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7F8-B772-4B68-8F48-4384A0D3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7AF-3CCB-4574-AD62-3C2E92C4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06A-1B0B-49DF-9740-8F40099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0D5-154B-47EC-AD06-226316C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751-40D1-4371-8BB8-CBAF1953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BC2-3F98-40E1-BB3F-40DF55C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06B-303D-43A7-BF18-E7B371C5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F19-74A0-4ECF-80DA-D658FE2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831-AF45-4E7A-93B4-931A427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1663-3279-4F71-B7B7-304A7BC6D2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两点间的距离及点到直线间的距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9"/>
          <p:cNvGrpSpPr/>
          <p:nvPr/>
        </p:nvGrpSpPr>
        <p:grpSpPr>
          <a:xfrm>
            <a:off x="3203640" y="5514840"/>
            <a:ext cx="1655640" cy="368280"/>
            <a:chOff x="3203640" y="5514840"/>
            <a:chExt cx="1655640" cy="368280"/>
          </a:xfrm>
        </p:grpSpPr>
        <p:pic>
          <p:nvPicPr>
            <p:cNvPr id="4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3203640" y="55166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2"/>
            <p:cNvSpPr/>
            <p:nvPr/>
          </p:nvSpPr>
          <p:spPr>
            <a:xfrm>
              <a:off x="3637080" y="55148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18"/>
          <p:cNvGrpSpPr/>
          <p:nvPr/>
        </p:nvGrpSpPr>
        <p:grpSpPr>
          <a:xfrm>
            <a:off x="2050920" y="5013360"/>
            <a:ext cx="2060640" cy="387360"/>
            <a:chOff x="2050920" y="5013360"/>
            <a:chExt cx="2060640" cy="387360"/>
          </a:xfrm>
        </p:grpSpPr>
        <p:sp>
          <p:nvSpPr>
            <p:cNvPr id="46" name="Text Box 11"/>
            <p:cNvSpPr/>
            <p:nvPr/>
          </p:nvSpPr>
          <p:spPr>
            <a:xfrm>
              <a:off x="2455920" y="50133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2050920" y="5043600"/>
              <a:ext cx="3574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7"/>
          <p:cNvGrpSpPr/>
          <p:nvPr/>
        </p:nvGrpSpPr>
        <p:grpSpPr>
          <a:xfrm>
            <a:off x="1187280" y="4221000"/>
            <a:ext cx="2016360" cy="399960"/>
            <a:chOff x="1187280" y="4221000"/>
            <a:chExt cx="2016360" cy="399960"/>
          </a:xfrm>
        </p:grpSpPr>
        <p:sp>
          <p:nvSpPr>
            <p:cNvPr id="49" name="Text Box 10"/>
            <p:cNvSpPr/>
            <p:nvPr/>
          </p:nvSpPr>
          <p:spPr>
            <a:xfrm>
              <a:off x="1547640" y="4221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1187280" y="4263840"/>
              <a:ext cx="3574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6"/>
          <p:cNvGrpSpPr/>
          <p:nvPr/>
        </p:nvGrpSpPr>
        <p:grpSpPr>
          <a:xfrm>
            <a:off x="482760" y="3529080"/>
            <a:ext cx="2044440" cy="405000"/>
            <a:chOff x="482760" y="3529080"/>
            <a:chExt cx="2044440" cy="405000"/>
          </a:xfrm>
        </p:grpSpPr>
        <p:sp>
          <p:nvSpPr>
            <p:cNvPr id="52" name="Text Box 9"/>
            <p:cNvSpPr/>
            <p:nvPr/>
          </p:nvSpPr>
          <p:spPr>
            <a:xfrm>
              <a:off x="871560" y="3529080"/>
              <a:ext cx="16556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Arial"/>
                  <a:ea typeface="楷体_GB2312"/>
                  <a:hlinkClick r:id="rId4" action="ppaction://hlinksldjump"/>
                </a:rPr>
                <a:t>情境导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呈现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072040" y="30013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285920" y="5894280"/>
            <a:ext cx="678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认为怎样修比较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TC$1AXMDYWTKMBW_BX(JX3V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920" y="189000"/>
            <a:ext cx="6213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说我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}PQ9{U[)Z2$33]WPFZ$Y)0"/>
          <p:cNvPicPr/>
          <p:nvPr/>
        </p:nvPicPr>
        <p:blipFill>
          <a:blip r:embed="rId1"/>
          <a:stretch/>
        </p:blipFill>
        <p:spPr>
          <a:xfrm>
            <a:off x="0" y="3716280"/>
            <a:ext cx="424800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TXC26JCJ7AGWA$MOL]D70VI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23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]84EWSE]86~PYY8MYS91R]T"/>
          <p:cNvPicPr/>
          <p:nvPr/>
        </p:nvPicPr>
        <p:blipFill>
          <a:blip r:embed="rId3"/>
          <a:stretch/>
        </p:blipFill>
        <p:spPr>
          <a:xfrm>
            <a:off x="611280" y="1557360"/>
            <a:ext cx="69850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50920" y="189000"/>
            <a:ext cx="6213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说我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2692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30072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7"/>
          <p:cNvSpPr/>
          <p:nvPr/>
        </p:nvSpPr>
        <p:spPr>
          <a:xfrm>
            <a:off x="1547640" y="3645000"/>
            <a:ext cx="5299200" cy="213516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1619280" y="1557360"/>
            <a:ext cx="5584680" cy="21794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39640" y="1052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样才能使两点之间距离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4000" y="558972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总结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两点之间线段最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线段的长度就叫做这两点之间的距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1403280" y="3645000"/>
            <a:ext cx="28728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1547640" y="3573360"/>
            <a:ext cx="5329440" cy="1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6732720" y="3500280"/>
            <a:ext cx="2887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189000"/>
            <a:ext cx="6213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说我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图片2"/>
          <p:cNvPicPr/>
          <p:nvPr/>
        </p:nvPicPr>
        <p:blipFill>
          <a:blip r:embed="rId1"/>
          <a:stretch/>
        </p:blipFill>
        <p:spPr>
          <a:xfrm>
            <a:off x="539640" y="2781360"/>
            <a:ext cx="7885080" cy="150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图片1"/>
          <p:cNvPicPr/>
          <p:nvPr/>
        </p:nvPicPr>
        <p:blipFill>
          <a:blip r:embed="rId2"/>
          <a:stretch/>
        </p:blipFill>
        <p:spPr>
          <a:xfrm>
            <a:off x="5940360" y="5475240"/>
            <a:ext cx="2016360" cy="13827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1369080"/>
            <a:ext cx="87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芳芳家离公路还有一段距离，她家准备修一条水泥路连接公路。怎样修才能使修的路最近呢 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003640" y="62784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1763640" y="3933720"/>
            <a:ext cx="28728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3564000" y="3573360"/>
            <a:ext cx="28728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6948360" y="2997360"/>
            <a:ext cx="2890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3780000" y="3789360"/>
            <a:ext cx="158400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5003640" y="3573360"/>
            <a:ext cx="360360" cy="23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H="1">
            <a:off x="5292360" y="3213000"/>
            <a:ext cx="180036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1908000" y="4076640"/>
            <a:ext cx="345600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5076720" y="5661000"/>
            <a:ext cx="43200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5"/>
          <p:cNvSpPr/>
          <p:nvPr/>
        </p:nvSpPr>
        <p:spPr>
          <a:xfrm>
            <a:off x="4788000" y="3357720"/>
            <a:ext cx="28872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3" descr="蓝色按钮"/>
          <p:cNvPicPr/>
          <p:nvPr/>
        </p:nvPicPr>
        <p:blipFill>
          <a:blip r:embed="rId4"/>
          <a:stretch/>
        </p:blipFill>
        <p:spPr>
          <a:xfrm>
            <a:off x="179280" y="6426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Oval 35"/>
          <p:cNvSpPr/>
          <p:nvPr/>
        </p:nvSpPr>
        <p:spPr>
          <a:xfrm>
            <a:off x="1763640" y="3933720"/>
            <a:ext cx="28728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1908000" y="4076640"/>
            <a:ext cx="345600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1763640" y="3933720"/>
            <a:ext cx="28728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1908000" y="4076640"/>
            <a:ext cx="345600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189000"/>
            <a:ext cx="6213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说我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900000" y="1268280"/>
            <a:ext cx="5135760" cy="3195000"/>
            <a:chOff x="900000" y="1268280"/>
            <a:chExt cx="5135760" cy="3195000"/>
          </a:xfrm>
        </p:grpSpPr>
        <p:grpSp>
          <p:nvGrpSpPr>
            <p:cNvPr id="97" name="Group 9"/>
            <p:cNvGrpSpPr/>
            <p:nvPr/>
          </p:nvGrpSpPr>
          <p:grpSpPr>
            <a:xfrm>
              <a:off x="900000" y="1268280"/>
              <a:ext cx="5135760" cy="3195000"/>
              <a:chOff x="900000" y="1268280"/>
              <a:chExt cx="5135760" cy="3195000"/>
            </a:xfrm>
          </p:grpSpPr>
          <p:grpSp>
            <p:nvGrpSpPr>
              <p:cNvPr id="98" name="Group 10"/>
              <p:cNvGrpSpPr/>
              <p:nvPr/>
            </p:nvGrpSpPr>
            <p:grpSpPr>
              <a:xfrm>
                <a:off x="900000" y="1268280"/>
                <a:ext cx="5097600" cy="2613240"/>
                <a:chOff x="900000" y="1268280"/>
                <a:chExt cx="5097600" cy="2613240"/>
              </a:xfrm>
            </p:grpSpPr>
            <p:grpSp>
              <p:nvGrpSpPr>
                <p:cNvPr id="99" name="Group 11"/>
                <p:cNvGrpSpPr/>
                <p:nvPr/>
              </p:nvGrpSpPr>
              <p:grpSpPr>
                <a:xfrm>
                  <a:off x="900000" y="1268280"/>
                  <a:ext cx="5097600" cy="2612880"/>
                  <a:chOff x="900000" y="1268280"/>
                  <a:chExt cx="5097600" cy="2612880"/>
                </a:xfrm>
              </p:grpSpPr>
              <p:sp>
                <p:nvSpPr>
                  <p:cNvPr id="100" name="Line 12"/>
                  <p:cNvSpPr/>
                  <p:nvPr/>
                </p:nvSpPr>
                <p:spPr>
                  <a:xfrm>
                    <a:off x="900000" y="3881160"/>
                    <a:ext cx="5097600" cy="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Oval 13"/>
                  <p:cNvSpPr/>
                  <p:nvPr/>
                </p:nvSpPr>
                <p:spPr>
                  <a:xfrm>
                    <a:off x="3075480" y="1630800"/>
                    <a:ext cx="115560" cy="171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14"/>
                  <p:cNvSpPr/>
                  <p:nvPr/>
                </p:nvSpPr>
                <p:spPr>
                  <a:xfrm>
                    <a:off x="2699640" y="1268280"/>
                    <a:ext cx="4518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Line 15"/>
                <p:cNvSpPr/>
                <p:nvPr/>
              </p:nvSpPr>
              <p:spPr>
                <a:xfrm flipH="1">
                  <a:off x="1478160" y="1746000"/>
                  <a:ext cx="1609560" cy="2135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6"/>
                <p:cNvSpPr/>
                <p:nvPr/>
              </p:nvSpPr>
              <p:spPr>
                <a:xfrm>
                  <a:off x="3179520" y="1726920"/>
                  <a:ext cx="2637720" cy="2135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7"/>
                <p:cNvSpPr/>
                <p:nvPr/>
              </p:nvSpPr>
              <p:spPr>
                <a:xfrm>
                  <a:off x="3127680" y="1707840"/>
                  <a:ext cx="1362960" cy="2135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 flipH="1">
                  <a:off x="2404080" y="1726920"/>
                  <a:ext cx="710640" cy="21153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9"/>
                <p:cNvSpPr/>
                <p:nvPr/>
              </p:nvSpPr>
              <p:spPr>
                <a:xfrm flipH="1">
                  <a:off x="3138480" y="1764720"/>
                  <a:ext cx="2520" cy="20750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20"/>
              <p:cNvSpPr/>
              <p:nvPr/>
            </p:nvSpPr>
            <p:spPr>
              <a:xfrm>
                <a:off x="1273320" y="3881880"/>
                <a:ext cx="38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21"/>
              <p:cNvSpPr/>
              <p:nvPr/>
            </p:nvSpPr>
            <p:spPr>
              <a:xfrm>
                <a:off x="2188440" y="3863520"/>
                <a:ext cx="38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22"/>
              <p:cNvSpPr/>
              <p:nvPr/>
            </p:nvSpPr>
            <p:spPr>
              <a:xfrm>
                <a:off x="2974320" y="3863520"/>
                <a:ext cx="38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23"/>
              <p:cNvSpPr/>
              <p:nvPr/>
            </p:nvSpPr>
            <p:spPr>
              <a:xfrm>
                <a:off x="4339080" y="3825720"/>
                <a:ext cx="38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4"/>
              <p:cNvSpPr/>
              <p:nvPr/>
            </p:nvSpPr>
            <p:spPr>
              <a:xfrm>
                <a:off x="5651280" y="3825720"/>
                <a:ext cx="38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未知"/>
            <p:cNvSpPr/>
            <p:nvPr/>
          </p:nvSpPr>
          <p:spPr>
            <a:xfrm>
              <a:off x="3140280" y="3556800"/>
              <a:ext cx="205560" cy="298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29"/>
          <p:cNvSpPr/>
          <p:nvPr/>
        </p:nvSpPr>
        <p:spPr>
          <a:xfrm flipH="1">
            <a:off x="3203280" y="1773360"/>
            <a:ext cx="259236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579600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垂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2" descr="7HNRE4F{$F_MEBD%6I45I@1"/>
          <p:cNvPicPr/>
          <p:nvPr/>
        </p:nvPicPr>
        <p:blipFill>
          <a:blip r:embed="rId1"/>
          <a:stretch/>
        </p:blipFill>
        <p:spPr>
          <a:xfrm>
            <a:off x="0" y="5157720"/>
            <a:ext cx="8748720" cy="130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3"/>
          <p:cNvSpPr/>
          <p:nvPr/>
        </p:nvSpPr>
        <p:spPr>
          <a:xfrm>
            <a:off x="0" y="33336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4" descr="UJ]K@GFOJ9]EOIKYFI@G2`F"/>
          <p:cNvPicPr/>
          <p:nvPr/>
        </p:nvPicPr>
        <p:blipFill>
          <a:blip r:embed="rId1"/>
          <a:stretch/>
        </p:blipFill>
        <p:spPr>
          <a:xfrm>
            <a:off x="0" y="981000"/>
            <a:ext cx="874872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ORBH`FM}NFS090V~05Q~$X8"/>
          <p:cNvPicPr/>
          <p:nvPr/>
        </p:nvPicPr>
        <p:blipFill>
          <a:blip r:embed="rId2"/>
          <a:stretch/>
        </p:blipFill>
        <p:spPr>
          <a:xfrm>
            <a:off x="0" y="3933720"/>
            <a:ext cx="8820000" cy="26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内容占位符 3" descr="末页丰收园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J:\苹果\苹果 4.jpg"/>
          <p:cNvPicPr/>
          <p:nvPr/>
        </p:nvPicPr>
        <p:blipFill>
          <a:blip r:embed="rId2"/>
          <a:stretch/>
        </p:blipFill>
        <p:spPr>
          <a:xfrm>
            <a:off x="1571760" y="5715000"/>
            <a:ext cx="500040" cy="48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J:\苹果\苹果 5.jpg"/>
          <p:cNvPicPr/>
          <p:nvPr/>
        </p:nvPicPr>
        <p:blipFill>
          <a:blip r:embed="rId3"/>
          <a:stretch/>
        </p:blipFill>
        <p:spPr>
          <a:xfrm>
            <a:off x="2071800" y="5715000"/>
            <a:ext cx="495360" cy="477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25" name="Picture 23" descr="J:\苹果\苹果 2.jpg"/>
          <p:cNvPicPr/>
          <p:nvPr/>
        </p:nvPicPr>
        <p:blipFill>
          <a:blip r:embed="rId4"/>
          <a:stretch/>
        </p:blipFill>
        <p:spPr>
          <a:xfrm>
            <a:off x="1857240" y="5286240"/>
            <a:ext cx="500040" cy="48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:\苹果\苹果.jpg"/>
          <p:cNvPicPr/>
          <p:nvPr/>
        </p:nvPicPr>
        <p:blipFill>
          <a:blip r:embed="rId5"/>
          <a:stretch/>
        </p:blipFill>
        <p:spPr>
          <a:xfrm>
            <a:off x="1332000" y="5300640"/>
            <a:ext cx="52236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J:\苹果\苹果 3.jpg"/>
          <p:cNvPicPr/>
          <p:nvPr/>
        </p:nvPicPr>
        <p:blipFill>
          <a:blip r:embed="rId6"/>
          <a:stretch/>
        </p:blipFill>
        <p:spPr>
          <a:xfrm>
            <a:off x="1116000" y="5661000"/>
            <a:ext cx="500040" cy="482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57120" y="357120"/>
            <a:ext cx="7499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课堂总结，反思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95280" y="1916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两点之间线段最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线段的长度就叫做这两点之间的距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7HNRE4F{$F_MEBD%6I45I@1"/>
          <p:cNvPicPr/>
          <p:nvPr/>
        </p:nvPicPr>
        <p:blipFill>
          <a:blip r:embed="rId7"/>
          <a:stretch/>
        </p:blipFill>
        <p:spPr>
          <a:xfrm>
            <a:off x="324000" y="3141720"/>
            <a:ext cx="845964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7T11:58:44Z</dcterms:created>
  <dc:creator/>
  <dc:description/>
  <cp:keywords/>
  <dc:language>en-US</dc:language>
  <cp:lastModifiedBy>Administrator</cp:lastModifiedBy>
  <dcterms:modified xsi:type="dcterms:W3CDTF">2015-02-18T11:48:43Z</dcterms:modified>
  <cp:revision>8</cp:revision>
  <dc:subject/>
  <dc:title>幻灯片 1</dc:title>
</cp:coreProperties>
</file>