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4E4B-DAB8-4041-A91E-2DA27CD1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B34-5029-4255-9B1F-14E44587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67B9F-60FC-44C9-9709-9BD82503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301B1-A815-4C77-904D-B56CDAF1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ADAC-5DD5-4C72-9B98-92E8E478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84BCC-1ED6-4686-89B3-1CFC87E2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48CDA-7736-43A3-A5B5-DEBE15A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51D50-F1BF-4DF5-ACF8-FFFDB9D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6D97F-A1A2-4647-AC4C-4DD1AE46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D6F289-B783-4765-92C2-CEF27FC91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11488-DE59-4E68-BFB2-712F0594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72D54-BAA8-4BC9-9F55-003FBBDF9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8E7-B79A-4ECB-8558-8FFC721B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FBAB3-DFEC-4A65-BFA5-78B2FD7F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9E216-DE0A-4116-8B73-FA4955CD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CF82FF-AF6A-4576-A4E4-1BFA43F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9D82E-DFD7-4045-B930-131D10A4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A7EF2-0175-425F-ACEF-CD3642BD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E42CAD-85A9-458C-8197-CDC1BE50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37F66-3BC5-4C85-A1FE-0AF3A1F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B8215-7654-48F5-A496-8EB5FCC0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0B1C2-44AD-41A6-8EE0-9A79395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6AB5DA-C7AA-4857-BA5D-18AB1DCD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CFF-9615-4D53-9D2D-EB25EC703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DDBEC-13DD-4389-9FB7-7108EC2D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A4A8-5728-4D29-8796-02ACE396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AD4-A49D-4CB2-88DD-98C9FE9B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CA61-A846-4C5B-B5CD-FB523A1A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FF5F-0036-4057-BF3E-3E2BBF5F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E25-92F2-4026-8C4B-2FB76DA0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0A36-5358-4C0F-8BF0-D5C4BF0B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6035-BD8A-47CF-8688-BC13808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2B50-D937-4E92-A085-8FB4E929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585B6-16FF-4934-A31C-D0036E4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27A2-4C5C-42AF-B0F8-33C09AC9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4B72-E9B2-4222-9676-CF37C92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D131-98A2-4AB3-945F-6B2BF98A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80F7-D790-4F13-BE97-0DD1E9C7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6EC68-A067-423A-A9C1-31F910C99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C772E-8F73-406E-AC54-0E43ABA2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1EE7-698C-4BBA-B390-8CAB018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A129-C08B-4096-AFEF-7FE22E0C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B1B5-BCDD-4356-B7A3-98304173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037-9BAC-471E-98C4-433E582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9549-107C-4590-8C2F-4695BA5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50A2-1AFA-4348-BCFF-3B11918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407E-5CB0-4E6E-87CD-44B80E0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2330-10F5-43ED-AC20-215E059C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27E7C-25A7-40C5-8A0F-C2F77F71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EFCC-F10C-4A5C-96AE-ADDF0F27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DF64C-2867-48D1-9AE1-D36701D9C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BBBF-0BB0-4F96-8065-3F68C5A8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5F7EC-5E04-4A50-AA0B-3863E08D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3043F-AFDA-45BE-BC24-1C6A95EA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0D3-0E18-40CB-9BA2-0AD663FB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97378-5C6F-4646-A792-59AC4315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6EEBA-7DB2-438D-9DBA-6B29B783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E446A-8173-4D54-A7FE-18C327E9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08F9-E8E4-4FA1-BA41-2FC176D3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11C0A-3A82-4EC6-AB9A-C24DC3AD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384DA-E1A4-4671-B4B4-E1010C48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57641-7FC1-4661-937E-E2AE0A7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3DA8F-B509-4E92-AFB5-088E7E06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FBC1-BF03-4B46-BF5B-E1689ECD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D36DE-6879-4F37-895B-AD4FB2C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1608-717B-4CEA-8FD7-90785516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FF698-0927-4587-A1BC-18D2A9FE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7B4A2-B4D8-4CB0-8421-07F64367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8553-98C4-4079-84AF-4FB2CC06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126D8-566E-4D82-A348-275DD8EF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14E6-F546-48F1-ABF4-7FC8A2AD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9D49C-33B9-4A6B-9E66-193F7223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E1AB0-4FCD-4557-BE48-E2EFF419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B6A1-A248-400E-BED8-061904E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59BB-0282-4D97-BAF7-51E3351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CC027-3AD5-4D30-8E01-9F1784EF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8225-0593-4E1F-BB59-6A1BDFC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ECEE3-0BA6-47D9-A0A7-2B065392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FFA31-E577-4FDE-916A-747DD937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61930-7E45-4189-9C98-409A5E3A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FBA9C-27DD-4A0D-BB4E-3252B6BD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7EFF-9382-4920-AB04-FE8FD592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CCDE7-1CEB-4A04-B3D9-53BA4C3C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D6F16-5AFC-48CD-B598-A6B0ED5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E44E8-B17D-4F4C-9018-7ECED9D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F9B6F-DF4F-4243-B72F-475DE524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47CCD-67E6-4382-9FC0-F2E10D88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FB8-7CF3-4C10-BE85-FBB1E94D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CA36-6FB2-4177-9246-A63D1231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0262B-5E4D-4113-905C-483A2AEC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9980F-32B8-4B43-84C5-78633C71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AAB0-DDBE-4852-A337-71A52E0D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A196A-C610-4712-87FC-DE5E3DC4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F828-0729-40FE-896B-FCD9EFCF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7F6E2-E0E0-4B61-B9EE-5DF796C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D8CA-68AB-4871-8EFB-7040103F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EB728-4B4E-4D6D-95CF-662531EC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CB649-1365-49C8-A147-B775EF1A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BEE-7851-4DD8-80CC-21E7E9AC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65EB-53D3-43F9-B36B-1AFCA215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8D3981-EC31-498E-B2E1-3F92E6DF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CDF37-7FB9-4BEA-8012-6C0CCDB2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5F92A-1058-4FD3-9A21-61F86FAB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E9959-BE8A-44E0-9176-28533FA1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D6CD1-EDBF-42E5-9A81-06C16D94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C1FFF-3E24-495D-AE04-9BB33BFF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F556-0AA0-4C26-82CA-A6B85ACF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89C9-9384-4F09-AA3D-C955D8EF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24555-7685-4C69-A655-293C301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0383-FD82-48D7-8F45-B633364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A1780-253B-47EC-BF4F-8512A307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59045-01FB-4B3D-B203-85CAA10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8D96F-6A15-4FF0-873D-8BD6B655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A6B7E-7AC0-4F67-BFB1-C3E9A6B6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BEF7-9645-4C4F-A921-5FEA53A3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F51C-9811-4CFB-A985-82E59B79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0B99E-DCA9-467A-92B3-F7BDAC8E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A1BB5-3714-4298-9CEF-F50CEF27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91974-5CB3-4893-BFF7-2CB619F0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1B58E-3477-49D1-9A39-CEA4C99F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1397-EF17-405A-98FC-0FB4A2DD47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73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6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DE58-4090-4262-97DB-27CCCE0A2B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7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9B4C3-26E3-483D-9C10-A23E0BF1EE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3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75A8-BF95-4696-B88A-508865C8DE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98" name="任意多边形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201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61A5-96A5-42FF-9B3F-03B54F6BCB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82A8-10BC-453E-8B1F-A1F68A4861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7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6C0D-C345-4E9D-B086-9E881B2BAD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C53-C013-40D7-AE33-4398D2FB6A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85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7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FEE0-4AA4-446D-8203-A6B6E63326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A799-C2E1-423C-AA1F-1876E4C5BB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7" descr="200656101610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WordArt 3"/>
          <p:cNvSpPr txBox="1"/>
          <p:nvPr/>
        </p:nvSpPr>
        <p:spPr>
          <a:xfrm>
            <a:off x="1116000" y="692280"/>
            <a:ext cx="63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宋体"/>
              </a:rPr>
              <a:t>大数知多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宋体"/>
              <a:ea typeface="宋体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187280" y="4157640"/>
            <a:ext cx="64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WordArt 6" descr=""/>
          <p:cNvPicPr/>
          <p:nvPr/>
        </p:nvPicPr>
        <p:blipFill>
          <a:blip r:embed="rId2"/>
          <a:stretch/>
        </p:blipFill>
        <p:spPr>
          <a:xfrm>
            <a:off x="1968480" y="2481120"/>
            <a:ext cx="5859360" cy="743040"/>
          </a:xfrm>
          <a:prstGeom prst="rect">
            <a:avLst/>
          </a:prstGeom>
          <a:ln w="0">
            <a:noFill/>
          </a:ln>
        </p:spPr>
      </p:pic>
      <p:pic>
        <p:nvPicPr>
          <p:cNvPr id="523" name="35n.WAV" descr=""/>
          <p:cNvPicPr/>
          <p:nvPr/>
        </p:nvPicPr>
        <p:blipFill>
          <a:blip r:embed="rId3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24" name="TextBox 6"/>
          <p:cNvSpPr/>
          <p:nvPr/>
        </p:nvSpPr>
        <p:spPr>
          <a:xfrm>
            <a:off x="2340000" y="400536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黑体"/>
                <a:ea typeface="黑体"/>
              </a:rPr>
              <a:t>平度市高戈庄立青小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50"/>
                </a:solidFill>
                <a:latin typeface="黑体"/>
                <a:ea typeface="黑体"/>
              </a:rPr>
              <a:t>付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069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7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78"/>
          <p:cNvSpPr/>
          <p:nvPr/>
        </p:nvSpPr>
        <p:spPr>
          <a:xfrm>
            <a:off x="2864160" y="61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9.24855E-007 L 0.00399 -0.07884 E">
                                      <p:cBhvr>
                                        <p:cTn id="376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3064E-006 L -0.00018 -0.08208 E">
                                      <p:cBhvr>
                                        <p:cTn id="378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93064E-006 L 0.00017 -0.08208 E">
                                      <p:cBhvr>
                                        <p:cTn id="380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8208 E">
                                      <p:cBhvr>
                                        <p:cTn id="38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93064E-006 L 0.00017 -0.09249 E">
                                      <p:cBhvr>
                                        <p:cTn id="384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064E-006 L 0.00018 -0.09249 E">
                                      <p:cBhvr>
                                        <p:cTn id="38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9249 E">
                                      <p:cBhvr>
                                        <p:cTn id="388" dur="20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208E-006 L 0.00399 0.07862 E">
                                      <p:cBhvr>
                                        <p:cTn id="390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6728 E">
                                      <p:cBhvr>
                                        <p:cTn id="392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00018 0.06728 E">
                                      <p:cBhvr>
                                        <p:cTn id="394" dur="2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6728 E">
                                      <p:cBhvr>
                                        <p:cTn id="396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7769 E">
                                      <p:cBhvr>
                                        <p:cTn id="398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62428E-007 L 0.00017 0.07769 E">
                                      <p:cBhvr>
                                        <p:cTn id="400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7769 E">
                                      <p:cBhvr>
                                        <p:cTn id="402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"/>
          <p:cNvGraphicFramePr/>
          <p:nvPr/>
        </p:nvGraphicFramePr>
        <p:xfrm>
          <a:off x="900000" y="112536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1" name=""/>
          <p:cNvGraphicFramePr/>
          <p:nvPr/>
        </p:nvGraphicFramePr>
        <p:xfrm>
          <a:off x="900000" y="3787920"/>
          <a:ext cx="7413840" cy="15127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2" name="Text Box 66"/>
          <p:cNvSpPr/>
          <p:nvPr/>
        </p:nvSpPr>
        <p:spPr>
          <a:xfrm>
            <a:off x="522792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67"/>
          <p:cNvSpPr/>
          <p:nvPr/>
        </p:nvSpPr>
        <p:spPr>
          <a:xfrm>
            <a:off x="472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8"/>
          <p:cNvSpPr/>
          <p:nvPr/>
        </p:nvSpPr>
        <p:spPr>
          <a:xfrm>
            <a:off x="421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9"/>
          <p:cNvSpPr/>
          <p:nvPr/>
        </p:nvSpPr>
        <p:spPr>
          <a:xfrm>
            <a:off x="328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0"/>
          <p:cNvSpPr/>
          <p:nvPr/>
        </p:nvSpPr>
        <p:spPr>
          <a:xfrm>
            <a:off x="277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71"/>
          <p:cNvSpPr/>
          <p:nvPr/>
        </p:nvSpPr>
        <p:spPr>
          <a:xfrm>
            <a:off x="2273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2"/>
          <p:cNvSpPr/>
          <p:nvPr/>
        </p:nvSpPr>
        <p:spPr>
          <a:xfrm>
            <a:off x="2273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73"/>
          <p:cNvSpPr/>
          <p:nvPr/>
        </p:nvSpPr>
        <p:spPr>
          <a:xfrm>
            <a:off x="277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4"/>
          <p:cNvSpPr/>
          <p:nvPr/>
        </p:nvSpPr>
        <p:spPr>
          <a:xfrm>
            <a:off x="328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5"/>
          <p:cNvSpPr/>
          <p:nvPr/>
        </p:nvSpPr>
        <p:spPr>
          <a:xfrm>
            <a:off x="421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6"/>
          <p:cNvSpPr/>
          <p:nvPr/>
        </p:nvSpPr>
        <p:spPr>
          <a:xfrm>
            <a:off x="472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77"/>
          <p:cNvSpPr/>
          <p:nvPr/>
        </p:nvSpPr>
        <p:spPr>
          <a:xfrm>
            <a:off x="5224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900000" y="2637000"/>
          <a:ext cx="7413840" cy="115236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1954080"/>
                <a:gridCol w="1954440"/>
                <a:gridCol w="214308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5" name="Text Box 92"/>
          <p:cNvSpPr/>
          <p:nvPr/>
        </p:nvSpPr>
        <p:spPr>
          <a:xfrm>
            <a:off x="665964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93"/>
          <p:cNvSpPr/>
          <p:nvPr/>
        </p:nvSpPr>
        <p:spPr>
          <a:xfrm>
            <a:off x="457200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94"/>
          <p:cNvSpPr/>
          <p:nvPr/>
        </p:nvSpPr>
        <p:spPr>
          <a:xfrm>
            <a:off x="270036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亿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95"/>
          <p:cNvSpPr/>
          <p:nvPr/>
        </p:nvSpPr>
        <p:spPr>
          <a:xfrm>
            <a:off x="2853720" y="5461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6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5" dur="1" fill="hold"/>
                                  <p:tgtEl>
                                    <p:spTgt spid="67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 Box 4"/>
          <p:cNvSpPr/>
          <p:nvPr/>
        </p:nvSpPr>
        <p:spPr>
          <a:xfrm>
            <a:off x="611280" y="1844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每相邻两个计数单位间的进率都是十，这种计数方法叫做十进制计数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749952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亿  千   百  十  万   千  百 十 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   万  万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  位   位  位  位   位  位 位 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0   8   6   0  0  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四百零八万六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  0   9   4   6  0  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五百零九万四千六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1   6   0   0   9  0  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二千一百六十万零九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1   9   0   0   0   0  0  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亿一千九百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0   0   0   0   8   0  7  0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亿零八千零七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 4   0   0   0   9   0  0  8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作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亿四千零九千零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2484360" y="148428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>
            <a:off x="468360" y="1484280"/>
            <a:ext cx="7128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万以上数的读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cc"/>
                </a:solidFill>
                <a:uFillTx/>
                <a:latin typeface="Arial"/>
              </a:rPr>
              <a:t>      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先分级，从个位起，每四位为一级，从高位读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      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读亿位或万位时，按照个级的读法读，再在后面加一个“亿”字或“万”字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      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每级末尾的</a:t>
            </a:r>
            <a:r>
              <a:rPr b="0" lang="en-US" sz="3000" spc="-1" strike="noStrike" u="sng">
                <a:solidFill>
                  <a:srgbClr val="0000cc"/>
                </a:solidFill>
                <a:uFillTx/>
                <a:latin typeface="Arial"/>
              </a:rPr>
              <a:t>0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都不读，数中间有一个</a:t>
            </a:r>
            <a:r>
              <a:rPr b="0" lang="en-US" sz="3000" spc="-1" strike="noStrike" u="sng">
                <a:solidFill>
                  <a:srgbClr val="0000cc"/>
                </a:solidFill>
                <a:uFillTx/>
                <a:latin typeface="Arial"/>
              </a:rPr>
              <a:t>0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或连续几个</a:t>
            </a:r>
            <a:r>
              <a:rPr b="0" lang="en-US" sz="3000" spc="-1" strike="noStrike" u="sng">
                <a:solidFill>
                  <a:srgbClr val="0000cc"/>
                </a:solidFill>
                <a:uFillTx/>
                <a:latin typeface="Arial"/>
              </a:rPr>
              <a:t>0</a:t>
            </a:r>
            <a:r>
              <a:rPr b="0" lang="zh-CN" sz="3000" spc="-1" strike="noStrike" u="sng">
                <a:solidFill>
                  <a:srgbClr val="0000cc"/>
                </a:solidFill>
                <a:uFillTx/>
                <a:latin typeface="Arial"/>
              </a:rPr>
              <a:t>，都只读一个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0" dur="2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 rot="1311600">
            <a:off x="3036960" y="1883160"/>
            <a:ext cx="288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谢谢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5"/>
          <p:cNvSpPr/>
          <p:nvPr/>
        </p:nvSpPr>
        <p:spPr>
          <a:xfrm>
            <a:off x="2770200" y="4149720"/>
            <a:ext cx="349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设计：付吉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电话：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50661707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2448000" cy="15285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111"/>
          <p:cNvPicPr/>
          <p:nvPr/>
        </p:nvPicPr>
        <p:blipFill>
          <a:blip r:embed="rId2"/>
          <a:stretch/>
        </p:blipFill>
        <p:spPr>
          <a:xfrm>
            <a:off x="5003640" y="1413000"/>
            <a:ext cx="3241800" cy="2520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3"/>
          <a:stretch/>
        </p:blipFill>
        <p:spPr>
          <a:xfrm>
            <a:off x="615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5" descr=""/>
          <p:cNvPicPr/>
          <p:nvPr/>
        </p:nvPicPr>
        <p:blipFill>
          <a:blip r:embed="rId4"/>
          <a:stretch/>
        </p:blipFill>
        <p:spPr>
          <a:xfrm>
            <a:off x="637236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"/>
          <p:cNvPicPr/>
          <p:nvPr/>
        </p:nvPicPr>
        <p:blipFill>
          <a:blip r:embed="rId5"/>
          <a:stretch/>
        </p:blipFill>
        <p:spPr>
          <a:xfrm>
            <a:off x="665964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6"/>
          <a:stretch/>
        </p:blipFill>
        <p:spPr>
          <a:xfrm>
            <a:off x="689940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8" descr=""/>
          <p:cNvPicPr/>
          <p:nvPr/>
        </p:nvPicPr>
        <p:blipFill>
          <a:blip r:embed="rId7"/>
          <a:stretch/>
        </p:blipFill>
        <p:spPr>
          <a:xfrm>
            <a:off x="7115040" y="2349360"/>
            <a:ext cx="265320" cy="10796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9" descr=""/>
          <p:cNvPicPr/>
          <p:nvPr/>
        </p:nvPicPr>
        <p:blipFill>
          <a:blip r:embed="rId8"/>
          <a:stretch/>
        </p:blipFill>
        <p:spPr>
          <a:xfrm>
            <a:off x="7380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"/>
          <p:cNvPicPr/>
          <p:nvPr/>
        </p:nvPicPr>
        <p:blipFill>
          <a:blip r:embed="rId9"/>
          <a:stretch/>
        </p:blipFill>
        <p:spPr>
          <a:xfrm>
            <a:off x="759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"/>
          <p:cNvPicPr/>
          <p:nvPr/>
        </p:nvPicPr>
        <p:blipFill>
          <a:blip r:embed="rId10">
            <a:lum bright="24000"/>
          </a:blip>
          <a:stretch/>
        </p:blipFill>
        <p:spPr>
          <a:xfrm rot="360000">
            <a:off x="5722560" y="2352600"/>
            <a:ext cx="287280" cy="1082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2" descr=""/>
          <p:cNvPicPr/>
          <p:nvPr/>
        </p:nvPicPr>
        <p:blipFill>
          <a:blip r:embed="rId11"/>
          <a:stretch/>
        </p:blipFill>
        <p:spPr>
          <a:xfrm rot="447600">
            <a:off x="5519520" y="2349360"/>
            <a:ext cx="222120" cy="1079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3" descr=""/>
          <p:cNvPicPr/>
          <p:nvPr/>
        </p:nvPicPr>
        <p:blipFill>
          <a:blip r:embed="rId12"/>
          <a:stretch/>
        </p:blipFill>
        <p:spPr>
          <a:xfrm rot="259200">
            <a:off x="5951520" y="2347920"/>
            <a:ext cx="255600" cy="10796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4"/>
          <p:cNvSpPr/>
          <p:nvPr/>
        </p:nvSpPr>
        <p:spPr>
          <a:xfrm>
            <a:off x="785880" y="4154400"/>
            <a:ext cx="23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a1f28"/>
                </a:solidFill>
                <a:latin typeface="Arial"/>
              </a:rPr>
              <a:t>小盒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da1f28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5394240" y="4221000"/>
            <a:ext cx="25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a1f28"/>
                </a:solidFill>
                <a:latin typeface="Arial"/>
              </a:rPr>
              <a:t>大盒</a:t>
            </a: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10000</a:t>
            </a:r>
            <a:r>
              <a:rPr b="1" lang="zh-CN" sz="3200" spc="-1" strike="noStrike">
                <a:solidFill>
                  <a:srgbClr val="da1f28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2"/>
          <p:cNvSpPr/>
          <p:nvPr/>
        </p:nvSpPr>
        <p:spPr>
          <a:xfrm>
            <a:off x="3041640" y="5157720"/>
            <a:ext cx="34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a1f28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da1f28"/>
                </a:solidFill>
                <a:latin typeface="Arial"/>
              </a:rPr>
              <a:t>大盒就是十万个订书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14" descr="222"/>
          <p:cNvPicPr/>
          <p:nvPr/>
        </p:nvPicPr>
        <p:blipFill>
          <a:blip r:embed="rId1"/>
          <a:stretch/>
        </p:blipFill>
        <p:spPr>
          <a:xfrm>
            <a:off x="3492360" y="37195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5" descr="222"/>
          <p:cNvPicPr/>
          <p:nvPr/>
        </p:nvPicPr>
        <p:blipFill>
          <a:blip r:embed="rId2"/>
          <a:stretch/>
        </p:blipFill>
        <p:spPr>
          <a:xfrm>
            <a:off x="3492360" y="3429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6" descr="222"/>
          <p:cNvPicPr/>
          <p:nvPr/>
        </p:nvPicPr>
        <p:blipFill>
          <a:blip r:embed="rId3"/>
          <a:stretch/>
        </p:blipFill>
        <p:spPr>
          <a:xfrm>
            <a:off x="3492360" y="31417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7" descr="222"/>
          <p:cNvPicPr/>
          <p:nvPr/>
        </p:nvPicPr>
        <p:blipFill>
          <a:blip r:embed="rId4"/>
          <a:stretch/>
        </p:blipFill>
        <p:spPr>
          <a:xfrm>
            <a:off x="3492360" y="285264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8" descr="222"/>
          <p:cNvPicPr/>
          <p:nvPr/>
        </p:nvPicPr>
        <p:blipFill>
          <a:blip r:embed="rId5"/>
          <a:stretch/>
        </p:blipFill>
        <p:spPr>
          <a:xfrm>
            <a:off x="3492360" y="256536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9" descr="222"/>
          <p:cNvPicPr/>
          <p:nvPr/>
        </p:nvPicPr>
        <p:blipFill>
          <a:blip r:embed="rId6"/>
          <a:stretch/>
        </p:blipFill>
        <p:spPr>
          <a:xfrm>
            <a:off x="3492360" y="227664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0" descr="222"/>
          <p:cNvPicPr/>
          <p:nvPr/>
        </p:nvPicPr>
        <p:blipFill>
          <a:blip r:embed="rId7"/>
          <a:stretch/>
        </p:blipFill>
        <p:spPr>
          <a:xfrm>
            <a:off x="3492360" y="198900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1" descr="222"/>
          <p:cNvPicPr/>
          <p:nvPr/>
        </p:nvPicPr>
        <p:blipFill>
          <a:blip r:embed="rId8"/>
          <a:stretch/>
        </p:blipFill>
        <p:spPr>
          <a:xfrm>
            <a:off x="3492360" y="170172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2" descr="222"/>
          <p:cNvPicPr/>
          <p:nvPr/>
        </p:nvPicPr>
        <p:blipFill>
          <a:blip r:embed="rId9"/>
          <a:stretch/>
        </p:blipFill>
        <p:spPr>
          <a:xfrm>
            <a:off x="3492360" y="1413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3" descr="222"/>
          <p:cNvPicPr/>
          <p:nvPr/>
        </p:nvPicPr>
        <p:blipFill>
          <a:blip r:embed="rId10"/>
          <a:stretch/>
        </p:blipFill>
        <p:spPr>
          <a:xfrm>
            <a:off x="3492360" y="1125360"/>
            <a:ext cx="22320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11"/>
          <p:cNvSpPr/>
          <p:nvPr/>
        </p:nvSpPr>
        <p:spPr>
          <a:xfrm>
            <a:off x="2916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4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16"/>
          <p:cNvSpPr/>
          <p:nvPr/>
        </p:nvSpPr>
        <p:spPr>
          <a:xfrm>
            <a:off x="2916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17"/>
          <p:cNvSpPr/>
          <p:nvPr/>
        </p:nvSpPr>
        <p:spPr>
          <a:xfrm>
            <a:off x="2916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18"/>
          <p:cNvSpPr/>
          <p:nvPr/>
        </p:nvSpPr>
        <p:spPr>
          <a:xfrm>
            <a:off x="2916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9"/>
          <p:cNvSpPr/>
          <p:nvPr/>
        </p:nvSpPr>
        <p:spPr>
          <a:xfrm>
            <a:off x="2916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16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val 21"/>
          <p:cNvSpPr/>
          <p:nvPr/>
        </p:nvSpPr>
        <p:spPr>
          <a:xfrm>
            <a:off x="2916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2"/>
          <p:cNvSpPr/>
          <p:nvPr/>
        </p:nvSpPr>
        <p:spPr>
          <a:xfrm>
            <a:off x="2916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3"/>
          <p:cNvSpPr/>
          <p:nvPr/>
        </p:nvSpPr>
        <p:spPr>
          <a:xfrm>
            <a:off x="2916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916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204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206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20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210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212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214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216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218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220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222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15"/>
          <p:cNvSpPr/>
          <p:nvPr/>
        </p:nvSpPr>
        <p:spPr>
          <a:xfrm>
            <a:off x="2916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228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3527280" y="44370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6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294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296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298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300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302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30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306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308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310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312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52908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7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318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4"/>
          <p:cNvSpPr/>
          <p:nvPr/>
        </p:nvSpPr>
        <p:spPr>
          <a:xfrm>
            <a:off x="1187280" y="1484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一（个）、十、百、千、万、十万、百万、千万、亿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计数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1187280" y="31543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个位、十位、百位、千位、万位、十万位、百万位、千万位、亿位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0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8"/>
          <p:cNvSpPr/>
          <p:nvPr/>
        </p:nvSpPr>
        <p:spPr>
          <a:xfrm>
            <a:off x="2864160" y="689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0:10:33Z</dcterms:created>
  <dc:creator/>
  <dc:description/>
  <dc:language>en-US</dc:language>
  <cp:lastModifiedBy>Administrator</cp:lastModifiedBy>
  <dcterms:modified xsi:type="dcterms:W3CDTF">2014-11-23T22:28:31Z</dcterms:modified>
  <cp:revision>156</cp:revision>
  <dc:subject/>
  <dc:title>幻灯片 1</dc:title>
</cp:coreProperties>
</file>