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4DA-3CF7-453F-A99D-CF190AE5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0EC-1473-4D8E-A8DF-9A3F7AD0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DA9-9B73-4286-B22D-01FC07C2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DF09-C022-4C0E-AE0A-9A4F88FD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B3E5-CEAE-4213-9BDF-33701993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1F2-A756-415E-B5EA-E74C18E2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173-A142-44BE-93FF-D0FEAFB2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437-BAF4-4313-977D-0FBB2641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C98-9408-4159-8016-620AE606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6E9-901F-474B-810E-28945A9E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239-6FD7-40CC-A557-7B42A2A8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E97-2467-4EF5-B3B2-D64CA729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0373-93DA-40B1-87EC-8321C71E277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2312-C55A-42B6-BAC1-77607E719A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3074"/>
          <p:cNvSpPr/>
          <p:nvPr/>
        </p:nvSpPr>
        <p:spPr>
          <a:xfrm>
            <a:off x="325440" y="549360"/>
            <a:ext cx="604836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出下面这些万以上的大数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57892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00008070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40009800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075"/>
          <p:cNvSpPr/>
          <p:nvPr/>
        </p:nvSpPr>
        <p:spPr>
          <a:xfrm>
            <a:off x="3924360" y="17002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万七千八百九十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076"/>
          <p:cNvSpPr/>
          <p:nvPr/>
        </p:nvSpPr>
        <p:spPr>
          <a:xfrm>
            <a:off x="4213080" y="285264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亿零八千零七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3077"/>
          <p:cNvSpPr/>
          <p:nvPr/>
        </p:nvSpPr>
        <p:spPr>
          <a:xfrm>
            <a:off x="4068720" y="4005360"/>
            <a:ext cx="42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亿四千万九千八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7"/>
          <p:cNvSpPr/>
          <p:nvPr/>
        </p:nvSpPr>
        <p:spPr>
          <a:xfrm>
            <a:off x="576360" y="2997360"/>
            <a:ext cx="85676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8008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（    ）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（    ）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6"/>
          <p:cNvSpPr/>
          <p:nvPr/>
        </p:nvSpPr>
        <p:spPr>
          <a:xfrm>
            <a:off x="611280" y="1701720"/>
            <a:ext cx="7561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35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（   ）个万 、（   ）个千、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百、（   ） 个十和（   ）个一组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451640" y="3395520"/>
            <a:ext cx="865440" cy="360"/>
            <a:chOff x="7451640" y="3395520"/>
            <a:chExt cx="865440" cy="360"/>
          </a:xfrm>
        </p:grpSpPr>
        <p:sp>
          <p:nvSpPr>
            <p:cNvPr id="196" name="Line 59"/>
            <p:cNvSpPr/>
            <p:nvPr/>
          </p:nvSpPr>
          <p:spPr>
            <a:xfrm flipH="1">
              <a:off x="7451640" y="3395520"/>
              <a:ext cx="8654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7451640" y="3395520"/>
              <a:ext cx="86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539640" y="1341360"/>
            <a:ext cx="28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2629080" y="177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859280" y="1773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804000" y="1773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556000" y="2421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4859280" y="24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380000" y="4476600"/>
            <a:ext cx="865440" cy="360"/>
            <a:chOff x="7380000" y="4476600"/>
            <a:chExt cx="865440" cy="360"/>
          </a:xfrm>
        </p:grpSpPr>
        <p:sp>
          <p:nvSpPr>
            <p:cNvPr id="207" name="Line 59"/>
            <p:cNvSpPr/>
            <p:nvPr/>
          </p:nvSpPr>
          <p:spPr>
            <a:xfrm flipH="1">
              <a:off x="7380000" y="4476600"/>
              <a:ext cx="865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7380360" y="4476600"/>
              <a:ext cx="86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26"/>
          <p:cNvSpPr/>
          <p:nvPr/>
        </p:nvSpPr>
        <p:spPr>
          <a:xfrm>
            <a:off x="3276720" y="306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7"/>
          <p:cNvSpPr/>
          <p:nvPr/>
        </p:nvSpPr>
        <p:spPr>
          <a:xfrm>
            <a:off x="5435640" y="306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7451640" y="3068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1"/>
          <p:cNvSpPr/>
          <p:nvPr/>
        </p:nvSpPr>
        <p:spPr>
          <a:xfrm>
            <a:off x="571680" y="4473720"/>
            <a:ext cx="817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千万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万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万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一组成的数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2"/>
          <p:cNvSpPr/>
          <p:nvPr/>
        </p:nvSpPr>
        <p:spPr>
          <a:xfrm>
            <a:off x="1332000" y="50054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320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348320" y="5295960"/>
            <a:ext cx="865440" cy="360"/>
            <a:chOff x="7348320" y="5295960"/>
            <a:chExt cx="865440" cy="360"/>
          </a:xfrm>
        </p:grpSpPr>
        <p:sp>
          <p:nvSpPr>
            <p:cNvPr id="215" name="Line 59"/>
            <p:cNvSpPr/>
            <p:nvPr/>
          </p:nvSpPr>
          <p:spPr>
            <a:xfrm flipH="1">
              <a:off x="7348320" y="5295960"/>
              <a:ext cx="865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7348680" y="5295960"/>
              <a:ext cx="86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34"/>
          <p:cNvSpPr/>
          <p:nvPr/>
        </p:nvSpPr>
        <p:spPr>
          <a:xfrm>
            <a:off x="539640" y="5668920"/>
            <a:ext cx="8177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亿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万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千组成的数是（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5"/>
          <p:cNvSpPr/>
          <p:nvPr/>
        </p:nvSpPr>
        <p:spPr>
          <a:xfrm>
            <a:off x="6194520" y="57294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00067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7451640" y="3395520"/>
            <a:ext cx="865440" cy="360"/>
            <a:chOff x="7451640" y="3395520"/>
            <a:chExt cx="865440" cy="360"/>
          </a:xfrm>
        </p:grpSpPr>
        <p:sp>
          <p:nvSpPr>
            <p:cNvPr id="220" name="Line 59"/>
            <p:cNvSpPr/>
            <p:nvPr/>
          </p:nvSpPr>
          <p:spPr>
            <a:xfrm flipH="1">
              <a:off x="7451640" y="3395520"/>
              <a:ext cx="8654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7451640" y="3395520"/>
              <a:ext cx="86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74560" y="1341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下面各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1"/>
          <p:cNvSpPr/>
          <p:nvPr/>
        </p:nvSpPr>
        <p:spPr>
          <a:xfrm>
            <a:off x="4282920" y="2133720"/>
            <a:ext cx="182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 0 0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1213560" y="220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四千零五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179280" y="3213000"/>
            <a:ext cx="43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九千零一十万零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34920" y="4365720"/>
            <a:ext cx="47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三百零三亿零三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1"/>
          <p:cNvSpPr/>
          <p:nvPr/>
        </p:nvSpPr>
        <p:spPr>
          <a:xfrm>
            <a:off x="4140360" y="31417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 0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1"/>
          <p:cNvSpPr/>
          <p:nvPr/>
        </p:nvSpPr>
        <p:spPr>
          <a:xfrm>
            <a:off x="6012000" y="3141720"/>
            <a:ext cx="25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 0 0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1"/>
          <p:cNvSpPr/>
          <p:nvPr/>
        </p:nvSpPr>
        <p:spPr>
          <a:xfrm>
            <a:off x="3995640" y="443700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 0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1"/>
          <p:cNvSpPr/>
          <p:nvPr/>
        </p:nvSpPr>
        <p:spPr>
          <a:xfrm>
            <a:off x="5060520" y="4437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 0 0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1"/>
          <p:cNvSpPr/>
          <p:nvPr/>
        </p:nvSpPr>
        <p:spPr>
          <a:xfrm>
            <a:off x="7020000" y="4437000"/>
            <a:ext cx="19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 3 0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42"/>
          <p:cNvSpPr/>
          <p:nvPr/>
        </p:nvSpPr>
        <p:spPr>
          <a:xfrm>
            <a:off x="108000" y="2316240"/>
            <a:ext cx="4389480" cy="2465280"/>
          </a:xfrm>
          <a:custGeom>
            <a:avLst/>
            <a:gdLst/>
            <a:ahLst/>
            <a:rect l="l" t="t" r="r" b="b"/>
            <a:pathLst>
              <a:path w="2765" h="1553">
                <a:moveTo>
                  <a:pt x="87" y="8"/>
                </a:moveTo>
                <a:cubicBezTo>
                  <a:pt x="150" y="16"/>
                  <a:pt x="193" y="26"/>
                  <a:pt x="252" y="45"/>
                </a:cubicBezTo>
                <a:cubicBezTo>
                  <a:pt x="270" y="51"/>
                  <a:pt x="307" y="63"/>
                  <a:pt x="307" y="63"/>
                </a:cubicBezTo>
                <a:cubicBezTo>
                  <a:pt x="673" y="45"/>
                  <a:pt x="1064" y="123"/>
                  <a:pt x="1413" y="36"/>
                </a:cubicBezTo>
                <a:cubicBezTo>
                  <a:pt x="1815" y="39"/>
                  <a:pt x="2218" y="40"/>
                  <a:pt x="2620" y="45"/>
                </a:cubicBezTo>
                <a:cubicBezTo>
                  <a:pt x="2663" y="46"/>
                  <a:pt x="2711" y="32"/>
                  <a:pt x="2748" y="54"/>
                </a:cubicBezTo>
                <a:cubicBezTo>
                  <a:pt x="2765" y="64"/>
                  <a:pt x="2730" y="109"/>
                  <a:pt x="2730" y="109"/>
                </a:cubicBezTo>
                <a:cubicBezTo>
                  <a:pt x="2717" y="229"/>
                  <a:pt x="2716" y="197"/>
                  <a:pt x="2730" y="356"/>
                </a:cubicBezTo>
                <a:cubicBezTo>
                  <a:pt x="2733" y="388"/>
                  <a:pt x="2757" y="447"/>
                  <a:pt x="2757" y="447"/>
                </a:cubicBezTo>
                <a:cubicBezTo>
                  <a:pt x="2754" y="548"/>
                  <a:pt x="2756" y="649"/>
                  <a:pt x="2748" y="749"/>
                </a:cubicBezTo>
                <a:cubicBezTo>
                  <a:pt x="2747" y="768"/>
                  <a:pt x="2730" y="785"/>
                  <a:pt x="2730" y="804"/>
                </a:cubicBezTo>
                <a:cubicBezTo>
                  <a:pt x="2730" y="828"/>
                  <a:pt x="2730" y="853"/>
                  <a:pt x="2730" y="877"/>
                </a:cubicBezTo>
                <a:lnTo>
                  <a:pt x="1950" y="907"/>
                </a:lnTo>
                <a:cubicBezTo>
                  <a:pt x="1954" y="1004"/>
                  <a:pt x="1964" y="1100"/>
                  <a:pt x="1962" y="1197"/>
                </a:cubicBezTo>
                <a:cubicBezTo>
                  <a:pt x="1962" y="1217"/>
                  <a:pt x="1933" y="1301"/>
                  <a:pt x="1925" y="1325"/>
                </a:cubicBezTo>
                <a:cubicBezTo>
                  <a:pt x="1919" y="1343"/>
                  <a:pt x="1907" y="1380"/>
                  <a:pt x="1907" y="1380"/>
                </a:cubicBezTo>
                <a:cubicBezTo>
                  <a:pt x="1910" y="1429"/>
                  <a:pt x="1906" y="1478"/>
                  <a:pt x="1916" y="1526"/>
                </a:cubicBezTo>
                <a:cubicBezTo>
                  <a:pt x="1918" y="1537"/>
                  <a:pt x="1935" y="1536"/>
                  <a:pt x="1943" y="1544"/>
                </a:cubicBezTo>
                <a:cubicBezTo>
                  <a:pt x="1945" y="1546"/>
                  <a:pt x="1943" y="1550"/>
                  <a:pt x="1943" y="1553"/>
                </a:cubicBezTo>
                <a:lnTo>
                  <a:pt x="0" y="154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43"/>
          <p:cNvSpPr/>
          <p:nvPr/>
        </p:nvSpPr>
        <p:spPr>
          <a:xfrm>
            <a:off x="1440" y="1798560"/>
            <a:ext cx="4381560" cy="3311640"/>
          </a:xfrm>
          <a:custGeom>
            <a:avLst/>
            <a:gdLst/>
            <a:ahLst/>
            <a:rect l="l" t="t" r="r" b="b"/>
            <a:pathLst>
              <a:path w="2760" h="2086">
                <a:moveTo>
                  <a:pt x="164" y="37"/>
                </a:moveTo>
                <a:cubicBezTo>
                  <a:pt x="714" y="42"/>
                  <a:pt x="1147" y="60"/>
                  <a:pt x="1663" y="46"/>
                </a:cubicBezTo>
                <a:cubicBezTo>
                  <a:pt x="1665" y="45"/>
                  <a:pt x="1714" y="33"/>
                  <a:pt x="1709" y="19"/>
                </a:cubicBezTo>
                <a:cubicBezTo>
                  <a:pt x="1706" y="10"/>
                  <a:pt x="1681" y="0"/>
                  <a:pt x="1681" y="10"/>
                </a:cubicBezTo>
                <a:cubicBezTo>
                  <a:pt x="1681" y="24"/>
                  <a:pt x="1813" y="69"/>
                  <a:pt x="1828" y="74"/>
                </a:cubicBezTo>
                <a:cubicBezTo>
                  <a:pt x="2124" y="169"/>
                  <a:pt x="2449" y="74"/>
                  <a:pt x="2760" y="74"/>
                </a:cubicBezTo>
                <a:cubicBezTo>
                  <a:pt x="2742" y="100"/>
                  <a:pt x="2725" y="117"/>
                  <a:pt x="2714" y="147"/>
                </a:cubicBezTo>
                <a:cubicBezTo>
                  <a:pt x="2717" y="159"/>
                  <a:pt x="2720" y="172"/>
                  <a:pt x="2724" y="184"/>
                </a:cubicBezTo>
                <a:cubicBezTo>
                  <a:pt x="2730" y="202"/>
                  <a:pt x="2742" y="238"/>
                  <a:pt x="2742" y="238"/>
                </a:cubicBezTo>
                <a:cubicBezTo>
                  <a:pt x="2752" y="726"/>
                  <a:pt x="2751" y="519"/>
                  <a:pt x="2751" y="860"/>
                </a:cubicBezTo>
                <a:cubicBezTo>
                  <a:pt x="2495" y="860"/>
                  <a:pt x="2239" y="860"/>
                  <a:pt x="1983" y="860"/>
                </a:cubicBezTo>
                <a:cubicBezTo>
                  <a:pt x="1978" y="965"/>
                  <a:pt x="1983" y="1013"/>
                  <a:pt x="1956" y="1098"/>
                </a:cubicBezTo>
                <a:cubicBezTo>
                  <a:pt x="1953" y="1284"/>
                  <a:pt x="1937" y="1507"/>
                  <a:pt x="1937" y="1701"/>
                </a:cubicBezTo>
                <a:cubicBezTo>
                  <a:pt x="1443" y="2086"/>
                  <a:pt x="678" y="1747"/>
                  <a:pt x="63" y="1747"/>
                </a:cubicBezTo>
                <a:cubicBezTo>
                  <a:pt x="64" y="1734"/>
                  <a:pt x="61" y="1719"/>
                  <a:pt x="67" y="1707"/>
                </a:cubicBezTo>
                <a:cubicBezTo>
                  <a:pt x="69" y="1703"/>
                  <a:pt x="131" y="1660"/>
                  <a:pt x="136" y="1656"/>
                </a:cubicBezTo>
                <a:cubicBezTo>
                  <a:pt x="168" y="1557"/>
                  <a:pt x="117" y="1704"/>
                  <a:pt x="164" y="1601"/>
                </a:cubicBezTo>
                <a:cubicBezTo>
                  <a:pt x="188" y="1547"/>
                  <a:pt x="177" y="1552"/>
                  <a:pt x="191" y="1500"/>
                </a:cubicBezTo>
                <a:cubicBezTo>
                  <a:pt x="196" y="1481"/>
                  <a:pt x="209" y="1445"/>
                  <a:pt x="209" y="1445"/>
                </a:cubicBezTo>
                <a:cubicBezTo>
                  <a:pt x="202" y="1332"/>
                  <a:pt x="232" y="1330"/>
                  <a:pt x="173" y="1281"/>
                </a:cubicBezTo>
                <a:cubicBezTo>
                  <a:pt x="148" y="1260"/>
                  <a:pt x="110" y="1246"/>
                  <a:pt x="81" y="1235"/>
                </a:cubicBezTo>
                <a:cubicBezTo>
                  <a:pt x="63" y="1228"/>
                  <a:pt x="26" y="1217"/>
                  <a:pt x="26" y="1217"/>
                </a:cubicBezTo>
                <a:cubicBezTo>
                  <a:pt x="8" y="1161"/>
                  <a:pt x="0" y="1095"/>
                  <a:pt x="45" y="1052"/>
                </a:cubicBezTo>
                <a:cubicBezTo>
                  <a:pt x="61" y="1019"/>
                  <a:pt x="74" y="1004"/>
                  <a:pt x="100" y="979"/>
                </a:cubicBezTo>
                <a:cubicBezTo>
                  <a:pt x="134" y="876"/>
                  <a:pt x="99" y="990"/>
                  <a:pt x="118" y="723"/>
                </a:cubicBezTo>
                <a:cubicBezTo>
                  <a:pt x="120" y="698"/>
                  <a:pt x="131" y="675"/>
                  <a:pt x="136" y="650"/>
                </a:cubicBezTo>
                <a:cubicBezTo>
                  <a:pt x="139" y="616"/>
                  <a:pt x="139" y="582"/>
                  <a:pt x="145" y="549"/>
                </a:cubicBezTo>
                <a:cubicBezTo>
                  <a:pt x="148" y="530"/>
                  <a:pt x="164" y="494"/>
                  <a:pt x="164" y="494"/>
                </a:cubicBezTo>
                <a:cubicBezTo>
                  <a:pt x="182" y="263"/>
                  <a:pt x="174" y="415"/>
                  <a:pt x="164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451640" y="3395520"/>
            <a:ext cx="865440" cy="360"/>
            <a:chOff x="7451640" y="3395520"/>
            <a:chExt cx="865440" cy="360"/>
          </a:xfrm>
        </p:grpSpPr>
        <p:sp>
          <p:nvSpPr>
            <p:cNvPr id="237" name="Line 59"/>
            <p:cNvSpPr/>
            <p:nvPr/>
          </p:nvSpPr>
          <p:spPr>
            <a:xfrm flipH="1">
              <a:off x="7451640" y="3395520"/>
              <a:ext cx="8654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7451640" y="3395520"/>
              <a:ext cx="86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3" descr=""/>
          <p:cNvPicPr/>
          <p:nvPr/>
        </p:nvPicPr>
        <p:blipFill>
          <a:blip r:embed="rId2"/>
          <a:stretch/>
        </p:blipFill>
        <p:spPr>
          <a:xfrm>
            <a:off x="849240" y="1957320"/>
            <a:ext cx="7883640" cy="33433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14"/>
          <p:cNvSpPr/>
          <p:nvPr/>
        </p:nvSpPr>
        <p:spPr>
          <a:xfrm>
            <a:off x="834840" y="5286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2394720" y="5267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6"/>
          <p:cNvSpPr/>
          <p:nvPr/>
        </p:nvSpPr>
        <p:spPr>
          <a:xfrm>
            <a:off x="6033960" y="5286240"/>
            <a:ext cx="13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74560" y="134136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横线上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5"/>
          <p:cNvSpPr/>
          <p:nvPr/>
        </p:nvSpPr>
        <p:spPr>
          <a:xfrm>
            <a:off x="1181160" y="5300640"/>
            <a:ext cx="0" cy="536760"/>
          </a:xfrm>
          <a:prstGeom prst="line">
            <a:avLst/>
          </a:prstGeom>
          <a:ln w="25560">
            <a:solidFill>
              <a:srgbClr val="4a7eb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17"/>
          <p:cNvSpPr/>
          <p:nvPr/>
        </p:nvSpPr>
        <p:spPr>
          <a:xfrm>
            <a:off x="2700360" y="5300640"/>
            <a:ext cx="0" cy="536760"/>
          </a:xfrm>
          <a:prstGeom prst="line">
            <a:avLst/>
          </a:prstGeom>
          <a:ln w="25560">
            <a:solidFill>
              <a:srgbClr val="4a7eb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1"/>
          <p:cNvSpPr/>
          <p:nvPr/>
        </p:nvSpPr>
        <p:spPr>
          <a:xfrm>
            <a:off x="1116000" y="5292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8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2"/>
          <p:cNvSpPr/>
          <p:nvPr/>
        </p:nvSpPr>
        <p:spPr>
          <a:xfrm>
            <a:off x="2627280" y="52671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3"/>
          <p:cNvSpPr/>
          <p:nvPr/>
        </p:nvSpPr>
        <p:spPr>
          <a:xfrm>
            <a:off x="6504120" y="52880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24"/>
          <p:cNvSpPr/>
          <p:nvPr/>
        </p:nvSpPr>
        <p:spPr>
          <a:xfrm>
            <a:off x="6551640" y="5319720"/>
            <a:ext cx="0" cy="536400"/>
          </a:xfrm>
          <a:prstGeom prst="line">
            <a:avLst/>
          </a:prstGeom>
          <a:ln w="25560">
            <a:solidFill>
              <a:srgbClr val="4a7eb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466560" y="620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达标检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7286400" y="3662280"/>
            <a:ext cx="865440" cy="360"/>
            <a:chOff x="7286400" y="3662280"/>
            <a:chExt cx="865440" cy="360"/>
          </a:xfrm>
        </p:grpSpPr>
        <p:sp>
          <p:nvSpPr>
            <p:cNvPr id="253" name="Line 59"/>
            <p:cNvSpPr/>
            <p:nvPr/>
          </p:nvSpPr>
          <p:spPr>
            <a:xfrm flipH="1">
              <a:off x="7286400" y="3662280"/>
              <a:ext cx="865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7286760" y="3662280"/>
              <a:ext cx="86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达标检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39640" y="134136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下面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1"/>
          <p:cNvSpPr/>
          <p:nvPr/>
        </p:nvSpPr>
        <p:spPr>
          <a:xfrm>
            <a:off x="3851280" y="1917720"/>
            <a:ext cx="21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 7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9"/>
          <p:cNvSpPr/>
          <p:nvPr/>
        </p:nvSpPr>
        <p:spPr>
          <a:xfrm>
            <a:off x="90612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九百七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0"/>
          <p:cNvSpPr/>
          <p:nvPr/>
        </p:nvSpPr>
        <p:spPr>
          <a:xfrm>
            <a:off x="853200" y="2852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九百七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1"/>
          <p:cNvSpPr/>
          <p:nvPr/>
        </p:nvSpPr>
        <p:spPr>
          <a:xfrm>
            <a:off x="781200" y="3718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九百七十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1"/>
          <p:cNvSpPr/>
          <p:nvPr/>
        </p:nvSpPr>
        <p:spPr>
          <a:xfrm>
            <a:off x="3419640" y="2852640"/>
            <a:ext cx="241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 7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1"/>
          <p:cNvSpPr/>
          <p:nvPr/>
        </p:nvSpPr>
        <p:spPr>
          <a:xfrm>
            <a:off x="4932360" y="2852640"/>
            <a:ext cx="222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 0 0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1"/>
          <p:cNvSpPr/>
          <p:nvPr/>
        </p:nvSpPr>
        <p:spPr>
          <a:xfrm>
            <a:off x="3276720" y="3789360"/>
            <a:ext cx="213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 7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1"/>
          <p:cNvSpPr/>
          <p:nvPr/>
        </p:nvSpPr>
        <p:spPr>
          <a:xfrm>
            <a:off x="4614840" y="3784680"/>
            <a:ext cx="245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 0 0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1"/>
          <p:cNvSpPr/>
          <p:nvPr/>
        </p:nvSpPr>
        <p:spPr>
          <a:xfrm>
            <a:off x="6588000" y="3789360"/>
            <a:ext cx="22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 0 0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997560" y="4653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十万零五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964800" y="5445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九十五亿零四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1"/>
          <p:cNvSpPr/>
          <p:nvPr/>
        </p:nvSpPr>
        <p:spPr>
          <a:xfrm>
            <a:off x="3490920" y="4657680"/>
            <a:ext cx="121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1"/>
          <p:cNvSpPr/>
          <p:nvPr/>
        </p:nvSpPr>
        <p:spPr>
          <a:xfrm>
            <a:off x="4572000" y="4653000"/>
            <a:ext cx="222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 0 5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1"/>
          <p:cNvSpPr/>
          <p:nvPr/>
        </p:nvSpPr>
        <p:spPr>
          <a:xfrm>
            <a:off x="3924360" y="5518080"/>
            <a:ext cx="12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1"/>
          <p:cNvSpPr/>
          <p:nvPr/>
        </p:nvSpPr>
        <p:spPr>
          <a:xfrm>
            <a:off x="4861080" y="5518080"/>
            <a:ext cx="24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 0 0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1"/>
          <p:cNvSpPr/>
          <p:nvPr/>
        </p:nvSpPr>
        <p:spPr>
          <a:xfrm>
            <a:off x="6804000" y="55180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 0 0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题，看谁会动脑！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6560" y="836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" indent="-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些数字组成符合下面要求的七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" indent="-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最大的七位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" indent="-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最小的七位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" indent="-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所有的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不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" indent="-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只读出一个“零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" indent="-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只读出两个“零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4098"/>
          <p:cNvSpPr/>
          <p:nvPr/>
        </p:nvSpPr>
        <p:spPr>
          <a:xfrm>
            <a:off x="757080" y="692280"/>
            <a:ext cx="590400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着写写下面这些万以上的大数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万五千一百二十三   写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百四十万零三百     写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千六百四十七万     写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三亿            写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099"/>
          <p:cNvSpPr/>
          <p:nvPr/>
        </p:nvSpPr>
        <p:spPr>
          <a:xfrm>
            <a:off x="6012000" y="141300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51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100"/>
          <p:cNvSpPr/>
          <p:nvPr/>
        </p:nvSpPr>
        <p:spPr>
          <a:xfrm>
            <a:off x="6083280" y="2349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400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101"/>
          <p:cNvSpPr/>
          <p:nvPr/>
        </p:nvSpPr>
        <p:spPr>
          <a:xfrm>
            <a:off x="5940360" y="3357720"/>
            <a:ext cx="25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647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02"/>
          <p:cNvSpPr/>
          <p:nvPr/>
        </p:nvSpPr>
        <p:spPr>
          <a:xfrm>
            <a:off x="4910040" y="4444920"/>
            <a:ext cx="27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30000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标题 1"/>
          <p:cNvSpPr/>
          <p:nvPr/>
        </p:nvSpPr>
        <p:spPr>
          <a:xfrm>
            <a:off x="500040" y="1530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万以上数的写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9"/>
          <p:cNvGrpSpPr/>
          <p:nvPr/>
        </p:nvGrpSpPr>
        <p:grpSpPr>
          <a:xfrm>
            <a:off x="3203640" y="5516640"/>
            <a:ext cx="1655640" cy="368280"/>
            <a:chOff x="3203640" y="5516640"/>
            <a:chExt cx="1655640" cy="368280"/>
          </a:xfrm>
        </p:grpSpPr>
        <p:pic>
          <p:nvPicPr>
            <p:cNvPr id="53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3203640" y="551772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2"/>
            <p:cNvSpPr/>
            <p:nvPr/>
          </p:nvSpPr>
          <p:spPr>
            <a:xfrm>
              <a:off x="3637080" y="5516640"/>
              <a:ext cx="12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回顾反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2050920" y="5013360"/>
            <a:ext cx="2060640" cy="387360"/>
            <a:chOff x="2050920" y="5013360"/>
            <a:chExt cx="2060640" cy="387360"/>
          </a:xfrm>
        </p:grpSpPr>
        <p:sp>
          <p:nvSpPr>
            <p:cNvPr id="56" name="Text Box 11"/>
            <p:cNvSpPr/>
            <p:nvPr/>
          </p:nvSpPr>
          <p:spPr>
            <a:xfrm>
              <a:off x="2455560" y="501336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自主练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2050920" y="504360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Group 17"/>
          <p:cNvGrpSpPr/>
          <p:nvPr/>
        </p:nvGrpSpPr>
        <p:grpSpPr>
          <a:xfrm>
            <a:off x="1187280" y="4221000"/>
            <a:ext cx="2016000" cy="399960"/>
            <a:chOff x="1187280" y="4221000"/>
            <a:chExt cx="2016000" cy="399960"/>
          </a:xfrm>
        </p:grpSpPr>
        <p:sp>
          <p:nvSpPr>
            <p:cNvPr id="59" name="Text Box 10"/>
            <p:cNvSpPr/>
            <p:nvPr/>
          </p:nvSpPr>
          <p:spPr>
            <a:xfrm>
              <a:off x="1547640" y="422100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合作探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5" descr="C:\Documents and Settings\pub\Desktop\未命名文件夹 4\按钮\按钮3.jpg"/>
            <p:cNvPicPr/>
            <p:nvPr/>
          </p:nvPicPr>
          <p:blipFill>
            <a:blip r:embed="rId3"/>
            <a:stretch/>
          </p:blipFill>
          <p:spPr>
            <a:xfrm>
              <a:off x="1187280" y="426384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Group 16"/>
          <p:cNvGrpSpPr/>
          <p:nvPr/>
        </p:nvGrpSpPr>
        <p:grpSpPr>
          <a:xfrm>
            <a:off x="468360" y="3500280"/>
            <a:ext cx="2044800" cy="401760"/>
            <a:chOff x="468360" y="3500280"/>
            <a:chExt cx="2044800" cy="401760"/>
          </a:xfrm>
        </p:grpSpPr>
        <p:sp>
          <p:nvSpPr>
            <p:cNvPr id="62" name="Text Box 9"/>
            <p:cNvSpPr/>
            <p:nvPr/>
          </p:nvSpPr>
          <p:spPr>
            <a:xfrm>
              <a:off x="857160" y="350028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情境导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C:\Documents and Settings\pub\Desktop\未命名文件夹 4\按钮\按钮3.jpg"/>
            <p:cNvPicPr/>
            <p:nvPr/>
          </p:nvPicPr>
          <p:blipFill>
            <a:blip r:embed="rId4"/>
            <a:stretch/>
          </p:blipFill>
          <p:spPr>
            <a:xfrm>
              <a:off x="468360" y="3544560"/>
              <a:ext cx="357120" cy="35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0"/>
          <p:cNvSpPr/>
          <p:nvPr/>
        </p:nvSpPr>
        <p:spPr>
          <a:xfrm>
            <a:off x="539640" y="5805360"/>
            <a:ext cx="727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知道了哪些数学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6"/>
          <p:cNvSpPr/>
          <p:nvPr/>
        </p:nvSpPr>
        <p:spPr>
          <a:xfrm>
            <a:off x="539640" y="580536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这些信息，你能提出什么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8" name="Oval 42"/>
          <p:cNvSpPr/>
          <p:nvPr/>
        </p:nvSpPr>
        <p:spPr>
          <a:xfrm>
            <a:off x="0" y="422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9" descr=""/>
          <p:cNvPicPr/>
          <p:nvPr/>
        </p:nvPicPr>
        <p:blipFill>
          <a:blip r:embed="rId2"/>
          <a:stretch/>
        </p:blipFill>
        <p:spPr>
          <a:xfrm>
            <a:off x="23760" y="1270080"/>
            <a:ext cx="5916600" cy="4174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6"/>
          <p:cNvSpPr/>
          <p:nvPr/>
        </p:nvSpPr>
        <p:spPr>
          <a:xfrm>
            <a:off x="6046920" y="1844640"/>
            <a:ext cx="280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一百三十九万二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千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一百三十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一亿四千九百五十九万七千八百七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千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6"/>
          <p:cNvSpPr/>
          <p:nvPr/>
        </p:nvSpPr>
        <p:spPr>
          <a:xfrm>
            <a:off x="6012000" y="3429000"/>
            <a:ext cx="3276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一亿零八百四十五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千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七亿八千零七十五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千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826920" y="3860640"/>
            <a:ext cx="49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900000" y="4869000"/>
            <a:ext cx="46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6"/>
          <p:cNvSpPr/>
          <p:nvPr/>
        </p:nvSpPr>
        <p:spPr>
          <a:xfrm>
            <a:off x="5940360" y="486900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横线上的数怎么写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6084720" y="1773360"/>
            <a:ext cx="28083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9"/>
          <p:cNvSpPr/>
          <p:nvPr/>
        </p:nvSpPr>
        <p:spPr>
          <a:xfrm>
            <a:off x="6727680" y="345132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 0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570560" y="3027240"/>
            <a:ext cx="3666960" cy="360"/>
            <a:chOff x="4570560" y="3027240"/>
            <a:chExt cx="3666960" cy="360"/>
          </a:xfrm>
        </p:grpSpPr>
        <p:sp>
          <p:nvSpPr>
            <p:cNvPr id="78" name="Line 3"/>
            <p:cNvSpPr/>
            <p:nvPr/>
          </p:nvSpPr>
          <p:spPr>
            <a:xfrm>
              <a:off x="4570560" y="3027240"/>
              <a:ext cx="3666960" cy="0"/>
            </a:xfrm>
            <a:prstGeom prst="line">
              <a:avLst/>
            </a:prstGeom>
            <a:ln w="32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4570560" y="3027240"/>
              <a:ext cx="3666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219640" y="2133720"/>
            <a:ext cx="7920" cy="2195280"/>
            <a:chOff x="5219640" y="2133720"/>
            <a:chExt cx="7920" cy="2195280"/>
          </a:xfrm>
        </p:grpSpPr>
        <p:sp>
          <p:nvSpPr>
            <p:cNvPr id="81" name="Line 4"/>
            <p:cNvSpPr/>
            <p:nvPr/>
          </p:nvSpPr>
          <p:spPr>
            <a:xfrm>
              <a:off x="5219640" y="2133720"/>
              <a:ext cx="7920" cy="2195280"/>
            </a:xfrm>
            <a:prstGeom prst="line">
              <a:avLst/>
            </a:prstGeom>
            <a:ln w="32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5219640" y="2133720"/>
              <a:ext cx="7920" cy="21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587640" y="2062080"/>
            <a:ext cx="2160" cy="2247840"/>
            <a:chOff x="6587640" y="2062080"/>
            <a:chExt cx="2160" cy="2247840"/>
          </a:xfrm>
        </p:grpSpPr>
        <p:sp>
          <p:nvSpPr>
            <p:cNvPr id="84" name="Line 5"/>
            <p:cNvSpPr/>
            <p:nvPr/>
          </p:nvSpPr>
          <p:spPr>
            <a:xfrm flipH="1">
              <a:off x="6587640" y="2062080"/>
              <a:ext cx="1800" cy="2247840"/>
            </a:xfrm>
            <a:prstGeom prst="line">
              <a:avLst/>
            </a:prstGeom>
            <a:ln w="32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6588000" y="2062080"/>
              <a:ext cx="1800" cy="224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9"/>
          <p:cNvSpPr/>
          <p:nvPr/>
        </p:nvSpPr>
        <p:spPr>
          <a:xfrm>
            <a:off x="4759920" y="1927080"/>
            <a:ext cx="48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 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191560" y="1943280"/>
            <a:ext cx="4852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万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526720" y="1927080"/>
            <a:ext cx="48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万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5885280" y="1927080"/>
            <a:ext cx="48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6182280" y="1940040"/>
            <a:ext cx="4852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 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696720" y="1917720"/>
            <a:ext cx="48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 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6985440" y="1908000"/>
            <a:ext cx="4852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 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7280640" y="1905120"/>
            <a:ext cx="4852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7574400" y="1919160"/>
            <a:ext cx="48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2054160" y="3645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百三十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550880" y="3068640"/>
            <a:ext cx="323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百三十九万二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719280" y="1413000"/>
            <a:ext cx="502920" cy="4302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1"/>
          <p:cNvSpPr/>
          <p:nvPr/>
        </p:nvSpPr>
        <p:spPr>
          <a:xfrm>
            <a:off x="754200" y="1413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横线上的数怎么写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5308560" y="3040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3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9"/>
          <p:cNvSpPr/>
          <p:nvPr/>
        </p:nvSpPr>
        <p:spPr>
          <a:xfrm>
            <a:off x="6719760" y="30178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0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9"/>
          <p:cNvSpPr/>
          <p:nvPr/>
        </p:nvSpPr>
        <p:spPr>
          <a:xfrm>
            <a:off x="5295960" y="3476520"/>
            <a:ext cx="1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3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2"/>
          <p:cNvSpPr/>
          <p:nvPr/>
        </p:nvSpPr>
        <p:spPr>
          <a:xfrm>
            <a:off x="3946680" y="3586320"/>
            <a:ext cx="95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作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3660840" y="30733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作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4"/>
          <p:cNvSpPr/>
          <p:nvPr/>
        </p:nvSpPr>
        <p:spPr>
          <a:xfrm>
            <a:off x="2875680" y="3068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5"/>
          <p:cNvSpPr/>
          <p:nvPr/>
        </p:nvSpPr>
        <p:spPr>
          <a:xfrm>
            <a:off x="1042920" y="4797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从高位起，一级一级地往下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6"/>
          <p:cNvSpPr/>
          <p:nvPr/>
        </p:nvSpPr>
        <p:spPr>
          <a:xfrm>
            <a:off x="1042920" y="5445000"/>
            <a:ext cx="66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级上一个单位也没有，用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占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7"/>
          <p:cNvSpPr/>
          <p:nvPr/>
        </p:nvSpPr>
        <p:spPr>
          <a:xfrm>
            <a:off x="3393360" y="3645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5297400" y="3068640"/>
            <a:ext cx="3667320" cy="360"/>
            <a:chOff x="5297400" y="3068640"/>
            <a:chExt cx="3667320" cy="360"/>
          </a:xfrm>
        </p:grpSpPr>
        <p:sp>
          <p:nvSpPr>
            <p:cNvPr id="111" name="Line 3"/>
            <p:cNvSpPr/>
            <p:nvPr/>
          </p:nvSpPr>
          <p:spPr>
            <a:xfrm>
              <a:off x="5297400" y="3068640"/>
              <a:ext cx="3667320" cy="0"/>
            </a:xfrm>
            <a:prstGeom prst="line">
              <a:avLst/>
            </a:prstGeom>
            <a:ln w="32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297400" y="3068640"/>
              <a:ext cx="3667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721480" y="2089080"/>
            <a:ext cx="9360" cy="1987560"/>
            <a:chOff x="5721480" y="2089080"/>
            <a:chExt cx="9360" cy="1987560"/>
          </a:xfrm>
        </p:grpSpPr>
        <p:sp>
          <p:nvSpPr>
            <p:cNvPr id="114" name="Line 4"/>
            <p:cNvSpPr/>
            <p:nvPr/>
          </p:nvSpPr>
          <p:spPr>
            <a:xfrm>
              <a:off x="5721480" y="2089080"/>
              <a:ext cx="9360" cy="1987560"/>
            </a:xfrm>
            <a:prstGeom prst="line">
              <a:avLst/>
            </a:prstGeom>
            <a:ln w="32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5721480" y="2089080"/>
              <a:ext cx="9360" cy="198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172280" y="2060640"/>
            <a:ext cx="15840" cy="1942920"/>
            <a:chOff x="7172280" y="2060640"/>
            <a:chExt cx="15840" cy="1942920"/>
          </a:xfrm>
        </p:grpSpPr>
        <p:sp>
          <p:nvSpPr>
            <p:cNvPr id="117" name="Line 5"/>
            <p:cNvSpPr/>
            <p:nvPr/>
          </p:nvSpPr>
          <p:spPr>
            <a:xfrm flipH="1">
              <a:off x="7172280" y="2060640"/>
              <a:ext cx="15840" cy="1942920"/>
            </a:xfrm>
            <a:prstGeom prst="line">
              <a:avLst/>
            </a:prstGeom>
            <a:ln w="3240">
              <a:solidFill>
                <a:srgbClr val="00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7172280" y="2060640"/>
              <a:ext cx="15840" cy="19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10"/>
          <p:cNvSpPr/>
          <p:nvPr/>
        </p:nvSpPr>
        <p:spPr>
          <a:xfrm>
            <a:off x="5663160" y="1930320"/>
            <a:ext cx="48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万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6036120" y="1927080"/>
            <a:ext cx="48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万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6425280" y="1927080"/>
            <a:ext cx="48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6744240" y="1914480"/>
            <a:ext cx="48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 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7163280" y="1916280"/>
            <a:ext cx="4852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 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7528320" y="1905120"/>
            <a:ext cx="48528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 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7882560" y="1935000"/>
            <a:ext cx="48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8258760" y="1906560"/>
            <a:ext cx="48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"/>
          <p:cNvPicPr/>
          <p:nvPr/>
        </p:nvPicPr>
        <p:blipFill>
          <a:blip r:embed="rId1"/>
          <a:stretch/>
        </p:blipFill>
        <p:spPr>
          <a:xfrm>
            <a:off x="719280" y="1413000"/>
            <a:ext cx="502920" cy="4302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1"/>
          <p:cNvSpPr/>
          <p:nvPr/>
        </p:nvSpPr>
        <p:spPr>
          <a:xfrm>
            <a:off x="754200" y="1413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横线上的数怎么写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9"/>
          <p:cNvSpPr/>
          <p:nvPr/>
        </p:nvSpPr>
        <p:spPr>
          <a:xfrm>
            <a:off x="5300640" y="3141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9"/>
          <p:cNvSpPr/>
          <p:nvPr/>
        </p:nvSpPr>
        <p:spPr>
          <a:xfrm>
            <a:off x="7243920" y="3141720"/>
            <a:ext cx="14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  8  7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5587920" y="3141720"/>
            <a:ext cx="16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  9  5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8"/>
          <p:cNvSpPr/>
          <p:nvPr/>
        </p:nvSpPr>
        <p:spPr>
          <a:xfrm>
            <a:off x="4462560" y="31161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写作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0"/>
          <p:cNvSpPr/>
          <p:nvPr/>
        </p:nvSpPr>
        <p:spPr>
          <a:xfrm>
            <a:off x="301680" y="3116160"/>
            <a:ext cx="44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一亿四千九百五十九万七千八百七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608760" y="3133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2642040" y="3129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3607200" y="472428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哪个数位上是几，就在那个数位上写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255280" y="1947960"/>
            <a:ext cx="4852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 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4224240" y="3068640"/>
            <a:ext cx="3667320" cy="360"/>
            <a:chOff x="4224240" y="3068640"/>
            <a:chExt cx="3667320" cy="360"/>
          </a:xfrm>
        </p:grpSpPr>
        <p:sp>
          <p:nvSpPr>
            <p:cNvPr id="141" name="Line 3"/>
            <p:cNvSpPr/>
            <p:nvPr/>
          </p:nvSpPr>
          <p:spPr>
            <a:xfrm>
              <a:off x="4224240" y="3068640"/>
              <a:ext cx="3667320" cy="0"/>
            </a:xfrm>
            <a:prstGeom prst="line">
              <a:avLst/>
            </a:prstGeom>
            <a:ln w="32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4224240" y="3068640"/>
              <a:ext cx="3667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089680" y="2133720"/>
            <a:ext cx="7920" cy="2195280"/>
            <a:chOff x="5089680" y="2133720"/>
            <a:chExt cx="7920" cy="2195280"/>
          </a:xfrm>
        </p:grpSpPr>
        <p:sp>
          <p:nvSpPr>
            <p:cNvPr id="144" name="Line 4"/>
            <p:cNvSpPr/>
            <p:nvPr/>
          </p:nvSpPr>
          <p:spPr>
            <a:xfrm>
              <a:off x="5089680" y="2133720"/>
              <a:ext cx="7920" cy="2195280"/>
            </a:xfrm>
            <a:prstGeom prst="line">
              <a:avLst/>
            </a:prstGeom>
            <a:ln w="32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5089680" y="2133720"/>
              <a:ext cx="7920" cy="21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399360" y="2062080"/>
            <a:ext cx="1440" cy="2247840"/>
            <a:chOff x="6399360" y="2062080"/>
            <a:chExt cx="1440" cy="2247840"/>
          </a:xfrm>
        </p:grpSpPr>
        <p:sp>
          <p:nvSpPr>
            <p:cNvPr id="147" name="Line 5"/>
            <p:cNvSpPr/>
            <p:nvPr/>
          </p:nvSpPr>
          <p:spPr>
            <a:xfrm flipH="1">
              <a:off x="6399360" y="2062080"/>
              <a:ext cx="1440" cy="2247840"/>
            </a:xfrm>
            <a:prstGeom prst="line">
              <a:avLst/>
            </a:prstGeom>
            <a:ln w="32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6399360" y="2062080"/>
              <a:ext cx="1440" cy="224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9"/>
          <p:cNvSpPr/>
          <p:nvPr/>
        </p:nvSpPr>
        <p:spPr>
          <a:xfrm>
            <a:off x="4660200" y="1916280"/>
            <a:ext cx="454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  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066640" y="1936800"/>
            <a:ext cx="45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万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5366520" y="1935000"/>
            <a:ext cx="45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万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5676120" y="1935000"/>
            <a:ext cx="45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6001560" y="1933560"/>
            <a:ext cx="45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  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6419160" y="1955880"/>
            <a:ext cx="454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  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6703200" y="1946160"/>
            <a:ext cx="4546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  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6990840" y="1943280"/>
            <a:ext cx="454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7354080" y="1960560"/>
            <a:ext cx="45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"/>
          <p:cNvPicPr/>
          <p:nvPr/>
        </p:nvPicPr>
        <p:blipFill>
          <a:blip r:embed="rId1"/>
          <a:stretch/>
        </p:blipFill>
        <p:spPr>
          <a:xfrm>
            <a:off x="719280" y="1413000"/>
            <a:ext cx="502920" cy="430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1"/>
          <p:cNvSpPr/>
          <p:nvPr/>
        </p:nvSpPr>
        <p:spPr>
          <a:xfrm>
            <a:off x="754200" y="1413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横线上的数怎么写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9"/>
          <p:cNvSpPr/>
          <p:nvPr/>
        </p:nvSpPr>
        <p:spPr>
          <a:xfrm>
            <a:off x="4681440" y="31798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9"/>
          <p:cNvSpPr/>
          <p:nvPr/>
        </p:nvSpPr>
        <p:spPr>
          <a:xfrm>
            <a:off x="6431040" y="31291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 0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9"/>
          <p:cNvSpPr/>
          <p:nvPr/>
        </p:nvSpPr>
        <p:spPr>
          <a:xfrm>
            <a:off x="5110200" y="3116160"/>
            <a:ext cx="16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 8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4"/>
          <p:cNvSpPr/>
          <p:nvPr/>
        </p:nvSpPr>
        <p:spPr>
          <a:xfrm>
            <a:off x="3638520" y="306864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作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4006800" y="48690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个数位上一个单位也没有，就在那个数位上写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1"/>
          <p:cNvSpPr/>
          <p:nvPr/>
        </p:nvSpPr>
        <p:spPr>
          <a:xfrm>
            <a:off x="1044720" y="3095640"/>
            <a:ext cx="25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亿零八百四十五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1"/>
          <p:cNvSpPr/>
          <p:nvPr/>
        </p:nvSpPr>
        <p:spPr>
          <a:xfrm>
            <a:off x="1042920" y="3743280"/>
            <a:ext cx="24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亿八千零七十五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1357560" y="3068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3136320" y="30812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3621240" y="373068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作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3"/>
          <p:cNvSpPr/>
          <p:nvPr/>
        </p:nvSpPr>
        <p:spPr>
          <a:xfrm>
            <a:off x="1357560" y="3716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4"/>
          <p:cNvSpPr/>
          <p:nvPr/>
        </p:nvSpPr>
        <p:spPr>
          <a:xfrm>
            <a:off x="3136320" y="3728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4656240" y="36925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9"/>
          <p:cNvSpPr/>
          <p:nvPr/>
        </p:nvSpPr>
        <p:spPr>
          <a:xfrm>
            <a:off x="5148360" y="36846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 0 7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9"/>
          <p:cNvSpPr/>
          <p:nvPr/>
        </p:nvSpPr>
        <p:spPr>
          <a:xfrm>
            <a:off x="6338880" y="3692520"/>
            <a:ext cx="14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 0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10243"/>
          <p:cNvSpPr/>
          <p:nvPr/>
        </p:nvSpPr>
        <p:spPr>
          <a:xfrm>
            <a:off x="539640" y="134136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万以上数的写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0244"/>
          <p:cNvSpPr/>
          <p:nvPr/>
        </p:nvSpPr>
        <p:spPr>
          <a:xfrm>
            <a:off x="250920" y="2492280"/>
            <a:ext cx="842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从高位起，一级一级地往下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哪个数位上是几，就在那个数位上写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哪个数位上一个单位也没有，就在那个数位上写“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74560" y="134136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一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rcRect l="0" t="0" r="0" b="43092"/>
          <a:stretch/>
        </p:blipFill>
        <p:spPr>
          <a:xfrm>
            <a:off x="793800" y="2077920"/>
            <a:ext cx="8099280" cy="17114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"/>
          <p:cNvSpPr/>
          <p:nvPr/>
        </p:nvSpPr>
        <p:spPr>
          <a:xfrm>
            <a:off x="1084320" y="4619520"/>
            <a:ext cx="24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 3 3 0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3295800" y="460692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 0 4 4 3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770440" y="4627440"/>
            <a:ext cx="33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 1 4 0 3 5 0 0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8"/>
          <p:cNvSpPr/>
          <p:nvPr/>
        </p:nvSpPr>
        <p:spPr>
          <a:xfrm>
            <a:off x="255600" y="376704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271440" y="461484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1042920" y="3789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十三万三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3059280" y="37767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百零四万四千三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5940360" y="3789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亿一千四百零三万五千零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3T06:58:44Z</dcterms:created>
  <dc:creator/>
  <dc:description/>
  <dc:language>en-US</dc:language>
  <cp:lastModifiedBy>user</cp:lastModifiedBy>
  <dcterms:modified xsi:type="dcterms:W3CDTF">2016-03-18T06:03:54Z</dcterms:modified>
  <cp:revision>36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