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C88-D218-4831-A3D9-A95E308F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E3C-69AC-4607-9E86-113D8499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396-9D41-4A07-B843-991AB490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031-FF4E-4019-830F-064558CD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04E7-E0F0-4CA8-95C4-B0BDB205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87BC-BE84-4885-899A-B5ACC10B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EDED-C3C9-4793-B4B9-7EF9A30C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6A36-A9F8-4579-A7E7-92894B07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6276-BA29-4A19-8F2C-560F93E0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4605-57F5-430C-AB93-2E48C2B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802F-E995-4A26-B609-AFAE2B0E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A08-5F18-4CC3-AEAD-605DFD8F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2187-F3AA-4D75-AECD-0E288D0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D04C-9F8B-4D1B-B68D-9BC4AFA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6108-3138-422F-8119-30BF21FB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AE5E-E702-4D63-B730-7639DDF9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6123-5DD5-44F2-A2CB-56C2593D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F5B-BA37-4A7E-92E9-E1E5B7DD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220-951E-4068-B6FF-93925615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ED7-5EB2-49D8-A1B7-3DA392F9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7BB-22DA-45E7-87D9-8C0751B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A1B-67A0-4F03-A9B8-F303E34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33F-057A-4AA2-A9B8-6DE62BD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4C9-F905-4C55-A1D0-01F19EF9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C29C-77F6-4824-8F3B-42E1E33E15D7}" type="slidenum"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A15A-B445-4F73-A002-A6BE13647657}" type="slidenum">
              <a:rPr b="1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763640" y="1339920"/>
            <a:ext cx="63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除数是两位数的除法</a:t>
            </a:r>
            <a:endParaRPr b="1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692360" y="1339920"/>
            <a:ext cx="6335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除数是两位数的除法</a:t>
            </a:r>
            <a:endParaRPr b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0367"/>
          <p:cNvPicPr/>
          <p:nvPr/>
        </p:nvPicPr>
        <p:blipFill>
          <a:blip r:embed="rId1"/>
          <a:srcRect l="2749" t="3646" r="1977" b="3085"/>
          <a:stretch/>
        </p:blipFill>
        <p:spPr>
          <a:xfrm>
            <a:off x="3240" y="254160"/>
            <a:ext cx="9142200" cy="6603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116000" y="1700280"/>
            <a:ext cx="7272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说出下面各题的商是几位数，最高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位应写在什么位置。并试着算一算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4÷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8÷2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4÷3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40÷20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80÷20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40÷30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      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250"/>
          <p:cNvPicPr/>
          <p:nvPr/>
        </p:nvPicPr>
        <p:blipFill>
          <a:blip r:embed="rId1"/>
          <a:srcRect l="0" t="0" r="0" b="3883"/>
          <a:stretch/>
        </p:blipFill>
        <p:spPr>
          <a:xfrm>
            <a:off x="3564000" y="0"/>
            <a:ext cx="5545080" cy="6813720"/>
          </a:xfrm>
          <a:prstGeom prst="rect">
            <a:avLst/>
          </a:prstGeom>
          <a:ln w="0">
            <a:noFill/>
          </a:ln>
        </p:spPr>
      </p:pic>
      <p:pic>
        <p:nvPicPr>
          <p:cNvPr id="188" name="WordArt 3" descr=""/>
          <p:cNvPicPr/>
          <p:nvPr/>
        </p:nvPicPr>
        <p:blipFill>
          <a:blip r:embed="rId2"/>
          <a:stretch/>
        </p:blipFill>
        <p:spPr>
          <a:xfrm>
            <a:off x="-133200" y="2554200"/>
            <a:ext cx="60832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tu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5"/>
          <p:cNvSpPr txBox="1"/>
          <p:nvPr/>
        </p:nvSpPr>
        <p:spPr>
          <a:xfrm>
            <a:off x="2124000" y="1844640"/>
            <a:ext cx="5184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谢谢合作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0023759_268184"/>
          <p:cNvPicPr/>
          <p:nvPr/>
        </p:nvPicPr>
        <p:blipFill>
          <a:blip r:embed="rId1"/>
          <a:stretch/>
        </p:blipFill>
        <p:spPr>
          <a:xfrm>
            <a:off x="0" y="44280"/>
            <a:ext cx="9136080" cy="681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93840" y="981000"/>
          <a:ext cx="5040000" cy="220356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80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名称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播种时间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长期（天）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玉米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小麦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35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花生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红薯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6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大豆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5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5280" y="404640"/>
          <a:ext cx="5040360" cy="57168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常见农作物的播种时间及生长期</a:t>
                      </a:r>
                      <a:endParaRPr b="1" lang="en-US" sz="2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539640" y="1628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.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玉米的生长期是几个月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47640" y="2421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120÷30=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（月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44720" y="3645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120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732040" y="357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700360" y="328464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124000" y="3645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30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276720" y="306864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4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844720" y="4148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120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844720" y="4437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48000" y="481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0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826920" y="566100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答：玉米的生长期是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个月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765000"/>
          <a:ext cx="5143680" cy="809640"/>
        </p:xfrm>
        <a:graphic>
          <a:graphicData uri="http://schemas.openxmlformats.org/drawingml/2006/table">
            <a:tbl>
              <a:tblPr/>
              <a:tblGrid>
                <a:gridCol w="1714680"/>
                <a:gridCol w="1712880"/>
                <a:gridCol w="171612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名称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播种时间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生长期（天）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玉米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28720" y="765000"/>
          <a:ext cx="5040360" cy="82728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8120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名称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播种时间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生长期（天）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小麦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35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3"/>
          <p:cNvSpPr/>
          <p:nvPr/>
        </p:nvSpPr>
        <p:spPr>
          <a:xfrm>
            <a:off x="684360" y="2421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235÷30=7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)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……25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天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)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1835280" y="3232080"/>
            <a:ext cx="3025080" cy="1063800"/>
            <a:chOff x="1835280" y="3232080"/>
            <a:chExt cx="3025080" cy="1063800"/>
          </a:xfrm>
        </p:grpSpPr>
        <p:grpSp>
          <p:nvGrpSpPr>
            <p:cNvPr id="102" name="Group 5"/>
            <p:cNvGrpSpPr/>
            <p:nvPr/>
          </p:nvGrpSpPr>
          <p:grpSpPr>
            <a:xfrm>
              <a:off x="2266920" y="3232080"/>
              <a:ext cx="2593440" cy="970200"/>
              <a:chOff x="2266920" y="3232080"/>
              <a:chExt cx="2593440" cy="970200"/>
            </a:xfrm>
          </p:grpSpPr>
          <p:sp>
            <p:nvSpPr>
              <p:cNvPr id="103" name="Text Box 6"/>
              <p:cNvSpPr/>
              <p:nvPr/>
            </p:nvSpPr>
            <p:spPr>
              <a:xfrm>
                <a:off x="2410200" y="3232080"/>
                <a:ext cx="245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——</a:t>
                </a:r>
                <a:endParaRPr b="1" lang="en-US" sz="40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4" name="Text Box 7"/>
              <p:cNvSpPr/>
              <p:nvPr/>
            </p:nvSpPr>
            <p:spPr>
              <a:xfrm>
                <a:off x="2266920" y="3498840"/>
                <a:ext cx="1285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）</a:t>
                </a:r>
                <a:endParaRPr b="1" lang="en-US" sz="40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Text Box 8"/>
            <p:cNvSpPr/>
            <p:nvPr/>
          </p:nvSpPr>
          <p:spPr>
            <a:xfrm>
              <a:off x="2627640" y="3592440"/>
              <a:ext cx="19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235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835280" y="351936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30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07" name="Text Box 10"/>
          <p:cNvSpPr/>
          <p:nvPr/>
        </p:nvSpPr>
        <p:spPr>
          <a:xfrm>
            <a:off x="3132000" y="303372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7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627280" y="4095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210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486160" y="44625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916360" y="474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25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682560" y="558972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答：小麦的生长期大约是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个月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39640" y="1628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小麦的生长期是几个月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611280" y="62064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童鞋每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张阿姨卖出童鞋共收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92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共卖出多少双童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187280" y="170028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92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÷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32= 29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60360" y="57196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共卖出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童鞋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476360" y="279864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3 2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00920" y="2797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649960" y="28605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9 2 8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1120" y="2273400"/>
            <a:ext cx="10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cc00ff"/>
                </a:solidFill>
                <a:latin typeface="隶书"/>
                <a:ea typeface="隶书"/>
              </a:rPr>
              <a:t> </a:t>
            </a:r>
            <a:r>
              <a:rPr b="0" lang="en-US" sz="4000" spc="-1" strike="noStrike">
                <a:solidFill>
                  <a:srgbClr val="cc00ff"/>
                </a:solidFill>
                <a:latin typeface="隶书"/>
                <a:ea typeface="隶书"/>
              </a:rPr>
              <a:t>9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696400" y="337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隶书"/>
                <a:ea typeface="隶书"/>
              </a:rPr>
              <a:t>6 4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771640" y="39718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隶书"/>
                <a:ea typeface="隶书"/>
              </a:rPr>
              <a:t>2 8</a:t>
            </a:r>
            <a:r>
              <a:rPr b="0" lang="zh-CN" sz="4000" spc="-1" strike="noStrike">
                <a:solidFill>
                  <a:srgbClr val="cc00ff"/>
                </a:solidFill>
                <a:latin typeface="隶书"/>
                <a:ea typeface="隶书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8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3851280" y="2058840"/>
            <a:ext cx="30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2645640" y="4527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隶书"/>
                <a:ea typeface="隶书"/>
              </a:rPr>
              <a:t>2 8 8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671280" y="5102280"/>
            <a:ext cx="6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cc00ff"/>
                </a:solidFill>
                <a:latin typeface="隶书"/>
                <a:ea typeface="隶书"/>
              </a:rPr>
              <a:t>0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3924360" y="4022640"/>
            <a:ext cx="30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6"/>
              <p:cNvSpPr txBox="1"/>
              <p:nvPr/>
            </p:nvSpPr>
            <p:spPr>
              <a:xfrm>
                <a:off x="3898800" y="3514680"/>
                <a:ext cx="112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7" name="Line 17"/>
          <p:cNvSpPr/>
          <p:nvPr/>
        </p:nvSpPr>
        <p:spPr>
          <a:xfrm>
            <a:off x="2556000" y="297504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682720" y="4125960"/>
            <a:ext cx="1744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682720" y="5207040"/>
            <a:ext cx="174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"/>
          <p:cNvGrpSpPr/>
          <p:nvPr/>
        </p:nvGrpSpPr>
        <p:grpSpPr>
          <a:xfrm>
            <a:off x="714240" y="879480"/>
            <a:ext cx="5297400" cy="2405160"/>
            <a:chOff x="714240" y="879480"/>
            <a:chExt cx="5297400" cy="2405160"/>
          </a:xfrm>
        </p:grpSpPr>
        <p:pic>
          <p:nvPicPr>
            <p:cNvPr id="131" name="Picture 4" descr="珊珊 2"/>
            <p:cNvPicPr/>
            <p:nvPr/>
          </p:nvPicPr>
          <p:blipFill>
            <a:blip r:embed="rId1"/>
            <a:stretch/>
          </p:blipFill>
          <p:spPr>
            <a:xfrm>
              <a:off x="4651200" y="1946160"/>
              <a:ext cx="136044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5"/>
            <p:cNvSpPr/>
            <p:nvPr/>
          </p:nvSpPr>
          <p:spPr>
            <a:xfrm>
              <a:off x="714240" y="879480"/>
              <a:ext cx="4863960" cy="966960"/>
            </a:xfrm>
            <a:prstGeom prst="wedgeRoundRectCallout">
              <a:avLst>
                <a:gd name="adj1" fmla="val 33648"/>
                <a:gd name="adj2" fmla="val 78569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757080" y="882720"/>
              <a:ext cx="495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971640" y="10540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比一比谁最快！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82560" y="3286080"/>
            <a:ext cx="5470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810÷9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＝  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24÷5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＝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20÷8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＝  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38÷6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＝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2927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"/>
          <p:cNvGrpSpPr/>
          <p:nvPr/>
        </p:nvGrpSpPr>
        <p:grpSpPr>
          <a:xfrm>
            <a:off x="900000" y="765000"/>
            <a:ext cx="7012080" cy="1276200"/>
            <a:chOff x="900000" y="765000"/>
            <a:chExt cx="7012080" cy="1276200"/>
          </a:xfrm>
        </p:grpSpPr>
        <p:pic>
          <p:nvPicPr>
            <p:cNvPr id="138" name="Picture 4" descr="teacher p4(3)"/>
            <p:cNvPicPr/>
            <p:nvPr/>
          </p:nvPicPr>
          <p:blipFill>
            <a:blip r:embed="rId2"/>
            <a:stretch/>
          </p:blipFill>
          <p:spPr>
            <a:xfrm>
              <a:off x="900000" y="765000"/>
              <a:ext cx="109044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5"/>
            <p:cNvSpPr/>
            <p:nvPr/>
          </p:nvSpPr>
          <p:spPr>
            <a:xfrm>
              <a:off x="2523960" y="1179360"/>
              <a:ext cx="5221440" cy="652320"/>
            </a:xfrm>
            <a:prstGeom prst="wedgeRoundRectCallout">
              <a:avLst>
                <a:gd name="adj1" fmla="val -59120"/>
                <a:gd name="adj2" fmla="val -3282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581200" y="1225440"/>
              <a:ext cx="533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从以上的比赛，你有什么发现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 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41" name="Text Box 7"/>
          <p:cNvSpPr/>
          <p:nvPr/>
        </p:nvSpPr>
        <p:spPr>
          <a:xfrm>
            <a:off x="1403280" y="2565360"/>
            <a:ext cx="6121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除数是两位数的除法，计算时先看被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除数的前两位。如果前两位笔除数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小，再看被除数的前三位，除到被除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数的哪一位，商就写在哪一位上，除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到最后的余数比除数小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62120" y="304920"/>
            <a:ext cx="20811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c0504d"/>
                </a:solidFill>
                <a:latin typeface="隶书"/>
                <a:ea typeface="隶书"/>
              </a:rPr>
              <a:t>、应用题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43" name="WordArt 4" descr=""/>
          <p:cNvPicPr/>
          <p:nvPr/>
        </p:nvPicPr>
        <p:blipFill>
          <a:blip r:embed="rId1"/>
          <a:stretch/>
        </p:blipFill>
        <p:spPr>
          <a:xfrm>
            <a:off x="536400" y="480960"/>
            <a:ext cx="2872080" cy="2189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187280" y="1628640"/>
            <a:ext cx="7634520" cy="33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0×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＜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91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×3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94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98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0×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0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0×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435120" y="1197000"/>
            <a:ext cx="36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里最大能填几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04820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258920" y="2060640"/>
            <a:ext cx="813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360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35280" y="28526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908000" y="256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476360" y="2852640"/>
            <a:ext cx="59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50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64560" y="242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7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201204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35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835280" y="335772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268360" y="3573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10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619280" y="5013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(   )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921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153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3851280" y="3213000"/>
            <a:ext cx="72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 flipV="1">
            <a:off x="5003640" y="1413000"/>
            <a:ext cx="9367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791520" y="2637000"/>
            <a:ext cx="1356480" cy="836640"/>
            <a:chOff x="3791520" y="2637000"/>
            <a:chExt cx="1356480" cy="836640"/>
          </a:xfrm>
        </p:grpSpPr>
        <p:sp>
          <p:nvSpPr>
            <p:cNvPr id="161" name="Rectangle 19"/>
            <p:cNvSpPr/>
            <p:nvPr/>
          </p:nvSpPr>
          <p:spPr>
            <a:xfrm>
              <a:off x="3822120" y="2637000"/>
              <a:ext cx="13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——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3791520" y="2892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）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5662800" y="2637000"/>
            <a:ext cx="998640" cy="797400"/>
            <a:chOff x="5662800" y="2637000"/>
            <a:chExt cx="998640" cy="797400"/>
          </a:xfrm>
        </p:grpSpPr>
        <p:sp>
          <p:nvSpPr>
            <p:cNvPr id="164" name="Rectangle 22"/>
            <p:cNvSpPr/>
            <p:nvPr/>
          </p:nvSpPr>
          <p:spPr>
            <a:xfrm>
              <a:off x="5666760" y="263700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——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" name="Rectangle 23"/>
            <p:cNvSpPr/>
            <p:nvPr/>
          </p:nvSpPr>
          <p:spPr>
            <a:xfrm>
              <a:off x="5662800" y="2853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）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3348000" y="29210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0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3851280" y="32097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120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4213080" y="2492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6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3780000" y="3716280"/>
            <a:ext cx="115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780000" y="3429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4067280" y="3645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33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5796000" y="2852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520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5076720" y="2852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30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4" name="Text Box 32"/>
          <p:cNvSpPr/>
          <p:nvPr/>
        </p:nvSpPr>
        <p:spPr>
          <a:xfrm>
            <a:off x="5796000" y="24890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170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5796000" y="3213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5736600" y="34257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575712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2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5757120" y="3929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1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5757120" y="429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10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0" name="Rectangle 38"/>
          <p:cNvSpPr/>
          <p:nvPr/>
        </p:nvSpPr>
        <p:spPr>
          <a:xfrm>
            <a:off x="5592240" y="40734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635280" y="5070600"/>
            <a:ext cx="36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(×)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5651640" y="50817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(×)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1908000" y="5013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×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1728000" y="134136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.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火眼金睛辨对错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3:41:12Z</dcterms:created>
  <dc:creator/>
  <dc:description/>
  <cp:keywords/>
  <dc:language>en-US</dc:language>
  <cp:lastModifiedBy>Administrator</cp:lastModifiedBy>
  <cp:lastPrinted>1899-12-30T00:00:00Z</cp:lastPrinted>
  <dcterms:modified xsi:type="dcterms:W3CDTF">2015-02-28T00:31:53Z</dcterms:modified>
  <cp:revision>1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