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DING.WAV" ContentType="audio/x-wav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2C5-05CB-435B-B085-0987C85B6D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BCD0-E1F1-4445-B8C4-A0797CA634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4D6-130A-48EA-84DA-7323C946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43F-4BCD-4344-B73E-445A830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E61-BCFC-4229-9AC2-A10F61BC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8E6-BA49-4D4E-B215-BE2C7345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9E2-5DB6-4D50-8191-09BDD34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EA6-82AD-476F-8932-356FC8E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271-9EF9-4900-A25F-BEAF0C1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68C-19F0-400B-91EF-34482B8F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605-18AA-41B7-B964-3B264B0F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DDE-9C93-418A-852C-B9337DA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DAD-6EDE-41B6-859F-0777F69E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D65-B1D6-4DA1-B272-1A27EA57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E720-9B2F-41D4-90BE-6C76C299CF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5410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黑体"/>
              </a:rPr>
              <a:t>除数是两位数的除法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9900ff"/>
                </a:solidFill>
                <a:latin typeface="Calibri"/>
                <a:ea typeface="黑体"/>
              </a:rPr>
              <a:t>复  习  课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6"/>
          <p:cNvSpPr/>
          <p:nvPr/>
        </p:nvSpPr>
        <p:spPr>
          <a:xfrm>
            <a:off x="1295280" y="19810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直接说出下面各题应该商几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http://www.cnshuxue.com/upload/2006-5-4/20065413534383246.gif"/>
          <p:cNvPicPr/>
          <p:nvPr/>
        </p:nvPicPr>
        <p:blipFill>
          <a:blip r:embed="rId1"/>
          <a:stretch/>
        </p:blipFill>
        <p:spPr>
          <a:xfrm>
            <a:off x="533520" y="3124080"/>
            <a:ext cx="8207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85800" y="243936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1670÷25                 (2)6501÷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3)1189÷41                 (4)6976÷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03360" y="7621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组合作 效率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7621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要求在      中填入适当的数字，并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666880" y="2057400"/>
            <a:ext cx="381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3048120"/>
            <a:ext cx="3124080" cy="28954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600200" y="3200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是一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143000" y="38098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057400" y="38098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73280" y="37846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粗圆简体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505320" y="38098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2971800" y="38098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600200" y="3809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143000" y="45054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1676520" y="44956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2573280" y="44798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粗圆简体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505320" y="45054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2971800" y="45054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21337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1143000" y="51912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2057400" y="51912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2573280" y="5165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粗圆简体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1600200" y="51814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2971800" y="51912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3505320" y="5181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952880" y="3048120"/>
            <a:ext cx="3124440" cy="28954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5562720" y="3200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是两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5105520" y="38098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6019920" y="38098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535800" y="37846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粗圆简体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7467480" y="3809880"/>
            <a:ext cx="38124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6934320" y="38098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5562720" y="3809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5105520" y="45054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9"/>
          <p:cNvSpPr/>
          <p:nvPr/>
        </p:nvSpPr>
        <p:spPr>
          <a:xfrm>
            <a:off x="5638680" y="4495680"/>
            <a:ext cx="38124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6535800" y="44798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粗圆简体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1"/>
          <p:cNvSpPr/>
          <p:nvPr/>
        </p:nvSpPr>
        <p:spPr>
          <a:xfrm>
            <a:off x="7467480" y="4505400"/>
            <a:ext cx="38124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2"/>
          <p:cNvSpPr/>
          <p:nvPr/>
        </p:nvSpPr>
        <p:spPr>
          <a:xfrm>
            <a:off x="6934320" y="45054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6095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5105520" y="51912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6019920" y="51912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6"/>
          <p:cNvSpPr/>
          <p:nvPr/>
        </p:nvSpPr>
        <p:spPr>
          <a:xfrm>
            <a:off x="6535800" y="5165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粗圆简体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7"/>
          <p:cNvSpPr/>
          <p:nvPr/>
        </p:nvSpPr>
        <p:spPr>
          <a:xfrm>
            <a:off x="5562720" y="5181480"/>
            <a:ext cx="380880" cy="30492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8"/>
          <p:cNvSpPr/>
          <p:nvPr/>
        </p:nvSpPr>
        <p:spPr>
          <a:xfrm>
            <a:off x="6934320" y="5191200"/>
            <a:ext cx="380880" cy="30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74674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609480" y="42670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法算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÷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……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如果被除数和除数同时扩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，商是（     ），余数是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914400" y="685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一想在除法中，商不变的性质，再根据商不变的性质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685800" y="20574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</a:rPr>
              <a:t>商不变的性质：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被除数和除数同时扩大或缩小相同的倍数，商不变，余数也随着扩大或缩小相同的倍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685800" y="8380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法算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÷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……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如果被除数和除数同时缩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，商是（     ），余数是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533520" y="2743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法算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÷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如果被除数扩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，除数缩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，商是（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W020070411385102722967.jpg"/>
          <p:cNvPicPr/>
          <p:nvPr/>
        </p:nvPicPr>
        <p:blipFill>
          <a:blip r:embed="rId1"/>
          <a:srcRect l="9995" t="47101" r="9995" b="7162"/>
          <a:stretch/>
        </p:blipFill>
        <p:spPr>
          <a:xfrm>
            <a:off x="762120" y="619200"/>
            <a:ext cx="75438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W020070411385098811223.jpg"/>
          <p:cNvPicPr/>
          <p:nvPr/>
        </p:nvPicPr>
        <p:blipFill>
          <a:blip r:embed="rId1"/>
          <a:srcRect l="15200" t="16564" r="13128" b="60877"/>
          <a:stretch/>
        </p:blipFill>
        <p:spPr>
          <a:xfrm>
            <a:off x="228600" y="1676520"/>
            <a:ext cx="8686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W020070411385098811223.jpg"/>
          <p:cNvPicPr/>
          <p:nvPr/>
        </p:nvPicPr>
        <p:blipFill>
          <a:blip r:embed="rId1"/>
          <a:srcRect l="15200" t="70080" r="10542" b="7360"/>
          <a:stretch/>
        </p:blipFill>
        <p:spPr>
          <a:xfrm>
            <a:off x="533520" y="2286000"/>
            <a:ext cx="8192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95408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判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计算除法时，余数一定比除数小。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                  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（　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两个数相除商是</a:t>
            </a: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36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，如果被除数减少</a:t>
            </a: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，除数也减少</a:t>
            </a: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，商不变。（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一个数是</a:t>
            </a: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50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的３倍，则这个数是</a:t>
            </a: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30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的５倍。                </a:t>
            </a: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966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1966"/>
                </a:solidFill>
                <a:latin typeface="宋体"/>
              </a:rPr>
              <a:t>除法计算中，每次余下的数不能比除数大。              （　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8828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填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79520" y="1052280"/>
            <a:ext cx="8664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123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23f9"/>
                </a:solidFill>
                <a:latin typeface="黑体"/>
                <a:ea typeface="黑体"/>
              </a:rPr>
              <a:t>计算</a:t>
            </a:r>
            <a:r>
              <a:rPr b="1" lang="en-US" sz="4000" spc="-1" strike="noStrike">
                <a:solidFill>
                  <a:srgbClr val="5123f9"/>
                </a:solidFill>
                <a:latin typeface="黑体"/>
                <a:ea typeface="黑体"/>
              </a:rPr>
              <a:t>480÷20</a:t>
            </a:r>
            <a:r>
              <a:rPr b="1" lang="zh-CN" sz="4000" spc="-1" strike="noStrike">
                <a:solidFill>
                  <a:srgbClr val="5123f9"/>
                </a:solidFill>
                <a:latin typeface="黑体"/>
                <a:ea typeface="黑体"/>
              </a:rPr>
              <a:t>商是（　）位数，最高位是（　）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123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23f9"/>
                </a:solidFill>
                <a:latin typeface="黑体"/>
                <a:ea typeface="黑体"/>
              </a:rPr>
              <a:t>三位数除以两位数的商可能是（　）位数，也可能是（　）位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123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23f9"/>
                </a:solidFill>
                <a:latin typeface="黑体"/>
                <a:ea typeface="黑体"/>
              </a:rPr>
              <a:t>要使　</a:t>
            </a:r>
            <a:r>
              <a:rPr b="1" lang="en-US" sz="4000" spc="-1" strike="noStrike">
                <a:solidFill>
                  <a:srgbClr val="5123f9"/>
                </a:solidFill>
                <a:latin typeface="黑体"/>
                <a:ea typeface="黑体"/>
              </a:rPr>
              <a:t>46÷67</a:t>
            </a:r>
            <a:r>
              <a:rPr b="1" lang="zh-CN" sz="4000" spc="-1" strike="noStrike">
                <a:solidFill>
                  <a:srgbClr val="5123f9"/>
                </a:solidFill>
                <a:latin typeface="黑体"/>
                <a:ea typeface="黑体"/>
              </a:rPr>
              <a:t>的商是两位数，方框里最小可以填（　），要使商是一位数，方框里最大可以填（　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54280" y="3882960"/>
            <a:ext cx="390600" cy="4302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5" descr="01"/>
          <p:cNvPicPr/>
          <p:nvPr/>
        </p:nvPicPr>
        <p:blipFill>
          <a:blip r:embed="rId1"/>
          <a:stretch/>
        </p:blipFill>
        <p:spPr>
          <a:xfrm>
            <a:off x="0" y="5369040"/>
            <a:ext cx="1584360" cy="148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想一想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:(  )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最大能填几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866960"/>
            <a:ext cx="734868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×(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16             90 ×(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×(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8             80 ×(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W020070411385097722956.jpg"/>
          <p:cNvPicPr/>
          <p:nvPr/>
        </p:nvPicPr>
        <p:blipFill>
          <a:blip r:embed="rId1"/>
          <a:srcRect l="16609" t="25487" r="10940" b="47545"/>
          <a:stretch/>
        </p:blipFill>
        <p:spPr>
          <a:xfrm>
            <a:off x="304920" y="901800"/>
            <a:ext cx="852156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W020070411385097722956.jpg"/>
          <p:cNvPicPr/>
          <p:nvPr/>
        </p:nvPicPr>
        <p:blipFill>
          <a:blip r:embed="rId1"/>
          <a:srcRect l="16609" t="51686" r="12067" b="7302"/>
          <a:stretch/>
        </p:blipFill>
        <p:spPr>
          <a:xfrm>
            <a:off x="762120" y="457200"/>
            <a:ext cx="74880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" descr="W020070411385096319430.jpg"/>
          <p:cNvPicPr/>
          <p:nvPr/>
        </p:nvPicPr>
        <p:blipFill>
          <a:blip r:embed="rId1"/>
          <a:srcRect l="16874" t="22501" r="12233" b="8608"/>
          <a:stretch/>
        </p:blipFill>
        <p:spPr>
          <a:xfrm>
            <a:off x="1905120" y="0"/>
            <a:ext cx="4952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pic_95656.jpg"/>
          <p:cNvPicPr/>
          <p:nvPr/>
        </p:nvPicPr>
        <p:blipFill>
          <a:blip r:embed="rId1"/>
          <a:srcRect l="15448" t="68296" r="10724" b="8760"/>
          <a:stretch/>
        </p:blipFill>
        <p:spPr>
          <a:xfrm>
            <a:off x="304920" y="1523880"/>
            <a:ext cx="879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pic_95657.jpg"/>
          <p:cNvPicPr/>
          <p:nvPr/>
        </p:nvPicPr>
        <p:blipFill>
          <a:blip r:embed="rId1"/>
          <a:srcRect l="16095" t="39251" r="9763" b="9962"/>
          <a:stretch/>
        </p:blipFill>
        <p:spPr>
          <a:xfrm>
            <a:off x="1447920" y="246240"/>
            <a:ext cx="632448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pic_95658.jpg"/>
          <p:cNvPicPr/>
          <p:nvPr/>
        </p:nvPicPr>
        <p:blipFill>
          <a:blip r:embed="rId1"/>
          <a:srcRect l="16890" t="18523" r="12995" b="8375"/>
          <a:stretch/>
        </p:blipFill>
        <p:spPr>
          <a:xfrm>
            <a:off x="914400" y="0"/>
            <a:ext cx="8001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pic_95660.jpg"/>
          <p:cNvPicPr/>
          <p:nvPr/>
        </p:nvPicPr>
        <p:blipFill>
          <a:blip r:embed="rId1"/>
          <a:srcRect l="14818" t="16225" r="11106" b="21229"/>
          <a:stretch/>
        </p:blipFill>
        <p:spPr>
          <a:xfrm>
            <a:off x="1981080" y="0"/>
            <a:ext cx="537228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pic_95664.jpg"/>
          <p:cNvPicPr/>
          <p:nvPr/>
        </p:nvPicPr>
        <p:blipFill>
          <a:blip r:embed="rId1"/>
          <a:srcRect l="12166" t="49388" r="12166" b="33757"/>
          <a:stretch/>
        </p:blipFill>
        <p:spPr>
          <a:xfrm>
            <a:off x="1200240" y="2895480"/>
            <a:ext cx="794376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" descr="pic_95664.jpg"/>
          <p:cNvPicPr/>
          <p:nvPr/>
        </p:nvPicPr>
        <p:blipFill>
          <a:blip r:embed="rId2"/>
          <a:srcRect l="11537" t="6765" r="15382" b="79715"/>
          <a:stretch/>
        </p:blipFill>
        <p:spPr>
          <a:xfrm>
            <a:off x="1371600" y="533520"/>
            <a:ext cx="6950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pic_95664.jpg"/>
          <p:cNvPicPr/>
          <p:nvPr/>
        </p:nvPicPr>
        <p:blipFill>
          <a:blip r:embed="rId1"/>
          <a:srcRect l="11404" t="67293" r="12117" b="7570"/>
          <a:stretch/>
        </p:blipFill>
        <p:spPr>
          <a:xfrm>
            <a:off x="457200" y="1447920"/>
            <a:ext cx="8478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13200" y="-27360"/>
            <a:ext cx="2530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琥珀"/>
                <a:ea typeface="华文琥珀"/>
              </a:rPr>
              <a:t>应用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4005000"/>
            <a:ext cx="849636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宋体"/>
              </a:rPr>
              <a:t>　</a:t>
            </a:r>
            <a:r>
              <a:rPr b="1" lang="en-US" sz="4000" spc="-1" strike="noStrike">
                <a:solidFill>
                  <a:srgbClr val="9900ff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9900ff"/>
                </a:solidFill>
                <a:latin typeface="宋体"/>
              </a:rPr>
              <a:t>小强从家直接到电影院用了</a:t>
            </a:r>
            <a:r>
              <a:rPr b="1" lang="en-US" sz="4000" spc="-1" strike="noStrike">
                <a:solidFill>
                  <a:srgbClr val="9900ff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9900ff"/>
                </a:solidFill>
                <a:latin typeface="宋体"/>
              </a:rPr>
              <a:t>分钟，他用同样的速度，从家经图书馆到电影院，要走多少分钟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241200" y="1125360"/>
            <a:ext cx="8507520" cy="2658960"/>
            <a:chOff x="241200" y="1125360"/>
            <a:chExt cx="8507520" cy="2658960"/>
          </a:xfrm>
        </p:grpSpPr>
        <p:sp>
          <p:nvSpPr>
            <p:cNvPr id="180" name="AutoShape 4"/>
            <p:cNvSpPr/>
            <p:nvPr/>
          </p:nvSpPr>
          <p:spPr>
            <a:xfrm>
              <a:off x="1692360" y="1846080"/>
              <a:ext cx="5545080" cy="1295640"/>
            </a:xfrm>
            <a:prstGeom prst="triangle">
              <a:avLst>
                <a:gd name="adj" fmla="val 5951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241200" y="278136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小强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284720" y="112536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图书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7237440" y="292248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电影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 rot="20388600">
              <a:off x="2484720" y="177300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585</a:t>
              </a:r>
              <a:r>
                <a:rPr b="1" lang="zh-CN" sz="3600" spc="-1" strike="noStrike">
                  <a:solidFill>
                    <a:srgbClr val="00ff00"/>
                  </a:solidFill>
                  <a:latin typeface="Arial"/>
                </a:rPr>
                <a:t>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995640" y="314172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780</a:t>
              </a:r>
              <a:r>
                <a:rPr b="1" lang="zh-CN" sz="3600" spc="-1" strike="noStrike">
                  <a:solidFill>
                    <a:srgbClr val="00ff00"/>
                  </a:solidFill>
                  <a:latin typeface="Arial"/>
                </a:rPr>
                <a:t>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 rot="1960200">
              <a:off x="5651280" y="20620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390</a:t>
              </a:r>
              <a:r>
                <a:rPr b="1" lang="zh-CN" sz="3600" spc="-1" strike="noStrike">
                  <a:solidFill>
                    <a:srgbClr val="00ff00"/>
                  </a:solidFill>
                  <a:latin typeface="Arial"/>
                </a:rPr>
                <a:t>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除数是两位数的除法法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从被除数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 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位除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先用除数的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位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果它比除数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再试除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除到被除数的哪一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就在那一位上面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每求出一位商，余下的数必须比除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7626600" y="487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102880" y="2666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205800" y="266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最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324480" y="32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85800" y="422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2.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水果店运来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23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筐梨，一共卖了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598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元。</a:t>
            </a:r>
            <a:br>
              <a:rPr sz="4000"/>
            </a:b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（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）平均每筐梨多少元？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（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）由于价格下跌，每筐梨的价格降到原来的一半，如果现在卖出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23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筐梨，只能卖得多少元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80755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3.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装订一本笔记本要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64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张纸，现有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900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张纸要装订</a:t>
            </a:r>
            <a:r>
              <a:rPr b="1" lang="en-US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15</a:t>
            </a:r>
            <a:r>
              <a:rPr b="1" lang="zh-CN" sz="4000" spc="-1" strike="noStrike">
                <a:solidFill>
                  <a:srgbClr val="9900ff"/>
                </a:solidFill>
                <a:latin typeface="微软雅黑"/>
                <a:ea typeface="微软雅黑"/>
              </a:rPr>
              <a:t>本这样的笔记本，够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462"/>
          <p:cNvPicPr/>
          <p:nvPr/>
        </p:nvPicPr>
        <p:blipFill>
          <a:blip r:embed="rId1"/>
          <a:stretch/>
        </p:blipFill>
        <p:spPr>
          <a:xfrm>
            <a:off x="0" y="0"/>
            <a:ext cx="8686800" cy="6905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6877080" y="2924280"/>
            <a:ext cx="1876320" cy="792000"/>
          </a:xfrm>
          <a:prstGeom prst="wedgeRoundRectCallout">
            <a:avLst>
              <a:gd name="adj1" fmla="val 16328"/>
              <a:gd name="adj2" fmla="val 138578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棒极了.wav" descr=""/>
          <p:cNvPicPr/>
          <p:nvPr/>
        </p:nvPicPr>
        <p:blipFill>
          <a:blip r:embed="rId3"/>
          <a:stretch/>
        </p:blipFill>
        <p:spPr>
          <a:xfrm>
            <a:off x="1746360" y="-10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152120" y="2882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长城特粗圆体"/>
              </a:rPr>
              <a:t>仔细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00400" y="1523880"/>
            <a:ext cx="4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文鼎新艺体"/>
                <a:ea typeface="文鼎新艺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590920" y="40384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文鼎新艺体"/>
                <a:ea typeface="文鼎新艺体"/>
              </a:rPr>
              <a:t>1 2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608200" y="28447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文鼎新艺体"/>
                <a:ea typeface="文鼎新艺体"/>
              </a:rPr>
              <a:t>6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2438280" y="365760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590920" y="350532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文鼎新艺体"/>
                <a:ea typeface="文鼎新艺体"/>
              </a:rPr>
              <a:t>1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657600" y="1523880"/>
            <a:ext cx="4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文鼎新艺体"/>
                <a:ea typeface="文鼎新艺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733920" y="2286000"/>
            <a:ext cx="4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文鼎新艺体"/>
                <a:ea typeface="文鼎新艺体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2514600" y="472428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3733920" y="4800600"/>
            <a:ext cx="4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文鼎新艺体"/>
                <a:ea typeface="文鼎新艺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6"/>
          <p:cNvGrpSpPr/>
          <p:nvPr/>
        </p:nvGrpSpPr>
        <p:grpSpPr>
          <a:xfrm>
            <a:off x="1530360" y="2244600"/>
            <a:ext cx="2799000" cy="805320"/>
            <a:chOff x="1530360" y="2244600"/>
            <a:chExt cx="2799000" cy="805320"/>
          </a:xfrm>
        </p:grpSpPr>
        <p:grpSp>
          <p:nvGrpSpPr>
            <p:cNvPr id="73" name="Group 7"/>
            <p:cNvGrpSpPr/>
            <p:nvPr/>
          </p:nvGrpSpPr>
          <p:grpSpPr>
            <a:xfrm>
              <a:off x="1977120" y="2343960"/>
              <a:ext cx="1999440" cy="627120"/>
              <a:chOff x="1977120" y="2343960"/>
              <a:chExt cx="1999440" cy="627120"/>
            </a:xfrm>
          </p:grpSpPr>
          <p:sp>
            <p:nvSpPr>
              <p:cNvPr id="74" name="Arc 8"/>
              <p:cNvSpPr/>
              <p:nvPr/>
            </p:nvSpPr>
            <p:spPr>
              <a:xfrm rot="2026800">
                <a:off x="2104920" y="2381040"/>
                <a:ext cx="302040" cy="5522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9"/>
              <p:cNvSpPr/>
              <p:nvPr/>
            </p:nvSpPr>
            <p:spPr>
              <a:xfrm>
                <a:off x="2226240" y="2357280"/>
                <a:ext cx="1750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10"/>
            <p:cNvSpPr/>
            <p:nvPr/>
          </p:nvSpPr>
          <p:spPr>
            <a:xfrm>
              <a:off x="2472120" y="228564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文鼎新艺体"/>
                  <a:ea typeface="文鼎新艺体"/>
                </a:rPr>
                <a:t>7 6 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1530360" y="2244600"/>
              <a:ext cx="93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文鼎特粗黑"/>
                  <a:ea typeface="文鼎特粗黑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17919E-006 L -0.00034 0.17758 E">
                                      <p:cBhvr>
                                        <p:cTn id="6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16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838080" y="114300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学校组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环保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活动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全校共有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57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名学生，每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8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人组成一个环保小组。可以组成多少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52480" y="3581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6÷18=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752480" y="55627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组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733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7"/>
          <p:cNvGrpSpPr/>
          <p:nvPr/>
        </p:nvGrpSpPr>
        <p:grpSpPr>
          <a:xfrm>
            <a:off x="2057400" y="4495680"/>
            <a:ext cx="2658960" cy="795240"/>
            <a:chOff x="2057400" y="4495680"/>
            <a:chExt cx="2658960" cy="795240"/>
          </a:xfrm>
        </p:grpSpPr>
        <p:grpSp>
          <p:nvGrpSpPr>
            <p:cNvPr id="83" name="Group 18"/>
            <p:cNvGrpSpPr/>
            <p:nvPr/>
          </p:nvGrpSpPr>
          <p:grpSpPr>
            <a:xfrm>
              <a:off x="2504160" y="4595040"/>
              <a:ext cx="1999440" cy="627120"/>
              <a:chOff x="2504160" y="4595040"/>
              <a:chExt cx="1999440" cy="627120"/>
            </a:xfrm>
          </p:grpSpPr>
          <p:sp>
            <p:nvSpPr>
              <p:cNvPr id="84" name="Arc 19"/>
              <p:cNvSpPr/>
              <p:nvPr/>
            </p:nvSpPr>
            <p:spPr>
              <a:xfrm rot="2026800">
                <a:off x="2631960" y="4632120"/>
                <a:ext cx="302040" cy="5522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20"/>
              <p:cNvSpPr/>
              <p:nvPr/>
            </p:nvSpPr>
            <p:spPr>
              <a:xfrm>
                <a:off x="2753280" y="4608360"/>
                <a:ext cx="1750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 Box 21"/>
            <p:cNvSpPr/>
            <p:nvPr/>
          </p:nvSpPr>
          <p:spPr>
            <a:xfrm>
              <a:off x="3011760" y="458748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文鼎新艺体"/>
                  <a:ea typeface="文鼎新艺体"/>
                </a:rPr>
                <a:t>5 7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2"/>
            <p:cNvSpPr/>
            <p:nvPr/>
          </p:nvSpPr>
          <p:spPr>
            <a:xfrm>
              <a:off x="2057400" y="4495680"/>
              <a:ext cx="93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文鼎特粗黑"/>
                  <a:ea typeface="文鼎特粗黑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462"/>
          <p:cNvPicPr/>
          <p:nvPr/>
        </p:nvPicPr>
        <p:blipFill>
          <a:blip r:embed="rId1"/>
          <a:stretch/>
        </p:blipFill>
        <p:spPr>
          <a:xfrm>
            <a:off x="0" y="0"/>
            <a:ext cx="9220320" cy="70866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>
            <a:off x="6877080" y="2924280"/>
            <a:ext cx="1876320" cy="792000"/>
          </a:xfrm>
          <a:prstGeom prst="wedgeRoundRectCallout">
            <a:avLst>
              <a:gd name="adj1" fmla="val 16328"/>
              <a:gd name="adj2" fmla="val 138578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311600" y="289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长城特粗圆体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1066680" y="2437560"/>
            <a:ext cx="550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除数是两位数的除法，要从高位除起，先用除数试除被除数的前两位，除到被除数的哪一位就在哪一位上面写商，每次除后余下的数必须比除数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462"/>
          <p:cNvPicPr/>
          <p:nvPr/>
        </p:nvPicPr>
        <p:blipFill>
          <a:blip r:embed="rId1"/>
          <a:stretch/>
        </p:blipFill>
        <p:spPr>
          <a:xfrm>
            <a:off x="0" y="0"/>
            <a:ext cx="9220320" cy="7086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"/>
          <p:cNvSpPr/>
          <p:nvPr/>
        </p:nvSpPr>
        <p:spPr>
          <a:xfrm>
            <a:off x="6877080" y="2924280"/>
            <a:ext cx="1876320" cy="792000"/>
          </a:xfrm>
          <a:prstGeom prst="wedgeRoundRectCallout">
            <a:avLst>
              <a:gd name="adj1" fmla="val 16328"/>
              <a:gd name="adj2" fmla="val 138578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66680" y="3352680"/>
            <a:ext cx="5505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57200" y="1371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除数是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两位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除法与除数是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一位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除法计算方法上有什么相同点？有什么不同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除数是一位数的除法法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从被除数的最高位除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每次用除数先除被除数的前一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果它比除数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再试除前两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除到被除数的哪一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就把商写在哪一位上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每求出一位商，余下的数必须比除数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45960" y="5334120"/>
            <a:ext cx="1400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相同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360760" y="5394240"/>
            <a:ext cx="1400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不同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1087200" y="53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相同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532520" y="137160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从被除数的高位除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934280" y="2895480"/>
            <a:ext cx="41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每次除得的余数必须比除数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88920" y="3641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同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90720" y="443556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除数是两位数的除法，试除的时候，先试除被除数的前两位或前三位；除数是一位数的除法试除时，先试除被除数的前一位或前两位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858840" y="2056680"/>
            <a:ext cx="17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除到被除数的哪一位，就在哪一位上写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"/>
          <p:cNvPicPr/>
          <p:nvPr/>
        </p:nvPicPr>
        <p:blipFill>
          <a:blip r:embed="rId1"/>
          <a:stretch/>
        </p:blipFill>
        <p:spPr>
          <a:xfrm>
            <a:off x="9144000" y="4724280"/>
            <a:ext cx="1343160" cy="1800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7"/>
          <p:cNvSpPr/>
          <p:nvPr/>
        </p:nvSpPr>
        <p:spPr>
          <a:xfrm>
            <a:off x="3429000" y="3048120"/>
            <a:ext cx="4038480" cy="1218960"/>
          </a:xfrm>
          <a:prstGeom prst="wedgeRoundRectCallout">
            <a:avLst>
              <a:gd name="adj1" fmla="val 40685"/>
              <a:gd name="adj2" fmla="val 135287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表现不错，快来参加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夺宝奇兵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2-28T00:34:04Z</dcterms:modified>
  <cp:revision>57</cp:revision>
  <dc:subject/>
  <dc:title>除数是两位数的除法  复  习  课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