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7.gif" ContentType="image/gif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4.jpeg" ContentType="image/jpeg"/>
  <Override PartName="/ppt/media/chimes.wav" ContentType="audio/x-wav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64C-67C3-44F5-B2A1-674692AF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34D-A9F5-410E-9021-74FECF6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D42-5022-45C5-9FA0-42BC0212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E66-BB9A-4CDA-8F2B-05349B9F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2DD-ADB5-4CA9-9062-E35ED7E9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BF6-12D0-49D9-9870-C5BCD8B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352-EA87-4763-AB8B-ADDB4308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C21-E253-4F64-9513-A200D66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D5C-30C6-4B91-A917-C8ADED8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D59-A06B-4BFF-BA10-41593C1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D32-9467-41CD-B6E6-0C134372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544-24B3-4F45-8B67-5D97C10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54CD-AF8C-43B6-823E-09F34780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286000" y="1643040"/>
            <a:ext cx="5473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商不变的性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8"/>
          <p:cNvSpPr/>
          <p:nvPr/>
        </p:nvSpPr>
        <p:spPr>
          <a:xfrm>
            <a:off x="838080" y="297180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1447920" y="304812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2556000" y="1125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÷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4140360" y="1197000"/>
            <a:ext cx="10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2340000" y="2133720"/>
            <a:ext cx="3027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÷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8÷8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6÷16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2÷3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3851280" y="2133720"/>
            <a:ext cx="2549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2284560" y="3124080"/>
            <a:ext cx="458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2819520" y="175248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2871720" y="3124080"/>
            <a:ext cx="45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3581280" y="17524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22860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895480" y="32767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30481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124000" y="2708280"/>
            <a:ext cx="7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51460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2843280" y="270828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2771640" y="35002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3635280" y="35002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2700360" y="43657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>
            <a:off x="3564000" y="263700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3780000" y="436572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 flipV="1">
            <a:off x="5867280" y="457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0"/>
          <p:cNvSpPr/>
          <p:nvPr/>
        </p:nvSpPr>
        <p:spPr>
          <a:xfrm>
            <a:off x="3132000" y="2637000"/>
            <a:ext cx="754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1"/>
          <p:cNvGrpSpPr/>
          <p:nvPr/>
        </p:nvGrpSpPr>
        <p:grpSpPr>
          <a:xfrm>
            <a:off x="2195640" y="3500280"/>
            <a:ext cx="1904400" cy="785520"/>
            <a:chOff x="2195640" y="3500280"/>
            <a:chExt cx="1904400" cy="785520"/>
          </a:xfrm>
        </p:grpSpPr>
        <p:sp>
          <p:nvSpPr>
            <p:cNvPr id="123" name="Text Box 42"/>
            <p:cNvSpPr/>
            <p:nvPr/>
          </p:nvSpPr>
          <p:spPr>
            <a:xfrm>
              <a:off x="2957400" y="3500280"/>
              <a:ext cx="1142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×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3"/>
            <p:cNvSpPr/>
            <p:nvPr/>
          </p:nvSpPr>
          <p:spPr>
            <a:xfrm>
              <a:off x="2195640" y="3500280"/>
              <a:ext cx="7617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×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4"/>
          <p:cNvSpPr/>
          <p:nvPr/>
        </p:nvSpPr>
        <p:spPr>
          <a:xfrm>
            <a:off x="2124000" y="4365720"/>
            <a:ext cx="97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3132000" y="4365720"/>
            <a:ext cx="754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33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026800" y="1341360"/>
            <a:ext cx="18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÷4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953720" y="620640"/>
            <a:ext cx="20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÷2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54080" y="2133720"/>
            <a:ext cx="18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÷8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811520" y="2852640"/>
            <a:ext cx="21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6÷16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595520" y="357336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2÷32 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570320" y="4437000"/>
            <a:ext cx="567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被除数和除数同时乘相同的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商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565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117240" y="692280"/>
            <a:ext cx="23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÷2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059280" y="1628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÷4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88880" y="2708280"/>
            <a:ext cx="23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8÷8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117240" y="3789360"/>
            <a:ext cx="252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6÷16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685960" y="5013360"/>
            <a:ext cx="29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2÷32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484360" y="907920"/>
            <a:ext cx="0" cy="446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290960" y="1413000"/>
            <a:ext cx="1277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  上  往  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6084720" y="1052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089400" y="1025640"/>
            <a:ext cx="729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从  下  往  上  呢 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1H453DF-23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889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1749960" y="4724280"/>
            <a:ext cx="43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2   ÷  32   = 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749960" y="2781360"/>
            <a:ext cx="43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6     ÷  16   = 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749960" y="981000"/>
            <a:ext cx="43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8     ÷   8    = 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124000" y="35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28472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6012000" y="3573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 flipV="1">
            <a:off x="205092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 flipV="1">
            <a:off x="435600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 flipV="1">
            <a:off x="601200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1414800" y="386064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646800" y="378936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625068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1467000" y="19573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3718080" y="184464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6250680" y="18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trytry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719720" y="328464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92   ÷  32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547640" y="9079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     ÷  2  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2195640" y="1700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5003640" y="177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7451640" y="177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220760" y="22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÷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029120" y="22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÷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75152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不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2173680" y="4581360"/>
            <a:ext cx="563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被除数和除数同时除以相同的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商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8"/>
          <p:cNvSpPr/>
          <p:nvPr/>
        </p:nvSpPr>
        <p:spPr>
          <a:xfrm>
            <a:off x="2268360" y="0"/>
            <a:ext cx="6697800" cy="4365720"/>
          </a:xfrm>
          <a:prstGeom prst="cloudCallout">
            <a:avLst>
              <a:gd name="adj1" fmla="val -31347"/>
              <a:gd name="adj2" fmla="val 45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801960" y="620640"/>
            <a:ext cx="374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除数和除数同时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同的数，商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除数和除数同时除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同的数，商也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676520" y="9144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被除数和除数同时乘或除以相同的数，商不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图片6"/>
          <p:cNvPicPr/>
          <p:nvPr/>
        </p:nvPicPr>
        <p:blipFill>
          <a:blip r:embed="rId1"/>
          <a:stretch/>
        </p:blipFill>
        <p:spPr>
          <a:xfrm>
            <a:off x="324000" y="476280"/>
            <a:ext cx="6624360" cy="2035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981440" y="6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979640" y="1413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918520" y="6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0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069440" y="6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41421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078880" y="6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078880" y="14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086880" y="6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086880" y="14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981440" y="200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13416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14216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221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5816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1" descr="u=2921289952,1366555503&amp;fm=0&amp;gp=0"/>
          <p:cNvPicPr/>
          <p:nvPr/>
        </p:nvPicPr>
        <p:blipFill>
          <a:blip r:embed="rId2"/>
          <a:stretch/>
        </p:blipFill>
        <p:spPr>
          <a:xfrm>
            <a:off x="755640" y="3645000"/>
            <a:ext cx="2952720" cy="27208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25"/>
          <p:cNvSpPr/>
          <p:nvPr/>
        </p:nvSpPr>
        <p:spPr>
          <a:xfrm>
            <a:off x="4067280" y="2924280"/>
            <a:ext cx="3384360" cy="3024000"/>
          </a:xfrm>
          <a:prstGeom prst="cloudCallout">
            <a:avLst>
              <a:gd name="adj1" fmla="val -48310"/>
              <a:gd name="adj2" fmla="val 7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4284720" y="3578400"/>
            <a:ext cx="303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被除数和除数同时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990720" y="16758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90720" y="1905120"/>
            <a:ext cx="77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752480" y="5105520"/>
            <a:ext cx="609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152280" y="1828800"/>
            <a:ext cx="1067040" cy="1778040"/>
            <a:chOff x="152280" y="1828800"/>
            <a:chExt cx="1067040" cy="1778040"/>
          </a:xfrm>
        </p:grpSpPr>
        <p:graphicFrame>
          <p:nvGraphicFramePr>
            <p:cNvPr id="208" name="Object 7"/>
            <p:cNvGraphicFramePr/>
            <p:nvPr/>
          </p:nvGraphicFramePr>
          <p:xfrm>
            <a:off x="152280" y="1828800"/>
            <a:ext cx="1067040" cy="125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1828800"/>
                      <a:ext cx="106704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Text Box 8"/>
            <p:cNvSpPr/>
            <p:nvPr/>
          </p:nvSpPr>
          <p:spPr>
            <a:xfrm>
              <a:off x="435600" y="308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9"/>
          <p:cNvSpPr/>
          <p:nvPr/>
        </p:nvSpPr>
        <p:spPr>
          <a:xfrm>
            <a:off x="2666880" y="9144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÷2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800600" y="914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191440" y="1447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258920" y="5342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80880" y="320040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，我们刚才总结的规律应该有什么补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"/>
          <p:cNvPicPr/>
          <p:nvPr/>
        </p:nvPicPr>
        <p:blipFill>
          <a:blip r:embed="rId4"/>
          <a:stretch/>
        </p:blipFill>
        <p:spPr>
          <a:xfrm>
            <a:off x="8215200" y="0"/>
            <a:ext cx="9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699200" y="214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我发现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24000" y="2205000"/>
            <a:ext cx="59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被除数和除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同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或除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同的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除外），商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982960" y="4581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这就是商不变的性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：我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笔记本，用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：我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笔记本，用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丙：我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笔记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丁：我用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笔记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分别计算出他们所买的笔记本的价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4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÷2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9÷3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8÷6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24000" y="1268280"/>
          <a:ext cx="8712000" cy="2521080"/>
        </p:xfrm>
        <a:graphic>
          <a:graphicData uri="http://schemas.openxmlformats.org/drawingml/2006/table">
            <a:tbl>
              <a:tblPr/>
              <a:tblGrid>
                <a:gridCol w="1341360"/>
                <a:gridCol w="963720"/>
                <a:gridCol w="965160"/>
                <a:gridCol w="963360"/>
                <a:gridCol w="965160"/>
                <a:gridCol w="965520"/>
                <a:gridCol w="965160"/>
                <a:gridCol w="1582560"/>
              </a:tblGrid>
              <a:tr h="83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40"/>
          <p:cNvSpPr/>
          <p:nvPr/>
        </p:nvSpPr>
        <p:spPr>
          <a:xfrm>
            <a:off x="1118160" y="503280"/>
            <a:ext cx="18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规律填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198072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3"/>
          <p:cNvSpPr/>
          <p:nvPr/>
        </p:nvSpPr>
        <p:spPr>
          <a:xfrm>
            <a:off x="298872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399672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86036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5724360" y="14130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586836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8"/>
          <p:cNvSpPr/>
          <p:nvPr/>
        </p:nvSpPr>
        <p:spPr>
          <a:xfrm>
            <a:off x="6804360" y="227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9"/>
          <p:cNvSpPr/>
          <p:nvPr/>
        </p:nvSpPr>
        <p:spPr>
          <a:xfrm>
            <a:off x="6805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4920" y="152280"/>
            <a:ext cx="8381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猴 王 分 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果山风景秀丽，气候宜人，那里住着一群猴子。有一天，猴王让一只小猴分桃子。猴王说：“给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桃子，平均分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猴吧。”小猴听了，连连摇头说：“太少了，太少了。”猴王又说：“好吧，给你</a:t>
            </a:r>
            <a:r>
              <a:rPr b="0" lang="en-US" sz="3200" spc="-1" strike="noStrike">
                <a:solidFill>
                  <a:srgbClr val="ff0d00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桃子，平均分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猴，怎么样？”小猴子得寸进尺，挠挠头皮，试探地说：“大王，再多给点行不行啊？”猴王一拍桌子，显示出慷慨大度的样子说：“那好吧，给你</a:t>
            </a:r>
            <a:r>
              <a:rPr b="0" lang="en-US" sz="3200" spc="-1" strike="noStrike">
                <a:solidFill>
                  <a:srgbClr val="ff0d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桃子，平均分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小猴，你总该满意了吧？” 小猴子连忙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了、好了”！小猴子笑了，猴王也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873440" y="624960"/>
            <a:ext cx="35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同学们，猴王为什么笑了？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51320" y="1310760"/>
            <a:ext cx="35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第一次：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　　　　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19320" y="1920240"/>
            <a:ext cx="50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第二次：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　   　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057400" y="2590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第三次：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60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　　    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6"/>
          <p:cNvGraphicFramePr/>
          <p:nvPr/>
        </p:nvGraphicFramePr>
        <p:xfrm>
          <a:off x="457200" y="3276720"/>
          <a:ext cx="1295280" cy="11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129528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7"/>
          <p:cNvSpPr/>
          <p:nvPr/>
        </p:nvSpPr>
        <p:spPr>
          <a:xfrm>
            <a:off x="1828800" y="3657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因为猴王利用商不变的规律把小猴子给骗了，每只小猴子还是分得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个桃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>
            <a:hlinkClick r:id="rId3" action="ppaction://hlinksldjump"/>
          </p:cNvPr>
          <p:cNvSpPr/>
          <p:nvPr/>
        </p:nvSpPr>
        <p:spPr>
          <a:xfrm>
            <a:off x="685800" y="5867280"/>
            <a:ext cx="685800" cy="533520"/>
          </a:xfrm>
          <a:prstGeom prst="horizontalScroll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1440" y="3049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哪些算式与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450÷15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相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)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50÷3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÷3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 （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2)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50÷4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×4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3)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5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)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50×5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×5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5) 450 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÷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6)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450÷4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÷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15÷7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）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828800" y="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127280" y="19051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119000" y="26668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7119000" y="3429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051320" y="41148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7119000" y="4876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7119000" y="5638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图图"/>
          <p:cNvPicPr/>
          <p:nvPr/>
        </p:nvPicPr>
        <p:blipFill>
          <a:blip r:embed="rId1"/>
          <a:stretch/>
        </p:blipFill>
        <p:spPr>
          <a:xfrm>
            <a:off x="0" y="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33"/>
          <p:cNvPicPr/>
          <p:nvPr/>
        </p:nvPicPr>
        <p:blipFill>
          <a:blip r:embed="rId1"/>
          <a:stretch/>
        </p:blipFill>
        <p:spPr>
          <a:xfrm>
            <a:off x="0" y="0"/>
            <a:ext cx="9540720" cy="6939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二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在一道除法算式里，如果被除数除以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除数也除以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商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⑵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在一道除法算式里，如果被除数乘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要使商不变，除数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⑶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在一道除法算式里，如果除数除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00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要使商不变，被除数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943600" y="2057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95880" y="342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也乘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767640" y="46483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也除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第三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2÷1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很快写出下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道题的商，并且要说出道理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55640" y="2060640"/>
            <a:ext cx="29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20÷ 1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821120" y="206064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4÷ 24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98600" y="371628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200÷ 120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604400" y="36450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40÷ 24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565080" y="206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7094160" y="206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565080" y="3716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7165440" y="3645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001"/>
          <p:cNvPicPr/>
          <p:nvPr/>
        </p:nvPicPr>
        <p:blipFill>
          <a:blip r:embed="rId1"/>
          <a:stretch/>
        </p:blipFill>
        <p:spPr>
          <a:xfrm>
            <a:off x="-177840" y="-168120"/>
            <a:ext cx="9429840" cy="7126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下面等式中的○里填上运算符号，在□里填上适当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÷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 ÷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○ 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 ○ 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×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 ÷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÷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438280" y="44197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5105520" y="434340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90512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5029200" y="3657600"/>
            <a:ext cx="4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495680" y="2971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362320" y="29718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371600" y="304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786240" y="5029200"/>
            <a:ext cx="43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150 × 4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÷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25 × 4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5562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= 600 ÷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0948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553360" y="50846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=(800×4) ÷(25×4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5257800" y="6151680"/>
            <a:ext cx="12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04920" y="33526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上面的方法计算下列题目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914400" y="4191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÷25                   800÷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57800" y="5638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方正姚体"/>
                <a:ea typeface="方正姚体"/>
              </a:rPr>
              <a:t>= 32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04920" y="60948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面是淘气计算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400÷25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过程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请你仔细观察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你受到甚么启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÷25=(400×4)÷(25×4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600÷100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8305920" y="152280"/>
            <a:ext cx="53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五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u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WordArt 6" descr=""/>
          <p:cNvPicPr/>
          <p:nvPr/>
        </p:nvPicPr>
        <p:blipFill>
          <a:blip r:embed="rId2"/>
          <a:stretch/>
        </p:blipFill>
        <p:spPr>
          <a:xfrm>
            <a:off x="365040" y="-152280"/>
            <a:ext cx="5602320" cy="3346200"/>
          </a:xfrm>
          <a:prstGeom prst="rect">
            <a:avLst/>
          </a:prstGeom>
          <a:ln w="0">
            <a:noFill/>
          </a:ln>
        </p:spPr>
      </p:pic>
      <p:pic>
        <p:nvPicPr>
          <p:cNvPr id="294" name="WordArt 7" descr=""/>
          <p:cNvPicPr/>
          <p:nvPr/>
        </p:nvPicPr>
        <p:blipFill>
          <a:blip r:embed="rId3"/>
          <a:stretch/>
        </p:blipFill>
        <p:spPr>
          <a:xfrm>
            <a:off x="622440" y="3181320"/>
            <a:ext cx="53085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4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÷2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9÷3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8÷6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1042920" y="1197000"/>
            <a:ext cx="5689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18900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列式计算并填写表格（独立完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合作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观察表格中的数据，谈一谈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观察算式中的被除数和除数是如何变化的，你又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332000" y="2786040"/>
            <a:ext cx="7127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927840" y="1811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"/>
          <p:cNvPicPr/>
          <p:nvPr/>
        </p:nvPicPr>
        <p:blipFill>
          <a:blip r:embed="rId1"/>
          <a:stretch/>
        </p:blipFill>
        <p:spPr>
          <a:xfrm>
            <a:off x="108000" y="189000"/>
            <a:ext cx="143964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900000" y="1700280"/>
          <a:ext cx="7415280" cy="2719440"/>
        </p:xfrm>
        <a:graphic>
          <a:graphicData uri="http://schemas.openxmlformats.org/drawingml/2006/table">
            <a:tbl>
              <a:tblPr/>
              <a:tblGrid>
                <a:gridCol w="2390760"/>
                <a:gridCol w="776520"/>
                <a:gridCol w="863640"/>
                <a:gridCol w="936360"/>
                <a:gridCol w="1224000"/>
                <a:gridCol w="1224000"/>
              </a:tblGrid>
              <a:tr h="106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工作总量（吨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间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工作效率（吨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3"/>
          <p:cNvSpPr/>
          <p:nvPr/>
        </p:nvSpPr>
        <p:spPr>
          <a:xfrm>
            <a:off x="3366000" y="7650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合收割机工作情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3420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428580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6"/>
          <p:cNvSpPr/>
          <p:nvPr/>
        </p:nvSpPr>
        <p:spPr>
          <a:xfrm>
            <a:off x="514944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615744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8"/>
          <p:cNvSpPr/>
          <p:nvPr/>
        </p:nvSpPr>
        <p:spPr>
          <a:xfrm>
            <a:off x="752580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9"/>
          <p:cNvSpPr/>
          <p:nvPr/>
        </p:nvSpPr>
        <p:spPr>
          <a:xfrm>
            <a:off x="1361880" y="4653000"/>
            <a:ext cx="33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观察表格中的数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你发现了什么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二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88748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677960" y="1052640"/>
            <a:ext cx="53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÷ 2 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340880" y="184464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÷ 4 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33600" y="2781360"/>
            <a:ext cx="54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÷ 8 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413960" y="371628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6÷1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124880" y="4653000"/>
            <a:ext cx="29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÷3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74880" y="1052640"/>
            <a:ext cx="32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82160" y="1916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878880" y="27813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879240" y="3645000"/>
            <a:ext cx="12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094880" y="4581360"/>
            <a:ext cx="80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u=1994249441,4126830390&amp;fm=0&amp;gp=0"/>
          <p:cNvPicPr/>
          <p:nvPr/>
        </p:nvPicPr>
        <p:blipFill>
          <a:blip r:embed="rId2"/>
          <a:stretch/>
        </p:blipFill>
        <p:spPr>
          <a:xfrm>
            <a:off x="1187280" y="765000"/>
            <a:ext cx="244800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2"/>
          <p:cNvSpPr/>
          <p:nvPr/>
        </p:nvSpPr>
        <p:spPr>
          <a:xfrm>
            <a:off x="4140360" y="1341360"/>
            <a:ext cx="439560" cy="3816360"/>
          </a:xfrm>
          <a:custGeom>
            <a:avLst/>
            <a:gdLst>
              <a:gd name="textAreaLeft" fmla="*/ 280800 w 439560"/>
              <a:gd name="textAreaRight" fmla="*/ 439920 w 4395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1908000" y="29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64440" y="461880"/>
            <a:ext cx="485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  ÷  2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350028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4 ÷  4 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268360" y="14842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79960" y="213372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4427640" y="141300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700800" y="21337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6659640" y="1484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845760" y="2028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311120" y="480960"/>
            <a:ext cx="62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  ÷   2  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332000" y="278604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8  ÷   8     =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0800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356000" y="141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877080" y="134136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364760" y="19828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×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812760" y="19112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×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093440" y="1811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2:01:35Z</dcterms:created>
  <dc:creator/>
  <dc:description/>
  <cp:keywords/>
  <dc:language>en-US</dc:language>
  <cp:lastModifiedBy>Administrator</cp:lastModifiedBy>
  <dcterms:modified xsi:type="dcterms:W3CDTF">2015-02-28T00:52:02Z</dcterms:modified>
  <cp:revision>43</cp:revision>
  <dc:subject/>
  <dc:title>幻灯片 1</dc:title>
</cp:coreProperties>
</file>