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FA1-CDEF-48DE-8B53-161B2DEE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B1A-7012-4FA0-B18A-425D2B47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472-DFA9-4F7D-A8EA-74007B46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E2F-603C-4B56-902B-BC1E0002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57C-81B8-49B3-A255-33E63CEA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BCD-77F1-49FF-BB2E-303C14B1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ED7-5DB3-498A-8BF0-8F91A2B8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ACC-11F8-41F6-89B1-22D426D8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F8C-F9A2-4536-9B5F-06A0D282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327-52A6-4190-A129-BAEA0B0F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63D-B23E-494E-800E-3D9448CF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761-A496-4725-BB52-9AF46E11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B02B-6004-41B2-B28A-92FDCCC5B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14384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6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我国古代四大名著有：</a:t>
            </a:r>
            <a:br>
              <a:rPr sz="4400"/>
            </a:br>
            <a:r>
              <a:rPr b="1" lang="zh-CN" sz="4400" spc="-1" strike="noStrike">
                <a:solidFill>
                  <a:srgbClr val="0d0d0d"/>
                </a:solidFill>
                <a:latin typeface="黑体"/>
                <a:ea typeface="黑体"/>
              </a:rPr>
              <a:t>曹雪芹（           ）</a:t>
            </a:r>
            <a:br>
              <a:rPr sz="4400"/>
            </a:br>
            <a:r>
              <a:rPr b="1" lang="zh-CN" sz="4400" spc="-1" strike="noStrike">
                <a:solidFill>
                  <a:srgbClr val="0d0d0d"/>
                </a:solidFill>
                <a:latin typeface="黑体"/>
                <a:ea typeface="黑体"/>
              </a:rPr>
              <a:t>罗贯中（           ）</a:t>
            </a:r>
            <a:br>
              <a:rPr sz="4400"/>
            </a:br>
            <a:r>
              <a:rPr b="1" lang="zh-CN" sz="4400" spc="-1" strike="noStrike">
                <a:solidFill>
                  <a:srgbClr val="0d0d0d"/>
                </a:solidFill>
                <a:latin typeface="黑体"/>
                <a:ea typeface="黑体"/>
              </a:rPr>
              <a:t>吴承恩（           ）</a:t>
            </a:r>
            <a:br>
              <a:rPr sz="4400"/>
            </a:br>
            <a:r>
              <a:rPr b="1" lang="zh-CN" sz="4400" spc="-1" strike="noStrike">
                <a:solidFill>
                  <a:srgbClr val="0d0d0d"/>
                </a:solidFill>
                <a:latin typeface="黑体"/>
                <a:ea typeface="黑体"/>
              </a:rPr>
              <a:t>施耐庵（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3929040" y="214308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红楼梦</a:t>
            </a:r>
            <a:r>
              <a:rPr b="1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714840" y="3071880"/>
            <a:ext cx="30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三国演义</a:t>
            </a:r>
            <a:r>
              <a:rPr b="1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857760" y="400068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西游记</a:t>
            </a:r>
            <a:r>
              <a:rPr b="1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857760" y="492912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水浒传</a:t>
            </a:r>
            <a:r>
              <a:rPr b="1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6"/>
          <p:cNvSpPr/>
          <p:nvPr/>
        </p:nvSpPr>
        <p:spPr>
          <a:xfrm>
            <a:off x="0" y="428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三国演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中表现诸葛亮智慧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1500120" y="1643040"/>
            <a:ext cx="62150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2da"/>
                </a:solidFill>
                <a:latin typeface="华文行楷"/>
                <a:ea typeface="华文行楷"/>
              </a:rPr>
              <a:t>火烧新野    舌战群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2da"/>
                </a:solidFill>
                <a:latin typeface="华文行楷"/>
                <a:ea typeface="华文行楷"/>
              </a:rPr>
              <a:t>草船借箭    巧借东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2da"/>
                </a:solidFill>
                <a:latin typeface="华文行楷"/>
                <a:ea typeface="华文行楷"/>
              </a:rPr>
              <a:t>赤壁之战    三气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2da"/>
                </a:solidFill>
                <a:latin typeface="华文行楷"/>
                <a:ea typeface="华文行楷"/>
              </a:rPr>
              <a:t>七擒孟获    智赚荆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2da"/>
                </a:solidFill>
                <a:latin typeface="华文行楷"/>
                <a:ea typeface="华文行楷"/>
              </a:rPr>
              <a:t>计取成都    平定汉中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907920"/>
            <a:ext cx="87138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滚滚长江东逝水，浪花淘尽英雄。是非成败转头空。青山依旧在，几度夕阳红。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白发渔樵江渚上，惯看秋月春风。一壶浊酒喜相逢。古今多少事，都付笑谈中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国演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题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14280" y="214200"/>
            <a:ext cx="7715520" cy="6440760"/>
          </a:xfrm>
          <a:prstGeom prst="rect">
            <a:avLst/>
          </a:prstGeom>
          <a:noFill/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张飞扔鸡毛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有劲难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张飞使计谋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粗中有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诸葛亮借箭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有借无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诸葛亮挥泪斩马谡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顾全大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诸葛亮的鹅毛扇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神妙莫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诸葛亮用空城计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不得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关公进曹营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单刀直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周瑜打黄盖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一个愿打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一个愿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鲁肃讨荆州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空手而去，空手而回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曹操用计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又奸又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85840" y="214200"/>
            <a:ext cx="785880" cy="21430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428760" y="441360"/>
            <a:ext cx="8429400" cy="67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公照镜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觉脸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云长卖豆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硬货不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诸葛亮吊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装模作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张飞穿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眼瞪小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曹操下江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得凶，败得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诸葛亮招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才重于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曹操遇蒋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倒了大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公进曹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刀直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曹操吃鸡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之无味，弃之可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14240" y="357120"/>
            <a:ext cx="4000680" cy="9288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作业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714240" y="1785960"/>
            <a:ext cx="4143600" cy="728640"/>
          </a:xfrm>
          <a:prstGeom prst="rect">
            <a:avLst/>
          </a:prstGeom>
          <a:solidFill>
            <a:srgbClr val="ffffff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完成练习册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714240" y="4357800"/>
            <a:ext cx="7858440" cy="1998000"/>
          </a:xfrm>
          <a:prstGeom prst="rect">
            <a:avLst/>
          </a:prstGeom>
          <a:solidFill>
            <a:srgbClr val="ffffff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课外阅读相关书籍，做好读书笔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（关于人物的评价，或者故事内容，或者精彩的片段描写，等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714240" y="2786040"/>
            <a:ext cx="7858440" cy="728640"/>
          </a:xfrm>
          <a:prstGeom prst="rect">
            <a:avLst/>
          </a:prstGeom>
          <a:solidFill>
            <a:srgbClr val="ffffff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</a:rPr>
              <a:t>课外采蜜本收集有关三国演义中的歇后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85840" y="1000080"/>
            <a:ext cx="8569080" cy="17398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一部长篇历史演义小说，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回。小说以描写战争为主，反映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个政治集团之间的政治和军事斗争。在广阔的背景下，上演了一幕幕波澜起伏、气势磅礴的战争场面。小说情节曲折生动，引人入胜；塑造了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曹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刘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孙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诸葛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周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关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张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赵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等众多栩栩如生的人物形象；艺术结构既宏伟又严谨；小说的语言“文不甚深，言不甚俗”，具有独特的风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928800" y="2357280"/>
            <a:ext cx="7344720" cy="1725480"/>
            <a:chOff x="928800" y="2357280"/>
            <a:chExt cx="7344720" cy="1725480"/>
          </a:xfrm>
        </p:grpSpPr>
        <p:pic>
          <p:nvPicPr>
            <p:cNvPr id="49" name="Picture 5" descr="国"/>
            <p:cNvPicPr/>
            <p:nvPr/>
          </p:nvPicPr>
          <p:blipFill>
            <a:blip r:embed="rId1"/>
            <a:stretch/>
          </p:blipFill>
          <p:spPr>
            <a:xfrm>
              <a:off x="2584080" y="2428560"/>
              <a:ext cx="1657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三"/>
            <p:cNvPicPr/>
            <p:nvPr/>
          </p:nvPicPr>
          <p:blipFill>
            <a:blip r:embed="rId2"/>
            <a:stretch/>
          </p:blipFill>
          <p:spPr>
            <a:xfrm>
              <a:off x="928800" y="2573280"/>
              <a:ext cx="159984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演"/>
            <p:cNvPicPr/>
            <p:nvPr/>
          </p:nvPicPr>
          <p:blipFill>
            <a:blip r:embed="rId3"/>
            <a:stretch/>
          </p:blipFill>
          <p:spPr>
            <a:xfrm>
              <a:off x="4455720" y="2357280"/>
              <a:ext cx="17524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8" descr="义"/>
            <p:cNvPicPr/>
            <p:nvPr/>
          </p:nvPicPr>
          <p:blipFill>
            <a:blip r:embed="rId4"/>
            <a:stretch/>
          </p:blipFill>
          <p:spPr>
            <a:xfrm>
              <a:off x="6329160" y="2428560"/>
              <a:ext cx="194436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2857320" cy="7858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文学知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447920" y="4572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隶书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E:\空城计\47.jpg"/>
          <p:cNvPicPr/>
          <p:nvPr/>
        </p:nvPicPr>
        <p:blipFill>
          <a:blip r:embed="rId1"/>
          <a:stretch/>
        </p:blipFill>
        <p:spPr>
          <a:xfrm>
            <a:off x="1328760" y="2328840"/>
            <a:ext cx="4286160" cy="3213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324160" y="8431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62673"/>
                </a:solidFill>
                <a:latin typeface="宋体"/>
              </a:rPr>
              <a:t>空城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945040" y="1571760"/>
            <a:ext cx="26384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华文隶书"/>
              </a:rPr>
              <a:t>《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华文隶书"/>
              </a:rPr>
              <a:t>三国演义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华文隶书"/>
              </a:rPr>
              <a:t>》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华文隶书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九十五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华文隶书"/>
              </a:rPr>
              <a:t>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华文行楷"/>
              </a:rPr>
              <a:t>马谡拒谏失街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行楷"/>
                <a:ea typeface="华文行楷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华文行楷"/>
                <a:ea typeface="华文行楷"/>
              </a:rPr>
              <a:t>武侯弹琴退仲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421164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导学提示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28760" y="2143080"/>
            <a:ext cx="8215200" cy="23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262673"/>
                </a:solidFill>
                <a:latin typeface="Arial"/>
              </a:rPr>
              <a:t>自读课文，读准字音，读通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262673"/>
                </a:solidFill>
                <a:latin typeface="Arial"/>
              </a:rPr>
              <a:t>找出不理解的词语或句子，大家讨论解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262673"/>
                </a:solidFill>
                <a:latin typeface="Arial"/>
              </a:rPr>
              <a:t>抓住故事的起因、经过、结果，用简洁的语言说说故事大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26" descr="0003"/>
          <p:cNvPicPr/>
          <p:nvPr/>
        </p:nvPicPr>
        <p:blipFill>
          <a:blip r:embed="rId1"/>
          <a:srcRect l="1725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28"/>
          <p:cNvSpPr/>
          <p:nvPr/>
        </p:nvSpPr>
        <p:spPr>
          <a:xfrm>
            <a:off x="1001160" y="214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我会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31"/>
          <p:cNvSpPr/>
          <p:nvPr/>
        </p:nvSpPr>
        <p:spPr>
          <a:xfrm>
            <a:off x="571680" y="1357200"/>
            <a:ext cx="8001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楷体"/>
                <a:ea typeface="华文楷体"/>
              </a:rPr>
              <a:t>隐匿    不可擅动     谨 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楷体"/>
                <a:ea typeface="华文楷体"/>
              </a:rPr>
              <a:t>丞相    彼此   玄机   擒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29"/>
          <p:cNvSpPr/>
          <p:nvPr/>
        </p:nvSpPr>
        <p:spPr>
          <a:xfrm>
            <a:off x="3322800" y="1236600"/>
            <a:ext cx="149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sh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29"/>
          <p:cNvSpPr/>
          <p:nvPr/>
        </p:nvSpPr>
        <p:spPr>
          <a:xfrm>
            <a:off x="5178600" y="12222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jǐn shè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29"/>
          <p:cNvSpPr/>
          <p:nvPr/>
        </p:nvSpPr>
        <p:spPr>
          <a:xfrm>
            <a:off x="496800" y="2500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ch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29"/>
          <p:cNvSpPr/>
          <p:nvPr/>
        </p:nvSpPr>
        <p:spPr>
          <a:xfrm>
            <a:off x="2470320" y="25495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29"/>
          <p:cNvSpPr/>
          <p:nvPr/>
        </p:nvSpPr>
        <p:spPr>
          <a:xfrm>
            <a:off x="4135320" y="247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xu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9"/>
          <p:cNvSpPr/>
          <p:nvPr/>
        </p:nvSpPr>
        <p:spPr>
          <a:xfrm>
            <a:off x="5364000" y="241920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q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>
            <a:hlinkClick r:id="rId2" action="ppaction://hlinksldjump"/>
          </p:cNvPr>
          <p:cNvSpPr/>
          <p:nvPr/>
        </p:nvSpPr>
        <p:spPr>
          <a:xfrm>
            <a:off x="500040" y="4429080"/>
            <a:ext cx="8001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2268"/>
                </a:solidFill>
                <a:latin typeface="Arial"/>
              </a:rPr>
              <a:t>蜂拥而来    尽皆失色      笑容可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2268"/>
                </a:solidFill>
                <a:latin typeface="Arial"/>
              </a:rPr>
              <a:t>抚掌而笑    无不骇然      神鬼莫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29"/>
          <p:cNvSpPr/>
          <p:nvPr/>
        </p:nvSpPr>
        <p:spPr>
          <a:xfrm>
            <a:off x="1231920" y="130320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n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32144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复述故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1" action="ppaction://hlinksldjump"/>
          </p:cNvPr>
          <p:cNvSpPr/>
          <p:nvPr/>
        </p:nvSpPr>
        <p:spPr>
          <a:xfrm>
            <a:off x="1312560" y="1714680"/>
            <a:ext cx="24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空城计的原因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>
            <a:hlinkClick r:id="rId2" action="ppaction://hlinksldjump"/>
          </p:cNvPr>
          <p:cNvSpPr/>
          <p:nvPr/>
        </p:nvSpPr>
        <p:spPr>
          <a:xfrm>
            <a:off x="571680" y="30718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空城计的经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>
            <a:hlinkClick r:id="rId3" action="ppaction://hlinksldjump"/>
          </p:cNvPr>
          <p:cNvSpPr/>
          <p:nvPr/>
        </p:nvSpPr>
        <p:spPr>
          <a:xfrm>
            <a:off x="1312560" y="4500720"/>
            <a:ext cx="24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空城计的结果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143240" y="171468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黑体"/>
              </a:rPr>
              <a:t>兵临西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143240" y="3071880"/>
            <a:ext cx="28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黑体"/>
              </a:rPr>
              <a:t>临危施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6500880" y="307188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黑体"/>
              </a:rPr>
              <a:t>司马中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357800" y="45007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黑体"/>
              </a:rPr>
              <a:t>孔明释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117360"/>
            <a:ext cx="357192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导学提示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42960" y="1214280"/>
            <a:ext cx="7643880" cy="23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262626"/>
                </a:solidFill>
                <a:latin typeface="Arial"/>
              </a:rPr>
              <a:t>再读课文，找出描写诸葛亮的句子，说说你体会到了什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出描写其他人物的句子，说说你体会到了什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说出“空城计”成功的原因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能说说你学了本课的收获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2680" y="1857240"/>
            <a:ext cx="71391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采用对比描写，突出人物性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zhuyi"/>
          <p:cNvPicPr/>
          <p:nvPr/>
        </p:nvPicPr>
        <p:blipFill>
          <a:blip r:embed="rId2"/>
          <a:stretch/>
        </p:blipFill>
        <p:spPr>
          <a:xfrm>
            <a:off x="928800" y="18572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zhuyi"/>
          <p:cNvPicPr/>
          <p:nvPr/>
        </p:nvPicPr>
        <p:blipFill>
          <a:blip r:embed="rId3"/>
          <a:stretch/>
        </p:blipFill>
        <p:spPr>
          <a:xfrm>
            <a:off x="928800" y="34290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zhuyi"/>
          <p:cNvPicPr/>
          <p:nvPr/>
        </p:nvPicPr>
        <p:blipFill>
          <a:blip r:embed="rId4"/>
          <a:stretch/>
        </p:blipFill>
        <p:spPr>
          <a:xfrm>
            <a:off x="928800" y="50007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1643040" y="3357720"/>
            <a:ext cx="71391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抓住人物动作、神态来描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突出人物性格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643040" y="4929120"/>
            <a:ext cx="7139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遇到问题要沉着冷静想办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428480" y="4429080"/>
            <a:ext cx="17859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诸葛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adaf2edda3cc7cd9e1e50c4d3901213fb90e915d"/>
          <p:cNvPicPr/>
          <p:nvPr/>
        </p:nvPicPr>
        <p:blipFill>
          <a:blip r:embed="rId1"/>
          <a:stretch/>
        </p:blipFill>
        <p:spPr>
          <a:xfrm>
            <a:off x="428760" y="357120"/>
            <a:ext cx="3929040" cy="3929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ADMINI~1\appdata\roaming\360se6\USERDA~1\Temp\T0160B~1.JPG"/>
          <p:cNvPicPr/>
          <p:nvPr/>
        </p:nvPicPr>
        <p:blipFill>
          <a:blip r:embed="rId2"/>
          <a:stretch/>
        </p:blipFill>
        <p:spPr>
          <a:xfrm>
            <a:off x="4714920" y="357120"/>
            <a:ext cx="4024440" cy="3929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6143760" y="4429080"/>
            <a:ext cx="1785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司马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428840" y="5214960"/>
            <a:ext cx="6000840" cy="1214280"/>
          </a:xfrm>
          <a:prstGeom prst="rect">
            <a:avLst/>
          </a:prstGeom>
          <a:solidFill>
            <a:srgbClr val="badde1"/>
          </a:solidFill>
          <a:ln w="93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你能分别用两个词语说出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们的个性品质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71680" y="5214960"/>
            <a:ext cx="4000320" cy="1214280"/>
          </a:xfrm>
          <a:prstGeom prst="rect">
            <a:avLst/>
          </a:prstGeom>
          <a:solidFill>
            <a:srgbClr val="badde1"/>
          </a:solidFill>
          <a:ln w="93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神机妙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沉着冷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572000" y="5214960"/>
            <a:ext cx="4000680" cy="1214280"/>
          </a:xfrm>
          <a:prstGeom prst="rect">
            <a:avLst/>
          </a:prstGeom>
          <a:solidFill>
            <a:srgbClr val="badde1"/>
          </a:solidFill>
          <a:ln w="93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狡诈多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刚愎自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5:23:04Z</dcterms:created>
  <dc:creator/>
  <dc:description/>
  <dc:language>en-US</dc:language>
  <cp:lastModifiedBy>Administrator</cp:lastModifiedBy>
  <dcterms:modified xsi:type="dcterms:W3CDTF">2016-12-12T03:34:15Z</dcterms:modified>
  <cp:revision>1</cp:revision>
  <dc:subject/>
  <dc:title/>
</cp:coreProperties>
</file>