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C9C-BE2C-4E17-82E0-C358B91E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704-F0E1-4924-B4B4-A259257A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020-1C53-4685-92F8-25E1F291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024-25D3-41B8-9FC9-F9F08DF2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254-D537-4AF5-BD7A-B02CFBC1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C6C-2AB1-482F-BC4A-3B07BFD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600-A816-40FD-9B71-AD938C5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804-8562-4A3D-B50B-DDB77E3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51E-D2F0-4A6B-9DA7-803C1977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967-33FD-468C-82D5-24278245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A3B-D7A6-4048-A453-02F9749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8A0-09B6-485D-BB40-1DC5F128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7358-50D6-4A02-82D8-8DEA909677D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13129" r="0" b="0"/>
          <a:stretch/>
        </p:blipFill>
        <p:spPr>
          <a:xfrm>
            <a:off x="0" y="-27000"/>
            <a:ext cx="9144000" cy="714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13129" r="0" b="0"/>
          <a:stretch/>
        </p:blipFill>
        <p:spPr>
          <a:xfrm>
            <a:off x="0" y="-27000"/>
            <a:ext cx="9144000" cy="7148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2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516720" y="3332160"/>
            <a:ext cx="24843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3" descr=""/>
          <p:cNvPicPr/>
          <p:nvPr/>
        </p:nvPicPr>
        <p:blipFill>
          <a:blip r:embed="rId2"/>
          <a:stretch/>
        </p:blipFill>
        <p:spPr>
          <a:xfrm>
            <a:off x="1262160" y="689040"/>
            <a:ext cx="65228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-360" y="18864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这是一种多么可怕的刑罚呀！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普罗米修斯被沉重的铁链锁在高加索山的悬崖峭壁上，双手和双脚都戴上了铁环。时间久了，他的胳膊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；他的手腕和脚腕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。在那里，他无遮无盖，遭受着日晒雨淋。烈日炎炎的酷暑，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；滴水成冰的寒冬，</a:t>
            </a:r>
            <a:r>
              <a:rPr b="1" lang="zh-CN" sz="3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。每天，凶恶的鹫鹰用尖利的嘴巴啄吃他的肝脏，每啄一下，他</a:t>
            </a:r>
            <a:r>
              <a:rPr b="1" lang="en-US" sz="3400" spc="-1" strike="noStrike">
                <a:solidFill>
                  <a:srgbClr val="0000ff"/>
                </a:solidFill>
                <a:latin typeface="黑体"/>
                <a:ea typeface="黑体"/>
              </a:rPr>
              <a:t>__________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。一年又一年，一个世纪又一个世纪，他</a:t>
            </a:r>
            <a:r>
              <a:rPr b="1" lang="en-US" sz="3400" spc="-1" strike="noStrike">
                <a:solidFill>
                  <a:srgbClr val="0000ff"/>
                </a:solidFill>
                <a:latin typeface="黑体"/>
                <a:ea typeface="黑体"/>
              </a:rPr>
              <a:t>__________,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更</a:t>
            </a:r>
            <a:r>
              <a:rPr b="1" lang="en-US" sz="3400" spc="-1" strike="noStrike">
                <a:solidFill>
                  <a:srgbClr val="0000ff"/>
                </a:solidFill>
                <a:latin typeface="黑体"/>
                <a:ea typeface="黑体"/>
              </a:rPr>
              <a:t>______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340000" y="59500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勇敢、顽强、坚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419640" y="3499920"/>
            <a:ext cx="5122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为了造福人类，给人类带去火种，普罗米修斯敢于违抗宙斯意愿，甘愿忍受一切酷刑。所以我们把他称为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偷火的英雄。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普罗米修斯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211640" y="29145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普罗米修斯，这个从天上偷取火种的英雄，终于获得了自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659640" y="3260880"/>
            <a:ext cx="1295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                  </a:t>
            </a: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主题解说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412640"/>
            <a:ext cx="91440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本文写了普罗米修斯为了解除人类没有火种的困苦，不惜触犯天规，勇敢的盗取天火，从而给人类带来光明和智慧，并与宙斯进行不屈不挠斗争的动人传说，颂扬了普罗米俢斯不畏强暴，不怕牺牲，为民造福的伟大精神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太阳神阿波罗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611280" y="3141720"/>
            <a:ext cx="2442960" cy="3571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656160" y="1916280"/>
            <a:ext cx="55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普罗米修斯，这位为了人类的希望与文明而甘愿献身的英雄获救了。普罗米修斯是希腊神话中的一个神的形象。而在我们真正的人类世界，在各个领域，也有许多人被我们敬呼为普罗米修斯式的英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普罗米修斯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1928880" y="2925720"/>
            <a:ext cx="2555640" cy="3932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4464000" y="69228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用几句话写写他们被称为“普罗米修斯式的英雄”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70480" y="23860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实，他们为了普及真理，为了传递希望，为了播撒文明的火种甘愿忍受各种煎熬，甚至付出生命，他们就是我们心中的普罗米修斯。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17200"/>
            <a:ext cx="363528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熟悉生字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zh-CN" sz="4100" spc="-1" strike="noStrike">
                <a:solidFill>
                  <a:srgbClr val="000000"/>
                </a:solidFill>
                <a:latin typeface="Calibri"/>
              </a:rPr>
              <a:t>茴                  篝                  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4100" spc="-1" strike="noStrike">
                <a:solidFill>
                  <a:srgbClr val="000000"/>
                </a:solidFill>
                <a:latin typeface="Calibri"/>
              </a:rPr>
              <a:t>鹫                 肝               脏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82760" y="194796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851280" y="1844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748560" y="1738440"/>
            <a:ext cx="11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384200" y="3789360"/>
            <a:ext cx="9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68760" y="3708360"/>
            <a:ext cx="11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867280" y="3703680"/>
            <a:ext cx="18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20890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     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多音字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96660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Calibri"/>
              </a:rPr>
              <a:t>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Calibri"/>
              </a:rPr>
              <a:t>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Calibri"/>
              </a:rPr>
              <a:t>奇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3640" y="143028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042920" y="391968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240160" y="1182600"/>
            <a:ext cx="648000" cy="2016360"/>
          </a:xfrm>
          <a:custGeom>
            <a:avLst/>
            <a:gdLst>
              <a:gd name="textAreaLeft" fmla="*/ 414000 w 648000"/>
              <a:gd name="textAreaRight" fmla="*/ 648000 w 648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1320" y="11556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112760" y="207324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363680" y="367344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384200" y="4645080"/>
            <a:ext cx="11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869080" y="915840"/>
            <a:ext cx="11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840280" y="16495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840280" y="24652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284560" y="1246320"/>
            <a:ext cx="19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脏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409840" y="21240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肝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087640" y="372420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奇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089080" y="466884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865920" y="915840"/>
            <a:ext cx="17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折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6865920" y="162576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折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6880320" y="2417760"/>
            <a:ext cx="14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折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4920" y="404640"/>
            <a:ext cx="806436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普罗米修斯：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在希腊神话中，人类是普罗米修斯创造的。他也充当了人类的老师，凡是对人有用的，能够使人类满意和幸福的，他都教给他们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宙斯：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希腊神话中的主神。威力无比，能随意降祸赐福，并掌管雷电云雨，是各种神和人类的主宰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阿波罗：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阿波罗是宙斯的儿子，他光明磊落，是光明之神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400" spc="-1" strike="noStrike">
                <a:solidFill>
                  <a:srgbClr val="0000ff"/>
                </a:solidFill>
                <a:latin typeface="黑体"/>
                <a:ea typeface="黑体"/>
              </a:rPr>
              <a:t>海格立斯：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大力神海格立斯是神主宙斯的儿子，他曾创立过</a:t>
            </a:r>
            <a:r>
              <a:rPr b="1" lang="en-US" sz="3400" spc="-1" strike="noStrike">
                <a:solidFill>
                  <a:srgbClr val="ff3300"/>
                </a:solidFill>
                <a:latin typeface="黑体"/>
                <a:ea typeface="黑体"/>
              </a:rPr>
              <a:t>12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项英雄业绩。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06720" y="3419640"/>
            <a:ext cx="4426200" cy="459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0kwct02"/>
          <p:cNvPicPr/>
          <p:nvPr/>
        </p:nvPicPr>
        <p:blipFill>
          <a:blip r:embed="rId2"/>
          <a:stretch/>
        </p:blipFill>
        <p:spPr>
          <a:xfrm>
            <a:off x="3597120" y="401760"/>
            <a:ext cx="2822760" cy="587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20057214601"/>
          <p:cNvPicPr/>
          <p:nvPr/>
        </p:nvPicPr>
        <p:blipFill>
          <a:blip r:embed="rId3"/>
          <a:stretch/>
        </p:blipFill>
        <p:spPr>
          <a:xfrm>
            <a:off x="682560" y="1792440"/>
            <a:ext cx="2737080" cy="707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476360" y="55767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偷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785560" y="1484280"/>
            <a:ext cx="1399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受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761080" y="56912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获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被缚的普罗米修斯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6464160" y="3278160"/>
            <a:ext cx="2679840" cy="3573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250920" y="105264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很久很久以前，普罗米修斯看到人类没有火，为了把火种传播给人类，向宙斯求火，被拒绝后偷取了火种，遭到了宙斯的惩罚。普罗米修斯终于被海格立斯搭救，获得了自由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893960" y="1224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简要概括故事的主要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普罗米修斯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4788000" y="6127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那时，地面上还没有火。真的，连一丁点火星也没有。人类没有火烧烤食物，就只好吃生的东西；没有火照明，就蜷缩在山洞里，熬过一个又一个漫漫长夜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给，一丁点火星也不给！”宙斯说，“让他们发抖吧，让他们像野兽一样生活吧！只有这样，我们神才能昌盛，才能幸福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3141720"/>
            <a:ext cx="8280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因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_____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因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_____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所以普罗米修斯要偷火种，从中我认为他是一个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687120" y="306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地面上没有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079440" y="378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宙斯不赐火给人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20720" y="5157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善良、仁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普罗米修斯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716360" y="16178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自从有了火，人类进步多了。他们用火烧煮食物；用火驱寒取暖；用火打造工具；还用火驱赶野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2T03:19:33Z</dcterms:modified>
  <cp:revision>2</cp:revision>
  <dc:subject/>
  <dc:title/>
</cp:coreProperties>
</file>