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173-6441-42E0-95C8-0FC03F35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964-AA15-46ED-8616-D7B6152E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A04-06CB-4692-8F8F-61DCB84E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BB5-1C63-4432-ABFA-6811A24B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61B-D644-4B2A-82B2-217C368B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D09-FEA4-4C97-8C4C-64A83704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F6A-89CA-4989-895C-1B5F6D99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9F6-8FAE-4C50-ACA5-23A52CA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673-D126-47E1-AEF9-80FACF7A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C4F-7F58-48EE-9BF5-0C5A588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36C-DA10-4EE3-AB24-16AB0FC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223-A7C7-409F-B558-4C4FC2A3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E6C-E098-4BBD-B93C-6F286B4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AE0-4762-46A3-A800-29658B4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28-3288-416A-859B-EC1BF19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E2F-8388-41A0-A1A3-B1AA1E4256F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rcRect l="2750" t="4643" r="3694" b="8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50920" y="1844640"/>
            <a:ext cx="94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隶书"/>
              </a:rPr>
              <a:t>　</a:t>
            </a:r>
            <a:r>
              <a:rPr b="1" lang="zh-CN" sz="8800" spc="-1" strike="noStrike">
                <a:solidFill>
                  <a:srgbClr val="663300"/>
                </a:solidFill>
                <a:latin typeface="Times New Roman"/>
                <a:ea typeface="黑体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渔夫和金鱼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2" descr="125"/>
          <p:cNvPicPr/>
          <p:nvPr/>
        </p:nvPicPr>
        <p:blipFill>
          <a:blip r:embed="rId1"/>
          <a:stretch/>
        </p:blipFill>
        <p:spPr>
          <a:xfrm>
            <a:off x="-27000" y="3068640"/>
            <a:ext cx="35449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981080" y="126828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908000" y="171288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鞭挞了那些凶狠贪婪企图不劳而获的人。启示我们：美好的生活只靠辛勤的劳动获取，不能依赖别人的恩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333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拓展延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分小组或自由组合剧组，表演课文内容。（在尊重原作基础上，可增加细节，创造情节。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课外阅读古典诗歌名著，制作读书卡片，为本单元综合性学习作准备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5280" y="692280"/>
            <a:ext cx="8939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学习目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把握故事内容，体会作者表达的思想感情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能对故事中的主人公发表自己的看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联系生活，把握主题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916360" y="326880"/>
            <a:ext cx="42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泛读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360440" y="2924280"/>
            <a:ext cx="64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“～～”划出大海变化的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360440" y="1417680"/>
            <a:ext cx="64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标出老太婆提出要求的句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360440" y="4365720"/>
            <a:ext cx="64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标出老太婆态度变化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549360"/>
            <a:ext cx="86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太婆一次次要老头儿向小金鱼提出的要求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47640" y="27464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要只木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936880" y="30877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046400" y="3544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875640" y="3279600"/>
            <a:ext cx="990360" cy="138240"/>
          </a:xfrm>
          <a:prstGeom prst="rightArrow">
            <a:avLst>
              <a:gd name="adj1" fmla="val 50000"/>
              <a:gd name="adj2" fmla="val 1791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3132000" y="47736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879480" y="5135400"/>
            <a:ext cx="19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4275000" y="5135400"/>
            <a:ext cx="35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851280" y="27828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要座木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47640" y="434664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做贵妇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4046400" y="430056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当海上的女霸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382760" y="633240"/>
            <a:ext cx="66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头每次去海边，海水的变化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68520" y="1800360"/>
            <a:ext cx="53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大海在轻微地起着波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824040" y="4789440"/>
            <a:ext cx="1116000" cy="152280"/>
          </a:xfrm>
          <a:prstGeom prst="rightArrow">
            <a:avLst>
              <a:gd name="adj1" fmla="val 50000"/>
              <a:gd name="adj2" fmla="val 1832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900000" y="3852720"/>
            <a:ext cx="1022400" cy="152640"/>
          </a:xfrm>
          <a:prstGeom prst="rightArrow">
            <a:avLst>
              <a:gd name="adj1" fmla="val 50000"/>
              <a:gd name="adj2" fmla="val 1674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2484360" y="4221000"/>
            <a:ext cx="540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917640" y="2989440"/>
            <a:ext cx="1022400" cy="152280"/>
          </a:xfrm>
          <a:prstGeom prst="rightArrow">
            <a:avLst>
              <a:gd name="adj1" fmla="val 50000"/>
              <a:gd name="adj2" fmla="val 16784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2556000" y="33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84360" y="265572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蔚蓝的海水发起浑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08000" y="5248440"/>
            <a:ext cx="93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激怒的波涛翻动着，在奔腾，在狂吼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2484360" y="3519360"/>
            <a:ext cx="54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蔚蓝的海水不安静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2560680" y="515772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252360" y="595008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2408400" y="4456080"/>
            <a:ext cx="65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海面上起了黑色的大风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3635280" y="98100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N_183"/>
          <p:cNvPicPr/>
          <p:nvPr/>
        </p:nvPicPr>
        <p:blipFill>
          <a:blip r:embed="rId1"/>
          <a:stretch/>
        </p:blipFill>
        <p:spPr>
          <a:xfrm>
            <a:off x="581040" y="588960"/>
            <a:ext cx="1940040" cy="183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276720" y="981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706840" y="627120"/>
            <a:ext cx="59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宋体"/>
              </a:rPr>
              <a:t>老太婆态度的变化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35280" y="2359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指着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541600" y="3654360"/>
            <a:ext cx="1022400" cy="152640"/>
          </a:xfrm>
          <a:prstGeom prst="rightArrow">
            <a:avLst>
              <a:gd name="adj1" fmla="val 50000"/>
              <a:gd name="adj2" fmla="val 1674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5437080" y="3654360"/>
            <a:ext cx="1022400" cy="152640"/>
          </a:xfrm>
          <a:prstGeom prst="rightArrow">
            <a:avLst>
              <a:gd name="adj1" fmla="val 50000"/>
              <a:gd name="adj2" fmla="val 1674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4500720" y="2655720"/>
            <a:ext cx="1022040" cy="152640"/>
          </a:xfrm>
          <a:prstGeom prst="rightArrow">
            <a:avLst>
              <a:gd name="adj1" fmla="val 50000"/>
              <a:gd name="adj2" fmla="val 1673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580000" y="30700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435640" y="23684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骂得更厉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568680" y="3286080"/>
            <a:ext cx="19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破口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3706920" y="400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6580080" y="4005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459480" y="330372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发脾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66560" y="1484280"/>
            <a:ext cx="792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｛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58920" y="126828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要新木盆  指着骂  微起波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25892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要木房子  更厉害  发起浑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58920" y="3213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做贵夫人  破口骂  翻动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258920" y="422100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做海上女王 发脾气 掀黑大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奔腾狂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7453440" y="1484280"/>
            <a:ext cx="8636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｝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N_183"/>
          <p:cNvPicPr/>
          <p:nvPr/>
        </p:nvPicPr>
        <p:blipFill>
          <a:blip r:embed="rId1"/>
          <a:stretch/>
        </p:blipFill>
        <p:spPr>
          <a:xfrm>
            <a:off x="3352680" y="3213000"/>
            <a:ext cx="1798920" cy="1703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539640" y="723960"/>
            <a:ext cx="2133720" cy="2057400"/>
          </a:xfrm>
          <a:prstGeom prst="cloudCallout">
            <a:avLst>
              <a:gd name="adj1" fmla="val 85787"/>
              <a:gd name="adj2" fmla="val 8449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352680" y="210960"/>
            <a:ext cx="2438640" cy="1676520"/>
          </a:xfrm>
          <a:prstGeom prst="cloudCallout">
            <a:avLst>
              <a:gd name="adj1" fmla="val -12046"/>
              <a:gd name="adj2" fmla="val 123578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089760" y="1125360"/>
            <a:ext cx="2514600" cy="2210040"/>
          </a:xfrm>
          <a:prstGeom prst="cloudCallout">
            <a:avLst>
              <a:gd name="adj1" fmla="val -78726"/>
              <a:gd name="adj2" fmla="val 620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55640" y="1295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渔 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09880" y="533520"/>
            <a:ext cx="17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金 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443640" y="18874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老太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352680" y="48020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b92"/>
                </a:solidFill>
                <a:latin typeface="Arial"/>
                <a:ea typeface="黑体"/>
              </a:rPr>
              <a:t>我会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87280" y="170028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这个故事告诉我们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4:50:50Z</dcterms:created>
  <dc:creator/>
  <dc:description/>
  <dc:language>en-US</dc:language>
  <cp:lastModifiedBy>Administrator</cp:lastModifiedBy>
  <dcterms:modified xsi:type="dcterms:W3CDTF">2016-12-12T03:08:53Z</dcterms:modified>
  <cp:revision>3</cp:revision>
  <dc:subject/>
  <dc:title/>
</cp:coreProperties>
</file>