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CFA-8CCA-4FE4-B389-99CE2A95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017-23A1-431F-816A-21351F1E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906-F73B-4329-9CB1-DD5FFDDE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B8A-1253-4A20-8F88-54CC48A5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D54-B2E5-4A4A-8320-143D143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3EE-DC2A-4643-B2AD-D4DFDD4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D09-BD99-4DB3-8C62-349E4474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D81-D297-42B7-B231-727ECFE5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86D-5B33-4461-980B-92C58735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E7A-FB3D-423C-B31C-C926A48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C21-0B14-4E47-ABB4-8DC3289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C51-4134-4431-B87E-B04663B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8A4B-E975-4765-8D0C-6E090BBC552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403280" y="148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方正楷体_GBK"/>
                <a:ea typeface="方正楷体_GBK"/>
              </a:rPr>
              <a:t>寻找幸运花瓣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403280" y="450864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468360" y="285264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向伙伴介绍一下自己幸运的经历</a:t>
            </a: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拓展学习"/>
          <p:cNvPicPr/>
          <p:nvPr/>
        </p:nvPicPr>
        <p:blipFill>
          <a:blip r:embed="rId1"/>
          <a:stretch/>
        </p:blipFill>
        <p:spPr>
          <a:xfrm>
            <a:off x="1619280" y="744480"/>
            <a:ext cx="3367080" cy="83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5640" y="155736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楷体_GBK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主学会本课的生字，书写行款整齐，有一定的速度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联系上下文和自己的积累，理解课文中有关词句的意思，感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幸运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的内涵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424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作者简介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59280" y="1699920"/>
            <a:ext cx="58305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金波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原名王金波。河北衡水人。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61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毕业于北京师范学院中文系。历任首都师范大学教授，中国作协儿童文学委员会委员，北京市作协理事，儿童文学创作委员会主任。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57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开始发表作品。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79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加入中国作家协会。著有诗集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回声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我的雪人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绿色的太阳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我们去看海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方正楷体_GBK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金波十四行儿童诗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等，童话集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树叶童话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苹果小人儿的奇遇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眼睛树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等，散文集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等你敲门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感谢往事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评论集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追寻小精灵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等，歌词集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林中的鸟声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金波诗词歌曲集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选集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金波儿童诗选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金波作品精选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等。其作品曾获国家图书奖及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方正楷体_GBK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五个一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方正楷体_GBK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工程奖、中国作协全国优秀儿童文学奖、宋庆龄儿童文学奖及</a:t>
            </a:r>
            <a:r>
              <a:rPr b="1" lang="en-US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92</a:t>
            </a:r>
            <a:r>
              <a:rPr b="1" lang="zh-CN" sz="2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国际安徒生奖提名等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4509金波"/>
          <p:cNvPicPr/>
          <p:nvPr/>
        </p:nvPicPr>
        <p:blipFill>
          <a:blip r:embed="rId1"/>
          <a:stretch/>
        </p:blipFill>
        <p:spPr>
          <a:xfrm>
            <a:off x="523800" y="1878120"/>
            <a:ext cx="2841840" cy="789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丁香花2"/>
          <p:cNvPicPr/>
          <p:nvPr/>
        </p:nvPicPr>
        <p:blipFill>
          <a:blip r:embed="rId1"/>
          <a:stretch/>
        </p:blipFill>
        <p:spPr>
          <a:xfrm>
            <a:off x="195120" y="1371600"/>
            <a:ext cx="3998880" cy="3187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635280" y="442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1f4e79"/>
                </a:solidFill>
                <a:latin typeface="Times New Roman"/>
                <a:ea typeface="华文行楷"/>
              </a:rPr>
              <a:t>丁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丁香花3"/>
          <p:cNvPicPr/>
          <p:nvPr/>
        </p:nvPicPr>
        <p:blipFill>
          <a:blip r:embed="rId2"/>
          <a:stretch/>
        </p:blipFill>
        <p:spPr>
          <a:xfrm>
            <a:off x="901800" y="3700440"/>
            <a:ext cx="4260600" cy="346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丁香花4"/>
          <p:cNvPicPr/>
          <p:nvPr/>
        </p:nvPicPr>
        <p:blipFill>
          <a:blip r:embed="rId3"/>
          <a:stretch/>
        </p:blipFill>
        <p:spPr>
          <a:xfrm>
            <a:off x="5089680" y="1170000"/>
            <a:ext cx="3816360" cy="314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丁香花5"/>
          <p:cNvPicPr/>
          <p:nvPr/>
        </p:nvPicPr>
        <p:blipFill>
          <a:blip r:embed="rId4"/>
          <a:stretch/>
        </p:blipFill>
        <p:spPr>
          <a:xfrm>
            <a:off x="5443560" y="3511440"/>
            <a:ext cx="3743280" cy="317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41200" y="2717280"/>
            <a:ext cx="74689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兴致勃勃     专心致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情不自禁     乐此不疲茫然   回味    诧异    体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读一读"/>
          <p:cNvPicPr/>
          <p:nvPr/>
        </p:nvPicPr>
        <p:blipFill>
          <a:blip r:embed="rId1"/>
          <a:stretch/>
        </p:blipFill>
        <p:spPr>
          <a:xfrm>
            <a:off x="1187280" y="189000"/>
            <a:ext cx="211464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88840" y="23194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</a:t>
            </a:r>
            <a:r>
              <a:rPr b="1" lang="en-US" sz="2800" spc="-1" strike="noStrike">
                <a:solidFill>
                  <a:srgbClr val="1f4e7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1f4e79"/>
                </a:solidFill>
                <a:latin typeface="宋体"/>
              </a:rPr>
              <a:t>读文：课文主要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00000" y="3044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e79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1f4e79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1f4e79"/>
                </a:solidFill>
                <a:latin typeface="宋体"/>
              </a:rPr>
              <a:t>为什么去找幸运花瓣？去找了几次？分别去了哪里？结果怎样？“我”的感受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611280" y="260280"/>
            <a:ext cx="3240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提示一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76712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55640" y="429264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1f4e79"/>
                </a:solidFill>
                <a:latin typeface="宋体"/>
              </a:rPr>
              <a:t>描写一名小学生锲而不舍地寻找幸运花瓣</a:t>
            </a:r>
            <a:r>
              <a:rPr b="1" lang="en-US" sz="2800" spc="-1" strike="noStrike">
                <a:solidFill>
                  <a:srgbClr val="1f4e79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1f4e79"/>
                </a:solidFill>
                <a:latin typeface="宋体"/>
              </a:rPr>
              <a:t>五瓣丁香，最后终于如愿以偿的故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9144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谁若能找到五个花瓣儿的丁香，谁就会得到幸运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4419720" y="2971800"/>
            <a:ext cx="761760" cy="2057400"/>
          </a:xfrm>
          <a:prstGeom prst="downArrow">
            <a:avLst>
              <a:gd name="adj1" fmla="val 50000"/>
              <a:gd name="adj2" fmla="val 6752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438280" y="48769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寻找幸运花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u=439771375,1423342372&amp;gp=0"/>
          <p:cNvPicPr/>
          <p:nvPr/>
        </p:nvPicPr>
        <p:blipFill>
          <a:blip r:embed="rId1"/>
          <a:stretch/>
        </p:blipFill>
        <p:spPr>
          <a:xfrm>
            <a:off x="6248520" y="27432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7315200" y="4800600"/>
            <a:ext cx="914400" cy="762120"/>
          </a:xfrm>
          <a:custGeom>
            <a:avLst/>
            <a:gdLst>
              <a:gd name="textAreaLeft" fmla="*/ 0 w 914400"/>
              <a:gd name="textAreaRight" fmla="*/ 783720 w 914400"/>
              <a:gd name="textAreaTop" fmla="*/ 50832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191628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e79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1f4e79"/>
                </a:solidFill>
                <a:latin typeface="宋体"/>
              </a:rPr>
              <a:t>课文从哪里到哪里具体描写了我寻找幸运花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00000" y="342900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e79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1f4e79"/>
                </a:solidFill>
                <a:latin typeface="宋体"/>
              </a:rPr>
              <a:t>找出“我”寻找五瓣丁香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00000" y="4149720"/>
            <a:ext cx="73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e7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1f4e79"/>
                </a:solidFill>
                <a:latin typeface="宋体"/>
              </a:rPr>
              <a:t>读课文最后两节，作者找没找到幸运？谈谈对幸运的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寻找幸运花瓣儿.wma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900000" y="0"/>
            <a:ext cx="2808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学提示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9199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100" spc="-1" strike="noStrike">
                <a:solidFill>
                  <a:srgbClr val="1f4e79"/>
                </a:solidFill>
                <a:latin typeface="宋体"/>
              </a:rPr>
              <a:t>感悟升华</a:t>
            </a:r>
            <a:r>
              <a:rPr b="0" lang="zh-CN" sz="2400" spc="-1" strike="noStrike">
                <a:solidFill>
                  <a:srgbClr val="1f4e7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1f4e79"/>
                </a:solidFill>
                <a:latin typeface="宋体"/>
              </a:rPr>
              <a:t>在作者的眼里，“幸运”指的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1f4e79"/>
                </a:solidFill>
                <a:latin typeface="宋体"/>
              </a:rPr>
              <a:t>作者虽没找到幸运，但却体验到了寻找幸运的快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4e79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1f4e79"/>
                </a:solidFill>
                <a:latin typeface="宋体"/>
              </a:rPr>
              <a:t>幸运源于新的发现，是一种心灵感受；一个人通过自己的力量将希望变成现实，那就是幸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1f4e79"/>
                </a:solidFill>
                <a:latin typeface="宋体"/>
              </a:rPr>
              <a:t>在你的眼里，“幸运”又指的是什么呢？让学生各抒己见，教师注意积极、正确地引导。</a:t>
            </a:r>
            <a:r>
              <a:rPr b="1" lang="zh-CN" sz="24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5:09:30Z</dcterms:created>
  <dc:creator/>
  <dc:description/>
  <dc:language>en-US</dc:language>
  <cp:lastModifiedBy>Administrator</cp:lastModifiedBy>
  <dcterms:modified xsi:type="dcterms:W3CDTF">2016-12-12T03:50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