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05F-7A72-4882-9DBA-96973F72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5DB-E000-4E6F-BEDA-6BF405E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172-447B-4F78-8D77-BA4618E4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9D8A-716A-46E8-9858-E90692FF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7BD-F034-461A-BB3B-0C8121D5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2B3-92E5-48C2-9C66-E060827F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86F-47CD-4EE6-9E56-25234E8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4E0-78C3-48A0-8C25-B73CF9B2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06B-9B0A-46C9-A09A-8C84DB21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AF7-6673-4BBC-9BBB-572F280B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5BD-A31F-4C82-84CA-CC8D0346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1B2-48B0-413F-BF99-222E7FE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778A-2555-4AA3-8D18-5F2C2C95E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1523880" y="11430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63868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mcurie-port.jpg (15561 bytes)"/>
          <p:cNvPicPr/>
          <p:nvPr/>
        </p:nvPicPr>
        <p:blipFill>
          <a:blip r:embed="rId1"/>
          <a:stretch/>
        </p:blipFill>
        <p:spPr>
          <a:xfrm>
            <a:off x="4340160" y="981000"/>
            <a:ext cx="3183120" cy="8869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254240" y="380880"/>
            <a:ext cx="850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的信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487240" y="4267080"/>
            <a:ext cx="7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居里夫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0"/>
            <a:ext cx="914400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  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“或许是因为某种力量在鞭策着我”中的“某种力量”指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“我们都认为不能违背我们纯粹研究的观念”中“纯粹研究观念”指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“人类需要讲究现实的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梦想家”中“讲究现实的人”指什么？文中“梦想家”最基本的特征是什么？从哪一件事上可看出作者就是这样的“梦想家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为什么作者说科学家也应当是“一个小孩”？这反映了作者怎样的心态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68360" y="3254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五、总结：居里夫人的人格美表现在哪些地方？她取得的巨大成就于她的性格特点有哪些联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8280" y="1784520"/>
            <a:ext cx="1155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里夫人的人格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371600" y="1936800"/>
            <a:ext cx="533520" cy="30481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828800" y="30798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足够的兴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791320" y="2013120"/>
            <a:ext cx="304560" cy="2895480"/>
          </a:xfrm>
          <a:custGeom>
            <a:avLst/>
            <a:gdLst>
              <a:gd name="textAreaLeft" fmla="*/ 0 w 304560"/>
              <a:gd name="textAreaRight" fmla="*/ 109800 w 3045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19920" y="30798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功的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905120" y="17082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毅力、有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905120" y="4527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为名利所诱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04920" y="2286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六、作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练习一、练习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26" descr="2290"/>
          <p:cNvPicPr/>
          <p:nvPr/>
        </p:nvPicPr>
        <p:blipFill>
          <a:blip r:embed="rId1"/>
          <a:stretch/>
        </p:blipFill>
        <p:spPr>
          <a:xfrm>
            <a:off x="884160" y="262080"/>
            <a:ext cx="2700360" cy="70768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7"/>
          <p:cNvSpPr/>
          <p:nvPr/>
        </p:nvSpPr>
        <p:spPr>
          <a:xfrm>
            <a:off x="4284720" y="263520"/>
            <a:ext cx="4572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居里夫人简介：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6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出生于波兰华沙的一个知识分子家庭。母亲早逝。父亲是教授，由于政治上的原因不得担任任何有薪俸的教职。由于家境贫寒，为了支持二姐去法国求学，玛丽中学毕业后便不得不去做家教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9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，玛丽获得了亚力山德罗维奇奖学金，靠着这笔奖学金，她只身来到巴黎理学院求学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9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她以优异的成绩通过了结业考试，获得了波兰留学生奖学金，留在巴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291"/>
          <p:cNvPicPr/>
          <p:nvPr/>
        </p:nvPicPr>
        <p:blipFill>
          <a:blip r:embed="rId1"/>
          <a:stretch/>
        </p:blipFill>
        <p:spPr>
          <a:xfrm>
            <a:off x="738360" y="189000"/>
            <a:ext cx="271764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995640" y="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寻找一间条件较好的实验室的过程中，玛丽结识了志同道合的皮埃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居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夫妇两人共同获得诺贝尔物理学奖。但厄运降临了，皮埃尔由于车祸不幸丧身。居里夫人强忍着悲伤的同时，接过了丈夫的职位，成为巴黎大学第一位女教授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居里夫人有单独获得了诺贝尔化学奖。在第一次世界大战中，她组织了一直有二百多台伦琴射线的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116000" y="3587760"/>
            <a:ext cx="645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队，用以装备战地医院，拯救了无数人的生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长时间接触放射性物质，居里夫人身上遍布各种伤疤。更为严重的是，骨髓由于射线的长期聚集而退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292"/>
          <p:cNvPicPr/>
          <p:nvPr/>
        </p:nvPicPr>
        <p:blipFill>
          <a:blip r:embed="rId1"/>
          <a:stretch/>
        </p:blipFill>
        <p:spPr>
          <a:xfrm>
            <a:off x="1476360" y="620640"/>
            <a:ext cx="4498920" cy="4132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588000" y="99072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，充满了艰辛与荣誉的居里夫人最终因恶性贫血症去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里夫妇证实了镭元素的存在，使全世界都开始关注放射性现象。镭的发现在科学界爆发了一次真正的革命。过后不久，人们又发现镭在医学方面的价值，给癌症患者带来了福音，这使本来非常昂贵的镭，变得更加珍贵。有人劝说：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您如果去申请专利，定会成为百万富翁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，镭是一种元素，它应属于全世界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居里夫妇毫不犹豫的回答。居里夫妇信奉“科学无国界”，可以说，这是他们献身科学的信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位伟大的女性，一生中共获过两次诺贝尔奖，是巴黎大学第一位女教授，法国科学院第一位女院士，同时还被其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国家聘为科学院院士。她共接受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国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奖金和奖章，担任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国家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荣誉职位。她的精神永远激励着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26" descr="2289"/>
          <p:cNvPicPr/>
          <p:nvPr/>
        </p:nvPicPr>
        <p:blipFill>
          <a:blip r:embed="rId1"/>
          <a:stretch/>
        </p:blipFill>
        <p:spPr>
          <a:xfrm>
            <a:off x="1243080" y="622440"/>
            <a:ext cx="2792520" cy="765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7"/>
          <p:cNvSpPr/>
          <p:nvPr/>
        </p:nvSpPr>
        <p:spPr>
          <a:xfrm>
            <a:off x="4427640" y="620640"/>
            <a:ext cx="41148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爱因斯坦曾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悼念玛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文中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居里夫人的品德力量和热忱，哪怕只要有一小部分存在于欧洲的知识分子中间，欧洲就会面临一个比较光明的未来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60800" y="10526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了解的居里夫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484360" y="270828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韧不拔的精神，顽强的意志，淡泊名利，甘于宁静   和简单不畏世俗诱惑，热爱自己的祖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90720" y="1066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给生字注音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981080"/>
            <a:ext cx="121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渲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124080" y="1905120"/>
            <a:ext cx="1524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呵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095880" y="1905120"/>
            <a:ext cx="2210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蹂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7748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76520" y="1981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2670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1905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óu  lì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828800" y="2895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i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419720" y="2819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46748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60948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、解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36400" y="42354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问心无愧          蹂躏                盛名                                迷醉                  渲染                致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懊恼                  呵责                逆来顺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1271880" y="431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763640" y="333360"/>
            <a:ext cx="78487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、当堂练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 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释词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忍不拔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奢望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蹂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获益匪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猝然长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1:57:51Z</dcterms:created>
  <dc:creator>zen</dc:creator>
  <dc:description/>
  <dc:language>en-US</dc:language>
  <cp:lastModifiedBy>Administrator</cp:lastModifiedBy>
  <dcterms:modified xsi:type="dcterms:W3CDTF">2016-12-12T02:21:11Z</dcterms:modified>
  <cp:revision>28</cp:revision>
  <dc:subject/>
  <dc:title>PowerPoint 演示文稿</dc:title>
</cp:coreProperties>
</file>