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A8E-B3BE-4020-AE34-7653278E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FCF-AF94-446D-9D29-066E3ABA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992-C7F4-41AB-8E86-E66D5562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332-D10C-47EC-A9E5-862CF206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E10-78A0-45DB-A6D6-5A5DD7AE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54A-4E08-434D-85C7-AC77758B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1EC-419C-42FC-AF41-63B92132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A48-EB23-4B52-A989-B553A9C6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BBF-E2D8-4DD4-BCCE-CA9AE6C6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08E-2F5E-47C2-8B3B-CBC5D210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2C2-F769-4C6F-AFE8-3EF26C5A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E45-46F5-43BB-A0F6-7C8E5E2D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4AA5-17C0-495B-BB60-498A31F0FFA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4639" t="0" r="4639" b="5902"/>
          <a:stretch/>
        </p:blipFill>
        <p:spPr>
          <a:xfrm>
            <a:off x="0" y="0"/>
            <a:ext cx="9144000" cy="711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8"/>
          <p:cNvSpPr/>
          <p:nvPr/>
        </p:nvSpPr>
        <p:spPr>
          <a:xfrm>
            <a:off x="2712960" y="1773360"/>
            <a:ext cx="55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毕业赠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486400" y="41148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5486400" y="26956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胡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4360" y="3789360"/>
            <a:ext cx="8099280" cy="12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的最大责任是把你这块材料铸造成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——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易卜生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04920" y="304920"/>
            <a:ext cx="259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名言荟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09480" y="11430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趁现在年富力强的时候，努力做一种专门学问。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胡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09480" y="237816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年是一去不复返的，等到精力衰减时，要做学问也来不及了。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胡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609480" y="48006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问便是铸器的工具，抛弃了学问便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毁了你们自己。 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胡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87280" y="2565360"/>
            <a:ext cx="54612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6999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①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给最要好的同学写赠言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6999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②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给最喜欢的老师写赠言。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6999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③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给母校写一篇留言辞。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533520" y="1371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毕业在即，你想对老师和同学说点什么呢？请写下你的毕业赠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3520" y="380880"/>
            <a:ext cx="259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课外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278920" cy="71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548235"/>
                </a:solidFill>
                <a:latin typeface="Calibri Light"/>
              </a:rPr>
              <a:t>【</a:t>
            </a:r>
            <a:r>
              <a:rPr b="1" lang="zh-CN" sz="3200" spc="-1" strike="noStrike">
                <a:solidFill>
                  <a:srgbClr val="548235"/>
                </a:solidFill>
                <a:latin typeface="Calibri Light"/>
              </a:rPr>
              <a:t>同学毕业赠言集萃之美好怀念版</a:t>
            </a:r>
            <a:r>
              <a:rPr b="1" lang="en-US" sz="3200" spc="-1" strike="noStrike">
                <a:solidFill>
                  <a:srgbClr val="548235"/>
                </a:solidFill>
                <a:latin typeface="Calibri Light"/>
              </a:rPr>
              <a:t>】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00ff"/>
                </a:solidFill>
                <a:latin typeface="Calibri Light"/>
              </a:rPr>
              <a:t>.      </a:t>
            </a:r>
            <a:r>
              <a:rPr b="1" lang="zh-CN" sz="2400" spc="-1" strike="noStrike">
                <a:solidFill>
                  <a:srgbClr val="548235"/>
                </a:solidFill>
                <a:latin typeface="宋体"/>
              </a:rPr>
              <a:t>不管未来有多遥远，成长的路上有你有我；不管相逢在什么时候，我们是永远的朋友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548235"/>
                </a:solidFill>
                <a:latin typeface="宋体"/>
              </a:rPr>
              <a:t>.   </a:t>
            </a:r>
            <a:r>
              <a:rPr b="1" lang="zh-CN" sz="2400" spc="-1" strike="noStrike">
                <a:solidFill>
                  <a:srgbClr val="548235"/>
                </a:solidFill>
                <a:latin typeface="宋体"/>
              </a:rPr>
              <a:t>不管未来有多长久，请珍惜相聚的每一刻；不管多少个春夏秋冬，我们是永远的朋友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548235"/>
                </a:solidFill>
                <a:latin typeface="宋体"/>
              </a:rPr>
              <a:t>.   </a:t>
            </a:r>
            <a:r>
              <a:rPr b="1" lang="zh-CN" sz="2400" spc="-1" strike="noStrike">
                <a:solidFill>
                  <a:srgbClr val="548235"/>
                </a:solidFill>
                <a:latin typeface="宋体"/>
              </a:rPr>
              <a:t>与你同行，回想起我们曾拥有过的共同理想；与你分手，憧憬着我们重逢时的狂欢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548235"/>
                </a:solidFill>
                <a:latin typeface="宋体"/>
              </a:rPr>
              <a:t>.   </a:t>
            </a:r>
            <a:r>
              <a:rPr b="1" lang="zh-CN" sz="2400" spc="-1" strike="noStrike">
                <a:solidFill>
                  <a:srgbClr val="548235"/>
                </a:solidFill>
                <a:latin typeface="宋体"/>
              </a:rPr>
              <a:t>我们即将步入新的生活，前面的路还很长很长，让我们更加珍惜今天所拥有的青春和友谊，用真情去浇灌友谊的花蕾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87280" y="1197000"/>
            <a:ext cx="640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楷体_GBK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继续完成“毕业赠言”，并认真修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684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目标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能正确、流利、有感情地朗读课文，积累语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学习课文针对性强，用语得体，有真情实感等表达方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348000" y="1225440"/>
            <a:ext cx="525636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胡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91———196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原名马洪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ing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字适之，安徽绩溪人。学者、作家。主要著作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国哲 学史大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上） 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尝试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白话文学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胡适文存（四集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684360" y="620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预习检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0772719949020451153"/>
          <p:cNvPicPr/>
          <p:nvPr/>
        </p:nvPicPr>
        <p:blipFill>
          <a:blip r:embed="rId1"/>
          <a:stretch/>
        </p:blipFill>
        <p:spPr>
          <a:xfrm>
            <a:off x="444600" y="1554120"/>
            <a:ext cx="278604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ADMINI~1\appdata\roaming\360se6\USERDA~1\Temp\1.jpg"/>
          <p:cNvPicPr/>
          <p:nvPr/>
        </p:nvPicPr>
        <p:blipFill>
          <a:blip r:embed="rId1"/>
          <a:stretch/>
        </p:blipFill>
        <p:spPr>
          <a:xfrm>
            <a:off x="539640" y="1341360"/>
            <a:ext cx="3575160" cy="4267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ADMINI~1\appdata\roaming\360se6\USERDA~1\Temp\4.jpg"/>
          <p:cNvPicPr/>
          <p:nvPr/>
        </p:nvPicPr>
        <p:blipFill>
          <a:blip r:embed="rId2"/>
          <a:stretch/>
        </p:blipFill>
        <p:spPr>
          <a:xfrm>
            <a:off x="539640" y="1341360"/>
            <a:ext cx="3575160" cy="426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2胡适"/>
          <p:cNvPicPr/>
          <p:nvPr/>
        </p:nvPicPr>
        <p:blipFill>
          <a:blip r:embed="rId3"/>
          <a:stretch/>
        </p:blipFill>
        <p:spPr>
          <a:xfrm>
            <a:off x="539640" y="1341360"/>
            <a:ext cx="3575160" cy="4267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141800" y="1166760"/>
            <a:ext cx="4753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胡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9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原名马洪骍，字适之，安徽绩溪人。学者、作家。主要著作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国哲学史大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尝试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白话文学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胡适文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四集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03280" y="2924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Arial"/>
              </a:rPr>
              <a:t>zh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132000" y="299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Arial"/>
              </a:rPr>
              <a:t>tà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21164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Arial"/>
              </a:rPr>
              <a:t>zǔ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12000" y="2924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546a"/>
                </a:solidFill>
                <a:latin typeface="Arial"/>
              </a:rPr>
              <a:t>zh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042920" y="3716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诸  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771640" y="3716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淘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140360" y="371628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撙衣节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012000" y="371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铸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332000" y="90792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1905120"/>
            <a:ext cx="3809880" cy="3657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第一部分（</a:t>
            </a:r>
            <a:r>
              <a:rPr b="1" lang="en-US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4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4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第二部分（</a:t>
            </a:r>
            <a:r>
              <a:rPr b="1" lang="en-US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4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4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第三部分（</a:t>
            </a:r>
            <a:r>
              <a:rPr b="1" lang="en-US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—6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4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4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第四部分（</a:t>
            </a:r>
            <a:r>
              <a:rPr b="1" lang="en-US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7—9</a:t>
            </a:r>
            <a:r>
              <a:rPr b="1" lang="zh-CN" sz="21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4997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380880"/>
            <a:ext cx="2590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课文结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191120" y="4952880"/>
            <a:ext cx="3200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达希望和祝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7772400" y="3429000"/>
            <a:ext cx="1066680" cy="5814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论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4191120" y="1905120"/>
            <a:ext cx="3124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不要抛弃学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4191120" y="2895480"/>
            <a:ext cx="3200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论说学问的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191120" y="3886200"/>
            <a:ext cx="32004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出怎样做学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 flipH="1">
            <a:off x="7390800" y="2895480"/>
            <a:ext cx="266760" cy="1676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111240 h 1676520"/>
              <a:gd name="textAreaBottom" fmla="*/ 15652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91"/>
                  <a:pt x="10800" y="4582"/>
                </a:cubicBezTo>
                <a:lnTo>
                  <a:pt x="10800" y="6218"/>
                </a:lnTo>
                <a:cubicBezTo>
                  <a:pt x="10800" y="8509"/>
                  <a:pt x="5400" y="10800"/>
                  <a:pt x="0" y="10800"/>
                </a:cubicBezTo>
                <a:cubicBezTo>
                  <a:pt x="5400" y="10800"/>
                  <a:pt x="10800" y="13091"/>
                  <a:pt x="10800" y="15382"/>
                </a:cubicBezTo>
                <a:lnTo>
                  <a:pt x="10800" y="17018"/>
                </a:lnTo>
                <a:cubicBezTo>
                  <a:pt x="10800" y="19309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7315200" y="1905120"/>
            <a:ext cx="1066680" cy="5814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7391520" y="4952880"/>
            <a:ext cx="1752480" cy="53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方正楷体_GBK"/>
              </a:rPr>
              <a:t>强调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24000" y="9586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认为胡适这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毕业赠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主题是什么？课文围绕这句话写了几部分内容？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24000" y="0"/>
            <a:ext cx="50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58920" y="24829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不要抛弃学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195640" y="342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65280" y="305928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提出赠言，揭示中心话题：不要抛弃学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65280" y="358920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论说学问的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65280" y="41623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指出怎样做学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65280" y="4754520"/>
            <a:ext cx="691344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达希望和祝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54936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50920" y="1197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什么不能抛弃学问？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50920" y="1773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少年一去不复返，等到精力衰减时，要做学问就来不及了；三五年不学习，就会被后来少年淘汰，到那时想补救就来不及了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00" y="3068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既然不能抛弃学问，那么应该怎样做学问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24000" y="37162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主动创造条件做学问；抓紧时间坚持做学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611280" y="1557360"/>
            <a:ext cx="7848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易卜生说：“你的最大责任是把你这块材料铸造成器。”学问便是铸造的工具，抛弃了学问便是毁了你们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11280" y="2570040"/>
            <a:ext cx="83534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里用易卜生的一句话来告诉我们要想成才，就必须不抛弃学问，不然的话就是毁了自己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50920" y="54936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细评感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04:43:22Z</dcterms:created>
  <dc:creator/>
  <dc:description/>
  <dc:language>en-US</dc:language>
  <cp:lastModifiedBy>Administrator</cp:lastModifiedBy>
  <dcterms:modified xsi:type="dcterms:W3CDTF">2016-12-12T02:12:5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