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2C62-E5E3-4E7F-8813-F0E0F88B3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14C9-DEC6-4DF6-AE5A-52934B34B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E678-2846-4495-8758-A4DFC93B6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7E609-988C-44E9-B522-A4D9B328F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3763-2223-4F3D-873F-AAD20422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FF88-ACC5-4F61-93FD-F823976CD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70B0-7DFE-4F7C-9F53-F73EE069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90BA3-3FAC-4836-B230-D5D458BB7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7F4C-23B6-42E9-B367-647E1261D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FC75A-D9F6-455D-B052-29DE2A62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57B76-3525-42B8-8C44-483F853D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800BF-EF29-4101-8511-1328EAF8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B3191-4EB5-4DCF-A8D9-EF9BE93B61A7}" type="slidenum">
              <a:rPr b="0" lang="zh-CN" sz="900" spc="-1" strike="noStrike">
                <a:solidFill>
                  <a:srgbClr val="898989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tretch/>
        </p:blipFill>
        <p:spPr>
          <a:xfrm>
            <a:off x="-20520" y="0"/>
            <a:ext cx="91645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 txBox="1"/>
          <p:nvPr/>
        </p:nvSpPr>
        <p:spPr>
          <a:xfrm>
            <a:off x="179280" y="1699920"/>
            <a:ext cx="500400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13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不能决定生命的长度，但你可以扩展它的宽度；不能改变天生的容貌，但你可以时时展现笑容；不能企望控制他人，但你可以好好把握自己；不能全然预知明天，但你可以充分利用今天；不能要求事事顺利，但你可以做到事事尽心。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-18000"/>
            <a:ext cx="3600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深受苦楚的母亲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24000" y="1468440"/>
            <a:ext cx="640872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没有突然把面前的玻璃砸碎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24000" y="2168640"/>
            <a:ext cx="51116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没有猛地把手边的东西摔向四周的墙壁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306360" y="3224160"/>
            <a:ext cx="7632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没有大声呼喊我活着什么劲！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334800" y="3990960"/>
            <a:ext cx="5832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自己做坚强的母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让儿子成为坚强的儿子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图片 1" descr="eda41613517abe524b90a7c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Box 2"/>
          <p:cNvSpPr/>
          <p:nvPr/>
        </p:nvSpPr>
        <p:spPr>
          <a:xfrm>
            <a:off x="539640" y="1052640"/>
            <a:ext cx="645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00"/>
                </a:solidFill>
                <a:latin typeface="华文琥珀"/>
                <a:ea typeface="华文琥珀"/>
              </a:rPr>
              <a:t>好好儿活</a:t>
            </a:r>
            <a:r>
              <a:rPr b="0" lang="en-US" sz="7200" spc="-1" strike="noStrike">
                <a:solidFill>
                  <a:srgbClr val="ffff00"/>
                </a:solidFill>
                <a:latin typeface="华文琥珀"/>
                <a:ea typeface="华文琥珀"/>
              </a:rPr>
              <a:t>……</a:t>
            </a:r>
            <a:endParaRPr b="0" lang="en-US" sz="7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9680" y="764640"/>
            <a:ext cx="4357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 Light"/>
                <a:ea typeface="隶书"/>
              </a:rPr>
              <a:t>    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作者在文中也多次写到</a:t>
            </a:r>
            <a:r>
              <a:rPr b="1" lang="zh-CN" sz="3300" spc="-1" strike="noStrike">
                <a:solidFill>
                  <a:srgbClr val="ff6600"/>
                </a:solidFill>
                <a:latin typeface="宋体"/>
              </a:rPr>
              <a:t>菊花，</a:t>
            </a:r>
            <a:r>
              <a:rPr b="1" lang="zh-CN" sz="3300" spc="-1" strike="noStrike">
                <a:solidFill>
                  <a:srgbClr val="000000"/>
                </a:solidFill>
                <a:latin typeface="宋体"/>
              </a:rPr>
              <a:t>有何用意？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-39600" y="2420640"/>
            <a:ext cx="5256000" cy="412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ff"/>
                </a:solidFill>
                <a:latin typeface="Calibri"/>
                <a:ea typeface="楷体_GB2312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母亲带我看花，是想唤起我生存的欲望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菊花的淡雅高洁，是母亲品质的写照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菊花热烈深沉，是母爱的写照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母亲爱花，我看菊花是对母亲的缅怀；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marL="1713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          </a:t>
            </a:r>
            <a:r>
              <a:rPr b="1" lang="zh-CN" sz="2100" spc="-1" strike="noStrike">
                <a:solidFill>
                  <a:srgbClr val="000000"/>
                </a:solidFill>
                <a:latin typeface="Calibri"/>
                <a:ea typeface="楷体_GB2312"/>
              </a:rPr>
              <a:t>菊花在我眼里五彩缤纷，泼泼洒洒，也是在告诉读者</a:t>
            </a:r>
            <a:r>
              <a:rPr b="1" lang="zh-CN" sz="2100" spc="-1" strike="noStrike" u="sng">
                <a:solidFill>
                  <a:srgbClr val="000000"/>
                </a:solidFill>
                <a:uFillTx/>
                <a:latin typeface="Calibri"/>
                <a:ea typeface="楷体_GB2312"/>
              </a:rPr>
              <a:t>我的人生态度发生了转变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edg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5"/>
          <p:cNvSpPr/>
          <p:nvPr/>
        </p:nvSpPr>
        <p:spPr>
          <a:xfrm>
            <a:off x="735120" y="3380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Text Box 8"/>
          <p:cNvSpPr/>
          <p:nvPr/>
        </p:nvSpPr>
        <p:spPr>
          <a:xfrm>
            <a:off x="16714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Rectangle 9"/>
          <p:cNvSpPr/>
          <p:nvPr/>
        </p:nvSpPr>
        <p:spPr>
          <a:xfrm>
            <a:off x="395280" y="2924280"/>
            <a:ext cx="8748720" cy="11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1332000" y="2835360"/>
            <a:ext cx="223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悔恨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Text Box 11"/>
          <p:cNvSpPr/>
          <p:nvPr/>
        </p:nvSpPr>
        <p:spPr>
          <a:xfrm>
            <a:off x="1332000" y="359892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悲痛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Text Box 12"/>
          <p:cNvSpPr/>
          <p:nvPr/>
        </p:nvSpPr>
        <p:spPr>
          <a:xfrm>
            <a:off x="1363680" y="4307040"/>
            <a:ext cx="2303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怀念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Text Box 15"/>
          <p:cNvSpPr/>
          <p:nvPr/>
        </p:nvSpPr>
        <p:spPr>
          <a:xfrm>
            <a:off x="1743120" y="94788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Rectangle 12"/>
          <p:cNvSpPr/>
          <p:nvPr/>
        </p:nvSpPr>
        <p:spPr>
          <a:xfrm>
            <a:off x="179280" y="727200"/>
            <a:ext cx="53294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回味本文，你能体会到作者在写作此文时是怎样的心情？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med">
    <p:wheel spokes="8"/>
  </p:transition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323640" y="2204640"/>
            <a:ext cx="4716360" cy="380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课文讲述了一位重病缠身的母亲，体贴入微地照顾双腿瘫痪的儿子，鼓励儿子好好活下去的故事，歌颂了</a:t>
            </a:r>
            <a:r>
              <a:rPr b="1" lang="zh-CN" sz="2800" spc="-1" strike="noStrike">
                <a:solidFill>
                  <a:srgbClr val="ff3300"/>
                </a:solidFill>
                <a:latin typeface="Calibri"/>
              </a:rPr>
              <a:t>伟大而无私的母爱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表达了作者对母亲深深的怀念之情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3" descr="花"/>
          <p:cNvPicPr/>
          <p:nvPr/>
        </p:nvPicPr>
        <p:blipFill>
          <a:blip r:embed="rId1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4"/>
          <p:cNvSpPr/>
          <p:nvPr/>
        </p:nvSpPr>
        <p:spPr>
          <a:xfrm>
            <a:off x="826920" y="1125360"/>
            <a:ext cx="3168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主旨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WordArt 4"/>
          <p:cNvSpPr txBox="1"/>
          <p:nvPr/>
        </p:nvSpPr>
        <p:spPr>
          <a:xfrm>
            <a:off x="685800" y="911160"/>
            <a:ext cx="31687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Bottom">
              <a:avLst>
                <a:gd name="adj" fmla="val 7127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44546a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升华情感 延伸拓展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44546a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1166760" y="2676600"/>
            <a:ext cx="52704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Text Box 6"/>
          <p:cNvSpPr/>
          <p:nvPr/>
        </p:nvSpPr>
        <p:spPr>
          <a:xfrm>
            <a:off x="468360" y="2349360"/>
            <a:ext cx="3959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又是秋天，当作者站在母亲的墓前看着母亲的遗像，他会说些什么呢？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1743120" y="4259160"/>
            <a:ext cx="5270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563c1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>
    <p:wheel spokes="8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4"/>
          <p:cNvSpPr/>
          <p:nvPr/>
        </p:nvSpPr>
        <p:spPr>
          <a:xfrm>
            <a:off x="468360" y="1341360"/>
            <a:ext cx="4248000" cy="9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幸福是要自己去寻找的</a:t>
            </a:r>
            <a:r>
              <a:rPr b="1" lang="en-US" sz="2300" spc="-1" strike="noStrike">
                <a:solidFill>
                  <a:srgbClr val="000000"/>
                </a:solidFill>
                <a:latin typeface="Tahoma"/>
              </a:rPr>
              <a:t>……</a:t>
            </a:r>
            <a:r>
              <a:rPr b="1" lang="zh-CN" sz="2300" spc="-1" strike="noStrike">
                <a:solidFill>
                  <a:srgbClr val="000000"/>
                </a:solidFill>
                <a:latin typeface="宋体"/>
              </a:rPr>
              <a:t>哪怕是你现在正在经历着一场大的浩劫，你也应该幸福，因为你可以在浩劫中看到曙光，能从浩劫中学到很多别人可能一辈子都学不到的东西，当你拥有了别人所不曾拥有的东西那你就是唯一。 </a:t>
            </a:r>
            <a:endParaRPr b="0" lang="en-US" sz="2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187280" y="1989000"/>
            <a:ext cx="378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秋 天 的 怀 念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Text Box 5"/>
          <p:cNvSpPr/>
          <p:nvPr/>
        </p:nvSpPr>
        <p:spPr>
          <a:xfrm>
            <a:off x="3063960" y="306864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史铁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2"/>
          <p:cNvSpPr/>
          <p:nvPr/>
        </p:nvSpPr>
        <p:spPr>
          <a:xfrm>
            <a:off x="108000" y="741240"/>
            <a:ext cx="529092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史铁生（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51-201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），北京人，当代著名作家。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1967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毕业于清华大学附属中学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6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去延安地区插队落户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7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因双腿瘫痪，从此永远坐上了轮椅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7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发表第一篇小说《法学教授及其夫人》，其后陆续发表了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多篇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小说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其中《我的遥远的清平湾》获得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1983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全国优秀短篇小说奖。他写的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《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我与地坛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》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被公认为中国近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最优秀的散文之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002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年，他获得华语文学传媒大奖年度杰出成就奖，是现在中国最令人敬佩的作家之一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7" name="Picture 3" descr="20040920125743189"/>
          <p:cNvPicPr/>
          <p:nvPr/>
        </p:nvPicPr>
        <p:blipFill>
          <a:blip r:embed="rId1"/>
          <a:stretch/>
        </p:blipFill>
        <p:spPr>
          <a:xfrm>
            <a:off x="5797440" y="3859200"/>
            <a:ext cx="264492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84360" y="1447920"/>
            <a:ext cx="641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带着问题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539640" y="2637000"/>
            <a:ext cx="81727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作者在秋天怀念的是谁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是怀念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为什么会在秋天怀念？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1187280" y="620640"/>
            <a:ext cx="64105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-11160" y="1484280"/>
            <a:ext cx="54468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“秋天”是背景和引子，文中写景、叙事、记人，都与“秋天”有关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“秋天”是我的不幸遭遇、低落心情的写照，具有象征性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“秋天”是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我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"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走出低谷、乐观生活的象征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26920" y="259920"/>
            <a:ext cx="2880000" cy="1079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初步感知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4360" y="1844640"/>
            <a:ext cx="37432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200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0066ff"/>
                </a:solidFill>
                <a:latin typeface="Calibri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你觉得文中的我，性格脾气是什么样的？试找出相关的语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9280" y="2420640"/>
            <a:ext cx="453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alibri Light"/>
                <a:ea typeface="隶书"/>
              </a:rPr>
              <a:t>      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面对我的暴躁，母亲是怎样做的？试结合课文语句具体分析。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907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此时，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母亲自己的情况是怎样的？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Rectangle 3" descr=""/>
          <p:cNvPicPr/>
          <p:nvPr/>
        </p:nvPicPr>
        <p:blipFill>
          <a:blip r:embed="rId1"/>
          <a:stretch/>
        </p:blipFill>
        <p:spPr>
          <a:xfrm>
            <a:off x="1116000" y="2567160"/>
            <a:ext cx="4145040" cy="208404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" descr="花"/>
          <p:cNvPicPr/>
          <p:nvPr/>
        </p:nvPicPr>
        <p:blipFill>
          <a:blip r:embed="rId2"/>
          <a:stretch/>
        </p:blipFill>
        <p:spPr>
          <a:xfrm>
            <a:off x="6732720" y="4437000"/>
            <a:ext cx="2365200" cy="24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5T08:50:01Z</dcterms:created>
  <dc:creator/>
  <dc:description/>
  <dc:language>en-US</dc:language>
  <cp:lastModifiedBy>Administrator</cp:lastModifiedBy>
  <dcterms:modified xsi:type="dcterms:W3CDTF">2016-12-12T02:01:54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363</vt:lpwstr>
  </property>
</Properties>
</file>