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chimes.wav" ContentType="audio/x-wav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001-6A2F-45C9-87DB-C2AD2C92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6E2-FD7F-439C-8C7C-875C36D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97D-ADE0-4679-B624-9B9A0727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7DD-BE7F-4218-B9D8-3205ABD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4B7-2947-4F76-9A01-BC13AE8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2FA-1712-4927-8CD7-4BF5FE1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74DA-C1A7-4EE6-83FD-3BC0B7F3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F836-3817-4B26-82A3-CF6BB40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DDA-E5BC-4726-9A73-32C7A44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101-4344-4170-838B-C053875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0D8-DFE5-415E-91B5-6B41A509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FA2-ED58-4AAD-942B-A48F266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FD02-1FEC-4FB6-A858-0071203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C6FF-A484-434A-80B6-331376D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B974-D2AD-4DE0-B8F7-C0FB5076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F4D8-DB03-49E4-9225-CA656CD4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50E1-C4BD-4DDE-9DF5-47F63447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679-84F2-4072-96B4-0054446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442-B7B9-404A-9B64-2B52FA8C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688-2418-42DD-B71A-2B740DF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EA3-6311-4162-9DC6-EA94B88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9C4-F735-4DED-B20C-40E5D4C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398-1CE0-4F18-BFDB-C2F1CDA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F95-989F-4018-BFB5-8747A44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A99A-D10B-4575-9C40-A7DBD233C4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图片 1" descr=""/>
          <p:cNvPicPr/>
          <p:nvPr/>
        </p:nvPicPr>
        <p:blipFill>
          <a:blip r:embed="rId2"/>
          <a:srcRect l="0" t="18663" r="23047" b="8219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0316-4EBD-4FEE-9118-D78A352FE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0400" y="106632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2e4545"/>
                </a:solidFill>
                <a:latin typeface="Arial"/>
              </a:rPr>
              <a:t>散  步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943600" y="2895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莫怀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943600" y="594360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儿子：  调皮、活泼可爱、聪明、听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62360" y="4800240"/>
            <a:ext cx="20048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培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23888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746587"/>
          <p:cNvPicPr/>
          <p:nvPr/>
        </p:nvPicPr>
        <p:blipFill>
          <a:blip r:embed="rId1"/>
          <a:stretch/>
        </p:blipFill>
        <p:spPr>
          <a:xfrm>
            <a:off x="6791400" y="0"/>
            <a:ext cx="22669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1402200" y="2041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散步（分歧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39625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82640" y="20145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尊老爱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2057400" y="2666880"/>
            <a:ext cx="0" cy="1371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6858000" y="2743200"/>
            <a:ext cx="0" cy="1371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824120" y="406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2666880" y="44956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589560" y="3809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中   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556320" y="3946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4038480" y="5181480"/>
            <a:ext cx="115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孝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2514600" y="49528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5333760" y="4800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295280" y="261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这个细节大有深远的象征意义，“世界”这个词是大词小用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突出了中年人的责任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既要赡养老一代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又要抚养下一代 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肩负着承前启后的重大使命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023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95280" y="365040"/>
            <a:ext cx="74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品读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为什么把我背母亲，妻子背儿子说成是背负着“整个世界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图7"/>
          <p:cNvPicPr/>
          <p:nvPr/>
        </p:nvPicPr>
        <p:blipFill>
          <a:blip r:embed="rId1"/>
          <a:stretch/>
        </p:blipFill>
        <p:spPr>
          <a:xfrm>
            <a:off x="125280" y="647640"/>
            <a:ext cx="1797120" cy="1682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512640"/>
            <a:ext cx="487692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联系生活，诗意表达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根据学习体会和自己的生活体验，以</a:t>
            </a: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“家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主题进行仿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r>
              <a:rPr b="1" lang="zh-CN" sz="3600" spc="-1" strike="noStrike" u="sng">
                <a:solidFill>
                  <a:srgbClr val="f70f30"/>
                </a:solidFill>
                <a:uFillTx/>
                <a:latin typeface="Arial"/>
              </a:rPr>
              <a:t>一个幸福的摇篮，老人孩子都怡然自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ub_left_flower"/>
          <p:cNvPicPr/>
          <p:nvPr/>
        </p:nvPicPr>
        <p:blipFill>
          <a:blip r:embed="rId1"/>
          <a:stretch/>
        </p:blipFill>
        <p:spPr>
          <a:xfrm>
            <a:off x="7869240" y="4191120"/>
            <a:ext cx="1274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438280" y="1828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70f30"/>
                </a:solidFill>
                <a:uFillTx/>
                <a:latin typeface="Arial"/>
              </a:rPr>
              <a:t>一副沉重的担子，需要我们每个人用责任来担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438280" y="373392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70f30"/>
                </a:solidFill>
                <a:uFillTx/>
                <a:latin typeface="Arial"/>
              </a:rPr>
              <a:t>一根生命的链条，老年、中年、幼年，生命就像永远也达不到终点的接力棒，代代相传，繁衍不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0f30"/>
                </a:solidFill>
                <a:latin typeface="Arial"/>
              </a:rPr>
              <a:t>小结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本文通过 选取祖孙三代一家人在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野散步这个生活细节，生动地展示了一家人互敬互爱、和睦相处的深厚感情和 生活情趣，体现中华民族尊老爱幼的传统美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图片11"/>
          <p:cNvPicPr/>
          <p:nvPr/>
        </p:nvPicPr>
        <p:blipFill>
          <a:blip r:embed="rId2"/>
          <a:stretch/>
        </p:blipFill>
        <p:spPr>
          <a:xfrm>
            <a:off x="1981080" y="24382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752480" y="304920"/>
            <a:ext cx="4572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832680" y="475200"/>
            <a:ext cx="24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　</a:t>
            </a: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整体感知：</a:t>
            </a:r>
            <a:r>
              <a:rPr b="0" lang="zh-CN" sz="4000" spc="-1" strike="noStrike">
                <a:solidFill>
                  <a:srgbClr val="2e4545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62120" y="1616040"/>
            <a:ext cx="82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划出生字、词和成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2e4545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2e4545"/>
                </a:solidFill>
                <a:latin typeface="宋体"/>
              </a:rPr>
              <a:t>想一想，课文写了哪些人物？写了一件什么事，结果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秋日私语.mp3" descr=""/>
          <p:cNvPicPr/>
          <p:nvPr/>
        </p:nvPicPr>
        <p:blipFill>
          <a:blip r:embed="rId2"/>
          <a:stretch/>
        </p:blipFill>
        <p:spPr>
          <a:xfrm>
            <a:off x="7238880" y="5334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1610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510000" y="1284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023480" y="4039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快速抢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209680" y="61596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689400" y="60786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F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结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903240" y="2101680"/>
            <a:ext cx="44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876600" y="2946240"/>
            <a:ext cx="40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381320" y="4624560"/>
            <a:ext cx="4334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E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545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2e4545"/>
                </a:solidFill>
                <a:latin typeface="宋体"/>
              </a:rPr>
              <a:t>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98360"/>
            <a:ext cx="556272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合作探究，理解亲情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9109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05120" y="1981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鲜花献给可敬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0560" y="879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545"/>
                </a:solidFill>
                <a:latin typeface="宋体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70f30"/>
                </a:solidFill>
                <a:uFillTx/>
                <a:latin typeface="Arial"/>
              </a:rPr>
              <a:t>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70f30"/>
                </a:solidFill>
                <a:uFillTx/>
                <a:latin typeface="Arial"/>
              </a:rPr>
              <a:t>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70f30"/>
                </a:solidFill>
                <a:uFillTx/>
                <a:latin typeface="Arial"/>
              </a:rPr>
              <a:t>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2005318155922360"/>
          <p:cNvPicPr/>
          <p:nvPr/>
        </p:nvPicPr>
        <p:blipFill>
          <a:blip r:embed="rId1"/>
          <a:stretch/>
        </p:blipFill>
        <p:spPr>
          <a:xfrm>
            <a:off x="3048120" y="1371600"/>
            <a:ext cx="425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3120" y="990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f3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我”：  孝敬、有家庭责任感、讲原则、不宠爱孩子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哪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下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母亲：  谦让、疼爱孙子、善解人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sub_left_flower"/>
          <p:cNvPicPr/>
          <p:nvPr/>
        </p:nvPicPr>
        <p:blipFill>
          <a:blip r:embed="rId1"/>
          <a:stretch/>
        </p:blipFill>
        <p:spPr>
          <a:xfrm>
            <a:off x="7848720" y="0"/>
            <a:ext cx="113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70f30"/>
                </a:solidFill>
                <a:latin typeface="Arial"/>
              </a:rPr>
              <a:t>妻子：贤良、孝顺、家庭责任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1:42:5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