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chimes.wav" ContentType="audio/x-wav"/>
  <Override PartName="/ppt/media/type.wav" ContentType="audio/x-wav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888-A705-4DE9-BDCB-1437E91E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1FF-8534-4D80-A738-9A365B28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8F0-68C1-4B5B-AA2B-0A0C9E6F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0BF-05A1-437F-91CF-3CEAD919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3140-3C53-46E7-88EF-D21EB652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E96D-1368-401D-B89D-4DF2145C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181D-E35B-41CF-A437-88AC84D4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D8B0-FC80-4B7F-97A3-EAAB3E8B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B4A3-CB90-41BB-992F-29BED2EB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0F95-2E2C-4104-9C8B-4881CB6E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546B-DC1D-402B-B079-F7905DFE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3955-1242-44E7-BE25-6FE4E35B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DC17-2091-4644-B773-08158557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A7A3-0D7D-428B-AA5A-D57501A4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1F4A-D086-410B-9F50-C19AEC22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2EB2-924E-4493-9AD6-AA1A297E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7FE9-3E4E-4031-861E-92466196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9E0AD-5FAC-418F-A053-F538085E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C42A-8F69-4B7A-AC03-03BB622E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E8427-218F-4842-B2B6-358514A1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B8FBA-E1BF-47B4-A643-E9B7324A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C5ECC-CCEF-468F-8F44-25509B45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D3B-4F02-48AE-869D-D854CFB0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B8E04-21DC-46B6-A1B9-F0B00E35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CA63C-D88D-4BBF-A4BD-31379980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C1EA8-D6C0-44FC-82D7-AE040D34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D82CF-E558-4942-86C9-071601C0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F0663-1682-402C-BA1C-2D5C9C5B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FFA23-A893-4D8D-A4CD-44232B46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FDA78-853A-46A2-B2D6-D4E31CB1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B168-06B9-438A-BC39-B5D98970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CDB-9532-46A3-A92F-D967654C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5EA1-B365-4F34-B9C5-5D948A11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A19-787E-4B0D-9715-E374F63D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DAA-988B-4AD3-BE75-E7F5AAD4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C30A-91EE-44FF-9530-5FB70402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812D-A72C-4988-9912-B47565C69B92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FDE4-2099-43DE-9732-73001CC498D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C4DF-ACBE-4808-AECC-DD8241721922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SC20040114101017734"/>
          <p:cNvPicPr/>
          <p:nvPr/>
        </p:nvPicPr>
        <p:blipFill>
          <a:blip r:embed="rId1"/>
          <a:stretch/>
        </p:blipFill>
        <p:spPr>
          <a:xfrm>
            <a:off x="969840" y="2206800"/>
            <a:ext cx="4321440" cy="342576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1"/>
          <p:cNvSpPr/>
          <p:nvPr/>
        </p:nvSpPr>
        <p:spPr>
          <a:xfrm>
            <a:off x="2955960" y="98748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紫藤罗瀑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文本框 3"/>
          <p:cNvSpPr/>
          <p:nvPr/>
        </p:nvSpPr>
        <p:spPr>
          <a:xfrm>
            <a:off x="6300720" y="218772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宗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隶书"/>
                <a:ea typeface="隶书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隶书"/>
                <a:ea typeface="隶书"/>
              </a:rPr>
              <a:t>  </a:t>
            </a:r>
            <a:r>
              <a:rPr b="1" lang="zh-CN" sz="5400" spc="-1" strike="noStrike">
                <a:solidFill>
                  <a:srgbClr val="7030a0"/>
                </a:solidFill>
                <a:latin typeface="宋体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者从哪三个层次来描写盛开的紫藤萝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②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者是怎样描写紫藤萝花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③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出作者描写紫藤萝的树和花运用拟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比喻修辞手法的语句，分析其好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703440" y="2065320"/>
            <a:ext cx="5331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281240" y="1042920"/>
            <a:ext cx="304560" cy="3338640"/>
          </a:xfrm>
          <a:custGeom>
            <a:avLst/>
            <a:gdLst>
              <a:gd name="textAreaLeft" fmla="*/ 194760 w 304560"/>
              <a:gd name="textAreaRight" fmla="*/ 304920 w 304560"/>
              <a:gd name="textAreaTop" fmla="*/ 65520 h 3338640"/>
              <a:gd name="textAreaBottom" fmla="*/ 3273120 h 33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8"/>
                  <a:pt x="10800" y="1356"/>
                </a:cubicBezTo>
                <a:lnTo>
                  <a:pt x="10800" y="9444"/>
                </a:lnTo>
                <a:cubicBezTo>
                  <a:pt x="10800" y="10122"/>
                  <a:pt x="5400" y="10800"/>
                  <a:pt x="0" y="10800"/>
                </a:cubicBezTo>
                <a:cubicBezTo>
                  <a:pt x="5400" y="10800"/>
                  <a:pt x="10800" y="11478"/>
                  <a:pt x="10800" y="12156"/>
                </a:cubicBezTo>
                <a:lnTo>
                  <a:pt x="10800" y="20244"/>
                </a:lnTo>
                <a:cubicBezTo>
                  <a:pt x="10800" y="2092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681560" y="1055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花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734120" y="2487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花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761120" y="3960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花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6537960" y="1168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色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6609240" y="2509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形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6645960" y="3960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Times New Roman"/>
              </a:rPr>
              <a:t>香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2604960" y="10429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片辉煌淡紫色、深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浅浅的紫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0"/>
          <p:cNvSpPr/>
          <p:nvPr/>
        </p:nvSpPr>
        <p:spPr>
          <a:xfrm>
            <a:off x="3895920" y="2514600"/>
            <a:ext cx="121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像一条瀑布，从空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垂下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3474000" y="396720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淡淡的芳香，香气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301680" y="954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者描写紫藤萝的树和花运用了哪些修辞手法，这样写有什么好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187164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见一片辉煌淡紫色，像一条瀑布，从空中垂下，不见其发端，也不见其终极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911520" y="1285920"/>
            <a:ext cx="12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228600" y="2798640"/>
            <a:ext cx="857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形象、生动、具体地写出紫藤萝生长的繁茂，隐含生命的绵延长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910800" y="3787920"/>
            <a:ext cx="12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拟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66680" y="4327560"/>
            <a:ext cx="88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是深深浅浅的紫，仿佛在流动，在欢笑，在不停地生长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228600" y="526896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花的颜色写成人的动作行为，生动形象地写出花的神态，赋予静景动态，显得生趣盎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755640" y="10684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…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淡淡的芳香，香气似乎也是浅紫色的，梦幻一般轻轻地笼罩着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350352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通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2828520" y="2860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香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矩形 2"/>
          <p:cNvSpPr/>
          <p:nvPr/>
        </p:nvSpPr>
        <p:spPr>
          <a:xfrm>
            <a:off x="2838240" y="378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颜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4627440" y="279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嗅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矩形 4"/>
          <p:cNvSpPr/>
          <p:nvPr/>
        </p:nvSpPr>
        <p:spPr>
          <a:xfrm>
            <a:off x="4627440" y="378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视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311120" y="2286000"/>
            <a:ext cx="2486160" cy="5467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tengluo"/>
          <p:cNvPicPr/>
          <p:nvPr/>
        </p:nvPicPr>
        <p:blipFill>
          <a:blip r:embed="rId2"/>
          <a:stretch/>
        </p:blipFill>
        <p:spPr>
          <a:xfrm>
            <a:off x="4340160" y="2273400"/>
            <a:ext cx="2498760" cy="5479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609480" y="76212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684360" y="527040"/>
            <a:ext cx="7489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察下面两幅图片，思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这两幅图片中你能探究出作者运用了哪种手法，有何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187280" y="1052280"/>
            <a:ext cx="676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探究结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对比手法，用十多年前紫藤萝花的不幸遭遇反衬眼前这片紫藤萝花的生逢其时，从中曲折地反映出时代的发展变化、人类文明进步的历史轨迹，这样写为引出作者的深入思考作了铺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547640" y="1267920"/>
            <a:ext cx="5623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由紫藤萝瀑布对生命产生了怎样的感悟？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3"/>
          <p:cNvSpPr/>
          <p:nvPr/>
        </p:nvSpPr>
        <p:spPr>
          <a:xfrm>
            <a:off x="1258920" y="765000"/>
            <a:ext cx="57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花和人都会遇到各种各样的不幸，但是生命的长河是无止境的。人的一生没有一帆风顺的，常会遇到坎坷，就像花一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7030a0"/>
                </a:solidFill>
                <a:latin typeface="宋体"/>
              </a:rPr>
              <a:t>作者感悟到生命的途径是曲折的，但生存的存在却是美好和永恒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855720" y="295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写作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23880" y="1228680"/>
            <a:ext cx="62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e16d9"/>
                </a:solidFill>
                <a:latin typeface="Times New Roman"/>
              </a:rPr>
              <a:t>借景抒情（托物言志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608040" y="1930320"/>
            <a:ext cx="457200" cy="1871640"/>
          </a:xfrm>
          <a:custGeom>
            <a:avLst/>
            <a:gdLst>
              <a:gd name="textAreaLeft" fmla="*/ 292320 w 457200"/>
              <a:gd name="textAreaRight" fmla="*/ 457560 w 45720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654120" y="18288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多方面描写（整体、局部</a:t>
            </a:r>
            <a:r>
              <a:rPr b="1" lang="en-US" sz="36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使用多种修辞手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6199200" y="25099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6156360" y="33577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7018200" y="2706840"/>
            <a:ext cx="52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7018200" y="1393920"/>
            <a:ext cx="59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4546a"/>
                </a:solidFill>
                <a:latin typeface="Times New Roman"/>
                <a:ea typeface="楷体_GB2312"/>
              </a:rPr>
              <a:t>具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54120" y="3070080"/>
            <a:ext cx="8424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抒情、议论的运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写景（描写）与抒情之间的关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情从景出、情景交融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提炼精辟的语句，要有点睛之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026"/>
          <p:cNvSpPr/>
          <p:nvPr/>
        </p:nvSpPr>
        <p:spPr>
          <a:xfrm>
            <a:off x="0" y="5335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28"/>
          <p:cNvSpPr/>
          <p:nvPr/>
        </p:nvSpPr>
        <p:spPr>
          <a:xfrm>
            <a:off x="1258920" y="1484280"/>
            <a:ext cx="604980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0a0"/>
                </a:solidFill>
                <a:latin typeface="华文新魏"/>
                <a:ea typeface="华文新魏"/>
              </a:rPr>
              <a:t>课文总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是一篇哲理散文，通过富有象征意义的紫藤萝花来表达对人生的感悟。作者由花儿的由衰到盛，联想到人生所遭遇到的各种挫折与不幸，继而想到生命的美好与永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203640" y="765000"/>
            <a:ext cx="4573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宗璞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(1927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，原名冯宗璞，当代女作家，为著名哲学家、哲学史家冯友兰之女。其小说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弦上的梦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》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1978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年获全国优秀短篇小说奖，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三生石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获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1977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1978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年全国优秀中篇小说奖；另创作了大量游记、散文，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西湖漫笔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紫藤萝瀑布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、丁香结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水仙辞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三松堂断忆</a:t>
            </a:r>
            <a:r>
              <a:rPr b="1" lang="en-US" sz="2400" spc="-1" strike="noStrike">
                <a:solidFill>
                  <a:srgbClr val="203864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203864"/>
                </a:solidFill>
                <a:latin typeface="Arial"/>
              </a:rPr>
              <a:t>等，清雅脱俗，温馨自然，充满了情趣、理趣和文化气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img55996_1"/>
          <p:cNvPicPr/>
          <p:nvPr/>
        </p:nvPicPr>
        <p:blipFill>
          <a:blip r:embed="rId1"/>
          <a:stretch/>
        </p:blipFill>
        <p:spPr>
          <a:xfrm>
            <a:off x="611280" y="2060640"/>
            <a:ext cx="2544840" cy="32209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6">
            <a:hlinkClick r:id="rId2" action="ppaction://hlinksldjump"/>
          </p:cNvPr>
          <p:cNvSpPr/>
          <p:nvPr/>
        </p:nvSpPr>
        <p:spPr>
          <a:xfrm>
            <a:off x="8634240" y="6019920"/>
            <a:ext cx="509760" cy="83808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838080"/>
              <a:gd name="textAreaBottom" fmla="*/ 805320 h 838080"/>
            </a:gdLst>
            <a:ahLst/>
            <a:rect l="textAreaLeft" t="textAreaTop" r="textAreaRight" b="textAreaBottom"/>
            <a:pathLst>
              <a:path w="21600" h="35502">
                <a:moveTo>
                  <a:pt x="0" y="0"/>
                </a:moveTo>
                <a:lnTo>
                  <a:pt x="21600" y="0"/>
                </a:lnTo>
                <a:lnTo>
                  <a:pt x="21600" y="35502"/>
                </a:lnTo>
                <a:lnTo>
                  <a:pt x="0" y="35502"/>
                </a:lnTo>
                <a:close/>
              </a:path>
              <a:path fill="lightenLess" w="21600" h="35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502">
                <a:moveTo>
                  <a:pt x="21600" y="0"/>
                </a:moveTo>
                <a:lnTo>
                  <a:pt x="21600" y="35502"/>
                </a:lnTo>
                <a:lnTo>
                  <a:pt x="20200" y="34102"/>
                </a:lnTo>
                <a:lnTo>
                  <a:pt x="20200" y="1400"/>
                </a:lnTo>
                <a:close/>
              </a:path>
              <a:path fill="darkenLess" w="21600" h="35502">
                <a:moveTo>
                  <a:pt x="21600" y="35502"/>
                </a:moveTo>
                <a:lnTo>
                  <a:pt x="0" y="35502"/>
                </a:lnTo>
                <a:lnTo>
                  <a:pt x="1400" y="34102"/>
                </a:lnTo>
                <a:lnTo>
                  <a:pt x="20200" y="34102"/>
                </a:lnTo>
                <a:close/>
              </a:path>
              <a:path fill="lighten" w="21600" h="35502">
                <a:moveTo>
                  <a:pt x="0" y="35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102"/>
                </a:lnTo>
                <a:close/>
              </a:path>
              <a:path fill="darken" w="21600" h="35502">
                <a:moveTo>
                  <a:pt x="3794" y="14444"/>
                </a:moveTo>
                <a:lnTo>
                  <a:pt x="7301" y="14444"/>
                </a:lnTo>
                <a:lnTo>
                  <a:pt x="7301" y="19779"/>
                </a:lnTo>
                <a:cubicBezTo>
                  <a:pt x="7301" y="20702"/>
                  <a:pt x="8102" y="21433"/>
                  <a:pt x="9138" y="21433"/>
                </a:cubicBezTo>
                <a:lnTo>
                  <a:pt x="10800" y="21433"/>
                </a:lnTo>
                <a:cubicBezTo>
                  <a:pt x="11836" y="21433"/>
                  <a:pt x="12636" y="20702"/>
                  <a:pt x="12636" y="19779"/>
                </a:cubicBezTo>
                <a:lnTo>
                  <a:pt x="12636" y="14444"/>
                </a:lnTo>
                <a:lnTo>
                  <a:pt x="10800" y="14444"/>
                </a:lnTo>
                <a:lnTo>
                  <a:pt x="14308" y="10936"/>
                </a:lnTo>
                <a:lnTo>
                  <a:pt x="17981" y="14444"/>
                </a:lnTo>
                <a:lnTo>
                  <a:pt x="16144" y="14444"/>
                </a:lnTo>
                <a:lnTo>
                  <a:pt x="16144" y="19779"/>
                </a:lnTo>
                <a:cubicBezTo>
                  <a:pt x="16144" y="22547"/>
                  <a:pt x="13568" y="25106"/>
                  <a:pt x="10800" y="25106"/>
                </a:cubicBezTo>
                <a:lnTo>
                  <a:pt x="9138" y="25106"/>
                </a:lnTo>
                <a:cubicBezTo>
                  <a:pt x="6370" y="25106"/>
                  <a:pt x="3794" y="22547"/>
                  <a:pt x="3794" y="19779"/>
                </a:cubicBezTo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紫藤萝1"/>
          <p:cNvPicPr/>
          <p:nvPr/>
        </p:nvPicPr>
        <p:blipFill>
          <a:blip r:embed="rId1"/>
          <a:stretch/>
        </p:blipFill>
        <p:spPr>
          <a:xfrm>
            <a:off x="55440" y="-122400"/>
            <a:ext cx="3810240" cy="3017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紫藤萝2"/>
          <p:cNvPicPr/>
          <p:nvPr/>
        </p:nvPicPr>
        <p:blipFill>
          <a:blip r:embed="rId2"/>
          <a:stretch/>
        </p:blipFill>
        <p:spPr>
          <a:xfrm>
            <a:off x="6686640" y="3486240"/>
            <a:ext cx="2201760" cy="25970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39640" y="2781360"/>
            <a:ext cx="613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紫藤”简介：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亦称“朱藤”、“藤萝”，豆科，高大木质藤本。奇数羽状复叶，成熟后无毛。春季开花，蝶形花冠，青紫色，总状花序，产于我国中部，供观赏，花含芳香油；茎皮纤维可织物；果实、根入药医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tl"/>
          <p:cNvPicPr/>
          <p:nvPr/>
        </p:nvPicPr>
        <p:blipFill>
          <a:blip r:embed="rId3"/>
          <a:stretch/>
        </p:blipFill>
        <p:spPr>
          <a:xfrm>
            <a:off x="4054320" y="-73080"/>
            <a:ext cx="4297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Su176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6">
            <a:hlinkClick r:id="rId1" action="ppaction://hlinksldjump"/>
          </p:cNvPr>
          <p:cNvSpPr/>
          <p:nvPr/>
        </p:nvSpPr>
        <p:spPr>
          <a:xfrm>
            <a:off x="8634240" y="6008760"/>
            <a:ext cx="509760" cy="83808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838080"/>
              <a:gd name="textAreaBottom" fmla="*/ 805320 h 838080"/>
            </a:gdLst>
            <a:ahLst/>
            <a:rect l="textAreaLeft" t="textAreaTop" r="textAreaRight" b="textAreaBottom"/>
            <a:pathLst>
              <a:path w="21600" h="35502">
                <a:moveTo>
                  <a:pt x="0" y="0"/>
                </a:moveTo>
                <a:lnTo>
                  <a:pt x="21600" y="0"/>
                </a:lnTo>
                <a:lnTo>
                  <a:pt x="21600" y="35502"/>
                </a:lnTo>
                <a:lnTo>
                  <a:pt x="0" y="35502"/>
                </a:lnTo>
                <a:close/>
              </a:path>
              <a:path fill="lightenLess" w="21600" h="355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502">
                <a:moveTo>
                  <a:pt x="21600" y="0"/>
                </a:moveTo>
                <a:lnTo>
                  <a:pt x="21600" y="35502"/>
                </a:lnTo>
                <a:lnTo>
                  <a:pt x="20200" y="34102"/>
                </a:lnTo>
                <a:lnTo>
                  <a:pt x="20200" y="1400"/>
                </a:lnTo>
                <a:close/>
              </a:path>
              <a:path fill="darkenLess" w="21600" h="35502">
                <a:moveTo>
                  <a:pt x="21600" y="35502"/>
                </a:moveTo>
                <a:lnTo>
                  <a:pt x="0" y="35502"/>
                </a:lnTo>
                <a:lnTo>
                  <a:pt x="1400" y="34102"/>
                </a:lnTo>
                <a:lnTo>
                  <a:pt x="20200" y="34102"/>
                </a:lnTo>
                <a:close/>
              </a:path>
              <a:path fill="lighten" w="21600" h="35502">
                <a:moveTo>
                  <a:pt x="0" y="3550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102"/>
                </a:lnTo>
                <a:close/>
              </a:path>
              <a:path fill="darken" w="21600" h="35502">
                <a:moveTo>
                  <a:pt x="3794" y="14444"/>
                </a:moveTo>
                <a:lnTo>
                  <a:pt x="7301" y="14444"/>
                </a:lnTo>
                <a:lnTo>
                  <a:pt x="7301" y="19779"/>
                </a:lnTo>
                <a:cubicBezTo>
                  <a:pt x="7301" y="20702"/>
                  <a:pt x="8102" y="21433"/>
                  <a:pt x="9138" y="21433"/>
                </a:cubicBezTo>
                <a:lnTo>
                  <a:pt x="10800" y="21433"/>
                </a:lnTo>
                <a:cubicBezTo>
                  <a:pt x="11836" y="21433"/>
                  <a:pt x="12636" y="20702"/>
                  <a:pt x="12636" y="19779"/>
                </a:cubicBezTo>
                <a:lnTo>
                  <a:pt x="12636" y="14444"/>
                </a:lnTo>
                <a:lnTo>
                  <a:pt x="10800" y="14444"/>
                </a:lnTo>
                <a:lnTo>
                  <a:pt x="14308" y="10936"/>
                </a:lnTo>
                <a:lnTo>
                  <a:pt x="17981" y="14444"/>
                </a:lnTo>
                <a:lnTo>
                  <a:pt x="16144" y="14444"/>
                </a:lnTo>
                <a:lnTo>
                  <a:pt x="16144" y="19779"/>
                </a:lnTo>
                <a:cubicBezTo>
                  <a:pt x="16144" y="22547"/>
                  <a:pt x="13568" y="25106"/>
                  <a:pt x="10800" y="25106"/>
                </a:cubicBezTo>
                <a:lnTo>
                  <a:pt x="9138" y="25106"/>
                </a:lnTo>
                <a:cubicBezTo>
                  <a:pt x="6370" y="25106"/>
                  <a:pt x="3794" y="22547"/>
                  <a:pt x="3794" y="19779"/>
                </a:cubicBezTo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6696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339640" y="1915920"/>
            <a:ext cx="44197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朗读指导：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长句的停顿要得当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朗读的节奏要缓急适当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朗读的语气、语调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句子的重读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准字音，注意感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2360" y="549360"/>
            <a:ext cx="8891640" cy="45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段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-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写作者偶见一树茂盛的紫藤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段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--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写作者睹物释怀，心上的焦虑和悲痛化为精神的宁静和生的喜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段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-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写作者由此感悟到生命的永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492360" y="549360"/>
            <a:ext cx="158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99"/>
                </a:solidFill>
                <a:latin typeface="华文新魏"/>
                <a:ea typeface="华文新魏"/>
              </a:rPr>
              <a:t>看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995640" y="2060640"/>
            <a:ext cx="1440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8000"/>
                </a:solidFill>
                <a:latin typeface="华文新魏"/>
                <a:ea typeface="华文新魏"/>
              </a:rPr>
              <a:t>花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211640" y="4221000"/>
            <a:ext cx="1582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8000"/>
                </a:solidFill>
                <a:latin typeface="华文新魏"/>
                <a:ea typeface="华文新魏"/>
              </a:rPr>
              <a:t>花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136400" y="5950080"/>
            <a:ext cx="531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800" spc="-1" strike="noStrike">
                <a:solidFill>
                  <a:srgbClr val="cc0099"/>
                </a:solidFill>
                <a:latin typeface="华文新魏"/>
                <a:ea typeface="华文新魏"/>
              </a:rPr>
              <a:t>文章围绕紫藤萝花来抒发感情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4140360" y="549360"/>
            <a:ext cx="66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8000"/>
                </a:solidFill>
                <a:latin typeface="华文新魏"/>
                <a:ea typeface="华文新魏"/>
              </a:rPr>
              <a:t>花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3348000" y="2060640"/>
            <a:ext cx="41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99"/>
                </a:solidFill>
                <a:latin typeface="华文新魏"/>
                <a:ea typeface="华文新魏"/>
              </a:rPr>
              <a:t>忆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3564000" y="4221000"/>
            <a:ext cx="66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99"/>
                </a:solidFill>
                <a:latin typeface="华文新魏"/>
                <a:ea typeface="华文新魏"/>
              </a:rPr>
              <a:t>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3"/>
          <p:cNvSpPr/>
          <p:nvPr/>
        </p:nvSpPr>
        <p:spPr>
          <a:xfrm>
            <a:off x="250920" y="278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作者的思想感情在文中发生了哪些变化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755640" y="1989000"/>
            <a:ext cx="13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观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429000" y="199548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忆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156360" y="198900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悟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 rot="5400000">
            <a:off x="3987360" y="278928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2560680" y="23400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31240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欢腾、喜悦的情趣旺盛、蓬勃的生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3581280" y="31240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抚慰内心伤痛惊叹藤萝复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6781680" y="3124080"/>
            <a:ext cx="24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生命的美好、顽强、永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124080" y="37339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6229440" y="37339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3705120" y="2631960"/>
            <a:ext cx="854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5372280" y="237960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4"/>
          <p:cNvSpPr/>
          <p:nvPr/>
        </p:nvSpPr>
        <p:spPr>
          <a:xfrm rot="5180400">
            <a:off x="6992280" y="28321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1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16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1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00:38:19Z</dcterms:created>
  <dc:creator/>
  <dc:description/>
  <dc:language>en-US</dc:language>
  <cp:lastModifiedBy>Administrator</cp:lastModifiedBy>
  <dcterms:modified xsi:type="dcterms:W3CDTF">2016-12-12T00:56:24Z</dcterms:modified>
  <cp:revision>4</cp:revision>
  <dc:subject/>
  <dc:title/>
</cp:coreProperties>
</file>