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C03-F3CD-42DA-8400-1D98EF17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2F3-A273-4053-BAE9-89A7945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454-C1EB-47E3-B8B5-A4E80E9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4E7-B620-4EDD-95EF-DB149065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E8B4-60F2-4E0C-990E-EBC825D1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2CBD-5736-4750-8549-591F72C6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9982-2BCE-4A9C-86CD-07E6065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86F-352A-4953-851B-79152BB8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8C45-0F23-4D64-9EC3-54D340A1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072-60E7-4ECC-B3E1-3CFD74B2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A850-4B13-47EC-A82F-9BE357B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166-56CC-4F00-B439-564A7559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87B2-EDD7-44CF-9735-509C2FD8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5B6-5F60-42B6-8EC1-0399C41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488D-D744-4B11-B1DA-1D6ECB6E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D22-D624-47AE-8E84-6A6E735F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709A-96E3-4CF8-8AEE-662D461A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F4BA-0197-477A-8970-363F1B5A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0120-9C3E-4A6E-AC39-81CF8B2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6537-EA14-4D5D-BDEB-F101FBF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D084-43DE-4992-98D7-F7A67E64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525C-82B8-4D3C-A294-749FD2D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B26-F221-4BA4-B015-FDD57916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2484-BBAB-47E1-994E-B04F9B3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5403-CC9F-4EC2-9F3A-C74A128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2F1B-D6B5-456F-9DD6-0408B60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FCB7-BEEE-4DD8-B8B6-3691E61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42A8-D0B2-4EC6-B317-21714160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1726-7B91-4FA1-ADEE-BDEED6B2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EB1F-AFF9-44A0-A203-93CD392F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E255-1C51-454E-AE46-4445701D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D667-E84C-4E9E-BD60-6CCE74C8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AFB5-444D-4C0E-88A2-2118FF4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D5F-278E-4D2B-BE6E-EC4554E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ED94-1075-4CF3-AF3B-B7821CE3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8E1B-2093-4C1E-AC12-B8D0E5E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AC41-9C74-40EB-A1F8-555858CF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4C8A-9F59-4BA5-8941-8A56AF7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CDC7-1CDA-4B6C-BC02-4D31956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7824-E355-4E6A-B59D-DAB1FE7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3EDF-A2ED-4270-BFE8-8B256AC7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1F0F-AA0D-4338-933E-64161E8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F8A9-3CE3-401E-BBE3-2BF1A526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32C8-CBF1-4534-8BE8-DD1DA7AF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D4C-89F7-4C28-B27C-E4B09CCA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BB47-027D-461C-BAD0-A882D352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FC84-8B35-4E71-9106-8AF7E400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DEB9-F0AE-49BB-9901-9CDCBAB3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8E7AC-87E3-499C-8F2A-D696AEE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4633-3C4D-4F5C-BADC-241D27E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8A80-DA3D-4E42-AABB-3525119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4AE8-8330-413F-A7BE-CDC0ADD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2E6B-8F1F-461B-BC45-4C74F3E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499D6-9C20-4DAC-AE8E-C1762681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99D1-8560-40C7-B29B-003C3F07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75F-3D69-48EF-B629-E97FC02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5A3E-C181-467E-883D-3BEC8CD3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F6332-C983-4626-B269-25B5B86C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45B8-043E-490D-AE64-9E4BCE3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7D582-ED96-4D4F-8F1B-BD2597F8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D260-C1A9-4578-BF71-C4E6431B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20ACA-99FF-4942-AC0E-3C0BE4B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1610-EC70-4C3C-B321-9F6FB5CC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7F96-E971-4414-9CDD-6A2840C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FB15-1B9F-4D65-A903-70746421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34C84-3E48-4ACB-A86D-7AB758B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D6A-8FCB-4716-B43A-AD4E633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B4F9-7ED8-4614-9841-28532060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1DCB-CEC7-40D4-811D-128B2106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FC0EE-C27B-4110-9810-4F159C6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CD2-E1B8-469B-B374-E00A081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C48-9A9C-42BD-9A0B-DA70E253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2D7D-BC03-478E-AD6F-A6BE5491F6E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8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B1EF-A702-4E16-9A43-166044448A4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203-0E80-4699-A126-6E17CA54547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47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8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811-39B7-4421-91C3-865BB8583CD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96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0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0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2966-60EF-42E6-B812-1436FB6480C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55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56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CEF7-E71C-4F4F-88BD-891EAAA1A1A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0" y="2708280"/>
            <a:ext cx="9144000" cy="15238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871640" y="2843280"/>
            <a:ext cx="52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课 永生的眼睛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1736640" y="3699000"/>
            <a:ext cx="526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2816280" y="3833640"/>
            <a:ext cx="30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六年级下册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066680" y="131112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我真为你、为外公所做的一切感到骄傲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71640" y="2664000"/>
            <a:ext cx="703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岁的温迪在妈妈捐献外公的角膜后，不仅没有像当年的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那样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痛苦难忍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反到为自己的亲人帮助他人而感到自豪。温迪的言语，表明了对器官捐献的正确认识，闪耀着她思想的光芒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3086280" y="324000"/>
            <a:ext cx="5446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远方淡蓝的大海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那永恒的痛苦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尘土隐没在你的眼中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眼睛是清泉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它的希望的光照着我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通过流水的闪烁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宛如水底的珍珠。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09840" y="1854360"/>
            <a:ext cx="189684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你的眼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2" name="AutoShape 45"/>
          <p:cNvSpPr/>
          <p:nvPr/>
        </p:nvSpPr>
        <p:spPr>
          <a:xfrm>
            <a:off x="206280" y="14292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诗歌欣赏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33" name="Picture 8" descr="图片5"/>
          <p:cNvPicPr/>
          <p:nvPr/>
        </p:nvPicPr>
        <p:blipFill>
          <a:blip r:embed="rId1"/>
          <a:stretch/>
        </p:blipFill>
        <p:spPr>
          <a:xfrm>
            <a:off x="7137360" y="819000"/>
            <a:ext cx="1103400" cy="40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85920" y="1943280"/>
            <a:ext cx="846612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宋体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</a:rPr>
              <a:t>作业设计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替重见天日的角膜接受者写一封感谢信，表达出对于那些勇于奉献的人们的感恩之情 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AutoShape 45"/>
          <p:cNvSpPr/>
          <p:nvPr/>
        </p:nvSpPr>
        <p:spPr>
          <a:xfrm>
            <a:off x="162000" y="14292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后作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36" name="Picture 6" descr="图片9"/>
          <p:cNvPicPr/>
          <p:nvPr/>
        </p:nvPicPr>
        <p:blipFill>
          <a:blip r:embed="rId1"/>
          <a:srcRect l="0" t="5724" r="0" b="0"/>
          <a:stretch/>
        </p:blipFill>
        <p:spPr>
          <a:xfrm>
            <a:off x="0" y="5364000"/>
            <a:ext cx="9144000" cy="14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50920" y="1493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向你身边的人讲述这个故事，并结合课前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集的资料向他们宣传器官捐献的意义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一封倡议书，号召你的小伙伴参与到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捐献的事业中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5"/>
          <p:cNvSpPr/>
          <p:nvPr/>
        </p:nvSpPr>
        <p:spPr>
          <a:xfrm>
            <a:off x="162000" y="14292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外拓展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27000" y="1763640"/>
            <a:ext cx="770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生      角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给予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捐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赠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屡屡获奖  热泪盈眶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见天日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栩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生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萦绕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华横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与世长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辞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AutoShape 45"/>
          <p:cNvSpPr/>
          <p:nvPr/>
        </p:nvSpPr>
        <p:spPr>
          <a:xfrm>
            <a:off x="206280" y="189000"/>
            <a:ext cx="2210040" cy="76176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6264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47" y="21600"/>
                </a:lnTo>
                <a:arcTo wR="3600" hR="3600" stAng="10800000" swAng="5400000"/>
                <a:lnTo>
                  <a:pt x="6264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词语积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09" name="Picture 11" descr="图片145"/>
          <p:cNvPicPr/>
          <p:nvPr/>
        </p:nvPicPr>
        <p:blipFill>
          <a:blip r:embed="rId1"/>
          <a:srcRect l="15093" t="0" r="0" b="0"/>
          <a:stretch/>
        </p:blipFill>
        <p:spPr>
          <a:xfrm>
            <a:off x="0" y="5140440"/>
            <a:ext cx="2097000" cy="17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22360" y="68400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见天日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①比喻脱离黑暗环境，重新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到光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文中指让盲人恢复视力，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到光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图片154"/>
          <p:cNvPicPr/>
          <p:nvPr/>
        </p:nvPicPr>
        <p:blipFill>
          <a:blip r:embed="rId1"/>
          <a:stretch/>
        </p:blipFill>
        <p:spPr>
          <a:xfrm>
            <a:off x="0" y="4327560"/>
            <a:ext cx="23162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657360" y="954000"/>
            <a:ext cx="7019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多音字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ji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借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hó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复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假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重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ji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ò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1241280" y="2259000"/>
            <a:ext cx="495360" cy="2025720"/>
          </a:xfrm>
          <a:custGeom>
            <a:avLst/>
            <a:gdLst>
              <a:gd name="textAreaLeft" fmla="*/ 316440 w 495360"/>
              <a:gd name="textAreaRight" fmla="*/ 495720 w 495360"/>
              <a:gd name="textAreaTop" fmla="*/ 52560 h 2025720"/>
              <a:gd name="textAreaBottom" fmla="*/ 1973160 h 20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4122720" y="2303640"/>
            <a:ext cx="495360" cy="2025360"/>
          </a:xfrm>
          <a:custGeom>
            <a:avLst/>
            <a:gdLst>
              <a:gd name="textAreaLeft" fmla="*/ 316440 w 495360"/>
              <a:gd name="textAreaRight" fmla="*/ 495720 w 495360"/>
              <a:gd name="textAreaTop" fmla="*/ 52560 h 2025360"/>
              <a:gd name="textAreaBottom" fmla="*/ 1972800 h 20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15" name="Picture 8" descr="图片189"/>
          <p:cNvPicPr/>
          <p:nvPr/>
        </p:nvPicPr>
        <p:blipFill>
          <a:blip r:embed="rId1"/>
          <a:stretch/>
        </p:blipFill>
        <p:spPr>
          <a:xfrm>
            <a:off x="0" y="4734000"/>
            <a:ext cx="194796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71640" y="1179360"/>
            <a:ext cx="585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赏读课文，感受人性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476280" y="2193840"/>
            <a:ext cx="819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课文中的故事感人至深，请你带着自己的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受朗读全文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以小组合作的方式，分角色朗读课文。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求读好人物的对话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交流感想：读过课文之后，你又产生了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些新的感受，与同学们谈一谈。可以对文中的某个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51788"/>
                </a:solidFill>
                <a:latin typeface="楷体_GB2312"/>
                <a:ea typeface="楷体_GB2312"/>
              </a:rPr>
              <a:t>人物发表看法，也可以对事情本身阐发议论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AutoShape 45"/>
          <p:cNvSpPr/>
          <p:nvPr/>
        </p:nvSpPr>
        <p:spPr>
          <a:xfrm>
            <a:off x="206280" y="14292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精读课文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2000" y="414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你怎么能让他们这样对待妈妈！”我冲着爸爸哭喊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妈妈完整地来到世上，也应该完整地离去。”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250920" y="25732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身体发肤，受之于父母”，深爱着母亲的我无法接受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捐赠母亲角膜的决定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于是我忍不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冲着父亲哭喊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21" name="Picture 7" descr="图片255"/>
          <p:cNvPicPr/>
          <p:nvPr/>
        </p:nvPicPr>
        <p:blipFill>
          <a:blip r:embed="rId1"/>
          <a:stretch/>
        </p:blipFill>
        <p:spPr>
          <a:xfrm>
            <a:off x="0" y="4959360"/>
            <a:ext cx="1355760" cy="18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11280" y="728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人能给予他人的最珍贵的东西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莫过于自己身体的一部分。你妈妈和我都觉得，如果我们死后的身体能有助于他人恢复健康，那我们的死就是有意义的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22360" y="2933640"/>
            <a:ext cx="8235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身体比任何金钱、地位等都重要，因为一旦给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予了他人，自己将不再有了；对人来说死亡就是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向终结，然而生命却能够在别人身上得到延续，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们能够重获新生，更多地为社会作出贡献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701640" y="638280"/>
            <a:ext cx="80564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赏析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琳达的父亲劝慰自己的女儿所说的一段含义深刻的话，表达了两层意思 ：一是你所能给予他人的最珍贵的东西莫过于你自身的一部分；二是如果死亡之躯能有助于他人恢复健康，这样的死才是有意义的。这段话体现了琳达父母善于为他人着想、无私奉献的高尚的思想境界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1402920"/>
            <a:ext cx="85410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在这一刻我领悟到，父亲所留下的远非一副角</a:t>
            </a:r>
            <a:br>
              <a:rPr sz="2100"/>
            </a:br>
            <a:br>
              <a:rPr sz="2100"/>
            </a:b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膜，他所遗留的是辉映在我女儿眼睛里的一片骄傲。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1280" y="3247920"/>
            <a:ext cx="85406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女儿为死后能捐献角膜，帮助别人而感到骄傲，她的外公为他人造福的精神已经深深地影响着女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图片54"/>
          <p:cNvPicPr/>
          <p:nvPr/>
        </p:nvPicPr>
        <p:blipFill>
          <a:blip r:embed="rId1"/>
          <a:stretch/>
        </p:blipFill>
        <p:spPr>
          <a:xfrm>
            <a:off x="5921280" y="5191200"/>
            <a:ext cx="21672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</cp:lastModifiedBy>
  <dcterms:modified xsi:type="dcterms:W3CDTF">2017-11-25T05:25:0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