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0F626-2BCD-4783-877C-D3900083E7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9FD04-273B-4EFC-A289-98A7928E1E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2" descr="屏幕剪辑"/>
          <p:cNvPicPr/>
          <p:nvPr/>
        </p:nvPicPr>
        <p:blipFill>
          <a:blip r:embed="rId1"/>
          <a:stretch/>
        </p:blipFill>
        <p:spPr>
          <a:xfrm>
            <a:off x="1536840" y="2401920"/>
            <a:ext cx="6229080" cy="284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0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4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井冈翠竹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6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文本框 13"/>
              <p:cNvSpPr/>
              <p:nvPr/>
            </p:nvSpPr>
            <p:spPr>
              <a:xfrm>
                <a:off x="240588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749160" y="14382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井冈山是压不倒、烧不光的。毛竹年年绿，为的是等待亲人，等待当年用竹筒盛水蒸饭、用竹钉竹枪打白匪的红军，等待自己的英雄子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755640" y="371484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此处运用象征手法，表面上写的是毛竹，实则写的是井冈山人，毛竹就是井冈山人的象征。井冈山人同毛竹一样不向残暴低头、不向敌人弯腰，他们与红军的血肉深情已凝结在骨子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标注 6"/>
          <p:cNvSpPr/>
          <p:nvPr/>
        </p:nvSpPr>
        <p:spPr>
          <a:xfrm>
            <a:off x="6491160" y="2979720"/>
            <a:ext cx="176400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象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749160" y="14382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井冈山的翠竹啊！去吧，去吧，快快地去吧！多少工地，多少工厂矿山，多少高楼大厦，多少城市和农村，都在殷切地等待着你们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755640" y="371484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井冈翠竹不但为革命建立功勋，而且现在和将来仍将贡献着它的力量。这里抒发了作者对毛竹和井冈山人奉献精神的赞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标注 6"/>
          <p:cNvSpPr/>
          <p:nvPr/>
        </p:nvSpPr>
        <p:spPr>
          <a:xfrm>
            <a:off x="6491160" y="2979720"/>
            <a:ext cx="176400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抒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858960" y="109044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井冈山的翠竹啊！去吧，去吧，快快地去吧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都在等待着你们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24" descr="花盆.png"/>
          <p:cNvPicPr/>
          <p:nvPr/>
        </p:nvPicPr>
        <p:blipFill>
          <a:blip r:embed="rId1"/>
          <a:stretch/>
        </p:blipFill>
        <p:spPr>
          <a:xfrm>
            <a:off x="642960" y="123336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874800" y="272268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少学校　多少社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3"/>
          <p:cNvGrpSpPr/>
          <p:nvPr/>
        </p:nvGrpSpPr>
        <p:grpSpPr>
          <a:xfrm>
            <a:off x="5259240" y="3395520"/>
            <a:ext cx="3386160" cy="3036960"/>
            <a:chOff x="5259240" y="3395520"/>
            <a:chExt cx="3386160" cy="3036960"/>
          </a:xfrm>
        </p:grpSpPr>
        <p:pic>
          <p:nvPicPr>
            <p:cNvPr id="99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395520"/>
              <a:ext cx="3386160" cy="30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1"/>
            <p:cNvSpPr/>
            <p:nvPr/>
          </p:nvSpPr>
          <p:spPr>
            <a:xfrm>
              <a:off x="5691960" y="3619080"/>
              <a:ext cx="18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635040" y="161928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977760" y="315612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井冈山的竹子在革命年代与红军一起打天下，它能当武器打击敌人；也能给红军做吃饭用的器具；还能在困难时期给红军做挑粮用的扁担。而到了建设时期，井冈山的竹子又担负起了建设祖国的重任，它走出深山投入到了新的革命任务之中，去完成新中国的建设，为祖国做出新的贡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961920" y="215100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了本文后，你觉得井冈山的竹子在革命时期和建设时期做了哪些贡献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531720" y="104292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一说井冈山的竹子有什么样的神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197000" y="304308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井冈山的竹子很多，望不到头；竹子很密、很有生机，郁郁苍苍的；而且形态各异，很有气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625320" y="22683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井冈翠竹在革命时期有怎样的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039680" y="28656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井冈翠竹在革命时期是神勇的。它能同敌人打仗，也能为红军战士做贡献，在革命中和红军一样神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内容占位符 2"/>
          <p:cNvSpPr/>
          <p:nvPr/>
        </p:nvSpPr>
        <p:spPr>
          <a:xfrm>
            <a:off x="804960" y="127476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井冈翠竹在建设时期是怎样离开深山的？为祖国做了怎样的贡献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1039680" y="23320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建设时期井冈翠竹是被井冈山人送出深山的。为了能把竹子投入到祖国需要的地方去，井冈山人在竹林里待了几百个日夜，想出很多的办法，他们用毛竹盖房，住在深山里。然后又修成竹滑道，水滑道等方法来送竹子。井冈山人又克服了恶劣的环境来砍伐竹子，终于完成了任务，井冈翠竹得以走出深山，满足祖国新的革命需要，做出新的贡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790560" y="154764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表面是写竹子，实际上写的是什么？这是什么手法？有什么好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198440" y="264492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面上写的是竹子，实际上写的是井冈山人，这是运用了象征的手法。这种手法的运用，可以使抽象的事物更形象，把对人的精神的赞美，变成对翠竹的赞美，从而给读者留下深刻的印象，给读者留下咀嚼回味的余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26"/>
          <p:cNvSpPr/>
          <p:nvPr/>
        </p:nvSpPr>
        <p:spPr>
          <a:xfrm>
            <a:off x="962640" y="27244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井冈翠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左大括号 3"/>
          <p:cNvSpPr/>
          <p:nvPr/>
        </p:nvSpPr>
        <p:spPr>
          <a:xfrm>
            <a:off x="3254400" y="2184480"/>
            <a:ext cx="357120" cy="100152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001520"/>
              <a:gd name="textAreaBottom" fmla="*/ 99252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1"/>
                  <a:pt x="10800" y="642"/>
                </a:cubicBezTo>
                <a:lnTo>
                  <a:pt x="10800" y="10158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1"/>
                  <a:pt x="10800" y="11442"/>
                </a:cubicBezTo>
                <a:lnTo>
                  <a:pt x="10800" y="20958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左大括号 6"/>
          <p:cNvSpPr/>
          <p:nvPr/>
        </p:nvSpPr>
        <p:spPr>
          <a:xfrm>
            <a:off x="1617840" y="2133720"/>
            <a:ext cx="312480" cy="389232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3892320"/>
              <a:gd name="textAreaBottom" fmla="*/ 3884400 h 389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5"/>
                </a:cubicBezTo>
                <a:lnTo>
                  <a:pt x="10800" y="10655"/>
                </a:lnTo>
                <a:cubicBezTo>
                  <a:pt x="10800" y="10728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5"/>
                </a:cubicBezTo>
                <a:lnTo>
                  <a:pt x="10800" y="21455"/>
                </a:lnTo>
                <a:cubicBezTo>
                  <a:pt x="10800" y="2152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446640" y="2143080"/>
            <a:ext cx="5076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远看苍翠  繁盛广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近看修直 挺拔茂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左大括号 24"/>
          <p:cNvSpPr/>
          <p:nvPr/>
        </p:nvSpPr>
        <p:spPr>
          <a:xfrm flipH="1">
            <a:off x="6352560" y="2270160"/>
            <a:ext cx="344520" cy="3676680"/>
          </a:xfrm>
          <a:custGeom>
            <a:avLst/>
            <a:gdLst>
              <a:gd name="textAreaLeft" fmla="*/ 219960 w 344520"/>
              <a:gd name="textAreaRight" fmla="*/ 344520 w 344520"/>
              <a:gd name="textAreaTop" fmla="*/ 9000 h 3676680"/>
              <a:gd name="textAreaBottom" fmla="*/ 3667680 h 367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2075040" y="24703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翠竹的神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26"/>
          <p:cNvSpPr/>
          <p:nvPr/>
        </p:nvSpPr>
        <p:spPr>
          <a:xfrm>
            <a:off x="6693840" y="1686600"/>
            <a:ext cx="139932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无私奉献展情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坚贞不屈立功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左大括号 18"/>
          <p:cNvSpPr/>
          <p:nvPr/>
        </p:nvSpPr>
        <p:spPr>
          <a:xfrm>
            <a:off x="3359160" y="3298680"/>
            <a:ext cx="357120" cy="15480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548000"/>
              <a:gd name="textAreaBottom" fmla="*/ 1539000 h 15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9"/>
          <p:cNvSpPr/>
          <p:nvPr/>
        </p:nvSpPr>
        <p:spPr>
          <a:xfrm>
            <a:off x="3564000" y="3257640"/>
            <a:ext cx="5076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毛竹是革命的竹子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毛竹是援军的工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毛竹是抗敌的武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0"/>
          <p:cNvSpPr/>
          <p:nvPr/>
        </p:nvSpPr>
        <p:spPr>
          <a:xfrm>
            <a:off x="2121120" y="38577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翠竹的神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左大括号 21"/>
          <p:cNvSpPr/>
          <p:nvPr/>
        </p:nvSpPr>
        <p:spPr>
          <a:xfrm>
            <a:off x="3344760" y="4959360"/>
            <a:ext cx="357120" cy="10666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066680"/>
              <a:gd name="textAreaBottom" fmla="*/ 10576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2"/>
                  <a:pt x="10800" y="603"/>
                </a:cubicBezTo>
                <a:lnTo>
                  <a:pt x="10800" y="10197"/>
                </a:lnTo>
                <a:cubicBezTo>
                  <a:pt x="10800" y="10499"/>
                  <a:pt x="5400" y="10800"/>
                  <a:pt x="0" y="10800"/>
                </a:cubicBezTo>
                <a:cubicBezTo>
                  <a:pt x="5400" y="10800"/>
                  <a:pt x="10800" y="11102"/>
                  <a:pt x="10800" y="11403"/>
                </a:cubicBezTo>
                <a:lnTo>
                  <a:pt x="10800" y="20997"/>
                </a:lnTo>
                <a:cubicBezTo>
                  <a:pt x="10800" y="2129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2"/>
          <p:cNvSpPr/>
          <p:nvPr/>
        </p:nvSpPr>
        <p:spPr>
          <a:xfrm>
            <a:off x="3537000" y="4917960"/>
            <a:ext cx="5076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期  开发井冈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建设国家 无私奉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3"/>
          <p:cNvSpPr/>
          <p:nvPr/>
        </p:nvSpPr>
        <p:spPr>
          <a:xfrm>
            <a:off x="2082960" y="5267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翠竹的奉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合时代背景感受井岗翠山的精神，理解井岗翠山的象征意义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本文的语言，初步领悟记叙、描写、抒情、议论等不同的表达方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先写了井冈翠竹在革命时期与井冈山军民的关系，又写了井冈翠竹在社会主义建设时期所表现出来的革命精神，讴歌了井冈山人民的革命英雄主义精神，表达了作者对井冈山人民的崇敬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9" name="组合 3"/>
          <p:cNvGrpSpPr/>
          <p:nvPr/>
        </p:nvGrpSpPr>
        <p:grpSpPr>
          <a:xfrm>
            <a:off x="558720" y="911160"/>
            <a:ext cx="2594160" cy="666720"/>
            <a:chOff x="558720" y="911160"/>
            <a:chExt cx="2594160" cy="666720"/>
          </a:xfrm>
        </p:grpSpPr>
        <p:sp>
          <p:nvSpPr>
            <p:cNvPr id="140" name="圆角矩形 4"/>
            <p:cNvSpPr/>
            <p:nvPr/>
          </p:nvSpPr>
          <p:spPr>
            <a:xfrm>
              <a:off x="1374840" y="10490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91116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634040" y="10681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内容占位符 2"/>
          <p:cNvSpPr/>
          <p:nvPr/>
        </p:nvSpPr>
        <p:spPr>
          <a:xfrm>
            <a:off x="996840" y="139716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井冈山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车在飞奔，心在飞奔，我们正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往那绵延五百里的革命摇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井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山。一扑进她的怀抱，崇山峻岭、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涓清泉马上映入眼帘。井冈山如此美丽，仿佛仙境一般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沿登山公路盘旋而上，我们来到慕名已久的黄洋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黄洋界是井冈山北面的天然屏障。山势巍峨，峰峦峻拔，难怪毛主席曾经感慨：“过了黄洋界，险处不须看。”站在黄洋界上举目远眺，只见群山起伏，云雾弥蒙。那白茫茫的云海，如惊涛拍岸，又如烟波徐徐飘飞。山峰从云海中探出头来，像大海中的点点岛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1" descr="屏幕剪辑"/>
          <p:cNvPicPr/>
          <p:nvPr/>
        </p:nvPicPr>
        <p:blipFill>
          <a:blip r:embed="rId3"/>
          <a:stretch/>
        </p:blipFill>
        <p:spPr>
          <a:xfrm>
            <a:off x="5370480" y="1944720"/>
            <a:ext cx="29988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996840" y="135900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向下看是美丽的大峡谷。两旁山坡上郁郁葱葱的阔叶林，依稀可见血红的杜鹃花。特别耀眼的是谷底的那条溪涧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à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，在阳光的照射下，如同一条细长的银蛇，逶迤前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站在昔日地势险要、防守森严的黄洋界哨口，看不见战旗飘飘，听不到炮声隆隆。身旁的炮台和纪念碑，仿佛在默默地讲述当年军民齐心协力击溃敌军的故事。不远处，毛泽东、朱德挑粮上山时曾歇息过的那棵黄槲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树，如今枝繁叶茂。此刻，我仿佛听见了毛泽东那浓浓的湖南乡音，看到了朱德那根有名的青竹扁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井冈山，英雄的山，美丽的山。看着满山苍翠，呼吸着清新空气，我不禁陶醉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8" descr="屏幕剪辑"/>
          <p:cNvPicPr/>
          <p:nvPr/>
        </p:nvPicPr>
        <p:blipFill>
          <a:blip r:embed="rId1"/>
          <a:stretch/>
        </p:blipFill>
        <p:spPr>
          <a:xfrm>
            <a:off x="798480" y="1968480"/>
            <a:ext cx="7772400" cy="4164120"/>
          </a:xfrm>
          <a:prstGeom prst="rect">
            <a:avLst/>
          </a:prstGeom>
          <a:ln w="0">
            <a:noFill/>
          </a:ln>
        </p:spPr>
      </p:pic>
      <p:sp>
        <p:nvSpPr>
          <p:cNvPr id="147" name="矩形 1"/>
          <p:cNvSpPr/>
          <p:nvPr/>
        </p:nvSpPr>
        <p:spPr>
          <a:xfrm>
            <a:off x="900000" y="2171880"/>
            <a:ext cx="7567560" cy="2211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宁可食无肉，不可使居无竹。 无肉令人瘦，无竹令人俗。 人瘦尚可肥，士俗不可医。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於潜僧绿筠轩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苏轼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　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刚直凌云志，虚怀不私偏，郁郁婆娑叶，经冬不凋残。迎风更潇洒，亮节益韧坚。君承竹风格，研竹数十年。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潇湘竹子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无赖杏花多意绪，数枝穿翠好相容。 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竹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郑谷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　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9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屏幕剪辑"/>
          <p:cNvPicPr/>
          <p:nvPr/>
        </p:nvPicPr>
        <p:blipFill>
          <a:blip r:embed="rId1"/>
          <a:stretch/>
        </p:blipFill>
        <p:spPr>
          <a:xfrm>
            <a:off x="798480" y="1968480"/>
            <a:ext cx="7772400" cy="416412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>
            <a:off x="1077840" y="2311560"/>
            <a:ext cx="7234200" cy="2349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人赏高节，徒自抱贞心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咏竹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刘孝先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磨万击还坚劲，任尔东西南北风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竹石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郑燮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竹笋才生黄犊角，蕨芽初长小儿拳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咏竹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黄庭坚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5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1677240" y="2095560"/>
            <a:ext cx="18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于竹子的对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1265400" y="256212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联：高风亮节立天地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下联：虚怀若谷住人间　横批：竹怀心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1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矩形 1"/>
          <p:cNvSpPr/>
          <p:nvPr/>
        </p:nvSpPr>
        <p:spPr>
          <a:xfrm>
            <a:off x="1489680" y="378936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孟宗哭竹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1208160" y="425592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晋孟宗，少丧父，母老，病笃，冬日思笋煮羮食。宗无计可得，乃往竹林中，抱竹而泣。孝感天地，须臾，地裂，出笋数茎，持归作羹奉母。食毕，病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7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井冈翠竹是革命的竹子，过去为革命建立功勋，现在和将来为社会主义、共产主义继续奉献。井冈精神是中国人民的革命气节和革命精神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2"/>
          <p:cNvSpPr/>
          <p:nvPr/>
        </p:nvSpPr>
        <p:spPr>
          <a:xfrm>
            <a:off x="816120" y="3889440"/>
            <a:ext cx="72882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无论是描写、记叙，还是抒情、议论，在朗读时都应注重结合具体的语言环境，注意语气、语速、语感，从而感受井冈翠竹所表现出来的革命精神。如描写部分，作者用立体感强、生动形象的语言把井冈翠竹的外形生动、具体地描绘出来，给人以栩栩如生之感，读这一自然段时要读出排比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70" name="矩形 2"/>
          <p:cNvSpPr/>
          <p:nvPr/>
        </p:nvSpPr>
        <p:spPr>
          <a:xfrm>
            <a:off x="485640" y="2259000"/>
            <a:ext cx="78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第二自然段侧重描写，第五自然段侧重记叙，第八自然段则侧重抒情、议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，领悟不同的表达方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3"/>
          <p:cNvGrpSpPr/>
          <p:nvPr/>
        </p:nvGrpSpPr>
        <p:grpSpPr>
          <a:xfrm>
            <a:off x="522360" y="1747800"/>
            <a:ext cx="5027400" cy="527040"/>
            <a:chOff x="522360" y="1747800"/>
            <a:chExt cx="5027400" cy="527040"/>
          </a:xfrm>
        </p:grpSpPr>
        <p:sp>
          <p:nvSpPr>
            <p:cNvPr id="172" name="矩形 1"/>
            <p:cNvSpPr/>
            <p:nvPr/>
          </p:nvSpPr>
          <p:spPr>
            <a:xfrm>
              <a:off x="977400" y="175464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朗读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Picture 5" descr="E:\各版本共用文件\0未分类文件\图片\课件制作所需图片\四叶草.png"/>
            <p:cNvPicPr/>
            <p:nvPr/>
          </p:nvPicPr>
          <p:blipFill>
            <a:blip r:embed="rId2"/>
            <a:stretch/>
          </p:blipFill>
          <p:spPr>
            <a:xfrm>
              <a:off x="522360" y="174780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835200" y="4173480"/>
            <a:ext cx="7534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朗读参考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从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远处看↘，郁郁⌒苍苍，重重⌒叠叠，望不到头。到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近处看↘，有的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修直挺拔↗，好似当年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山头的岗哨；有的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密密麻麻↗，好似埋伏在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深坳里的奇兵；有的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看来出世还不久，却也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亭亭⌒玉立，别有一番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神采⌒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2798640" y="44053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4043520" y="4878360"/>
            <a:ext cx="10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7578720" y="49053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1784520" y="5353200"/>
            <a:ext cx="10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.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4943520" y="58453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4861080" y="53452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878040" y="1076400"/>
            <a:ext cx="7381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句的气势，使人如临其境；记叙部分是作者对翠竹作用的叙述和交待，要读出几个反问句强烈的语气，正常语速即可；而抒情部分则要语气铿锵、饱含深情地把翠竹坚贞不屈的精神表现出来，语速稍快，读出顶针修辞手法的急促感。课文中这几个部分的叙述，情感是递进的，从外形到作用，再从作用到精神，读全篇时，要注意把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"/>
          <p:cNvSpPr/>
          <p:nvPr/>
        </p:nvSpPr>
        <p:spPr>
          <a:xfrm>
            <a:off x="1023840" y="3144960"/>
            <a:ext cx="72867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因为井冈山的竹子，是革命的竹子，象征着中国人民的革命精神，所以说“天下竹子数不清，井冈山竹子头一名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3"/>
          <p:cNvGrpSpPr/>
          <p:nvPr/>
        </p:nvGrpSpPr>
        <p:grpSpPr>
          <a:xfrm>
            <a:off x="522360" y="1406520"/>
            <a:ext cx="5027400" cy="527040"/>
            <a:chOff x="522360" y="1406520"/>
            <a:chExt cx="5027400" cy="527040"/>
          </a:xfrm>
        </p:grpSpPr>
        <p:sp>
          <p:nvSpPr>
            <p:cNvPr id="184" name="矩形 1"/>
            <p:cNvSpPr/>
            <p:nvPr/>
          </p:nvSpPr>
          <p:spPr>
            <a:xfrm>
              <a:off x="977400" y="141336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与交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5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522360" y="140652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86" name="矩形 2"/>
          <p:cNvSpPr/>
          <p:nvPr/>
        </p:nvSpPr>
        <p:spPr>
          <a:xfrm>
            <a:off x="574560" y="1928880"/>
            <a:ext cx="76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作者为什么说“天下竹子数不清，井冈山竹子头一名”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"/>
          <p:cNvSpPr/>
          <p:nvPr/>
        </p:nvSpPr>
        <p:spPr>
          <a:xfrm>
            <a:off x="587520" y="874800"/>
            <a:ext cx="78199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读读下面的句子，说说你对这些句子的理解，与同学们进行交流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近处看，有的修直挺拔，好似当年山头的岗哨；有的密密麻麻，好似埋伏在深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ào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里的奇兵；有的看来出世还不久，却也亭亭玉立，别有一番神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血雨腥风里，毛竹青了又黄，黄了又青，不向残暴低头，不向敌人弯腰。竹叶烧了，还有竹枝；竹枝断了，还有竹鞭；竹鞭砍了，还有深埋在地下的竹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些青翠的竹子，沿着细长的滑道，穿云钻雾，呼啸而来。它们滑下溪水，转入大河，流进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gàn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江，挤上火车，走上迢迢的征途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2"/>
          <p:cNvSpPr/>
          <p:nvPr/>
        </p:nvSpPr>
        <p:spPr>
          <a:xfrm>
            <a:off x="1023840" y="2090880"/>
            <a:ext cx="728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运用排比的修辞手法表现了井冈翠竹的神采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运用顶针的修辞手法表现了井冈翠竹的坚贞不屈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运用拟人的修辞手法表现了新时期翠竹的奉献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2"/>
          <p:cNvSpPr/>
          <p:nvPr/>
        </p:nvSpPr>
        <p:spPr>
          <a:xfrm>
            <a:off x="1023840" y="3551400"/>
            <a:ext cx="72867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                             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龙源口大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1928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年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月中旬，蒋介石调动湘赣两省兵力向井冈山革命根据地发动大规模的“进剿”。为了打破两省敌人的“联合进剿”，毛泽东、朱德命令红军主力退出永新，同时命令红军三十一团佯攻湖南酃县，既迷惑江西之敌，又牵制湖南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3"/>
          <p:cNvGrpSpPr/>
          <p:nvPr/>
        </p:nvGrpSpPr>
        <p:grpSpPr>
          <a:xfrm>
            <a:off x="522360" y="1406520"/>
            <a:ext cx="5027400" cy="527040"/>
            <a:chOff x="522360" y="1406520"/>
            <a:chExt cx="5027400" cy="527040"/>
          </a:xfrm>
        </p:grpSpPr>
        <p:sp>
          <p:nvSpPr>
            <p:cNvPr id="191" name="矩形 1"/>
            <p:cNvSpPr/>
            <p:nvPr/>
          </p:nvSpPr>
          <p:spPr>
            <a:xfrm>
              <a:off x="977400" y="141336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与运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2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522360" y="140652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93" name="矩形 2"/>
          <p:cNvSpPr/>
          <p:nvPr/>
        </p:nvSpPr>
        <p:spPr>
          <a:xfrm>
            <a:off x="574560" y="1928880"/>
            <a:ext cx="76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走进井冈山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材料见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搜集讲述井冈山地区的革命故事，或欣赏有关井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山革命斗争的歌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2"/>
          <p:cNvSpPr/>
          <p:nvPr/>
        </p:nvSpPr>
        <p:spPr>
          <a:xfrm>
            <a:off x="973080" y="1684440"/>
            <a:ext cx="72867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敌。这次战役中，红军在地方武装及永新广大群众的有力配合下，胜利地粉碎了湘赣两省敌军的“联合进剿”，取得了根据地创立以来最大的一次胜利，从而使井冈山革命根据地得到了进一步巩固和发展。在永新，至今还流传着赞颂“龙源口大捷”的民谣：五月里来是端阳，七溪岭下摆战场，不费红军三分力，打败江西两只羊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杨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2"/>
          <p:cNvSpPr/>
          <p:nvPr/>
        </p:nvSpPr>
        <p:spPr>
          <a:xfrm>
            <a:off x="1023840" y="2141640"/>
            <a:ext cx="74469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注释：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①西江月：词牌名，原唐教坊曲，用作词调。②井冈山：在江西西部及湖南东部，方圆五百里。③旌旗在望：指山下的部分红军和井冈山一带的赤卫队、暴动队等地方武装。④鼓角：本指古代军中所用的战鼓和号角，此处借指军号。⑤岿然：一动不动。⑥森严壁垒：森严，严整。壁垒，古代军营中的围墙，也就是防御工事。指阵容严整，不可侵犯。⑦众志成城：意思是大家同心协力，就像城墙一样的牢固。比喻大家团结一致，就能克服困难。⑧宵遁：指敌人乘夜逃跑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"/>
          <p:cNvSpPr/>
          <p:nvPr/>
        </p:nvSpPr>
        <p:spPr>
          <a:xfrm>
            <a:off x="574560" y="102708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朗读与背诵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词见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介绍：见本书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"/>
          <p:cNvSpPr/>
          <p:nvPr/>
        </p:nvSpPr>
        <p:spPr>
          <a:xfrm>
            <a:off x="820800" y="1442880"/>
            <a:ext cx="74469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译文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战旗在山下摇荡，战鼓及军号声响彻山头，任凭敌军团团围困，我军依然不可撼动。整饬的防御工事已严阵以待，所以更加团结一心如筑成的堡垒。黄洋界上红军炮火轰鸣，快马来报，敌军在渐浓的夜色中逃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山下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旌旗在望，山头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鼓角相闻↗。敌军围困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万千重，我自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岿然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不⌒动↘。早已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森严壁垒，更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众志成城↘。黄洋界上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炮声隆，报道敌军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/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宵⌒遁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3695760" y="513540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   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197320" y="51228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7459560" y="51102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4140360" y="5689440"/>
            <a:ext cx="10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3"/>
          <p:cNvGrpSpPr/>
          <p:nvPr/>
        </p:nvGrpSpPr>
        <p:grpSpPr>
          <a:xfrm>
            <a:off x="522360" y="1025640"/>
            <a:ext cx="5027400" cy="527040"/>
            <a:chOff x="522360" y="1025640"/>
            <a:chExt cx="5027400" cy="527040"/>
          </a:xfrm>
        </p:grpSpPr>
        <p:sp>
          <p:nvSpPr>
            <p:cNvPr id="203" name="矩形 1"/>
            <p:cNvSpPr/>
            <p:nvPr/>
          </p:nvSpPr>
          <p:spPr>
            <a:xfrm>
              <a:off x="977400" y="103248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积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4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522360" y="102564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05" name="矩形 2"/>
          <p:cNvSpPr/>
          <p:nvPr/>
        </p:nvSpPr>
        <p:spPr>
          <a:xfrm>
            <a:off x="574560" y="1535040"/>
            <a:ext cx="76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一读，写一写，再用加点的词语说一句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023840" y="2104920"/>
            <a:ext cx="7286760" cy="48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 qiè</a:t>
            </a:r>
            <a:r>
              <a:rPr b="1" lang="zh-CN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r>
              <a:rPr b="1" lang="en-US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hū xiào      yù yù cānɡ cānɡ     chónɡ chónɡ dié di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殷  切      呼   啸       郁 郁    苍     苍           重        重     叠 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énɡ nián lěi yuè      xuè yǔ xīnɡ fēnɡ      hún fēi pò sà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成      年  累  月        血  雨   腥   风           魂 飞  魄  散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 qì fēnɡ fā      tínɡ tínɡ yù lì</a:t>
            </a:r>
            <a:r>
              <a:rPr b="1" lang="zh-CN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 </a:t>
            </a:r>
            <a:r>
              <a:rPr b="1" lang="en-US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 zhēn bù qū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意 气 风  发       亭   亭  玉 立      坚    贞   不 屈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023840" y="2359080"/>
            <a:ext cx="72867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郁郁苍苍：黄昏时分，郁郁苍苍的群山沐浴在绚烂的霞光里，真是苍山如海，残阳如血啊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殷切：请你不要辜负了父母的殷切期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2"/>
          <p:cNvSpPr/>
          <p:nvPr/>
        </p:nvSpPr>
        <p:spPr>
          <a:xfrm>
            <a:off x="998640" y="1785960"/>
            <a:ext cx="7446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首先要明确这三个自然段都写了什么。其次了解它们各自运用的表达方法。比如第二自然段，主要把握描写顺序，即由远及近的顺序，其次了解这个自然段运用了排比的修辞手法；第五自然段同样运用了排比的修辞手法，连续使用了五个“用它”，并且段前段后各用了一个反问句；第八自然段中第三句运用了顶针的修辞手法，第四句运用了引用的修辞手法。把握这三个自然段的表达方法，可以增强记忆，提高背诵的速度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574560" y="1166760"/>
            <a:ext cx="76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背诵本课的第二、第五、第八自然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7167"/>
          <p:cNvSpPr/>
          <p:nvPr/>
        </p:nvSpPr>
        <p:spPr>
          <a:xfrm>
            <a:off x="1036800" y="2448000"/>
            <a:ext cx="739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下列加点的字选择正确的读音，用“√”标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匪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ē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ěi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硝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ā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茨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腥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ī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ī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7168"/>
          <p:cNvSpPr/>
          <p:nvPr/>
        </p:nvSpPr>
        <p:spPr>
          <a:xfrm>
            <a:off x="164124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2461680" y="3295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519876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2425320" y="3875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7168"/>
          <p:cNvSpPr/>
          <p:nvPr/>
        </p:nvSpPr>
        <p:spPr>
          <a:xfrm>
            <a:off x="1636560" y="385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7168"/>
          <p:cNvSpPr/>
          <p:nvPr/>
        </p:nvSpPr>
        <p:spPr>
          <a:xfrm>
            <a:off x="4306680" y="331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矩形 7168"/>
          <p:cNvSpPr/>
          <p:nvPr/>
        </p:nvSpPr>
        <p:spPr>
          <a:xfrm>
            <a:off x="4270320" y="385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5684400" y="390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内容占位符 2"/>
          <p:cNvSpPr/>
          <p:nvPr/>
        </p:nvSpPr>
        <p:spPr>
          <a:xfrm>
            <a:off x="461880" y="1801800"/>
            <a:ext cx="83613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读了本文后，你觉得井冈山的竹子在革命时期和建设时期做了哪些贡献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读课文，说一说井冈山的竹子有什么样的神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井冈翠竹在革命时期有怎样的特点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井冈翠竹在建设时期是怎样离开深山的？为祖国做了怎样的贡献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作者表面是写竹子，实际上写的是什么？这是什么手法？有什么好处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06520" y="1000080"/>
            <a:ext cx="3767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1763640" y="2378160"/>
            <a:ext cx="60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q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h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  d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g         w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ě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ǎ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         f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g   s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ǒ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l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3"/>
          <p:cNvSpPr/>
          <p:nvPr/>
        </p:nvSpPr>
        <p:spPr>
          <a:xfrm>
            <a:off x="984240" y="157644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606840" y="29257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709640" y="29257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矩形 12"/>
          <p:cNvSpPr/>
          <p:nvPr/>
        </p:nvSpPr>
        <p:spPr>
          <a:xfrm>
            <a:off x="1939680" y="2981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殷 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4"/>
          <p:cNvSpPr/>
          <p:nvPr/>
        </p:nvSpPr>
        <p:spPr>
          <a:xfrm>
            <a:off x="3835080" y="29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撼 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557680" y="29210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矩形 16"/>
          <p:cNvSpPr/>
          <p:nvPr/>
        </p:nvSpPr>
        <p:spPr>
          <a:xfrm>
            <a:off x="5786280" y="2970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委 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600360" y="40798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703520" y="4079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矩形 20"/>
          <p:cNvSpPr/>
          <p:nvPr/>
        </p:nvSpPr>
        <p:spPr>
          <a:xfrm>
            <a:off x="1933200" y="4135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瓦 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21"/>
          <p:cNvSpPr/>
          <p:nvPr/>
        </p:nvSpPr>
        <p:spPr>
          <a:xfrm>
            <a:off x="3828600" y="4129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封 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551560" y="4075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矩形 23"/>
          <p:cNvSpPr/>
          <p:nvPr/>
        </p:nvSpPr>
        <p:spPr>
          <a:xfrm>
            <a:off x="5779800" y="4124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粮 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4"/>
          <p:cNvSpPr/>
          <p:nvPr/>
        </p:nvSpPr>
        <p:spPr>
          <a:xfrm>
            <a:off x="1819440" y="2386080"/>
            <a:ext cx="524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锁（　　　　）  撼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琐（　　　　）  憾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罐（　　　　）  粮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灌（　　　　）  狼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119240" y="171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左大括号 15"/>
          <p:cNvSpPr/>
          <p:nvPr/>
        </p:nvSpPr>
        <p:spPr>
          <a:xfrm>
            <a:off x="1714680" y="273852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左大括号 16"/>
          <p:cNvSpPr/>
          <p:nvPr/>
        </p:nvSpPr>
        <p:spPr>
          <a:xfrm>
            <a:off x="4137120" y="27496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左大括号 27"/>
          <p:cNvSpPr/>
          <p:nvPr/>
        </p:nvSpPr>
        <p:spPr>
          <a:xfrm>
            <a:off x="1720800" y="421164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左大括号 28"/>
          <p:cNvSpPr/>
          <p:nvPr/>
        </p:nvSpPr>
        <p:spPr>
          <a:xfrm>
            <a:off x="4143240" y="4222800"/>
            <a:ext cx="198720" cy="97776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2887200" y="261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锁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2887200" y="336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琐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5"/>
          <p:cNvSpPr/>
          <p:nvPr/>
        </p:nvSpPr>
        <p:spPr>
          <a:xfrm>
            <a:off x="5354280" y="264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震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5354280" y="336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遗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8"/>
          <p:cNvSpPr/>
          <p:nvPr/>
        </p:nvSpPr>
        <p:spPr>
          <a:xfrm>
            <a:off x="2903400" y="41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罐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9"/>
          <p:cNvSpPr/>
          <p:nvPr/>
        </p:nvSpPr>
        <p:spPr>
          <a:xfrm>
            <a:off x="2887200" y="482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灌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5354280" y="41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粮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0"/>
          <p:cNvSpPr/>
          <p:nvPr/>
        </p:nvSpPr>
        <p:spPr>
          <a:xfrm>
            <a:off x="5397120" y="480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狼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3"/>
          <p:cNvSpPr/>
          <p:nvPr/>
        </p:nvSpPr>
        <p:spPr>
          <a:xfrm>
            <a:off x="787320" y="1300320"/>
            <a:ext cx="756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根据意思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容草木苍翠茂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魂飞了，魄也散了，形容惊恐万分，极端害怕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容精神振奋，气概昂扬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容有节操，坚定不变，绝不屈服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年又一年，一月又一月。形容经历的时间长久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4575960" y="1960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郁郁苍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1802880" y="3059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魂飞魄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5504760" y="3602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意气风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6735240" y="4168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贞不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1"/>
          <p:cNvSpPr/>
          <p:nvPr/>
        </p:nvSpPr>
        <p:spPr>
          <a:xfrm>
            <a:off x="1804320" y="5241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成年累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3"/>
          <p:cNvSpPr/>
          <p:nvPr/>
        </p:nvSpPr>
        <p:spPr>
          <a:xfrm>
            <a:off x="690480" y="949320"/>
            <a:ext cx="74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毛竹等待着当年用竹筒盛水蒸饭、用竹钉竹枪打白匪的红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毛竹，藏在深坳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今，早就不再用竹钉当武器了，然而谁又能把它们忘怀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4"/>
          <p:cNvSpPr/>
          <p:nvPr/>
        </p:nvSpPr>
        <p:spPr>
          <a:xfrm>
            <a:off x="1305000" y="267192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毛竹等待着红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5"/>
          <p:cNvSpPr/>
          <p:nvPr/>
        </p:nvSpPr>
        <p:spPr>
          <a:xfrm>
            <a:off x="1197000" y="378792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密密麻麻的毛竹，藏在隐蔽的深坳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6"/>
          <p:cNvSpPr/>
          <p:nvPr/>
        </p:nvSpPr>
        <p:spPr>
          <a:xfrm>
            <a:off x="1130400" y="5318280"/>
            <a:ext cx="70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今，早就不再用竹钉当武器了，然而谁都不能把它们忘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690480" y="1951200"/>
            <a:ext cx="756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下面的词语造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亭亭玉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里迢迢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1176480" y="420372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家千里迢迢赶来，就为了追忆美好的童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1176480" y="3032280"/>
            <a:ext cx="69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绿叶丛中，一枝枝荷花亭亭玉立，像娇羞的少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968400" y="207972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井冈山五百里林海里，最使人难忘的是毛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1146240" y="2658960"/>
            <a:ext cx="711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先写井冈山林海之广，再点出题目，明确使人难忘的是毛竹。这句话饱含真挚的情感，突显毛竹形象的高大，表达了作者对毛竹由衷的喜爱之情，从而引出下文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1087560" y="2079720"/>
            <a:ext cx="71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远处看，郁郁苍苍，重重叠叠，望不到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1170000" y="3205080"/>
            <a:ext cx="711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运用景物描写，写从远处看，毛竹苍翠茂盛、一望无际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标注 4"/>
          <p:cNvSpPr/>
          <p:nvPr/>
        </p:nvSpPr>
        <p:spPr>
          <a:xfrm>
            <a:off x="6062760" y="2724120"/>
            <a:ext cx="195084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景物描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968400" y="213984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委员和朱军长下山去了，红军下山去了，井冈山的毛竹，同井冈山人民一样，坚贞不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1003320" y="3287880"/>
            <a:ext cx="711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赞美了毛竹具有和井冈山人民一样坚贞不屈的品格。作者赞美毛竹就是赞美井冈山人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968400" y="171144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竹叶烧了，还有竹枝；竹枝断了，还有竹鞭；竹鞭砍了，还有深埋在地下的竹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1003320" y="3287880"/>
            <a:ext cx="72612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运用顶针的修辞手法，写出了井冈翠竹坚贞不屈的性格，表达出作者对井冈翠竹的敬佩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标注 4"/>
          <p:cNvSpPr/>
          <p:nvPr/>
        </p:nvSpPr>
        <p:spPr>
          <a:xfrm>
            <a:off x="5978520" y="2759040"/>
            <a:ext cx="195264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顶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23"/>
          <p:cNvSpPr/>
          <p:nvPr/>
        </p:nvSpPr>
        <p:spPr>
          <a:xfrm>
            <a:off x="820800" y="1646280"/>
            <a:ext cx="772776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顶针是以上一句结尾的词语作为下一句的开头，使前后的句子首尾相连，上递下接的一种修辞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顶针因词语间上递下接，所以说理可揭示事物间严密透彻的本质，使说理环环相扣；叙事可透彻清晰；抒情可抒发气势贯通的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3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断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般前句的最后一个词是后句的第一个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9"/>
          <p:cNvGrpSpPr/>
          <p:nvPr/>
        </p:nvGrpSpPr>
        <p:grpSpPr>
          <a:xfrm>
            <a:off x="650880" y="917640"/>
            <a:ext cx="8102520" cy="834840"/>
            <a:chOff x="650880" y="917640"/>
            <a:chExt cx="8102520" cy="834840"/>
          </a:xfrm>
        </p:grpSpPr>
        <p:sp>
          <p:nvSpPr>
            <p:cNvPr id="87" name="矩形 1"/>
            <p:cNvSpPr/>
            <p:nvPr/>
          </p:nvSpPr>
          <p:spPr>
            <a:xfrm>
              <a:off x="3729240" y="954360"/>
              <a:ext cx="5024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识顶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6" descr=""/>
            <p:cNvPicPr/>
            <p:nvPr/>
          </p:nvPicPr>
          <p:blipFill>
            <a:blip r:embed="rId4"/>
            <a:stretch/>
          </p:blipFill>
          <p:spPr>
            <a:xfrm>
              <a:off x="650880" y="917640"/>
              <a:ext cx="3078360" cy="83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0-31T15:33:14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