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58480" y="880560"/>
            <a:ext cx="504036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"/>
          <p:cNvSpPr/>
          <p:nvPr/>
        </p:nvSpPr>
        <p:spPr>
          <a:xfrm>
            <a:off x="593640" y="5132520"/>
            <a:ext cx="637236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281480" y="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4281480" y="10156680"/>
            <a:ext cx="3278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B6B0-0CEC-4F34-9E7F-FEA1EF719FD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11320" y="880920"/>
            <a:ext cx="5135400" cy="385308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新的内容页，请使用“新建幻灯片副本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8AE-591E-470C-8FD4-212E0726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325-4F54-4D9D-9CCC-8ED8D83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02AE2-8784-4541-AEEB-ED6BD965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B0821-6BC5-43F1-BDA7-7A6DDC26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27551-76CC-4999-BED8-BD08D325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EA0FF-EA6B-428A-9FD6-2C992163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79B79-3EC2-4C83-BE42-FDF3C6E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49CAC-9989-4B78-857F-DF15354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2B684-B333-414E-9212-9F47030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D45E9-DD29-4DAD-A88F-D3C00AFA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04F8C-9EAC-41BE-B8BC-33749425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F057A-F3D5-440B-8B8D-96EB64C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29A-5F5E-4687-BF82-0D6BE20B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04D05-E17A-4679-B1EE-603C06C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CE63F-93D0-4035-893A-B01D35D9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C6233-F3F4-4E07-829D-7B24EC44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9ECB0-7CE3-481B-81CF-F258BAAA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2D30F-EF82-440B-9068-1DE64B8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323FD-4F04-48BF-B20F-4F8B0D9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42A34-B010-4029-8C55-C61D26E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78356-418A-4F00-8D31-B6EFD1E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1CCE0-6544-4010-B96A-3C0AB966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22D69-67F5-4F8D-BA4A-6E9F3EEB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2A4-FF03-4F20-8E54-E94A9CB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E9EC6-4E46-4A4B-A64A-BE9F54D9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0F8C7-FA39-4135-81D9-DF8CCF10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503E7-7F22-4AE2-8C81-322416C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DD698-9221-459D-8B8D-7A2E61D5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2AC59-AB4E-41E5-9F43-E21C8BE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6E9D3-27BF-491F-9594-5F73369B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F59B-9D70-4CE4-B87A-1DD7B029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EE171-F080-4EB2-9D36-D145593D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99E2B-20A2-48D9-832B-514D33F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4A8F9-0096-4ABF-A85A-F76F8F4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A587-7823-4346-A6FA-88D3421E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E774E-87C1-4766-96AC-6B821F6B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EC8B9-1B09-4A50-AAAB-620AFF44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262B6-2BCD-4898-A31D-1D17DCC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E25AE-ED80-4DEA-832E-F41605B0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8731D-39F9-4830-9B94-2B3FFA0E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D373E-CEFF-4C08-9AA9-BD0403B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0DA3A-A8C5-42E5-851F-6DABD733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449E6-AC1B-4592-9534-75C30CB7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7BE8B-EDF3-4FDA-BE14-90C69C9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6F363-0A67-4B7E-9F26-B69D349F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9234-3FDA-4846-9DAC-A31A849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3A9FC-D723-4507-ABEF-71A11BF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EC57B-06E5-4F53-BC01-802B1664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350D1-D637-4353-983E-47921F1F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78BA6-54DD-4EF6-B45D-490D03D7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1399-CA39-42D4-90CB-B20C9869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DC1BF-1F97-4D18-802F-62167046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4842A-4238-4DB4-BB68-645737C2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6F509-622E-4FBF-9ACC-CE94477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78B1F-4557-4AD0-8585-E35BFBC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47303-92AD-4490-9272-7D7A4CCA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1C2-4949-4313-B8C8-89C93FC3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BE395-8C14-426C-A257-2F1585B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6FD6F-DA3B-499B-BEC1-08638DD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62EF6-D41E-4049-A604-766D634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32546-38EF-4F61-832D-4E3A6F4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0DD99-4DEE-4353-8B0C-8DD83D4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AFB0C-444F-4B23-B12B-B0413544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51BFE-B94E-46CE-94EF-12604EE4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B5BA0-605D-4117-ACEC-FD56048C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62BA8-6991-495F-88F5-169474A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774EB-8CD4-47F3-89F2-D9FAC31A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903-A1EF-4455-B36A-6F0167C5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B626C-5BF1-47F3-B8F3-5626C656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BFC9B-A58C-4509-8E4E-CF4EBC1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5EFAC-8E8E-4C89-AFCD-F4A8B6A3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A22F9-9B23-4113-A388-3A24889D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D61D0-55CF-4B5E-ADEA-C56B6C4C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1F62A-C1B0-426C-9FC0-2D61B89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E9E15-DD8D-4BFD-ACF9-2064B8BD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B1A00-A057-4CAA-8B66-F3EBA258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CC18C-3A43-4BB4-BFD6-CAFC77F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D0D02-002E-4C3B-BBB7-9EC49C07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E27-8AF6-4356-A660-221D9D1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E09FB-4D6C-4F98-A8BA-FDA5B6C7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3C938-D319-4987-8FDD-BE9A8FB2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090B97-4FAD-4D29-B4DD-C602AD92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3A594-481B-4EA1-9DB0-C3364745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FCC5F8-A82E-4832-AE41-F32FD0B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249E2-7481-4D81-8D6B-C5A8856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38C7A-19A0-4297-90B5-F26F3AA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964DB-DEEE-4537-8E62-3D49FDC1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B8A9D-DEF7-4DC5-8DD1-98679E63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D4BA3-5CB4-4433-8E14-EDA96FF7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1D26-BBF4-4767-B8C7-917DAB53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7FF07-36AE-4DA9-96BC-8CF328DC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9D1FD-2A7F-443C-92BF-DEBAD2E1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8D4E6-8D33-48B4-96BE-D1D1578A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9DA66-C5D6-4EFE-96D7-25E92DC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EA35B-AA6A-4EFF-B936-1D5954E0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BD066-5F2B-4306-9A08-4D01A2E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5722C-3E90-4212-AE60-1696A08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3991B-8A4C-410E-889B-0BF5875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2D870-B276-4C5F-900C-6FEBF8F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D8D73-81D1-41ED-8B6B-15B67D8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7BE6-6FF4-48ED-B095-2F233241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6C2C7-46D0-408E-B3EB-6A6C0EE9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A78C5-069D-4996-A093-4D85631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BB555-0778-4474-8BDE-A040721B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22D48-E8B4-421A-A18C-EB81949A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2B2DE-0010-4CC0-97DC-ECCC6796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7FD7D-143F-4038-B9AC-4247AEF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F2098-F74E-4D71-87CB-50213A6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478778-83A5-4336-AEBD-9393B8A8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64A0B-3F3A-4657-92E4-ADD9CF4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86143-8F10-49CD-8764-97EE9D7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414-BCF4-4CC3-9A51-5AAA23EB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74B-D6AA-4201-BD87-66A8F5F0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F1F51-FE47-4950-AD6F-8491507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E2BC8-9E05-4037-8997-A9E041ED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E8927-628C-4C73-87ED-EFF84A11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00713-3CE1-4365-8ECD-2399445E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A9911-CFBF-469A-A4E5-BCBE4EAE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4C446-3619-4268-85F8-DF0B75CA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EEDDE-0AEB-4B04-8F38-76BFF45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D69CF-6AFD-4B8B-98A1-434D45D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CA1BF-7C36-49A6-AB70-964EE55B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7858B-920A-4341-BC0E-6F8520CD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1A1-3603-4737-ABF5-9B35B2C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0F710-3AE2-45FA-B661-4E509030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F4729-A54E-440E-863A-8FB32BF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30A99C-6B04-410E-8663-C9B9C7E9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A2EE1-FFB0-4B01-A31D-2178A92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DC2EC-E302-4F06-9694-4714068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D3BF2-B2F7-40C3-A6AD-68665663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9CF31-B1E2-4AE3-944D-ACB7BBB0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BA2E4B-160B-4979-8388-442D8A5A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460FC-1700-440D-8C1C-DCA17B24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BE5A8-BCE0-471A-830E-D44D7F53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C1C8-3FCA-4DB0-95EF-29EF3B0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57E5B-A9E2-4DFD-9FB0-E470BC5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595AA-59E1-4E1C-8644-EB54A915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B1C1F-E551-4D6C-B2C8-41AAEDD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C505F2-7C06-4436-A44E-887D4C8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53D28-2E38-4AA6-94CD-72E8AB7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1D960-0A04-4853-9735-98F82109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2ECF1-49D2-495C-A02A-01334F1A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362F4-B428-4ECF-93A5-134F9134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1C2A0D-CAC0-4C88-88D7-597A6A8C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48F40-9A3E-4B58-8AB2-7B9943E2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C775-4E3B-40A7-BA08-723DEDBB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49D85-5AE0-4EA2-B991-8DA02A34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CFC9A-6974-498A-8F48-E37AFFE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955D8-A7C7-4975-9A88-676B00FE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272D1-DE2C-407C-822D-E3602898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29FF1-82AC-4F4F-BE38-3EB1205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880A0-7E0A-4DAD-97BF-37F98D07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37A7C-E7F9-4978-82A5-1AE851C6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247B5-95E6-4783-A76B-F9B73108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FA796-B387-468F-88C9-CE30044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19886-F05B-4EC3-873A-2AD5791B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C386-A35D-46D3-BE2C-8F33A6F7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55AB6-EA97-47B9-828B-786839D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44B4C0-E2E6-462A-9988-2160CB0E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7A0190-1ADE-438B-8754-E8FAFC3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5BC597-3408-4D96-8A67-1F3B260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C3F9C8-7A6F-4119-9B53-4DA7AA31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98789-D24F-437E-B52F-7E89690B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B4FE7-0944-4067-A330-EDCF456C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EB38C-BD2B-4370-8764-ED3C1052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1B045-DA93-4B08-8E36-FDBE575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69273-2C62-4963-8877-0D285D32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789B2-5549-48D0-8C97-85C79920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6233C-FB04-4016-89FB-7E5187E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6F304-BCE4-42A8-ACCF-439C870C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B7523-B0B9-4DAC-A7D1-DF60332A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54C47-7566-4E6E-9058-7B2FA1CC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B81E6-8A9B-4418-86D4-F197E22E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B092E4-387D-44E9-BB69-3A32DD0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22D07-6E01-43C5-85E9-F48C7CD2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E0273-F1E2-4930-A3DB-5F44B027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E0CE1-AF9B-458B-814A-075FA8FC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E82014-D699-4C75-A4E8-CD2E4C5A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DB420-7C3B-43E8-A00C-982F43BB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ECFFA-C040-45AA-9D28-6732BD9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63AF6-2979-470B-9799-E9578E3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50BAF-63CE-4471-BDF6-125BDBD3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93522-3DC9-4C0C-BD49-73C2CAA4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260A9D-37E9-4366-8C5E-67FA20D1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32B4BD-5FB3-4767-A296-05DB6D69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F7DF4-BC0C-4563-A3F9-61F539B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989A7-95C8-4ECF-9EAA-F819F987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E8C86C-FD65-4EEB-A2C4-436A7F0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2C129B-170D-4E46-9248-C3083242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B488-9507-426B-8609-E7D9D3F7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21CEC-58CA-4921-B23B-E7CAF7A7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6FFFAB-C79F-4921-B37B-1EBDEB4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E0007C-90D7-49CC-A590-198EC0B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580BEA-C4DA-4C48-A6EE-0C8E0CB8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6BC36-B1AD-4D1A-9978-182B863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EA29CE-6934-4960-91A6-13FE6F00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E8C47-968B-4998-9236-F060093F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5EE5A0-5D4C-4AA4-AC18-530DA71C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E359CD-2A1B-4C33-958D-3CCD12A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433CE4-2906-4AF1-92AA-86FEA6E8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56F64-DFBC-4D97-A169-F0F2A54A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B29F0-900E-4E7A-939B-0C6AFFD6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3EAFBD-E288-4010-81F2-D9F5BE1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D49A5-00E9-4928-9DE6-B0FB7082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89F5AC-7785-4444-9B01-19EF6FD7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7F0136-5FD4-4027-9F24-A223E284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232C9B-F7EA-4368-BCBA-62D9016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65D64-C119-4FC9-A7B6-AD43D844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C47DBC-086F-43EE-9176-1570C236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5F1C5-8875-427A-992A-F08B2CBD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B66BCD-6F1F-4AB4-9967-3CF7D996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3323-8A20-4B3E-9A1D-1F7BD9B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BD5AAF-306A-44C2-A6AB-BB4A3645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7C08A-BE54-4948-9C49-AEE66B2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DFB809-F7A1-4226-BA70-95ECFE7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DB898F-748D-4CDA-B01A-7FF5A6F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00DAF9-8333-4F64-AFBA-331484D4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1FA261-A057-49C0-A7D9-0E14F43C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D2700F-D422-4EB1-8443-A3342F9E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FA0D9C-8BCC-44BF-9866-4BD5E5D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F6B359-82BC-4BD6-B792-25888D0D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FE8F4A-7A34-4880-B037-CF9397C5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7BC-F163-4147-BDD6-54E1538E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38E4-8B16-4E95-ABB1-CA34358A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B9783-E03B-4171-BFD2-D796E034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7DEB-7129-477E-AE13-86AD07D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C46E-75EF-4E25-9763-5820279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8430-D9AC-48ED-983D-9CB3DE3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53CA-9AF9-48C8-915A-F5CF51FF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63C1-E95D-4D9C-BE3D-A4C2F0CF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7EA0-F50C-4CA8-B030-B7D59FE1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2923-2A92-4DA8-A57B-EE376133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136F-0880-4563-B445-6C3EB769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F650-7CFA-4A6A-93A1-27911BCF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41A-FC34-4675-814E-D5C855CF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CDAB-1B4B-4F81-A7C9-4FFA08E2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6108-A88C-4175-9A25-5CB4C9B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7C37-1C11-42B9-8083-D69917C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EE88-F4D5-4670-9F5D-9B34B81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7328-042B-4947-B6F5-807C2C6F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18FB-4F07-4D22-8BB1-8DC64C0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8223-62E1-4B70-8FF7-65590D51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8372-697D-4103-ADA1-AB51A0AB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C9F65-A76D-46FE-93F8-D47A2D28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9C4D9-253C-4554-9D74-4C1FDF23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FED-AB13-4D96-B1A2-83A04B6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5AE8-8FE8-43C6-A145-A2FD1E98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E1FA-3595-459D-8E76-FD7BE186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E909B-E6C0-4A16-8F4A-55AD10E1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C70F-D7B1-483C-8B71-83AD91CF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448D-2023-42BB-81FF-B86E7343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F974-AFF4-409C-B0D5-E34A533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9AD46-CE65-4078-931C-972096F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40299-2556-4FA4-A87A-E01F239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B0BB-F711-490F-8680-E530D7A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D4E9B-11BB-4C7C-9FFD-25810FC4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EC3-CCD5-4ECC-A756-FD375F59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95A8-E2DD-4FC0-8075-C3C51B59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D3CC3-F9E9-4739-A319-426F3495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D673-4141-4816-9253-EFDC882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22D2-8A3F-49A5-8680-327E834B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B845A-18BF-4E06-9977-EF5C18F8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1509-5F06-4200-8F8B-25DD8B1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707A-51C2-4C71-8B59-3DAD4BB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BF17-7494-4A20-A55E-CCA964FD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55736-BA45-4B07-96FE-A76428D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8171-5A8C-4BAA-B257-C3EF750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08C-5C70-4B22-A809-B0E0CF4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8BA8-8547-40F6-9922-68D6351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0C4F5-EE42-448F-8E19-24313F49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79FD-7587-49C8-AF09-B80CE178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B32DD-BF5C-42AC-B0E0-59D0F29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AF99-98EF-48E3-A706-D050ED2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3B64-495B-4FDC-83EA-8920B4B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4231-A6A1-437C-9614-8373FF1A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4C788-C8A4-4BA2-95DA-E151B9EC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7285-C6FD-4E67-B4AE-0CEA148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F40AE-6C36-471A-984F-167FCA9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3DE-8CA9-4760-AD1E-EE3D1A8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D97B-64DA-41FE-902A-B1F63AA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8570-C039-41EA-ABA5-354E543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3FEF6-0B38-409A-B6F8-0150AA8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DBF8D-5482-4E3D-8A6A-358B6D98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60B5B-FAF9-4119-8CF8-B79DD461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12545-CBC4-4984-8B15-7C2E1993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A7F0B-6E3F-4A6A-AD7D-E99DF4AD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73AA-32EA-47D2-8E39-3D6DE99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178B7-B7AF-4F06-A148-B469675A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C56C6-CAA1-4DBC-9B52-36F377F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DC6-5045-42E3-8D34-BBFCA55D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497AA-38BC-4730-873A-DF8F904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4E6E-5053-42F4-AF4C-E67A44F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F5A9-7C1D-499A-9233-D294F43B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1D88B-6A6D-4602-BB23-108D1DB0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C0090-E1B8-401E-94C3-A563574E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3B1C2-3D19-47AE-AF43-E1947EF4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E686-2AFC-4B40-A1F3-EB6BC80D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D7FC7-EFFF-4324-B2A4-31A9B88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96C54-C873-48C4-AED0-B9A78CE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3A1A8-0218-4AD8-A176-F402642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1B16-93EB-4308-BECD-7FCDD3F9CE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6D6-3087-447B-B19A-127CC8641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ABFD-1AFF-45B8-97FD-A6FA5BACFC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28E1-0976-4DEB-9C22-5E5EDB0F6D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D272-A0BC-428A-930F-EB832AC759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0FCC-7449-4FFF-AAEE-E91AA02948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AFA9-5FB6-4DAD-9124-F30BE3558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255-E7F5-40DD-AB26-012A68B59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0300-B660-4E0E-8706-434BD0673A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EE3A-088D-46EE-9ACF-30135F1D2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2625-83B0-40CE-91F5-946231545B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AF3-E362-4819-850D-7F89F756F7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A57F-B461-4E2D-B4C8-698CE8A1A5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6EB-E89B-4991-BDD7-5FE9D448AE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5D9A-9839-41E0-916B-8745C4F55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931-CA10-4A9E-872A-2BF5F3EE8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5EC9-8EDF-427D-A1F8-3822F206B6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B7A-FBEC-4AD5-A3BF-B568F69507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BE0C-1678-4690-B76B-5B385D1A4B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56C0-4057-47C5-8475-66464F699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664-6B5B-464B-BA61-8394B79EAA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3434-6D4F-4EE7-8116-B2B587C72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28EA-BF3C-4582-8516-2F1094BA2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F8AC-C31A-46FE-A203-145F1FA077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7288"/>
            </a:gs>
            <a:gs pos="100000">
              <a:srgbClr val="a2c6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826-AE2E-497C-9DE4-027E8D0380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2371680" y="3193920"/>
            <a:ext cx="380376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en-US" sz="7200" spc="-1" strike="noStrike">
                <a:solidFill>
                  <a:srgbClr val="ff0000"/>
                </a:solidFill>
                <a:latin typeface="楷体"/>
                <a:ea typeface="楷体"/>
              </a:rPr>
              <a:t>21</a:t>
            </a: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2371680" y="1666800"/>
            <a:ext cx="38037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第四单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3"/>
          <p:cNvSpPr/>
          <p:nvPr/>
        </p:nvSpPr>
        <p:spPr>
          <a:xfrm>
            <a:off x="406440" y="971640"/>
            <a:ext cx="765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登上地球之巅的旅途充满了艰辛与坎坷，你能从文中找出四位队员突击顶峰遇到的困难吗？请运用以下句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困难）阻碍了勇士们前进的脚步，我是从文中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根据课文内容）发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路险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严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氧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虚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黑夜登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反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2"/>
          <p:cNvSpPr/>
          <p:nvPr/>
        </p:nvSpPr>
        <p:spPr>
          <a:xfrm>
            <a:off x="1185840" y="27144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3"/>
          <p:cNvSpPr/>
          <p:nvPr/>
        </p:nvSpPr>
        <p:spPr>
          <a:xfrm>
            <a:off x="925560" y="1693800"/>
            <a:ext cx="678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登山英雄为何能战胜这些困难，取得最终的胜利？你是怎样看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坚韧的毅力、团结合作和勇于牺牲的精神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2"/>
          <p:cNvSpPr/>
          <p:nvPr/>
        </p:nvSpPr>
        <p:spPr>
          <a:xfrm>
            <a:off x="925560" y="338040"/>
            <a:ext cx="43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矩形 2"/>
          <p:cNvSpPr/>
          <p:nvPr/>
        </p:nvSpPr>
        <p:spPr>
          <a:xfrm>
            <a:off x="666720" y="1128600"/>
            <a:ext cx="764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绕以下问题，请学生精读课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文中刘连满的形象令人感动、难忘。在登顶活动中他的哪些行动给你留下深刻印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中表现出怎样的优秀品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文中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语段引用扬赫斯班在《埃非勒士峰探险记》中的那段话的作用是什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些离题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文中优美的写景语句无疑是文笔精华，请找出这些语句，并说说它们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4"/>
          <p:cNvSpPr/>
          <p:nvPr/>
        </p:nvSpPr>
        <p:spPr>
          <a:xfrm>
            <a:off x="1174680" y="225360"/>
            <a:ext cx="39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24" descr=""/>
          <p:cNvPicPr/>
          <p:nvPr/>
        </p:nvPicPr>
        <p:blipFill>
          <a:blip r:embed="rId1"/>
          <a:stretch/>
        </p:blipFill>
        <p:spPr>
          <a:xfrm>
            <a:off x="587520" y="1197000"/>
            <a:ext cx="7315200" cy="4898880"/>
          </a:xfrm>
          <a:prstGeom prst="rect">
            <a:avLst/>
          </a:prstGeom>
          <a:ln w="0">
            <a:noFill/>
          </a:ln>
        </p:spPr>
      </p:pic>
      <p:sp>
        <p:nvSpPr>
          <p:cNvPr id="1082" name="矩形 2"/>
          <p:cNvSpPr/>
          <p:nvPr/>
        </p:nvSpPr>
        <p:spPr>
          <a:xfrm>
            <a:off x="1219320" y="37296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129" descr=""/>
          <p:cNvPicPr/>
          <p:nvPr/>
        </p:nvPicPr>
        <p:blipFill>
          <a:blip r:embed="rId1"/>
          <a:stretch/>
        </p:blipFill>
        <p:spPr>
          <a:xfrm>
            <a:off x="496800" y="1038240"/>
            <a:ext cx="7472520" cy="5035680"/>
          </a:xfrm>
          <a:prstGeom prst="rect">
            <a:avLst/>
          </a:prstGeom>
          <a:ln w="0">
            <a:noFill/>
          </a:ln>
        </p:spPr>
      </p:pic>
      <p:sp>
        <p:nvSpPr>
          <p:cNvPr id="1084" name="矩形 2"/>
          <p:cNvSpPr/>
          <p:nvPr/>
        </p:nvSpPr>
        <p:spPr>
          <a:xfrm>
            <a:off x="1038240" y="214200"/>
            <a:ext cx="40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134" descr=""/>
          <p:cNvPicPr/>
          <p:nvPr/>
        </p:nvPicPr>
        <p:blipFill>
          <a:blip r:embed="rId1"/>
          <a:stretch/>
        </p:blipFill>
        <p:spPr>
          <a:xfrm>
            <a:off x="587520" y="1625760"/>
            <a:ext cx="7348320" cy="4470120"/>
          </a:xfrm>
          <a:prstGeom prst="rect">
            <a:avLst/>
          </a:prstGeom>
          <a:ln w="0">
            <a:noFill/>
          </a:ln>
        </p:spPr>
      </p:pic>
      <p:sp>
        <p:nvSpPr>
          <p:cNvPr id="1086" name="矩形 2"/>
          <p:cNvSpPr/>
          <p:nvPr/>
        </p:nvSpPr>
        <p:spPr>
          <a:xfrm>
            <a:off x="1230480" y="326880"/>
            <a:ext cx="38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90" descr=""/>
          <p:cNvPicPr/>
          <p:nvPr/>
        </p:nvPicPr>
        <p:blipFill>
          <a:blip r:embed="rId1"/>
          <a:stretch/>
        </p:blipFill>
        <p:spPr>
          <a:xfrm>
            <a:off x="576360" y="1004760"/>
            <a:ext cx="4529160" cy="2065320"/>
          </a:xfrm>
          <a:prstGeom prst="rect">
            <a:avLst/>
          </a:prstGeom>
          <a:ln w="0">
            <a:noFill/>
          </a:ln>
        </p:spPr>
      </p:pic>
      <p:sp>
        <p:nvSpPr>
          <p:cNvPr id="1088" name="Rectangle 91"/>
          <p:cNvSpPr/>
          <p:nvPr/>
        </p:nvSpPr>
        <p:spPr>
          <a:xfrm>
            <a:off x="5105520" y="100476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首登珠峰成功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富洲、贡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屈银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92"/>
          <p:cNvSpPr/>
          <p:nvPr/>
        </p:nvSpPr>
        <p:spPr>
          <a:xfrm>
            <a:off x="228600" y="3228840"/>
            <a:ext cx="78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0f18"/>
                </a:solidFill>
                <a:latin typeface="宋体"/>
              </a:rPr>
              <a:t>自１９６０年５月２５日中国藏族登山队员贡布和汉族队友王富洲、屈银华把五星红旗插上了珠穆朗玛峰，创造了人类首次从北侧山脊登上地球之巅的伟大壮举后，截至２００３年５月的４３年间，中国健儿已经１４次登临“地球之巅”，先后共有６１人次把的足迹留在地球之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4"/>
          <p:cNvSpPr/>
          <p:nvPr/>
        </p:nvSpPr>
        <p:spPr>
          <a:xfrm>
            <a:off x="1139760" y="247680"/>
            <a:ext cx="39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1"/>
          <p:cNvSpPr/>
          <p:nvPr/>
        </p:nvSpPr>
        <p:spPr>
          <a:xfrm>
            <a:off x="326880" y="1524960"/>
            <a:ext cx="823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限风光在险峰”，正是因为有了英雄们的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战地球之巅的壮举，珠峰，一个令万千人顶礼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拜的圣地，一个令旅游者心驰神往的盛境，才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人展示了她的神秘与伟岸。重温往事，我们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理由相信人类征服自然的脚步走得更稳健、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远。让我们学习登山队员不怕艰险、勇往直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雄气概和集体协作精神，激发探索自然奥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壮志豪情，培养敢于探险的勇气。最后送给大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句话：没有比脚更长的路，没有比人更高的山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1174680" y="22536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宋体"/>
              </a:rPr>
              <a:t>总结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矩形 1"/>
          <p:cNvSpPr/>
          <p:nvPr/>
        </p:nvSpPr>
        <p:spPr>
          <a:xfrm>
            <a:off x="744480" y="1150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颁奖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甘为人梯，用颤抖的双腿承载起同伴登顶的梦想，你心系队友，宁愿忍受窒息的痛苦，生死关头，毅然将氧气筒放回，留给同伴生的希望。你写下寥寥数语的短信，却饱含着你拳拳的爱国之心。你虽痛失登上地球之巅的荣光，却感动了天地，无愧于祖国！登山英雄刘连满，好样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2"/>
          <p:cNvSpPr/>
          <p:nvPr/>
        </p:nvSpPr>
        <p:spPr>
          <a:xfrm>
            <a:off x="1027080" y="34920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宋体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矩形 2"/>
          <p:cNvSpPr/>
          <p:nvPr/>
        </p:nvSpPr>
        <p:spPr>
          <a:xfrm>
            <a:off x="689040" y="135396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位队员登山的壮举震憾了我们，也感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，你能为英雄们写一段颁奖词来抒发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的赞颂之情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2" descr=""/>
          <p:cNvPicPr/>
          <p:nvPr/>
        </p:nvPicPr>
        <p:blipFill>
          <a:blip r:embed="rId1"/>
          <a:stretch/>
        </p:blipFill>
        <p:spPr>
          <a:xfrm>
            <a:off x="744480" y="1268280"/>
            <a:ext cx="7101000" cy="2851200"/>
          </a:xfrm>
          <a:prstGeom prst="rect">
            <a:avLst/>
          </a:prstGeom>
          <a:ln w="0">
            <a:noFill/>
          </a:ln>
        </p:spPr>
      </p:pic>
      <p:sp>
        <p:nvSpPr>
          <p:cNvPr id="1036" name="矩形 6"/>
          <p:cNvSpPr/>
          <p:nvPr/>
        </p:nvSpPr>
        <p:spPr>
          <a:xfrm>
            <a:off x="552600" y="4119480"/>
            <a:ext cx="844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刚刚听完歌曲《珠穆朗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珠穆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玛峰又被称为地球之巅，可是再高的山峰也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挡不了勇士们攀登的步伐。今天我们就来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《登上地球之巅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7"/>
          <p:cNvSpPr/>
          <p:nvPr/>
        </p:nvSpPr>
        <p:spPr>
          <a:xfrm>
            <a:off x="1060560" y="214200"/>
            <a:ext cx="16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1"/>
          <p:cNvSpPr/>
          <p:nvPr/>
        </p:nvSpPr>
        <p:spPr>
          <a:xfrm>
            <a:off x="1575000" y="1442160"/>
            <a:ext cx="4943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位队员登山的壮举震憾了我们，也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了中国，你能为英雄们写一段颁奖词来抒发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的赞颂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4"/>
          <p:cNvSpPr/>
          <p:nvPr/>
        </p:nvSpPr>
        <p:spPr>
          <a:xfrm>
            <a:off x="1117440" y="260280"/>
            <a:ext cx="41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宋体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"/>
          <p:cNvSpPr/>
          <p:nvPr/>
        </p:nvSpPr>
        <p:spPr>
          <a:xfrm>
            <a:off x="733320" y="1580400"/>
            <a:ext cx="6966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假如你成功地登上珠穆朗玛峰，站在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穆朗玛峰项上，你会有哪些话要说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外阅读其他登山探险家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3"/>
          <p:cNvSpPr/>
          <p:nvPr/>
        </p:nvSpPr>
        <p:spPr>
          <a:xfrm>
            <a:off x="1027080" y="24768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宋体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1"/>
          <p:cNvSpPr/>
          <p:nvPr/>
        </p:nvSpPr>
        <p:spPr>
          <a:xfrm>
            <a:off x="0" y="1344600"/>
            <a:ext cx="8669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上地球之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队员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 高度冲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山队员征服“第二台阶”。 不怕艰险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刘连满把氧气留给队友。          勇往直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上顶峰，完成壮举。               团结协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4"/>
          <p:cNvSpPr/>
          <p:nvPr/>
        </p:nvSpPr>
        <p:spPr>
          <a:xfrm>
            <a:off x="801720" y="338040"/>
            <a:ext cx="44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宋体"/>
              </a:rPr>
              <a:t>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矩形 4"/>
          <p:cNvSpPr/>
          <p:nvPr/>
        </p:nvSpPr>
        <p:spPr>
          <a:xfrm>
            <a:off x="395280" y="1353960"/>
            <a:ext cx="782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郭超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高级记者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毕业于北京大学中文系新闻专业。先后任新华社西藏分社、陕西分社、四川分社记者、副社长，新华社秘书长、副社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起任新华社社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曾采写大量新闻报道揭露西藏农奴制的黑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随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登山队完成攀登珠峰和希夏邦马峰的报道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采写的《驯水记》歌颂了中国人民与大自然作斗争的伟大业绩。已出版的新闻作品有《向顶峰冲刺》《西藏十年间》《万里神州驯水记》《时代的回声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197000" y="259920"/>
            <a:ext cx="2946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矩形 4"/>
          <p:cNvSpPr/>
          <p:nvPr/>
        </p:nvSpPr>
        <p:spPr>
          <a:xfrm>
            <a:off x="711360" y="892080"/>
            <a:ext cx="712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界第一峰——珠穆朗玛峰</a:t>
            </a:r>
            <a:r>
              <a:rPr b="1" lang="en-US" sz="2800" spc="-1" strike="noStrike">
                <a:solidFill>
                  <a:srgbClr val="ff505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喜马拉雅山脉位于中国西藏同尼泊尔、印度等国边境，绵延长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公里，主脉海拔平均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是世界上最雄伟的山脉。“喜马拉雅”在藏语中就是“冰雪之乡”的意思。这里终年冰雪覆盖，其中最为高耸的则是位于中国和尼泊尔边界上的珠峰，高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8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是世界最高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Picture 12" descr=""/>
          <p:cNvPicPr/>
          <p:nvPr/>
        </p:nvPicPr>
        <p:blipFill>
          <a:blip r:embed="rId1"/>
          <a:stretch/>
        </p:blipFill>
        <p:spPr>
          <a:xfrm>
            <a:off x="744480" y="4430880"/>
            <a:ext cx="7101000" cy="1552320"/>
          </a:xfrm>
          <a:prstGeom prst="rect">
            <a:avLst/>
          </a:prstGeom>
          <a:ln w="0">
            <a:noFill/>
          </a:ln>
        </p:spPr>
      </p:pic>
      <p:sp>
        <p:nvSpPr>
          <p:cNvPr id="1042" name="矩形 3"/>
          <p:cNvSpPr/>
          <p:nvPr/>
        </p:nvSpPr>
        <p:spPr>
          <a:xfrm>
            <a:off x="1060560" y="304920"/>
            <a:ext cx="40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矩形 4"/>
          <p:cNvSpPr/>
          <p:nvPr/>
        </p:nvSpPr>
        <p:spPr>
          <a:xfrm>
            <a:off x="677880" y="1241280"/>
            <a:ext cx="72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珠峰地理环境独特，峰顶的最低气温常年在零下三四十摄氏度。山上一些地方常年积雪不化，冰川、冰坡、冰塔林到处可见。峰顶空气稀薄，空气的含氧量只有东部平原地区的四分之一，经常刮七八级大风。十二级大风也不少见。珠峰具有重大的科学研究价值。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起，中国科学工作者对珠峰地区进行了全面考察，在古生物、自然地理、高山气候以及现代冰川、地貌等多方面，都获得了丰富而有价值的资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2"/>
          <p:cNvSpPr/>
          <p:nvPr/>
        </p:nvSpPr>
        <p:spPr>
          <a:xfrm>
            <a:off x="1117440" y="282600"/>
            <a:ext cx="40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1042920" y="1146240"/>
            <a:ext cx="2106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尖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缭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埃非勒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砭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履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滞留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WordArt 40"/>
          <p:cNvSpPr txBox="1"/>
          <p:nvPr/>
        </p:nvSpPr>
        <p:spPr>
          <a:xfrm>
            <a:off x="1042920" y="622440"/>
            <a:ext cx="396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noFill/>
                <a:latin typeface="宋体"/>
              </a:rPr>
              <a:t> </a:t>
            </a:r>
            <a:endParaRPr b="0" lang="en-US" sz="1800" spc="1" strike="noStrike">
              <a:ln w="0">
                <a:noFill/>
              </a:ln>
              <a:noFill/>
              <a:latin typeface="宋体"/>
              <a:ea typeface="宋体"/>
            </a:endParaRPr>
          </a:p>
        </p:txBody>
      </p:sp>
      <p:sp>
        <p:nvSpPr>
          <p:cNvPr id="1047" name="Rectangle 41"/>
          <p:cNvSpPr/>
          <p:nvPr/>
        </p:nvSpPr>
        <p:spPr>
          <a:xfrm>
            <a:off x="2728800" y="1197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jiān zhuī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42"/>
          <p:cNvSpPr/>
          <p:nvPr/>
        </p:nvSpPr>
        <p:spPr>
          <a:xfrm>
            <a:off x="2771640" y="191916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liáo rà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43"/>
          <p:cNvSpPr/>
          <p:nvPr/>
        </p:nvSpPr>
        <p:spPr>
          <a:xfrm>
            <a:off x="2771640" y="263052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xiān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44"/>
          <p:cNvSpPr/>
          <p:nvPr/>
        </p:nvSpPr>
        <p:spPr>
          <a:xfrm>
            <a:off x="2506680" y="33307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āi fēi lè sh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45"/>
          <p:cNvSpPr/>
          <p:nvPr/>
        </p:nvSpPr>
        <p:spPr>
          <a:xfrm>
            <a:off x="2506680" y="407520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biān gǔ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46"/>
          <p:cNvSpPr/>
          <p:nvPr/>
        </p:nvSpPr>
        <p:spPr>
          <a:xfrm>
            <a:off x="2771640" y="492120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lǚ jià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2771640" y="562140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zhì liú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19"/>
          <p:cNvSpPr/>
          <p:nvPr/>
        </p:nvSpPr>
        <p:spPr>
          <a:xfrm>
            <a:off x="1558800" y="8017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准下列各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12"/>
          <p:cNvSpPr/>
          <p:nvPr/>
        </p:nvSpPr>
        <p:spPr>
          <a:xfrm>
            <a:off x="1185840" y="30492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611280" y="117432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初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清四名登山队员突击主峰的经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登山队出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运用人梯战术突击第二台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留下刘连满，三人继续登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三人无氧攀登，登顶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2"/>
          <p:cNvSpPr/>
          <p:nvPr/>
        </p:nvSpPr>
        <p:spPr>
          <a:xfrm>
            <a:off x="1015920" y="326880"/>
            <a:ext cx="41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矩形 4"/>
          <p:cNvSpPr/>
          <p:nvPr/>
        </p:nvSpPr>
        <p:spPr>
          <a:xfrm>
            <a:off x="1219320" y="947880"/>
            <a:ext cx="5638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崎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嗡嗡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窒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苍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朦胧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轮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匍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3160800" y="947880"/>
            <a:ext cx="18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qí qū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3160800" y="173844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wēng wēn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3160800" y="2506680"/>
            <a:ext cx="18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zhì xī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3160800" y="3276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cāng máng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3160800" y="3924360"/>
            <a:ext cx="47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méng lóng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"/>
          <p:cNvSpPr/>
          <p:nvPr/>
        </p:nvSpPr>
        <p:spPr>
          <a:xfrm flipH="1">
            <a:off x="3160080" y="4664160"/>
            <a:ext cx="25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lún ku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54"/>
          <p:cNvSpPr/>
          <p:nvPr/>
        </p:nvSpPr>
        <p:spPr>
          <a:xfrm>
            <a:off x="3160800" y="5442120"/>
            <a:ext cx="18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pú fú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2"/>
          <p:cNvSpPr/>
          <p:nvPr/>
        </p:nvSpPr>
        <p:spPr>
          <a:xfrm>
            <a:off x="1219320" y="34920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76" descr=""/>
          <p:cNvPicPr/>
          <p:nvPr/>
        </p:nvPicPr>
        <p:blipFill>
          <a:blip r:embed="rId1"/>
          <a:stretch/>
        </p:blipFill>
        <p:spPr>
          <a:xfrm>
            <a:off x="2771640" y="1015920"/>
            <a:ext cx="4916520" cy="2051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77" descr=""/>
          <p:cNvPicPr/>
          <p:nvPr/>
        </p:nvPicPr>
        <p:blipFill>
          <a:blip r:embed="rId2"/>
          <a:stretch/>
        </p:blipFill>
        <p:spPr>
          <a:xfrm>
            <a:off x="450720" y="3646440"/>
            <a:ext cx="3613320" cy="18734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78" descr=""/>
          <p:cNvPicPr/>
          <p:nvPr/>
        </p:nvPicPr>
        <p:blipFill>
          <a:blip r:embed="rId3"/>
          <a:stretch/>
        </p:blipFill>
        <p:spPr>
          <a:xfrm>
            <a:off x="4064040" y="3646440"/>
            <a:ext cx="3624120" cy="1873440"/>
          </a:xfrm>
          <a:prstGeom prst="rect">
            <a:avLst/>
          </a:prstGeom>
          <a:ln w="0">
            <a:noFill/>
          </a:ln>
        </p:spPr>
      </p:pic>
      <p:sp>
        <p:nvSpPr>
          <p:cNvPr id="1070" name="Rectangle 79"/>
          <p:cNvSpPr/>
          <p:nvPr/>
        </p:nvSpPr>
        <p:spPr>
          <a:xfrm>
            <a:off x="4853520" y="306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屈银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0"/>
          <p:cNvSpPr/>
          <p:nvPr/>
        </p:nvSpPr>
        <p:spPr>
          <a:xfrm>
            <a:off x="1476360" y="551988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富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1"/>
          <p:cNvSpPr/>
          <p:nvPr/>
        </p:nvSpPr>
        <p:spPr>
          <a:xfrm>
            <a:off x="5332320" y="5519880"/>
            <a:ext cx="14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贡   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2"/>
          <p:cNvSpPr/>
          <p:nvPr/>
        </p:nvSpPr>
        <p:spPr>
          <a:xfrm>
            <a:off x="1828800" y="101592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识三位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8"/>
          <p:cNvSpPr/>
          <p:nvPr/>
        </p:nvSpPr>
        <p:spPr>
          <a:xfrm>
            <a:off x="1139760" y="260280"/>
            <a:ext cx="39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宋体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6T06:50:00Z</dcterms:created>
  <dc:creator> </dc:creator>
  <dc:description> </dc:description>
  <cp:keywords/>
  <dc:language>en-US</dc:language>
  <cp:lastModifiedBy>bonny</cp:lastModifiedBy>
  <dcterms:modified xsi:type="dcterms:W3CDTF">2015-08-03T16:34:1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