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9.xml.rels" ContentType="application/vnd.openxmlformats-package.relationships+xml"/>
  <Override PartName="/ppt/slideMasters/_rels/slideMaster8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3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8.xml" ContentType="application/vnd.openxmlformats-officedocument.presentationml.slideMaster+xml"/>
  <Override PartName="/ppt/slideMasters/slideMaster9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theme/theme8.xml" ContentType="application/vnd.openxmlformats-officedocument.theme+xml"/>
  <Override PartName="/ppt/theme/theme9.xml" ContentType="application/vnd.openxmlformats-officedocument.theme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3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media/image8.jpeg" ContentType="image/jpeg"/>
  <Override PartName="/ppt/media/image13.jpeg" ContentType="image/jpe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</p:sldMasterIdLst>
  <p:notesMasterIdLst>
    <p:notesMasterId r:id="rId14"/>
  </p:notesMasterIdLst>
  <p:sldIdLst>
    <p:sldId id="256" r:id="rId15"/>
    <p:sldId id="257" r:id="rId16"/>
    <p:sldId id="258" r:id="rId17"/>
    <p:sldId id="259" r:id="rId18"/>
    <p:sldId id="260" r:id="rId19"/>
    <p:sldId id="261" r:id="rId20"/>
    <p:sldId id="262" r:id="rId21"/>
    <p:sldId id="263" r:id="rId22"/>
    <p:sldId id="264" r:id="rId23"/>
    <p:sldId id="265" r:id="rId24"/>
    <p:sldId id="266" r:id="rId25"/>
    <p:sldId id="267" r:id="rId26"/>
    <p:sldId id="268" r:id="rId27"/>
    <p:sldId id="269" r:id="rId28"/>
    <p:sldId id="270" r:id="rId29"/>
    <p:sldId id="271" r:id="rId30"/>
    <p:sldId id="272" r:id="rId31"/>
    <p:sldId id="273" r:id="rId32"/>
    <p:sldId id="274" r:id="rId33"/>
    <p:sldId id="275" r:id="rId34"/>
    <p:sldId id="276" r:id="rId35"/>
    <p:sldId id="277" r:id="rId36"/>
    <p:sldId id="278" r:id="rId37"/>
    <p:sldId id="279" r:id="rId38"/>
    <p:sldId id="280" r:id="rId3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notesMaster" Target="notesMasters/notesMaster1.xml"/><Relationship Id="rId15" Type="http://schemas.openxmlformats.org/officeDocument/2006/relationships/slide" Target="slides/slide1.xml"/><Relationship Id="rId16" Type="http://schemas.openxmlformats.org/officeDocument/2006/relationships/slide" Target="slides/slide2.xml"/><Relationship Id="rId17" Type="http://schemas.openxmlformats.org/officeDocument/2006/relationships/slide" Target="slides/slide3.xml"/><Relationship Id="rId18" Type="http://schemas.openxmlformats.org/officeDocument/2006/relationships/slide" Target="slides/slide4.xml"/><Relationship Id="rId19" Type="http://schemas.openxmlformats.org/officeDocument/2006/relationships/slide" Target="slides/slide5.xml"/><Relationship Id="rId20" Type="http://schemas.openxmlformats.org/officeDocument/2006/relationships/slide" Target="slides/slide6.xml"/><Relationship Id="rId21" Type="http://schemas.openxmlformats.org/officeDocument/2006/relationships/slide" Target="slides/slide7.xml"/><Relationship Id="rId22" Type="http://schemas.openxmlformats.org/officeDocument/2006/relationships/slide" Target="slides/slide8.xml"/><Relationship Id="rId23" Type="http://schemas.openxmlformats.org/officeDocument/2006/relationships/slide" Target="slides/slide9.xml"/><Relationship Id="rId24" Type="http://schemas.openxmlformats.org/officeDocument/2006/relationships/slide" Target="slides/slide10.xml"/><Relationship Id="rId25" Type="http://schemas.openxmlformats.org/officeDocument/2006/relationships/slide" Target="slides/slide11.xml"/><Relationship Id="rId26" Type="http://schemas.openxmlformats.org/officeDocument/2006/relationships/slide" Target="slides/slide12.xml"/><Relationship Id="rId27" Type="http://schemas.openxmlformats.org/officeDocument/2006/relationships/slide" Target="slides/slide13.xml"/><Relationship Id="rId28" Type="http://schemas.openxmlformats.org/officeDocument/2006/relationships/slide" Target="slides/slide14.xml"/><Relationship Id="rId29" Type="http://schemas.openxmlformats.org/officeDocument/2006/relationships/slide" Target="slides/slide15.xml"/><Relationship Id="rId30" Type="http://schemas.openxmlformats.org/officeDocument/2006/relationships/slide" Target="slides/slide16.xml"/><Relationship Id="rId31" Type="http://schemas.openxmlformats.org/officeDocument/2006/relationships/slide" Target="slides/slide17.xml"/><Relationship Id="rId32" Type="http://schemas.openxmlformats.org/officeDocument/2006/relationships/slide" Target="slides/slide18.xml"/><Relationship Id="rId33" Type="http://schemas.openxmlformats.org/officeDocument/2006/relationships/slide" Target="slides/slide19.xml"/><Relationship Id="rId34" Type="http://schemas.openxmlformats.org/officeDocument/2006/relationships/slide" Target="slides/slide20.xml"/><Relationship Id="rId35" Type="http://schemas.openxmlformats.org/officeDocument/2006/relationships/slide" Target="slides/slide21.xml"/><Relationship Id="rId36" Type="http://schemas.openxmlformats.org/officeDocument/2006/relationships/slide" Target="slides/slide22.xml"/><Relationship Id="rId37" Type="http://schemas.openxmlformats.org/officeDocument/2006/relationships/slide" Target="slides/slide23.xml"/><Relationship Id="rId38" Type="http://schemas.openxmlformats.org/officeDocument/2006/relationships/slide" Target="slides/slide24.xml"/><Relationship Id="rId39" Type="http://schemas.openxmlformats.org/officeDocument/2006/relationships/slide" Target="slides/slide25.xml"/><Relationship Id="rId4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4" name="PlaceHolder 2"/>
          <p:cNvSpPr>
            <a:spLocks noGrp="1"/>
          </p:cNvSpPr>
          <p:nvPr>
            <p:ph type="dt" idx="3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5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5"/>
          <p:cNvSpPr>
            <a:spLocks noGrp="1"/>
          </p:cNvSpPr>
          <p:nvPr>
            <p:ph type="ftr" idx="3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8" name="PlaceHolder 6"/>
          <p:cNvSpPr>
            <a:spLocks noGrp="1"/>
          </p:cNvSpPr>
          <p:nvPr>
            <p:ph type="sldNum" idx="3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13FC4C-C4A4-4A61-851A-533787E8435A}" type="slidenum">
              <a:rPr b="0" lang="zh-CN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sldImg"/>
          </p:nvPr>
        </p:nvSpPr>
        <p:spPr>
          <a:xfrm>
            <a:off x="1141560" y="754200"/>
            <a:ext cx="4392360" cy="3294000"/>
          </a:xfrm>
          <a:prstGeom prst="rect">
            <a:avLst/>
          </a:prstGeom>
          <a:ln w="0">
            <a:noFill/>
          </a:ln>
        </p:spPr>
      </p:sp>
      <p:sp>
        <p:nvSpPr>
          <p:cNvPr id="557" name="PlaceHolder 2"/>
          <p:cNvSpPr>
            <a:spLocks noGrp="1"/>
          </p:cNvSpPr>
          <p:nvPr>
            <p:ph type="body"/>
          </p:nvPr>
        </p:nvSpPr>
        <p:spPr>
          <a:xfrm>
            <a:off x="538200" y="4389480"/>
            <a:ext cx="5781600" cy="3952800"/>
          </a:xfrm>
          <a:prstGeom prst="rect">
            <a:avLst/>
          </a:prstGeom>
          <a:noFill/>
          <a:ln w="0">
            <a:noFill/>
          </a:ln>
        </p:spPr>
        <p:txBody>
          <a:bodyPr lIns="80280" rIns="80280" tIns="39960" bIns="399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000000"/>
                </a:solidFill>
                <a:latin typeface="Arial"/>
              </a:rPr>
              <a:t>添加新的内容页，请使用“新建幻灯片副本”。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ED39A7-13BF-4D5F-B892-F67B138DE44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01F9E-C2F5-43EE-B0DE-164B451553F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CB5F09C-DA60-42B5-9349-166034B9AFC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AD2C39-A47F-4D0D-B4C9-7664E88CB2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3F351D-DDFF-4DFD-8765-067A0D81D6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E293F7AD-E9E9-4637-9F8C-A3621BAE82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7ADAAE20-5FFB-494E-AE42-B8F46DC41A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3E0FA15B-C39A-4ABF-A51A-DC9AAE2A90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6454E4A-C1F1-4D9C-B5A8-EE883ABEC4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496F36AD-009F-417F-961E-BB65EBEE8C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B534145-1D52-475A-BB4B-00AFF5E81F4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C86E964F-8124-4E42-8B84-5A37EA7ABD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289866-CE7D-4C55-BA2F-E29CA43D1EC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048B931-2235-4B8A-AA9A-64F5B1636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672AA0C-38C7-4379-B3FB-A9051558FE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1C5E9C6-8267-4146-8B98-128F3AF92C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5AF4F2D-1295-4A07-946E-67816101A5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4B6AB999-DA69-4C6E-9F02-F33D93A51F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B8D3D60-9D32-481A-BB45-E3E5EC8B7F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5351FF9-C503-4AF1-9360-DA8B37C2D0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536AB78C-C7E8-4576-B581-61BC944DEE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7212A83F-DD43-4043-B006-6B5511E21C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EA41838-D3EA-48E4-8844-257A05794A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AC0EAA-A7C7-4DDC-925F-C2C1D77CB9D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2775F073-B7FC-4579-A8E9-433FAF406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65927BE-A668-4933-8E88-081D4C4C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A03F7662-6356-4FDE-B85B-90DF750280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C3E9D80E-2737-4884-9ED4-557C7B5CE20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7619B6C-E28C-49D6-84CA-48805363B12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99862FA7-0AB6-4BDB-AB1A-FEACA13E5F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F6D1FC8-DE19-49DA-961E-A0CB0453B8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A05E713-001C-4750-B1E5-D620678CE6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E780CBC-66DB-406A-93E1-6EBABFD5F9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23FB473A-11AC-479A-98EC-5860D27C18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18A1E8-A880-4BEE-A769-79C55A60C3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FF43C5D5-B630-4D17-B817-1B1966A0F5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335D2532-9E36-48DD-85C9-5B127EDF6B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E7A63BE-F689-4501-8526-97056E40343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C62BC5D1-6866-41FF-8C19-901C0B0BE5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2E8F88C-2190-401F-A281-2C39D25212D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58ABD0-D097-4B78-BBE6-59B5DF30715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615C12-6ED7-44A2-8381-C65991EE7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5EF0AE5C-F95C-4D0B-96D2-F829753789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514B867-4C14-40FE-AD67-D22F96ACE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8B951C5-C4F7-4504-8A40-B77C76581A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71E1252-9139-4A6D-AED4-FBB80A95BAE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C65556F-CC36-4F05-8583-D9ECD94C2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1F8A297-10F2-4ECE-8BC8-8B96324B5A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B8B7347-69AC-424F-81F9-5BA3EF6307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B1F88A7-FCE8-4676-BCB4-BFA84B781A8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FCF75794-FA11-4B95-9C8E-22B66C31EAE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D0A344-76CD-4611-9764-B03F6F900D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6E2E41F-2758-4727-B4DD-7E342E1914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27B0F9-A940-4CDA-879F-096E907EE8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069B51-3B82-431E-B217-6AF6839867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F3FAF8-4B92-439F-9BAF-8084D436DA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0D512-85D2-4EFA-B1A4-190B4DCC466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A27960-FC8E-4E51-B2BD-FF251EC4E1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0C40A4-6EEE-49B5-8598-C5E3F824FA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92DA1EE-F2D9-451A-9C40-6E5AF9817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72E2C33-CFE2-4509-A1E7-78B498825A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D85311-F669-4D6D-B890-75667B34EEB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57522-2D14-4744-85B3-2ED12B482BF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C0CC7F0-C804-4F4B-9249-0FEA6F3DF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6C32B17-2A83-48D9-97F0-9F3B40471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7B8F64-DD99-4330-B4E2-7C06F6148E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9A901AD-A4DD-4AE5-82CB-CC18127A13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D949A1-A5FD-49CB-8F59-8BAC0D116A6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F0FEA00-D650-4BCF-A5DC-2CB01B2CF60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D20A3C7-C2D3-4E8E-8A7A-E15D98E103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73A2043-A8E7-4BE7-BD68-E8E1CF1F7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A8AC01E-D8C3-4FD5-96D0-A0D97D7733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C382B16-5087-4F23-BEC5-18C6023A77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949B5F9-78F6-4A75-A3B7-945888F946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BE18AB0-D365-4CCB-9B2D-0F43CF3F173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E684CA5-FE88-4E77-B370-DDD4CE0C0D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10C3F38-27D4-474A-BF38-96F3D01480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F08C73B-2DEC-4E72-A80D-C429D3CA11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823E0C-B277-4627-B9A5-8EEEE2F58C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DAFE195-8F35-4F00-B38D-67D3BFFEA9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C962E64-7EBF-4732-AF23-F577FC6A1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00B025D-B43F-406D-B68B-46B61DA0DA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202B399-01BA-4E13-A9A4-36A4C9E57A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77FE1C3-1CCE-4F9B-A916-1974FD28C1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1E0140CB-621E-41FA-A3DC-06C358359B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0CBF55D0-8C8B-430E-ABF3-803AC8BC4A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F184732-8E95-40F8-936A-7E9CF93C77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8A8DFC11-2C04-4DFF-9168-8EE34CD8128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0C87AEC-62FE-4BB6-8BE2-B77168BA643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44716E-7FFF-43F2-A824-605CE1E99A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BF0617CB-DF30-4AC0-8FFB-6C18C5B029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C39BBAA-C68E-40BA-B760-10267815607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6A1C830-9080-47AB-8074-8F6DE95845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99BE05-DB28-4AB9-A17F-F4402CD219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24374B3-9089-4B29-9CD7-5FABC1C37E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AD68EBC5-9311-4D62-B3ED-BAD9AAE896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EE9D7461-401F-45D9-83F4-701D7648D8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8423A255-3CBC-4B68-8292-8EB7A9BDC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F93A4D3-CB39-4459-BE85-92A15A45E4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4E0813A0-6736-460F-9635-6B522E0FE4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D560C5-07B9-4503-B3BB-839EB071CA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948E831F-74B5-466C-91BB-C174B554ADF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7017F6D-0B4B-4DD4-A477-A590F1D3C33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7210D445-EDAE-496F-B2B4-D3E4AA2E26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82725D-25AE-49DF-82DB-26402701D2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C535527-AE82-49AD-A553-D6754A2CAA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59327FE-2BDE-4F0F-A698-8BF69092A8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5C36BB5-A4B6-4039-BB11-D04CF6E9EB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5C37444-EB61-44B6-9770-FC74C966AC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88D73D1-9000-4607-8D86-8BE651B276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99F619A-66A7-4510-B270-C7F17FC4AB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B696D-B3FD-4FAF-8917-35BB19D1E9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DCDE7CEB-B8DF-4739-8E86-CF758CD0E4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3086634E-CF1A-4BDC-8907-C80BEB39756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41A12A0-F226-4780-8266-8EDA77BECE2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C80F106-71CA-4740-A5BE-0106981D9F3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4A62C47-9594-481A-8A57-B27E002E01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AAFDAF1-F04E-4F9E-BC3E-4D180EB17E8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9D93271-A99F-4824-9D6D-756C2C8060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3F55988C-3B1F-4AA8-98D7-D5129D74D71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D3D5F37-2D81-4D40-A089-510D86004C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B18F346-0B70-44D1-B0C0-94E0044633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06C319-87D0-43F6-81F3-9558C45870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E40EC-B8FF-47E5-B6DE-4A059ECFBF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DC6243D-02CD-4DD0-81B2-51C62478AE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597EBE43-1FB7-491A-9742-2331A29766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75854C-35F1-4A7C-ABB3-DC8BBABC2E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218128F-2364-42B5-BA8F-74C7B5CDAA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E67463C-1B16-429B-84FB-45000E4706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4B1D0AD5-5502-442F-B603-E3699A622D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6A47E4-506A-450B-9C72-2AF09F894F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EDD96AC-3DA2-43D3-8C39-56AEF9F2D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033F3FB5-AB30-4064-B055-06EC608802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2DA66-0FEB-4516-AA63-4E15C269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F92F8490-E197-4427-925D-DBCBD8EA7D1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2D015A9-129D-42A0-9FA0-0CC14F9EB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8585B08B-AD17-47A1-B5D0-2089C14625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DD3353-6533-44F9-9C80-A2B40837AA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B4CE35E-4D83-435C-A627-8DEE9F6B71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ACE2EEF-67EA-47AD-A82A-747575FB75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66F2EE5-E7E6-42F7-97ED-457C42ACF6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18DB1C78-CA91-4B50-8403-DF2A7EFA3EA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1042DA2-722B-4EEA-9EB6-A5AEAA2B8A9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91C4E016-3DED-451F-9478-B13F616A6C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1A150B4-EB27-4FCC-9BEA-08F20AE931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B324CB-5FD8-4A65-98F5-D7F03027B0C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8143998-0344-4508-B5F8-9D490FA8163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5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896A35-85F2-4D06-B5D4-57F45906B78D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68F73F2-251D-42E1-835C-4716541281C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F6D831-B2FA-4AB4-B785-C0DA007E3CD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9E2A38-F025-415E-B4D6-0B8B507D07E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46ACC1-1BD4-4982-92EF-8B38D5E046A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D3DD962-17A8-4033-AA84-37DF0DD8B743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2CC9E4-08BF-4C4C-93B4-5FD1C6A91D3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D613304-56F1-40B4-B813-21D90772E3A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6a8486"/>
            </a:gs>
            <a:gs pos="100000">
              <a:srgbClr val="b8e3e6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3C6920-DC6B-49F7-8F1E-2A26CE3A0844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slideLayout" Target="../slideLayouts/slideLayout8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8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8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8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8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8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8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8.jpeg"/><Relationship Id="rId3" Type="http://schemas.openxmlformats.org/officeDocument/2006/relationships/slideLayout" Target="../slideLayouts/slideLayout8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8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8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9" name="PlaceHolder 1"/>
          <p:cNvSpPr>
            <a:spLocks noGrp="1"/>
          </p:cNvSpPr>
          <p:nvPr>
            <p:ph type="subTitle"/>
          </p:nvPr>
        </p:nvSpPr>
        <p:spPr>
          <a:xfrm>
            <a:off x="2755800" y="3456000"/>
            <a:ext cx="3803760" cy="99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algn="ctr">
              <a:lnSpc>
                <a:spcPct val="80000"/>
              </a:lnSpc>
              <a:spcBef>
                <a:spcPts val="18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第</a:t>
            </a:r>
            <a:r>
              <a:rPr b="0" lang="en-US" sz="7200" spc="-1" strike="noStrike">
                <a:solidFill>
                  <a:srgbClr val="ff0000"/>
                </a:solidFill>
                <a:latin typeface="楷体"/>
                <a:ea typeface="楷体"/>
              </a:rPr>
              <a:t>25</a:t>
            </a:r>
            <a:r>
              <a:rPr b="0" lang="zh-CN" sz="7200" spc="-1" strike="noStrike">
                <a:solidFill>
                  <a:srgbClr val="ff0000"/>
                </a:solidFill>
                <a:latin typeface="楷体"/>
                <a:ea typeface="楷体"/>
              </a:rPr>
              <a:t>课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Rectangle 4"/>
          <p:cNvSpPr/>
          <p:nvPr/>
        </p:nvSpPr>
        <p:spPr>
          <a:xfrm>
            <a:off x="2583000" y="1906560"/>
            <a:ext cx="3803400" cy="784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lnSpc>
                <a:spcPct val="8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6000" spc="-1" strike="noStrike">
                <a:solidFill>
                  <a:srgbClr val="ff0000"/>
                </a:solidFill>
                <a:latin typeface="楷体"/>
                <a:ea typeface="楷体"/>
              </a:rPr>
              <a:t>第五单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840960" y="274680"/>
            <a:ext cx="784548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987480"/>
            <a:ext cx="8229600" cy="5138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一）阅读课文，整体感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课文写珍珠鸟，写了几只珍珠鸟？三只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这三只鸟之间是什么关系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两只大鸟，生了一只小珍珠鸟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课文哪些自然段写大鸟？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—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哪些自然段写小珍珠鸟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—1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课文先写大鸟，再写小鸟，为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因为大鸟生了小鸟，有了大鸟，才能有小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那么大鸟从哪里来？朋友送我一对珍珠鸟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课文第一段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归纳课文第一段：点明珍珠鸟的来历。</a:t>
            </a: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二）朋友送给我珍珠鸟以后，我对珍珠鸟怎么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呢？看课文对待大鸟这部分，齐读课文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—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段，找出我对待珍珠鸟的句子：（请学生回答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三）归纳“我”为鸟儿做了哪些事？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四）我对珍珠鸟关心爱护，珍珠鸟跟我的关系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发生了很大的变化，起先如何，后来又怎样呢？（从课文中找出语句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 先怕人 → 熟悉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2"/>
          <p:cNvSpPr>
            <a:spLocks noGrp="1"/>
          </p:cNvSpPr>
          <p:nvPr>
            <p:ph type="title"/>
          </p:nvPr>
        </p:nvSpPr>
        <p:spPr>
          <a:xfrm>
            <a:off x="840960" y="274680"/>
            <a:ext cx="784548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2" name="Picture 4" descr="《珍珠鸟》图片：(4)"/>
          <p:cNvPicPr/>
          <p:nvPr/>
        </p:nvPicPr>
        <p:blipFill>
          <a:blip r:embed="rId1"/>
          <a:stretch/>
        </p:blipFill>
        <p:spPr>
          <a:xfrm>
            <a:off x="1300320" y="925560"/>
            <a:ext cx="3057480" cy="4572000"/>
          </a:xfrm>
          <a:prstGeom prst="rect">
            <a:avLst/>
          </a:prstGeom>
          <a:ln w="0">
            <a:noFill/>
          </a:ln>
        </p:spPr>
      </p:pic>
      <p:pic>
        <p:nvPicPr>
          <p:cNvPr id="523" name="Picture 5" descr="《珍珠鸟》图片："/>
          <p:cNvPicPr/>
          <p:nvPr/>
        </p:nvPicPr>
        <p:blipFill>
          <a:blip r:embed="rId2"/>
          <a:stretch/>
        </p:blipFill>
        <p:spPr>
          <a:xfrm>
            <a:off x="4818240" y="925560"/>
            <a:ext cx="3527280" cy="4572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4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4693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五）体现这一变化过程的动词有哪些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我初见朋友送的珍珠鸟时心情如何？从文中哪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句话读出了这种喜悦之情？可是紧接着，作者为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么单独用一段强调“这是一种怕人的鸟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象：这对怕人的鸟被送到新的主人家，心里会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些什么？以小组为单位讨论，试着扮演鸟爸爸、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妈妈的角色，说说他们将进行一段怎样的家庭对话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2"/>
          <p:cNvSpPr>
            <a:spLocks noGrp="1"/>
          </p:cNvSpPr>
          <p:nvPr>
            <p:ph type="title"/>
          </p:nvPr>
        </p:nvSpPr>
        <p:spPr>
          <a:xfrm>
            <a:off x="840960" y="274680"/>
            <a:ext cx="784548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在关爱珍珠鸟的过程中，首先为它做了什么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事？怎样做的？我这一温存的举动换来了什么？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这一叫声中读出了什么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还为它做了哪些事？我的付出又换来了鸟怎样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反应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渡：是谁的出现改变了这一现状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 type="title"/>
          </p:nvPr>
        </p:nvSpPr>
        <p:spPr>
          <a:xfrm>
            <a:off x="840960" y="274680"/>
            <a:ext cx="784548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8" name="Picture 4" descr="《珍珠鸟》图片：(9)"/>
          <p:cNvPicPr/>
          <p:nvPr/>
        </p:nvPicPr>
        <p:blipFill>
          <a:blip r:embed="rId1"/>
          <a:stretch/>
        </p:blipFill>
        <p:spPr>
          <a:xfrm>
            <a:off x="1096920" y="493560"/>
            <a:ext cx="6711840" cy="5370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4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雏鸟对我有什么反应？我又是怎样关 爱它的呢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5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在我的关爱下，鸟不但亲近我，信任我，还对我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产生了一种依恋，你能从文找出雏鸟对我依恋的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子吗？作者在表现这种依恋的情感时用了哪种写作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手法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6.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读到这里，你感觉作者笔下的鸟和你以往见到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有什么不同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 type="title"/>
          </p:nvPr>
        </p:nvSpPr>
        <p:spPr>
          <a:xfrm>
            <a:off x="840960" y="274680"/>
            <a:ext cx="784548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1" name="PlaceHolder 1"/>
          <p:cNvSpPr>
            <a:spLocks noGrp="1"/>
          </p:cNvSpPr>
          <p:nvPr>
            <p:ph/>
          </p:nvPr>
        </p:nvSpPr>
        <p:spPr>
          <a:xfrm>
            <a:off x="457200" y="987120"/>
            <a:ext cx="8475840" cy="47084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0000"/>
          </a:bodyPr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这种表达效果和作者细腻的描写是分不开的，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认为作者对雏鸟主要进行了什么描写？能找出相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词语吗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请带着对鸟的喜爱之情朗读这段文字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渡：我们再来看这鸟，亲昵的趴在作者肩头睡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了，还呷呷嘴，似乎在做梦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象：此时的鸟做了一个什么梦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8.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作者也被鸟的这种亲昵、依恋的深情所打动，灵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感涌上心头，流泻下一时的感受：信赖，往往创造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美好的境界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想象：作者在这里想对我们人类发出怎样的呼唤？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以后会怎样做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0852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2"/>
          <p:cNvSpPr>
            <a:spLocks noGrp="1"/>
          </p:cNvSpPr>
          <p:nvPr>
            <p:ph type="title"/>
          </p:nvPr>
        </p:nvSpPr>
        <p:spPr>
          <a:xfrm>
            <a:off x="840960" y="274680"/>
            <a:ext cx="7845480" cy="712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新课学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3" name="PlaceHolder 1"/>
          <p:cNvSpPr>
            <a:spLocks noGrp="1"/>
          </p:cNvSpPr>
          <p:nvPr>
            <p:ph type="title"/>
          </p:nvPr>
        </p:nvSpPr>
        <p:spPr>
          <a:xfrm>
            <a:off x="871200" y="274320"/>
            <a:ext cx="7815240" cy="987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结论总结</a:t>
            </a:r>
            <a:br>
              <a:rPr sz="2800"/>
            </a:b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2"/>
          <p:cNvSpPr>
            <a:spLocks noGrp="1"/>
          </p:cNvSpPr>
          <p:nvPr>
            <p:ph/>
          </p:nvPr>
        </p:nvSpPr>
        <p:spPr>
          <a:xfrm>
            <a:off x="639720" y="1261800"/>
            <a:ext cx="8229600" cy="1896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让学生通过本文的学习，唤起情感上的共鸣，走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大自然，留心观察自己喜欢的动物，亲近它，欣赏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它，关爱它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5" name="Picture 4" descr="《珍珠鸟》图片：(10)"/>
          <p:cNvPicPr/>
          <p:nvPr/>
        </p:nvPicPr>
        <p:blipFill>
          <a:blip r:embed="rId1"/>
          <a:stretch/>
        </p:blipFill>
        <p:spPr>
          <a:xfrm>
            <a:off x="3767040" y="3159000"/>
            <a:ext cx="3929040" cy="295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6" name="PlaceHolder 1"/>
          <p:cNvSpPr>
            <a:spLocks noGrp="1"/>
          </p:cNvSpPr>
          <p:nvPr>
            <p:ph type="title"/>
          </p:nvPr>
        </p:nvSpPr>
        <p:spPr>
          <a:xfrm>
            <a:off x="855360" y="274680"/>
            <a:ext cx="7831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下列红色字注音有误的一项是（　　）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斑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　　绿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蔓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à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细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腻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ì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　　　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雏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鸟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uó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眼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睑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jiǎn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　　眸子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óu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呷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嘴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xiā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　　信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赖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ài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Text Box 4"/>
          <p:cNvSpPr/>
          <p:nvPr/>
        </p:nvSpPr>
        <p:spPr>
          <a:xfrm>
            <a:off x="6288120" y="1600200"/>
            <a:ext cx="53496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5e4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nodeType="clickEffect" fill="hold">
                      <p:stCondLst>
                        <p:cond delay="indefinite"/>
                      </p:stCondLst>
                      <p:childTnLst>
                        <p:par>
                          <p:cTn id="6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3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4" dur="500" fill="hold"/>
                                        <p:tgtEl>
                                          <p:spTgt spid="5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539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　教学目标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Text Box 3"/>
          <p:cNvSpPr/>
          <p:nvPr/>
        </p:nvSpPr>
        <p:spPr>
          <a:xfrm>
            <a:off x="898560" y="1000080"/>
            <a:ext cx="8070840" cy="3933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知识与技能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掌握文章的重点字词，了解作者及写作背景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有感情的朗读课文，整体感知文章的思想内容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揣摩、品味本文富有激情的语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过程与方法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朗读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―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分析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――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合作探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朗读法，合作探究，教师点拨。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情感态度和价值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领悟人和动物是完全能和谐相处的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9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下列词语书写有误的一项是（　　）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葱茏　淘气娇憨　斑斑驳驳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垂曼　隐约闪动　光细骄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疏格　生机盎然　以强凌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忐忑　不动声色　抚摩绒毛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2"/>
          <p:cNvSpPr>
            <a:spLocks noGrp="1"/>
          </p:cNvSpPr>
          <p:nvPr>
            <p:ph type="title"/>
          </p:nvPr>
        </p:nvSpPr>
        <p:spPr>
          <a:xfrm>
            <a:off x="773280" y="274680"/>
            <a:ext cx="7913520" cy="752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1" name="Text Box 5"/>
          <p:cNvSpPr/>
          <p:nvPr/>
        </p:nvSpPr>
        <p:spPr>
          <a:xfrm>
            <a:off x="5819760" y="1600200"/>
            <a:ext cx="944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5e49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1" dur="5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造词填空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放在一个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的竹条编成的笼子里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笼内还有一卷干草，那是小鸟儿舒适又温暖的巢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简音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　简洁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简陋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简易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）我便用吊兰长长的、串生着小绿叶的垂蔓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_________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在鸟笼上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遮盖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蒙盖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覆盖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笼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title"/>
          </p:nvPr>
        </p:nvSpPr>
        <p:spPr>
          <a:xfrm>
            <a:off x="855360" y="274680"/>
            <a:ext cx="7831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4" name="Text Box 5"/>
          <p:cNvSpPr/>
          <p:nvPr/>
        </p:nvSpPr>
        <p:spPr>
          <a:xfrm>
            <a:off x="3149640" y="1901880"/>
            <a:ext cx="12049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Text Box 6"/>
          <p:cNvSpPr/>
          <p:nvPr/>
        </p:nvSpPr>
        <p:spPr>
          <a:xfrm>
            <a:off x="1190520" y="4135320"/>
            <a:ext cx="110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" dur="indefinite" restart="never" nodeType="tmRoot">
          <p:childTnLst>
            <p:seq>
              <p:cTn id="73" dur="indefinite" nodeType="mainSeq">
                <p:childTnLst>
                  <p:par>
                    <p:cTn id="74" nodeType="clickEffect" fill="hold">
                      <p:stCondLst>
                        <p:cond delay="indefinite"/>
                      </p:stCondLst>
                      <p:childTnLst>
                        <p:par>
                          <p:cTn id="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8" dur="500"/>
                                        <p:tgtEl>
                                          <p:spTgt spid="5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nodeType="clickEffect" fill="hold">
                      <p:stCondLst>
                        <p:cond delay="indefinite"/>
                      </p:stCondLst>
                      <p:childTnLst>
                        <p:par>
                          <p:cTn id="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3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4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简析红色词在句中的表达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从中传出的笛儿般又细又亮的叫声，也就格外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松自在了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不管它。这样久了，打开窗子，它最多只在窗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框上站一会儿，决不飞出去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title"/>
          </p:nvPr>
        </p:nvSpPr>
        <p:spPr>
          <a:xfrm>
            <a:off x="855360" y="274680"/>
            <a:ext cx="7831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Text Box 5"/>
          <p:cNvSpPr/>
          <p:nvPr/>
        </p:nvSpPr>
        <p:spPr>
          <a:xfrm>
            <a:off x="1974960" y="2959200"/>
            <a:ext cx="65023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格外”从程度上加以修饰，用在这里突出了小鸟的轻松愉快。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9" name="Text Box 6"/>
          <p:cNvSpPr/>
          <p:nvPr/>
        </p:nvSpPr>
        <p:spPr>
          <a:xfrm>
            <a:off x="1320840" y="5311800"/>
            <a:ext cx="612468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“</a:t>
            </a: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最”突出了小鸟与“我”的亲近，依恋。“决”写出了小鸟乖巧。</a:t>
            </a:r>
            <a:r>
              <a:rPr b="1" lang="zh-CN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4" dur="indefinite" restart="never" nodeType="tmRoot">
          <p:childTnLst>
            <p:seq>
              <p:cTn id="85" dur="indefinite" nodeType="mainSeq">
                <p:childTnLst>
                  <p:par>
                    <p:cTn id="86" nodeType="clickEffect" fill="hold">
                      <p:stCondLst>
                        <p:cond delay="indefinite"/>
                      </p:stCondLst>
                      <p:childTnLst>
                        <p:par>
                          <p:cTn id="8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8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nodeType="clickEffect" fill="hold">
                      <p:stCondLst>
                        <p:cond delay="indefinite"/>
                      </p:stCondLst>
                      <p:childTnLst>
                        <p:par>
                          <p:cTn id="9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54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5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简析下面句中修辞手法的表达作用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会儿落在柜顶上，一会儿神气十足地站在书架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上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一会儿把灯绳撞得来回摇动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……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6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我呢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决不掀开叶片往里看，连添食加水时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睁大好奇的眼去惊动它们。”这反映了“我”怎样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心理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7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“信赖，往往创造出美好的境界：”在你看来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为了人与自然，人与人之间创造这种境界，我们应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该做些什么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 type="title"/>
          </p:nvPr>
        </p:nvSpPr>
        <p:spPr>
          <a:xfrm>
            <a:off x="855360" y="274680"/>
            <a:ext cx="7831080" cy="698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marL="1117440" indent="0"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课堂练习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2" name="PlaceHolder 1"/>
          <p:cNvSpPr>
            <a:spLocks noGrp="1"/>
          </p:cNvSpPr>
          <p:nvPr>
            <p:ph type="title"/>
          </p:nvPr>
        </p:nvSpPr>
        <p:spPr>
          <a:xfrm>
            <a:off x="826560" y="274320"/>
            <a:ext cx="7859880" cy="755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作业布置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学习本文之后及时捕捉灵感，拿起笔细腻的描写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自己喜爱的动物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4" name="PlaceHolder 1"/>
          <p:cNvSpPr>
            <a:spLocks noGrp="1"/>
          </p:cNvSpPr>
          <p:nvPr>
            <p:ph type="title"/>
          </p:nvPr>
        </p:nvSpPr>
        <p:spPr>
          <a:xfrm>
            <a:off x="784080" y="274320"/>
            <a:ext cx="7902720" cy="741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ff5e49"/>
                </a:solidFill>
                <a:latin typeface="Arial"/>
              </a:rPr>
              <a:t>板书设计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2"/>
          <p:cNvSpPr>
            <a:spLocks noGrp="1"/>
          </p:cNvSpPr>
          <p:nvPr>
            <p:ph/>
          </p:nvPr>
        </p:nvSpPr>
        <p:spPr>
          <a:xfrm>
            <a:off x="457200" y="1015560"/>
            <a:ext cx="8229600" cy="5110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珍珠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000000"/>
                </a:solidFill>
                <a:latin typeface="Arial"/>
              </a:rPr>
              <a:t>      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我　　　　  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                 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惊动它　　　怕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打扰它　　　渐渐胆大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不伤害它　　　放开胆子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完全放心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信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爱鸟　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——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爱人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8128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　　　　　　　　　　　爱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812880" y="274680"/>
            <a:ext cx="7873920" cy="668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800" spc="-1" strike="noStrike">
                <a:solidFill>
                  <a:srgbClr val="ff5e49"/>
                </a:solidFill>
                <a:latin typeface="Arial"/>
              </a:rPr>
              <a:t>导入新课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942840"/>
            <a:ext cx="8229600" cy="518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我们中华民族有着优秀文化传统，诚信是其中一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个重要的课题。什么是诚信呢？就是互相忠诚、互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相信赖。其实不单是人与人的交往需要它，就是与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动物交往也需要如此。下面先请欣赏一组配乐的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面：百花盛开，百鸟争鸣。这是一个鸟语花香的世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界，也是人类追求的美好的生态环境。人的存在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使鸟儿有了依托，鸟的存在，给人平添了多少情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趣！鸟类是人类的朋友，它为我们的生活带来色彩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和情趣。尤其在有些作家的眼里鸟岂止是人类的朋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友，简直就是疼爱有加的儿女。不信吗，那么我们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一起来欣赏曾经是专业篮球运动员的当代作家冯骥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才写的散文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《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珍珠鸟</a:t>
            </a: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》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5" name="Picture 5" descr="《珍珠鸟》图片：珍珠鸟(3)"/>
          <p:cNvPicPr/>
          <p:nvPr/>
        </p:nvPicPr>
        <p:blipFill>
          <a:blip r:embed="rId1"/>
          <a:stretch/>
        </p:blipFill>
        <p:spPr>
          <a:xfrm>
            <a:off x="1233360" y="563400"/>
            <a:ext cx="7096320" cy="5365800"/>
          </a:xfrm>
          <a:prstGeom prst="rect">
            <a:avLst/>
          </a:prstGeom>
          <a:ln w="0">
            <a:noFill/>
          </a:ln>
        </p:spPr>
      </p:pic>
      <p:pic>
        <p:nvPicPr>
          <p:cNvPr id="506" name="Picture 7" descr="图片2"/>
          <p:cNvPicPr/>
          <p:nvPr/>
        </p:nvPicPr>
        <p:blipFill>
          <a:blip r:embed="rId2"/>
          <a:stretch/>
        </p:blipFill>
        <p:spPr>
          <a:xfrm>
            <a:off x="1233360" y="563400"/>
            <a:ext cx="7096320" cy="5372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mph" presetID="6">
                                  <p:stCondLst>
                                    <p:cond delay="0"/>
                                  </p:stCondLst>
                                  <p:childTnLst>
                                    <p:animScale>
                                      <p:cBhvr>
                                        <p:cTn id="6" dur="2000" fill="hold"/>
                                        <p:tgtEl>
                                          <p:spTgt spid="505"/>
                                        </p:tgtEl>
                                      </p:cBhvr>
                                      <p:to x="50000" y="50000"/>
                                    </p:animScale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" dur="20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7" name="Picture 4" descr="123610"/>
          <p:cNvPicPr/>
          <p:nvPr/>
        </p:nvPicPr>
        <p:blipFill>
          <a:blip r:embed="rId1"/>
          <a:stretch/>
        </p:blipFill>
        <p:spPr>
          <a:xfrm>
            <a:off x="1625760" y="290520"/>
            <a:ext cx="6211800" cy="6008760"/>
          </a:xfrm>
          <a:prstGeom prst="rect">
            <a:avLst/>
          </a:prstGeom>
          <a:ln w="0">
            <a:noFill/>
          </a:ln>
        </p:spPr>
      </p:pic>
      <p:pic>
        <p:nvPicPr>
          <p:cNvPr id="508" name="Picture 5" descr="《珍珠鸟》图片：珍珠鸟(8)"/>
          <p:cNvPicPr/>
          <p:nvPr/>
        </p:nvPicPr>
        <p:blipFill>
          <a:blip r:embed="rId2"/>
          <a:stretch/>
        </p:blipFill>
        <p:spPr>
          <a:xfrm>
            <a:off x="1625760" y="289080"/>
            <a:ext cx="6211800" cy="6010200"/>
          </a:xfrm>
          <a:prstGeom prst="rect">
            <a:avLst/>
          </a:prstGeom>
          <a:ln w="0">
            <a:noFill/>
          </a:ln>
        </p:spPr>
      </p:pic>
      <p:pic>
        <p:nvPicPr>
          <p:cNvPr id="509" name="Picture 6" descr="《珍珠鸟》图片：珍珠鸟(10)"/>
          <p:cNvPicPr/>
          <p:nvPr/>
        </p:nvPicPr>
        <p:blipFill>
          <a:blip r:embed="rId3"/>
          <a:stretch/>
        </p:blipFill>
        <p:spPr>
          <a:xfrm>
            <a:off x="1625760" y="290520"/>
            <a:ext cx="6211800" cy="6008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3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7" dur="24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8" dur="24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" dur="24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-0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2400" fill="hold"/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0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0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" dur="600" fill="hold">
                                          <p:stCondLst>
                                            <p:cond delay="240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0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7" dur="20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" nodeType="clickEffect" fill="hold">
                      <p:stCondLst>
                        <p:cond delay="indefinite"/>
                      </p:stCondLst>
                      <p:childTnLst>
                        <p:par>
                          <p:cTn id="2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2" dur="20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/>
          </p:nvPr>
        </p:nvSpPr>
        <p:spPr>
          <a:xfrm>
            <a:off x="457200" y="888840"/>
            <a:ext cx="8229600" cy="897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1" lang="zh-CN" sz="2800" spc="-1" strike="noStrike">
                <a:solidFill>
                  <a:srgbClr val="000000"/>
                </a:solidFill>
                <a:latin typeface="宋体"/>
              </a:rPr>
              <a:t>．欣赏珍珠鸟的图画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11" name="Picture 4" descr="《珍珠鸟》图片：(1)"/>
          <p:cNvPicPr/>
          <p:nvPr/>
        </p:nvPicPr>
        <p:blipFill>
          <a:blip r:embed="rId1"/>
          <a:stretch/>
        </p:blipFill>
        <p:spPr>
          <a:xfrm>
            <a:off x="1165320" y="1457280"/>
            <a:ext cx="6350040" cy="47242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2" name="Picture 4" descr="《珍珠鸟》图片：(2)"/>
          <p:cNvPicPr/>
          <p:nvPr/>
        </p:nvPicPr>
        <p:blipFill>
          <a:blip r:embed="rId1"/>
          <a:stretch/>
        </p:blipFill>
        <p:spPr>
          <a:xfrm>
            <a:off x="762120" y="900000"/>
            <a:ext cx="7619760" cy="5058000"/>
          </a:xfrm>
          <a:prstGeom prst="rect">
            <a:avLst/>
          </a:prstGeom>
          <a:ln w="0">
            <a:noFill/>
          </a:ln>
        </p:spPr>
      </p:pic>
      <p:pic>
        <p:nvPicPr>
          <p:cNvPr id="513" name="Picture 5" descr="《珍珠鸟》图片：珍珠鸟(7)"/>
          <p:cNvPicPr/>
          <p:nvPr/>
        </p:nvPicPr>
        <p:blipFill>
          <a:blip r:embed="rId2"/>
          <a:stretch/>
        </p:blipFill>
        <p:spPr>
          <a:xfrm>
            <a:off x="762120" y="900000"/>
            <a:ext cx="7619760" cy="50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9" dur="2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" nodeType="clickEffect" fill="hold">
                      <p:stCondLst>
                        <p:cond delay="indefinite"/>
                      </p:stCondLst>
                      <p:childTnLst>
                        <p:par>
                          <p:cTn id="4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44" dur="2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4" name="Picture 4" descr="《珍珠鸟》图片：(3)"/>
          <p:cNvPicPr/>
          <p:nvPr/>
        </p:nvPicPr>
        <p:blipFill>
          <a:blip r:embed="rId1"/>
          <a:stretch/>
        </p:blipFill>
        <p:spPr>
          <a:xfrm>
            <a:off x="1117440" y="816120"/>
            <a:ext cx="6850080" cy="5181480"/>
          </a:xfrm>
          <a:prstGeom prst="rect">
            <a:avLst/>
          </a:prstGeom>
          <a:ln w="0">
            <a:noFill/>
          </a:ln>
        </p:spPr>
      </p:pic>
      <p:pic>
        <p:nvPicPr>
          <p:cNvPr id="515" name="Picture 5" descr="《珍珠鸟》图片：珍珠鸟"/>
          <p:cNvPicPr/>
          <p:nvPr/>
        </p:nvPicPr>
        <p:blipFill>
          <a:blip r:embed="rId2"/>
          <a:stretch/>
        </p:blipFill>
        <p:spPr>
          <a:xfrm>
            <a:off x="1117440" y="838080"/>
            <a:ext cx="6850080" cy="5137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" nodeType="clickEffect" fill="hold">
                      <p:stCondLst>
                        <p:cond delay="indefinite"/>
                      </p:stCondLst>
                      <p:childTnLst>
                        <p:par>
                          <p:cTn id="5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56" dur="20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16" name="Picture 4" descr="《珍珠鸟》图片：(6)"/>
          <p:cNvPicPr/>
          <p:nvPr/>
        </p:nvPicPr>
        <p:blipFill>
          <a:blip r:embed="rId1"/>
          <a:stretch/>
        </p:blipFill>
        <p:spPr>
          <a:xfrm>
            <a:off x="5167440" y="1143000"/>
            <a:ext cx="3429000" cy="4572000"/>
          </a:xfrm>
          <a:prstGeom prst="rect">
            <a:avLst/>
          </a:prstGeom>
          <a:ln w="0">
            <a:noFill/>
          </a:ln>
        </p:spPr>
      </p:pic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456840" y="1143000"/>
            <a:ext cx="439092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3</a:t>
            </a: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．释题：珍珠鸟是动物，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写动物，一般抓住动物的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哪些方面来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（请学生回答）看课文如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何写？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 </dc:creator>
  <dc:description> </dc:description>
  <cp:keywords/>
  <dc:language>en-US</dc:language>
  <cp:lastModifiedBy>bonny</cp:lastModifiedBy>
  <dcterms:modified xsi:type="dcterms:W3CDTF">2015-08-03T16:37:01Z</dcterms:modified>
  <cp:revision>2</cp:revision>
  <dc:subject> </dc:subject>
  <dc:title> 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8.1.0.2424</vt:lpwstr>
  </property>
</Properties>
</file>