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%E9%B8%9F%E5%8F%AB.wav" ContentType="audio/x-wav"/>
  <Override PartName="/ppt/media/image9.gif" ContentType="image/gif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F392-B799-4838-9418-01B07F19F5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2360" cy="3294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538200" y="4389480"/>
            <a:ext cx="5781600" cy="3952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新的内容页，请使用“新建幻灯片副本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ADB-348B-4FFF-84ED-F93C7328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8FD-B0FC-4D7F-92B1-0FFB439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C2D21-A48F-454B-A8DF-8E2371F0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B1A67-4146-48B4-B158-F93E7B5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DAA09-6ED9-46F9-8989-1F37D075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1D6E3-3321-4899-90A7-AB390DB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FCF42-0099-4E20-82F0-CA919F1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2B130-6D2B-457C-91CB-D993E5A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918DB-FD94-45EB-8666-E787C54B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8D682-88C9-4113-9255-712CC5E1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C32A1-FB41-462F-B29F-3C106185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0CFDC-9964-43FC-8C2F-7C007091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B0D-7755-44FE-B417-8803FB61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9E9EB-882F-4135-BE7E-6A6E8A56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43D66-B328-4ED2-BEF2-5DE4C80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D9BCF-C45C-43F6-9772-D7D98FDC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1EE9E-095A-42A1-9192-C17FFDCE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49DAA-6A28-499E-AA9E-B56AA000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E8A2D-017D-4B86-B327-89CE30AA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377BD-CAD3-4569-825C-C38B95D3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08DA-B7E4-4655-B62B-E531045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CE88A-1560-4F8F-8C5B-FEB6B241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64AD8-5FB7-4E09-908B-080E4A29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992-244A-435D-8DB1-EE9DC2DC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5BC59-D9B8-4FFE-95E5-8B6DE7D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506F2-59A8-42E8-A19E-F926FE8A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F5ABC-4CE4-4E96-888A-64227B0B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8FAFF-4742-4C05-9566-6213FCB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083DA-9C89-4E10-A40C-649148A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F1D21-2450-47D9-8C52-F5F9288A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91506-AF0D-4E62-9810-2C455C7E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FE5A4-484E-4236-BC84-1F3ED33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3351-4F5D-4597-AE1D-180146B7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FC9FE-1A49-4657-9021-FF80AB35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440-4F3E-4CA4-AFC0-809C2272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EEE7F-2AE7-4C5D-8209-FD4F0D44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BB876-5E9E-4E12-9715-56644718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2A35-D3A4-41F0-9D20-74CE9D3B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4CF61-5051-4C53-BEB9-AC43B532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9A39D-6D6F-46AE-9CC2-63BEA36B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7051A-8650-45C4-8115-53DACE51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153DD-E900-4660-82F1-963FC6B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23CC0-053C-4710-975E-CC0F44E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DFA6C-5C3A-483F-A70C-E8FE0D9D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54949-F410-4DFA-8335-08CE0DCA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226-22FE-47A6-99A1-2B9BBE6E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A8503-AA50-476C-A6AF-3163DB86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7977B-4B4E-4B9E-9A5D-2D33BD5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52FC3-D3BA-422A-A28F-262E71DC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603D1-37BF-4B58-8993-80D69F43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92CD9-B6AD-4B50-ABF5-47C61D76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42DE-5145-4677-BED2-045A8EE6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38A7-D5D8-4205-82AB-831F1231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957D-0231-4BF2-B61F-D576BB9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E7FB-0C77-439E-8C30-DEB39F1F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2FF9-D120-4033-9951-B1B4D13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ABC-5170-4AB7-B153-F6BBC86A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D03A-2C03-48E4-A52C-08D33D0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AB5-33F9-4241-AB8C-457661A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0C8D-FD42-42A3-B9E2-220B880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96E-D83C-4EB5-942B-F1072944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8448-F69F-4E4F-908C-430B6BFC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9439-CACA-4CB6-9173-46C49AA3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1DCF-2969-4617-BDC1-0B69F59E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7D97-0D2D-4E82-966A-DE9C9B3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DFF8-549A-4846-B3FB-7109A6CC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5039-7CA0-4ED8-B367-8180F360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C46-DCE4-44A1-8369-16DF8A39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6A92-0018-4D7A-97C8-58C6B564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7B6A-4269-4C75-9CDF-93EFAA7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D2BE-E45A-4BDC-9406-C92DB7B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DC1E-F811-457A-82C9-FECE1035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3018-8E7C-4FB1-9164-FFA866C0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C335-D22B-44FB-B963-DD58D385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7F9A-6BDC-4607-8D1E-01F136BA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78B0-505D-40E3-B4C2-2605452F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43FA7-B86D-44FC-9634-ADB6586A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8A40-10B2-40EA-8E96-1918689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9A1-E75E-4795-AFEE-8AACAEC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3059-DAE6-4F8B-9205-AF938B26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A309-F4FC-4ECD-B5BC-B2021A3C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FDD0-59FD-49FA-B430-3C9F9E7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94ED-1764-48D4-8AAE-298A1D9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4508-A12F-4BA6-8147-0FCBEC9D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23031-CAC8-42BD-8DAF-B64B915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8F29-7816-4E9D-96C4-1A1E872F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3DFE0-F867-4FA2-8AF3-B277BC35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DA28-F2BE-4147-8742-8450BB1A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35636-5C53-4B80-B30D-54BA36E8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0A3-A0BC-4D54-91D2-C2D876F4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C738-0A5D-4549-BC93-2BC9A40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262E-293F-44F3-9A17-E4681379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FEA9-0E73-40E9-8A8E-F990996B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8D313-1870-44D3-BD20-E78D7BA0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8F4D-E7DC-4425-A231-40BDFFF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3770B-AB75-4D04-8D9E-8DB1D3B9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A4570-A92F-42B3-A348-F18D794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C3C2-4AC6-42CF-922C-9C39656F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F950-3F8A-4BC2-9C01-34281623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F4962-C0B8-43BE-AECB-535BDBF0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03B-485B-4BA6-BBE9-A39632A0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2BF8-CB8D-44E7-847E-C376731C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5F9A-9C6F-4D81-A3FF-F8778464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E9D4F-2D3F-4649-872A-C9AAC5C6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4ECE-9B2C-4868-AE1F-52CAA5BD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091F-5B2F-4992-8963-FB6A1E81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E8D8F-AD56-492D-82EE-B654CC49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B3F6-C68C-422C-98E9-B494116D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FED5-D74E-462C-B650-C64862E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5A23C-D0A9-46F0-8CD7-443A0CB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C44D-F4DD-40D6-9C57-631B4FE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34A-8F4A-43A7-B3D5-AF0D325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CB1A-53C8-4E5D-B71B-CEA6FC21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1B92-F735-487E-BFEF-359E9561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6B171-217C-4E4F-BD4B-4473F4DD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81F1D-9711-4597-9B21-4133C140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5C59-35E5-42E6-B9BF-380CA07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344A-3CF0-4A5C-9214-B023CF86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BCE1-E3D8-404E-8D6D-4251DA5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0AD8E-49C6-4F38-85EE-DC6992D4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AC292-49AD-421C-85BE-55D4F087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4CB96-B708-47F1-85BD-1ACD1181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9F7-7FA6-4A10-846A-BB80922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C6B6-35F8-4147-8ABE-54DC6ABB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9A31E-38EA-4348-B198-06E1A23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D8250-25B5-4C93-B40A-2155998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5806-A25F-4D2E-AC0D-D8EC362A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AE9C2-40C6-430A-B7C8-72AD21A0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1F5C-52A5-4780-A7A8-A12471B4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0C233-F3C7-4EB6-9456-56CD27D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84533-B685-4231-BD12-D57EB744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9F879-9BCB-4657-8838-1E63822F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47601-08E3-4E26-9E91-F9F3CC2E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EA0-3F9B-4EC9-A0B6-6A43FC4E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2965-B2B2-4768-8077-4C9131A2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19092-C63A-4695-ABB9-2E44797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E628-1252-413E-A722-8CF7D20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3CB70-AFE4-459E-B1A5-4F6C8C49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7BECA-9959-4E2E-AE2A-F3D79FF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C666C-E79A-4B14-97D9-B646C611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D207F-14F5-49CD-AFE4-C73DE430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82598-7558-4205-9080-CA140389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F80D6-ACE6-4153-BBC5-750E10A8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E572B-8039-4D61-9035-4F7C129E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4D4-1CE6-465B-BCC4-4C6BAC1BCC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0F5-F984-4498-BE15-36A68ECD9C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F64C-BC51-425B-8A68-6BCAF59687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8D48-F594-46CA-9D2F-6670091C06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ECA5-38FD-4832-B371-BEBE30C090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FD63-3DC7-4D75-81B5-859C30D244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7FF5-C111-4DA6-8C90-7F4D5E66B0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056-914B-4CBB-A971-76CA9BC12E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B45-594E-466C-9439-94C6C34D2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7209-8687-4FB4-B05A-60D69A566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C6B-DC5F-4EDF-9B19-8CFC9F5C1F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5A36-1898-4F8D-A067-037B1BD824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audio" Target="../media/&#40479;&#21483;.wav"/><Relationship Id="rId8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2609640" y="3278160"/>
            <a:ext cx="38034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0" lang="en-US" sz="7200" spc="-1" strike="noStrike">
                <a:solidFill>
                  <a:srgbClr val="ff0000"/>
                </a:solidFill>
                <a:latin typeface="楷体"/>
                <a:ea typeface="楷体"/>
              </a:rPr>
              <a:t>26</a:t>
            </a: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514600" y="1943280"/>
            <a:ext cx="38037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第五单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《鹤群翔空》图片：江口涣"/>
          <p:cNvPicPr/>
          <p:nvPr/>
        </p:nvPicPr>
        <p:blipFill>
          <a:blip r:embed="rId1"/>
          <a:stretch/>
        </p:blipFill>
        <p:spPr>
          <a:xfrm>
            <a:off x="1247760" y="1273320"/>
            <a:ext cx="3919680" cy="41385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《鹤群翔空》图片：江口涣墓"/>
          <p:cNvPicPr/>
          <p:nvPr/>
        </p:nvPicPr>
        <p:blipFill>
          <a:blip r:embed="rId2"/>
          <a:stretch/>
        </p:blipFill>
        <p:spPr>
          <a:xfrm>
            <a:off x="5167440" y="1273320"/>
            <a:ext cx="3657600" cy="41385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"/>
          <p:cNvSpPr/>
          <p:nvPr/>
        </p:nvSpPr>
        <p:spPr>
          <a:xfrm>
            <a:off x="1916280" y="5502240"/>
            <a:ext cx="22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江口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5805360" y="5502240"/>
            <a:ext cx="18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江口涣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96960" y="95724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排除阅读障碍，把不理解、不熟悉的字词句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，必要时查查工具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下列加红的字注音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（　　） 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悍（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406520" y="2225520"/>
            <a:ext cx="22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692360" y="3003480"/>
            <a:ext cx="23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406520" y="3860640"/>
            <a:ext cx="23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763640" y="4792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763640" y="5573880"/>
            <a:ext cx="230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725040" y="434520"/>
            <a:ext cx="7961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课文，理解下列词语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伫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绮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剽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寡不敌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济于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625760" y="9460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长时间的站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4208400" y="1204920"/>
            <a:ext cx="25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鲜艳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1625760" y="2241720"/>
            <a:ext cx="58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形容女子身材苗条，动作轻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1625760" y="2760840"/>
            <a:ext cx="31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敏捷而勇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2424240" y="3279600"/>
            <a:ext cx="62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人数少的抵挡不住多的。本文形容一只鹰抵挡不住众多鹤的攻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2424240" y="444168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济，帮助。对事情没有帮助，指解决不了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1625760" y="5388120"/>
            <a:ext cx="62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环绕着飞或走。本文指鹤群环绕着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（二）仔细阅读文章，思考以下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这篇文章是用第几人称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复述文章主要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梳理文章写作思路，划分结构层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《鹤群翔空》图片：鹤吟"/>
          <p:cNvPicPr/>
          <p:nvPr/>
        </p:nvPicPr>
        <p:blipFill>
          <a:blip r:embed="rId1"/>
          <a:stretch/>
        </p:blipFill>
        <p:spPr>
          <a:xfrm>
            <a:off x="1314360" y="422280"/>
            <a:ext cx="71168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89964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篇文章是运用第一人称来写的。“我”是鹤群翔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过程的目击者，又是文中情感抒发者。运用第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称，可以使“我”的所见和“我”的所感很自然地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在一起，没有半点雕琢的痕迹。作者从南侧群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空浮现一排小斑点写起，一直写到鹤群向北飞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止，叙述了自己观察到的鹤群翔空的全过程。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鹤鹰之战是重点，战前，战斗，战后，是三个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次。战前又有两个小的层次，前一层写“一”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队的飞翔貌，后一层写变换方向。战后，也分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，一层是护送，一层是远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he2"/>
          <p:cNvPicPr/>
          <p:nvPr/>
        </p:nvPicPr>
        <p:blipFill>
          <a:blip r:embed="rId1"/>
          <a:stretch/>
        </p:blipFill>
        <p:spPr>
          <a:xfrm>
            <a:off x="6629400" y="235584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he2"/>
          <p:cNvPicPr/>
          <p:nvPr/>
        </p:nvPicPr>
        <p:blipFill>
          <a:blip r:embed="rId2"/>
          <a:stretch/>
        </p:blipFill>
        <p:spPr>
          <a:xfrm>
            <a:off x="5410080" y="2432160"/>
            <a:ext cx="1600200" cy="1353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he2"/>
          <p:cNvPicPr/>
          <p:nvPr/>
        </p:nvPicPr>
        <p:blipFill>
          <a:blip r:embed="rId3"/>
          <a:stretch/>
        </p:blipFill>
        <p:spPr>
          <a:xfrm>
            <a:off x="4038480" y="2203560"/>
            <a:ext cx="1524240" cy="1288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he2"/>
          <p:cNvPicPr/>
          <p:nvPr/>
        </p:nvPicPr>
        <p:blipFill>
          <a:blip r:embed="rId4"/>
          <a:stretch/>
        </p:blipFill>
        <p:spPr>
          <a:xfrm>
            <a:off x="2895480" y="1898640"/>
            <a:ext cx="1371600" cy="1160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he2"/>
          <p:cNvPicPr/>
          <p:nvPr/>
        </p:nvPicPr>
        <p:blipFill>
          <a:blip r:embed="rId5"/>
          <a:stretch/>
        </p:blipFill>
        <p:spPr>
          <a:xfrm>
            <a:off x="1752480" y="1670040"/>
            <a:ext cx="1295640" cy="1095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he2"/>
          <p:cNvPicPr/>
          <p:nvPr/>
        </p:nvPicPr>
        <p:blipFill>
          <a:blip r:embed="rId6"/>
          <a:stretch/>
        </p:blipFill>
        <p:spPr>
          <a:xfrm>
            <a:off x="762120" y="1289160"/>
            <a:ext cx="114300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9%B8%9F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（三）深人阅读，完成以下阅读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找出文章表现鹤群飞翔于空中的细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找出文章表现鹤群搏击苍鹰的细节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找出表现鹤群救护同伴的细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《鹤群翔空》图片：夕阳"/>
          <p:cNvPicPr/>
          <p:nvPr/>
        </p:nvPicPr>
        <p:blipFill>
          <a:blip r:embed="rId1"/>
          <a:stretch/>
        </p:blipFill>
        <p:spPr>
          <a:xfrm>
            <a:off x="971640" y="522360"/>
            <a:ext cx="78343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南侧群山的上空深处，浮现出一排黑芝麻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般的小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它们一律将长颈伸向前方，双足问后方笔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伸，悠然翱翔太空的美姿，实在是无可言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排成一字模队的鹤群以此为信号，一齐掉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左转，变成单列纵队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排头大鹤先向有旋转，而后悠哉游哉翱翔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。后续鹤也都一只紧接一只，向右旋转，直腾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247760" y="262080"/>
            <a:ext cx="72136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鹤群飞翔于空中的细节主要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9" descr="《鹤群翔空》图片：鹤舞夕阳"/>
          <p:cNvPicPr/>
          <p:nvPr/>
        </p:nvPicPr>
        <p:blipFill>
          <a:blip r:embed="rId1"/>
          <a:stretch/>
        </p:blipFill>
        <p:spPr>
          <a:xfrm>
            <a:off x="754200" y="1581120"/>
            <a:ext cx="7751520" cy="42958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10"/>
          <p:cNvSpPr/>
          <p:nvPr/>
        </p:nvSpPr>
        <p:spPr>
          <a:xfrm>
            <a:off x="3338640" y="303120"/>
            <a:ext cx="25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鹤群翔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上百只鹤的鹤群恰似飘摇于飓风中的鸿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盈飞飓；又如海中的巨大漩涡，缓缓升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开始大小如麻雀，转眼间有如蝴蝶，不久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蛾，最后小如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从排头依次掉头向北，敏捷地变成一缕长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细丝。加快速度一路向北飞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《鹤群翔空》图片：群鹤展翅"/>
          <p:cNvPicPr/>
          <p:nvPr/>
        </p:nvPicPr>
        <p:blipFill>
          <a:blip r:embed="rId1"/>
          <a:stretch/>
        </p:blipFill>
        <p:spPr>
          <a:xfrm>
            <a:off x="846000" y="465120"/>
            <a:ext cx="74120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鹤群立刻发出嘹亮的“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哦”的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鸣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静静旋转的鹤群，阵势立即崩溃，惊恐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慌乱啼鸣，扑打双翅，陷入一片混 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于是其他鹤更加狂乱啼鸣，一只紧跟一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疾速转身，俯冲下来去追逐下滑的苍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阳光下，鹤们双翅奋节搏击，银光闪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鹤群宛如暴风中飞转的云堆，迅速形成漩涡状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左右飞舞，光莹莹耀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566720" y="449280"/>
            <a:ext cx="712008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表现鹤群搏击苍鹰的细节主要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《鹤群翔空》图片：鹤"/>
          <p:cNvPicPr/>
          <p:nvPr/>
        </p:nvPicPr>
        <p:blipFill>
          <a:blip r:embed="rId1"/>
          <a:stretch/>
        </p:blipFill>
        <p:spPr>
          <a:xfrm>
            <a:off x="770040" y="861840"/>
            <a:ext cx="82627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88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这时鹤群一齐发出了悲痛的啼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队列最前方很快翻身飞出两只健壮的大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即降到看来已精疲力竭。缓缓下坠的伙伴身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吭高鸣，盘旋周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来救的两只大鹤，从左右两侧紧紧靠近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鹤，各自伸出一只长长的翅膀，将伤鹤架起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这段时间里，其他鹤高声啼叫，盘旋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，一齐等待伤鹤返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800360" y="406440"/>
            <a:ext cx="63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表现鹤群救助同伴的细节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《鹤群翔空》图片：梅妻鹤子"/>
          <p:cNvPicPr/>
          <p:nvPr/>
        </p:nvPicPr>
        <p:blipFill>
          <a:blip r:embed="rId1"/>
          <a:stretch/>
        </p:blipFill>
        <p:spPr>
          <a:xfrm>
            <a:off x="1027080" y="770040"/>
            <a:ext cx="74786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总体上体会全文的写作风格和思想内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者描写鹤悠然飞翔于空中的意图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在鹤鹰之战中，一开始写鹤群“立即崩溃”“惊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分”“陷入一片混乱”，这些描写是否破坏了鹤的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在现实生活中，人们常见到因车祸倒于血泊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，或看见寒风中沿路乞讨的乞丐，或看见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颤巍巍立于公共汽车中，人们～般作何反应。与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群比较，体会鹤群的可贵之处在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文章最主要的修辞方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讨论归纳本文的中心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e49"/>
                </a:solidFill>
                <a:latin typeface="Arial"/>
              </a:rPr>
              <a:t>写作风格和思想内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1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写鹤群飞翔于空中，主要是从直观形象上表现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精神，鹤姿极为美妙，给人一种视觉美，鹤在队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换时，整齐划一，这正是鹤的团体精神的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鹤是动物中的弱小者，因而凶恶的鹰冲击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“慌乱”“陷入一片混乱”，这是～种本能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当同伴遭受苍鹰攻击，有生命危险时，弱小的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结一致，以众击寡，这又是一种本能反应。两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，更加突出鹤群的整体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现实生活中，人们一般不愿或不敢帮助别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必须要有极高的道德境界才能表现出英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鹤而言，互相救助，互相保护，竟是一种本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为，这实在令人惊叹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主要修辞方法是比喻，文章多处运用比喻，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鹤群翔空的美妙姿态和搏击场面形象地表现出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注意把握要点，主要是表现出一种整体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《鹤群翔空》图片：白头鹤"/>
          <p:cNvPicPr/>
          <p:nvPr/>
        </p:nvPicPr>
        <p:blipFill>
          <a:blip r:embed="rId1"/>
          <a:stretch/>
        </p:blipFill>
        <p:spPr>
          <a:xfrm>
            <a:off x="903240" y="623880"/>
            <a:ext cx="709452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无标题2"/>
          <p:cNvPicPr/>
          <p:nvPr/>
        </p:nvPicPr>
        <p:blipFill>
          <a:blip r:embed="rId1"/>
          <a:stretch/>
        </p:blipFill>
        <p:spPr>
          <a:xfrm>
            <a:off x="1469880" y="452520"/>
            <a:ext cx="71215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55360" y="274680"/>
            <a:ext cx="78310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结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12880" y="2079360"/>
            <a:ext cx="5021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自结，总结自己这节课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到的内容、方法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96960" y="95724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下列加红的字注音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立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（　　） 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）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悍（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419120" y="1706400"/>
            <a:ext cx="22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419120" y="2484360"/>
            <a:ext cx="23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492200" y="3600360"/>
            <a:ext cx="23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763640" y="42735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763640" y="5342040"/>
            <a:ext cx="230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1419120" y="333360"/>
            <a:ext cx="40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1233360" y="274680"/>
            <a:ext cx="74534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725040" y="434520"/>
            <a:ext cx="7961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课文，理解下列词语的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伫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绮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剽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寡不敌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济于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625760" y="9460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长时间的站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4208400" y="1204920"/>
            <a:ext cx="25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鲜艳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25760" y="2241720"/>
            <a:ext cx="58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形容女子身材苗条，动作轻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625760" y="2760840"/>
            <a:ext cx="31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敏捷而勇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424240" y="3279600"/>
            <a:ext cx="62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人数少的抵挡不住多的。本文形容一只鹰抵挡不住众多鹤的攻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424240" y="4441680"/>
            <a:ext cx="60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济，帮助。对事情没有帮助，指解决不了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1625760" y="5388120"/>
            <a:ext cx="62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环绕着飞或走。本文指鹤群环绕着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本文主要运用的描写方式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语言描写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Ｂ．动作描写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Ｃ．心理描写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Ｄ．环境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819760" y="1600200"/>
            <a:ext cx="17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e4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窗群宛如暴风雨中飞转的云堆，飞速形成漩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，上下左右飞舞，光莹莹耀眼”中“光莹莹耀眼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完全文，请你写一句最想跟鹤群说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不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146240" y="3176640"/>
            <a:ext cx="75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鹤在阳光映照下动作迅疾，奋力搏击的雄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15560" y="274320"/>
            <a:ext cx="74962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完成课后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摘抄文中优美词句，细心体会，学会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3"/>
          <p:cNvPicPr/>
          <p:nvPr/>
        </p:nvPicPr>
        <p:blipFill>
          <a:blip r:embed="rId1"/>
          <a:stretch/>
        </p:blipFill>
        <p:spPr>
          <a:xfrm>
            <a:off x="1407960" y="3494160"/>
            <a:ext cx="52102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53840" y="274320"/>
            <a:ext cx="79326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板书设计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鹤群翔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战斗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一字形飞行一律笔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变换方向旋转腾轻盈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战斗中拧成一团银光闪烁光莹莹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战斗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护送引吭高鸣架盘旋高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远飞如麻雀如蝴蝶像飞蛾小如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"/>
          <p:cNvPicPr/>
          <p:nvPr/>
        </p:nvPicPr>
        <p:blipFill>
          <a:blip r:embed="rId1"/>
          <a:stretch/>
        </p:blipFill>
        <p:spPr>
          <a:xfrm>
            <a:off x="1374840" y="569880"/>
            <a:ext cx="70293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　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457200" y="814320"/>
            <a:ext cx="834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与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学习本文抓住特征，摹写事物的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学习托物言志的写作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程与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初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自学辅导法、情境教学法、愉快教学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感态度和价值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学习鹤群严密的组织性、高度的集体性和团结互助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领略鹤群翱翔的自然美、鹤鹰激战的场面美、感受扶救伤鹤的精神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2720" y="27432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导入新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播放歌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丹顶鹤的故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一段介绍鹤的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短片，使学生初步感受鹤的形象，以导入新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《鹤群翔空》图片：戏水"/>
          <p:cNvPicPr/>
          <p:nvPr/>
        </p:nvPicPr>
        <p:blipFill>
          <a:blip r:embed="rId1"/>
          <a:stretch/>
        </p:blipFill>
        <p:spPr>
          <a:xfrm>
            <a:off x="1582560" y="2816280"/>
            <a:ext cx="57517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pa20020217tancho1"/>
          <p:cNvPicPr/>
          <p:nvPr/>
        </p:nvPicPr>
        <p:blipFill>
          <a:blip r:embed="rId1"/>
          <a:stretch/>
        </p:blipFill>
        <p:spPr>
          <a:xfrm>
            <a:off x="1163520" y="593640"/>
            <a:ext cx="70470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84080" y="274320"/>
            <a:ext cx="790272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初步了解文章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快速阅读全文，感受文章要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：给自然段标上序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致了解文章内容，如果有不理解的问题可以在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标志出来，也可以写出来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e49"/>
                </a:solidFill>
                <a:latin typeface="Arial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口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男，日本东京大学英语科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毕业。日本小说家、评论家。生于日本东京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参加日本共产党，积极从事无产阶级文艺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女作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上浮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成名作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女人的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长篇小说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山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娘子和一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还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文学半生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续我的文学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斗的作家同盟──我的文学半生记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作品，为研究日本现代文学和社会提供了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的资料。曾经是日本“白桦派”的重要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03T16:38:1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