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CB5-A65F-4961-8FEB-3AD869E9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D47-4E74-487F-91FF-F65FA65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E07-EAD7-4F3F-9215-34C51A0C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CBF-78AE-48DF-836E-1A64C659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035-FB5F-4300-8CF1-D244A7F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9EA-3CB4-4DD5-B866-21328E52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600-204E-4776-92E2-1BFEC011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070-CAF7-4089-8DEE-B8043AE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A92-6F42-4014-95D7-DBAB8477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224-F792-46FC-89D4-F5A44E8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682-49A5-4342-80E3-7070262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521-3F45-4762-8B75-564E0D3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76EA-2A8F-4512-B47B-681087A0D4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26920" y="1844640"/>
            <a:ext cx="75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以上数的大小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第一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两个数的大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样比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2136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3021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654689 ○332598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63925101 ○62584105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11184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9840" y="2565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0920" y="4941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第二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899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779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26570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33657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6015687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黑体"/>
              </a:rPr>
              <a:t> 602568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2248200" y="227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64560" y="34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0560" y="458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2440" y="1125360"/>
            <a:ext cx="330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黑体"/>
              </a:rPr>
              <a:t>下面是我国最大的六个省份的面积（单位：平方千米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6237360"/>
            <a:ext cx="8964360" cy="825480"/>
            <a:chOff x="0" y="6237360"/>
            <a:chExt cx="8964360" cy="825480"/>
          </a:xfrm>
        </p:grpSpPr>
        <p:sp>
          <p:nvSpPr>
            <p:cNvPr id="194" name=""/>
            <p:cNvSpPr/>
            <p:nvPr/>
          </p:nvSpPr>
          <p:spPr>
            <a:xfrm>
              <a:off x="0" y="6237360"/>
              <a:ext cx="8964360" cy="491760"/>
            </a:xfrm>
            <a:prstGeom prst="cloudCallout">
              <a:avLst>
                <a:gd name="adj1" fmla="val 51050"/>
                <a:gd name="adj2" fmla="val 6419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59760" y="6237360"/>
              <a:ext cx="735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你能把这六个省份的面积从大到小依次排列起来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55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"/>
                            </p:stCondLst>
                            <p:childTnLst>
                              <p:par>
                                <p:cTn id="3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1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做对了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新疆＞西藏＞内蒙古＞ 青海＞ 四川＞ 黑龙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600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＞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100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00000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＞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20000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85000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＞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54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15640" y="3284640"/>
            <a:ext cx="72738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同学们回忆一下，这节课我们都学了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些知识？通过学习你有哪些收获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627280" y="54900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4906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课外拓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Calibri"/>
              </a:rPr>
              <a:t>写一篇关于生活中的大数信息的数学日记。（可通过查资料等方式）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206028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○1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1○564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7○6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○1010       9999○1010      102○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42280" y="155736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○里填上“＞”，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8320" y="3226320"/>
            <a:ext cx="692640" cy="581400"/>
          </a:xfrm>
          <a:prstGeom prst="rect">
            <a:avLst/>
          </a:prstGeom>
          <a:solidFill>
            <a:srgbClr val="00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万以内数的比较两个数的大小的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21337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3624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3296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22100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位数多的数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042920" y="260280"/>
            <a:ext cx="48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Calibri"/>
                <a:ea typeface="黑体"/>
              </a:rPr>
              <a:t>复习旧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5300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位数相同的数，从高位比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256536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256536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7880" y="256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37372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24000" y="4292640"/>
            <a:ext cx="7270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表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6"/>
          <p:cNvSpPr/>
          <p:nvPr/>
        </p:nvSpPr>
        <p:spPr>
          <a:xfrm>
            <a:off x="250920" y="436572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6"/>
          <p:cNvSpPr/>
          <p:nvPr/>
        </p:nvSpPr>
        <p:spPr>
          <a:xfrm>
            <a:off x="5580000" y="1268280"/>
            <a:ext cx="37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中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9600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5559480" y="1852560"/>
            <a:ext cx="37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俄罗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17070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5572080" y="2384280"/>
            <a:ext cx="37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美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:9373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5651640" y="2852640"/>
            <a:ext cx="31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哪个国家的陆地面积最大？哪个国家的陆地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积最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835280" y="4508640"/>
            <a:ext cx="16570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3059280" y="4653000"/>
            <a:ext cx="12934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067280" y="2205000"/>
            <a:ext cx="115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124000" y="4724280"/>
            <a:ext cx="1150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3132000" y="4724280"/>
            <a:ext cx="1150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4211640" y="4724280"/>
            <a:ext cx="1150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4284720" y="4724280"/>
            <a:ext cx="1150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468360" y="1628640"/>
            <a:ext cx="47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表是中国、俄罗斯和美国三个国家的陆地面积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2205000"/>
          <a:ext cx="4824360" cy="84132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  <a:gridCol w="1023840"/>
                <a:gridCol w="120816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俄罗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陆地面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平方千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07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7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101"/>
          <p:cNvSpPr/>
          <p:nvPr/>
        </p:nvSpPr>
        <p:spPr>
          <a:xfrm>
            <a:off x="1979640" y="2205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2"/>
          <p:cNvSpPr/>
          <p:nvPr/>
        </p:nvSpPr>
        <p:spPr>
          <a:xfrm>
            <a:off x="3203640" y="2205000"/>
            <a:ext cx="107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3"/>
          <p:cNvSpPr/>
          <p:nvPr/>
        </p:nvSpPr>
        <p:spPr>
          <a:xfrm>
            <a:off x="4067280" y="2205000"/>
            <a:ext cx="122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5"/>
          <p:cNvSpPr/>
          <p:nvPr/>
        </p:nvSpPr>
        <p:spPr>
          <a:xfrm>
            <a:off x="5651640" y="1268280"/>
            <a:ext cx="288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250920" y="744840"/>
            <a:ext cx="8286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掌握万以上数的大小比较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体验比较万以上数的大小方法的多样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培养主动探究的精神和用数学的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8"/>
          <p:cNvGrpSpPr/>
          <p:nvPr/>
        </p:nvGrpSpPr>
        <p:grpSpPr>
          <a:xfrm>
            <a:off x="1353960" y="4869000"/>
            <a:ext cx="3052800" cy="465840"/>
            <a:chOff x="1353960" y="4869000"/>
            <a:chExt cx="3052800" cy="465840"/>
          </a:xfrm>
        </p:grpSpPr>
        <p:sp>
          <p:nvSpPr>
            <p:cNvPr id="80" name="Rectangle 34"/>
            <p:cNvSpPr/>
            <p:nvPr/>
          </p:nvSpPr>
          <p:spPr>
            <a:xfrm>
              <a:off x="1353960" y="4869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美  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2945880" y="48751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373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7"/>
          <p:cNvGrpSpPr/>
          <p:nvPr/>
        </p:nvGrpSpPr>
        <p:grpSpPr>
          <a:xfrm>
            <a:off x="1488600" y="4292640"/>
            <a:ext cx="2919600" cy="486720"/>
            <a:chOff x="1488600" y="4292640"/>
            <a:chExt cx="2919600" cy="486720"/>
          </a:xfrm>
        </p:grpSpPr>
        <p:sp>
          <p:nvSpPr>
            <p:cNvPr id="83" name="Rectangle 32"/>
            <p:cNvSpPr/>
            <p:nvPr/>
          </p:nvSpPr>
          <p:spPr>
            <a:xfrm>
              <a:off x="1488600" y="4292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俄罗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2764440" y="4319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07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6"/>
          <p:cNvGrpSpPr/>
          <p:nvPr/>
        </p:nvGrpSpPr>
        <p:grpSpPr>
          <a:xfrm>
            <a:off x="1353960" y="3767040"/>
            <a:ext cx="3052800" cy="461160"/>
            <a:chOff x="1353960" y="3767040"/>
            <a:chExt cx="3052800" cy="461160"/>
          </a:xfrm>
        </p:grpSpPr>
        <p:sp>
          <p:nvSpPr>
            <p:cNvPr id="86" name="Rectangle 30"/>
            <p:cNvSpPr/>
            <p:nvPr/>
          </p:nvSpPr>
          <p:spPr>
            <a:xfrm>
              <a:off x="1353960" y="3768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  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1"/>
            <p:cNvSpPr/>
            <p:nvPr/>
          </p:nvSpPr>
          <p:spPr>
            <a:xfrm>
              <a:off x="2945880" y="3767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6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4"/>
          <p:cNvSpPr/>
          <p:nvPr/>
        </p:nvSpPr>
        <p:spPr>
          <a:xfrm>
            <a:off x="125892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85680" y="138420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国家的陆地面积最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596880" y="1370160"/>
            <a:ext cx="466920" cy="43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15"/>
          <p:cNvSpPr/>
          <p:nvPr/>
        </p:nvSpPr>
        <p:spPr>
          <a:xfrm>
            <a:off x="3621240" y="3794040"/>
            <a:ext cx="0" cy="4240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6"/>
          <p:cNvSpPr/>
          <p:nvPr/>
        </p:nvSpPr>
        <p:spPr>
          <a:xfrm>
            <a:off x="3603600" y="433080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7"/>
          <p:cNvSpPr/>
          <p:nvPr/>
        </p:nvSpPr>
        <p:spPr>
          <a:xfrm>
            <a:off x="3614760" y="48736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4847760" y="37688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4847760" y="43624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4847760" y="4919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987640" y="5300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数多的数大，所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7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03280" y="2060640"/>
          <a:ext cx="5545080" cy="1006560"/>
        </p:xfrm>
        <a:graphic>
          <a:graphicData uri="http://schemas.openxmlformats.org/drawingml/2006/table">
            <a:tbl>
              <a:tblPr/>
              <a:tblGrid>
                <a:gridCol w="1627200"/>
                <a:gridCol w="1144800"/>
                <a:gridCol w="1266840"/>
                <a:gridCol w="1506240"/>
              </a:tblGrid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俄罗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陆地面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平方千米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07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7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3"/>
          <p:cNvSpPr/>
          <p:nvPr/>
        </p:nvSpPr>
        <p:spPr>
          <a:xfrm>
            <a:off x="4211640" y="6021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俄罗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陆地面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8"/>
          <p:cNvSpPr/>
          <p:nvPr/>
        </p:nvSpPr>
        <p:spPr>
          <a:xfrm>
            <a:off x="1287360" y="321300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数不同时，应该怎样比较大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33200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刀小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03280" y="126828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两个数的大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样比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291400" y="2568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271160" y="2492280"/>
            <a:ext cx="26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2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3"/>
          <p:cNvSpPr/>
          <p:nvPr/>
        </p:nvSpPr>
        <p:spPr>
          <a:xfrm>
            <a:off x="1476360" y="256860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4"/>
          <p:cNvSpPr/>
          <p:nvPr/>
        </p:nvSpPr>
        <p:spPr>
          <a:xfrm>
            <a:off x="3095640" y="2597040"/>
            <a:ext cx="0" cy="4320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2929320" y="31212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1370160" y="31212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56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0000○3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508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22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8500○1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149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52667○9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3"/>
          <p:cNvSpPr/>
          <p:nvPr/>
        </p:nvSpPr>
        <p:spPr>
          <a:xfrm>
            <a:off x="5292720" y="2637000"/>
            <a:ext cx="0" cy="43308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3"/>
          <p:cNvSpPr/>
          <p:nvPr/>
        </p:nvSpPr>
        <p:spPr>
          <a:xfrm>
            <a:off x="6804000" y="256536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3"/>
          <p:cNvSpPr/>
          <p:nvPr/>
        </p:nvSpPr>
        <p:spPr>
          <a:xfrm>
            <a:off x="1547640" y="436572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3"/>
          <p:cNvSpPr/>
          <p:nvPr/>
        </p:nvSpPr>
        <p:spPr>
          <a:xfrm>
            <a:off x="3276720" y="429264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3"/>
          <p:cNvSpPr/>
          <p:nvPr/>
        </p:nvSpPr>
        <p:spPr>
          <a:xfrm>
            <a:off x="5651640" y="429264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3"/>
          <p:cNvSpPr/>
          <p:nvPr/>
        </p:nvSpPr>
        <p:spPr>
          <a:xfrm>
            <a:off x="7164360" y="4221000"/>
            <a:ext cx="0" cy="4334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21640" y="4292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25640" y="4202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64560" y="26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468360" y="4941720"/>
            <a:ext cx="3426480" cy="466200"/>
            <a:chOff x="468360" y="4941720"/>
            <a:chExt cx="3426480" cy="466200"/>
          </a:xfrm>
        </p:grpSpPr>
        <p:sp>
          <p:nvSpPr>
            <p:cNvPr id="125" name="Rectangle 3"/>
            <p:cNvSpPr/>
            <p:nvPr/>
          </p:nvSpPr>
          <p:spPr>
            <a:xfrm>
              <a:off x="468360" y="494172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美  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>
              <a:off x="2433960" y="4948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373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"/>
          <p:cNvGrpSpPr/>
          <p:nvPr/>
        </p:nvGrpSpPr>
        <p:grpSpPr>
          <a:xfrm>
            <a:off x="468360" y="4365720"/>
            <a:ext cx="3425400" cy="486720"/>
            <a:chOff x="468360" y="4365720"/>
            <a:chExt cx="3425400" cy="486720"/>
          </a:xfrm>
        </p:grpSpPr>
        <p:sp>
          <p:nvSpPr>
            <p:cNvPr id="128" name="Rectangle 6"/>
            <p:cNvSpPr/>
            <p:nvPr/>
          </p:nvSpPr>
          <p:spPr>
            <a:xfrm>
              <a:off x="468360" y="436572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俄罗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2250000" y="4392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07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"/>
          <p:cNvGrpSpPr/>
          <p:nvPr/>
        </p:nvGrpSpPr>
        <p:grpSpPr>
          <a:xfrm>
            <a:off x="468360" y="3790800"/>
            <a:ext cx="3426480" cy="461160"/>
            <a:chOff x="468360" y="3790800"/>
            <a:chExt cx="3426480" cy="461160"/>
          </a:xfrm>
        </p:grpSpPr>
        <p:sp>
          <p:nvSpPr>
            <p:cNvPr id="131" name="Rectangle 9"/>
            <p:cNvSpPr/>
            <p:nvPr/>
          </p:nvSpPr>
          <p:spPr>
            <a:xfrm>
              <a:off x="468360" y="379224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  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2433960" y="3790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6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"/>
          <p:cNvSpPr/>
          <p:nvPr/>
        </p:nvSpPr>
        <p:spPr>
          <a:xfrm>
            <a:off x="75564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32000" y="141300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个国家的陆地面积最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50292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15"/>
          <p:cNvSpPr/>
          <p:nvPr/>
        </p:nvSpPr>
        <p:spPr>
          <a:xfrm>
            <a:off x="3132000" y="3860640"/>
            <a:ext cx="0" cy="4240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6"/>
          <p:cNvSpPr/>
          <p:nvPr/>
        </p:nvSpPr>
        <p:spPr>
          <a:xfrm>
            <a:off x="3132000" y="4437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7"/>
          <p:cNvSpPr/>
          <p:nvPr/>
        </p:nvSpPr>
        <p:spPr>
          <a:xfrm>
            <a:off x="3132000" y="494172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4409640" y="37926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4409640" y="44355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4409640" y="49928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843280" y="573408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﹤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73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2411280" y="3789360"/>
            <a:ext cx="1440000" cy="431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2411280" y="4968720"/>
            <a:ext cx="1440000" cy="43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971640" y="314172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数相同时，应该怎样比较大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2627280" y="3835440"/>
            <a:ext cx="144360" cy="385560"/>
          </a:xfrm>
          <a:prstGeom prst="rect">
            <a:avLst/>
          </a:pr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627280" y="4964040"/>
            <a:ext cx="144360" cy="432000"/>
          </a:xfrm>
          <a:prstGeom prst="rect">
            <a:avLst/>
          </a:pr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435640" y="378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比较最高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364000" y="4437000"/>
            <a:ext cx="223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高位相同，再比较下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2771640" y="3835440"/>
            <a:ext cx="144720" cy="431640"/>
          </a:xfrm>
          <a:prstGeom prst="rect">
            <a:avLst/>
          </a:prstGeom>
          <a:solidFill>
            <a:srgbClr val="00ff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2771640" y="4941720"/>
            <a:ext cx="144720" cy="432000"/>
          </a:xfrm>
          <a:prstGeom prst="rect">
            <a:avLst/>
          </a:prstGeom>
          <a:solidFill>
            <a:srgbClr val="00ff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32000" y="1989000"/>
          <a:ext cx="5545080" cy="1006560"/>
        </p:xfrm>
        <a:graphic>
          <a:graphicData uri="http://schemas.openxmlformats.org/drawingml/2006/table">
            <a:tbl>
              <a:tblPr/>
              <a:tblGrid>
                <a:gridCol w="1627200"/>
                <a:gridCol w="1144440"/>
                <a:gridCol w="1266840"/>
                <a:gridCol w="1506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俄罗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陆地面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平方千米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6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07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7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Box 3"/>
          <p:cNvSpPr/>
          <p:nvPr/>
        </p:nvSpPr>
        <p:spPr>
          <a:xfrm>
            <a:off x="4513320" y="6093000"/>
            <a:ext cx="33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陆地面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82692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刀小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26920" y="134136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两个数的大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样比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218664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2271600" y="371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2331000" y="501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983880" y="198900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1274760" y="3651120"/>
            <a:ext cx="24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0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2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126800" y="494172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5"/>
          <p:cNvSpPr/>
          <p:nvPr/>
        </p:nvSpPr>
        <p:spPr>
          <a:xfrm>
            <a:off x="1332000" y="2060640"/>
            <a:ext cx="0" cy="4316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6"/>
          <p:cNvSpPr/>
          <p:nvPr/>
        </p:nvSpPr>
        <p:spPr>
          <a:xfrm>
            <a:off x="2987640" y="2133720"/>
            <a:ext cx="0" cy="43164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1476360" y="3743280"/>
            <a:ext cx="0" cy="4320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8"/>
          <p:cNvSpPr/>
          <p:nvPr/>
        </p:nvSpPr>
        <p:spPr>
          <a:xfrm>
            <a:off x="2879640" y="3743280"/>
            <a:ext cx="0" cy="4320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9"/>
          <p:cNvSpPr/>
          <p:nvPr/>
        </p:nvSpPr>
        <p:spPr>
          <a:xfrm>
            <a:off x="1547640" y="5084640"/>
            <a:ext cx="0" cy="4320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3132000" y="5084640"/>
            <a:ext cx="0" cy="432000"/>
          </a:xfrm>
          <a:prstGeom prst="line">
            <a:avLst/>
          </a:prstGeom>
          <a:ln w="255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983880" y="198900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1276560" y="3649680"/>
            <a:ext cx="24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1127160" y="4941720"/>
            <a:ext cx="28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7"/>
          <p:cNvSpPr/>
          <p:nvPr/>
        </p:nvSpPr>
        <p:spPr>
          <a:xfrm>
            <a:off x="468360" y="4869000"/>
            <a:ext cx="7991280" cy="49608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比较整数的大小时，先看位数，位数多的数大；位数相同，从最高位看起，相同数位上的数大的那个数就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3566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万以上的数应该怎么比较大小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5" descr=""/>
          <p:cNvPicPr/>
          <p:nvPr/>
        </p:nvPicPr>
        <p:blipFill>
          <a:blip r:embed="rId2"/>
          <a:srcRect l="0" t="0" r="7682" b="0"/>
          <a:stretch/>
        </p:blipFill>
        <p:spPr>
          <a:xfrm>
            <a:off x="684360" y="2127240"/>
            <a:ext cx="3816360" cy="2238480"/>
          </a:xfrm>
          <a:prstGeom prst="rect">
            <a:avLst/>
          </a:prstGeom>
          <a:ln w="3240">
            <a:solidFill>
              <a:srgbClr val="00ffff"/>
            </a:solidFill>
            <a:miter/>
          </a:ln>
        </p:spPr>
      </p:pic>
      <p:pic>
        <p:nvPicPr>
          <p:cNvPr id="178" name="Picture 37" descr=""/>
          <p:cNvPicPr/>
          <p:nvPr/>
        </p:nvPicPr>
        <p:blipFill>
          <a:blip r:embed="rId3"/>
          <a:stretch/>
        </p:blipFill>
        <p:spPr>
          <a:xfrm>
            <a:off x="4562640" y="2133720"/>
            <a:ext cx="4113000" cy="2232000"/>
          </a:xfrm>
          <a:prstGeom prst="rect">
            <a:avLst/>
          </a:prstGeom>
          <a:ln w="3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青岛版数学</cp:keywords>
  <dc:language>en-US</dc:language>
  <cp:lastModifiedBy>sft</cp:lastModifiedBy>
  <dcterms:modified xsi:type="dcterms:W3CDTF">2016-04-07T01:37:34Z</dcterms:modified>
  <cp:revision>411</cp:revision>
  <dc:subject/>
  <dc:title>数学课件模版2003版</dc:title>
</cp:coreProperties>
</file>