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laser.wav" ContentType="audio/x-wav"/>
  <Override PartName="/ppt/media/image4.png" ContentType="image/png"/>
  <Override PartName="/ppt/media/drumroll.wav" ContentType="audio/x-wav"/>
  <Override PartName="/ppt/media/image15.png" ContentType="image/png"/>
  <Override PartName="/ppt/media/type.wav" ContentType="audio/x-wav"/>
  <Override PartName="/ppt/media/image17.png" ContentType="image/png"/>
  <Override PartName="/ppt/media/image9.gif" ContentType="image/gif"/>
  <Override PartName="/ppt/media/image7.png" ContentType="image/png"/>
  <Override PartName="/ppt/media/image1.jpeg" ContentType="image/jpeg"/>
  <Override PartName="/ppt/media/image6.png" ContentType="image/png"/>
  <Override PartName="/ppt/media/image19.png" ContentType="image/png"/>
  <Override PartName="/ppt/media/image18.png" ContentType="image/png"/>
  <Override PartName="/ppt/media/image14.png" ContentType="image/png"/>
  <Override PartName="/ppt/media/image13.png" ContentType="image/png"/>
  <Override PartName="/ppt/media/image5.gif" ContentType="image/gif"/>
  <Override PartName="/ppt/media/image8.png" ContentType="image/png"/>
  <Override PartName="/ppt/media/image12.png" ContentType="image/png"/>
  <Override PartName="/ppt/media/image11.png" ContentType="image/png"/>
  <Override PartName="/ppt/media/image10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6156-E418-44A3-9460-B71E2E3F0F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72B5-530B-4C0B-B575-A5A47847B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079-CE12-43CA-BB99-CF274B1C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7D4-40FD-4A18-BBEE-E49EF102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31D-A5AC-45E4-A836-3893ADC7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AF2-3DFD-4180-A352-5DC9D891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E2D-E1EA-430A-88AA-65F8D8E2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A20-CBCE-44F9-8C55-4D34D7C3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79D-97EA-48C6-BC95-BC49B3B1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900-6DBF-4BF8-B52D-BE33718A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50C-BAD5-4869-B7C0-4EC67585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8FC-5E32-45DC-B734-6B608A99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34F-1082-4EF7-93E3-AA97CEE7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019-8BF5-45C8-9B6E-3DCE21E6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C726-F425-4AEC-9CEB-A93650C7D17E}" type="slidenum">
              <a:rPr b="0" lang="zh-CN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3" descr=""/>
          <p:cNvPicPr/>
          <p:nvPr/>
        </p:nvPicPr>
        <p:blipFill>
          <a:blip r:embed="rId1"/>
          <a:stretch/>
        </p:blipFill>
        <p:spPr>
          <a:xfrm>
            <a:off x="-523800" y="2004840"/>
            <a:ext cx="10180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48D9-6A59-4FB2-81AB-707296A5CDC6}" type="datetime">
              <a:rPr b="0" lang="zh-CN" sz="1200" spc="-1" strike="noStrike">
                <a:solidFill>
                  <a:srgbClr val="898989"/>
                </a:solidFill>
                <a:latin typeface="Corbe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CDAE-A6AC-4550-BF6B-72F3C6A06DE6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065320" y="476280"/>
            <a:ext cx="41623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读出下面各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4360" y="1773360"/>
            <a:ext cx="25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2405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4360" y="24876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70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648320" y="3733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257800" y="3733920"/>
            <a:ext cx="2819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572000" y="4038480"/>
            <a:ext cx="4038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971800" y="6095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0002"/>
          <p:cNvPicPr/>
          <p:nvPr/>
        </p:nvPicPr>
        <p:blipFill>
          <a:blip r:embed="rId1"/>
          <a:stretch/>
        </p:blipFill>
        <p:spPr>
          <a:xfrm>
            <a:off x="304920" y="380880"/>
            <a:ext cx="1164960" cy="1295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5257800" y="4419720"/>
            <a:ext cx="1066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2484360" y="177336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读作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三百二十四万零五百八十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1357200" y="185724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1214280" y="257184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2484360" y="249228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读作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八十万七千零三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611280" y="32846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00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1500120" y="342900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2556000" y="328464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读作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一千二百万零八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324000" y="41497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324600               32000748           7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4050000             2065003            100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3602000             260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7"/>
          <p:cNvGrpSpPr/>
          <p:nvPr/>
        </p:nvGrpSpPr>
        <p:grpSpPr>
          <a:xfrm>
            <a:off x="857160" y="4286160"/>
            <a:ext cx="6072120" cy="1467000"/>
            <a:chOff x="857160" y="4286160"/>
            <a:chExt cx="6072120" cy="1467000"/>
          </a:xfrm>
        </p:grpSpPr>
        <p:grpSp>
          <p:nvGrpSpPr>
            <p:cNvPr id="137" name="Group 36"/>
            <p:cNvGrpSpPr/>
            <p:nvPr/>
          </p:nvGrpSpPr>
          <p:grpSpPr>
            <a:xfrm>
              <a:off x="857160" y="4286160"/>
              <a:ext cx="5929560" cy="1467000"/>
              <a:chOff x="857160" y="4286160"/>
              <a:chExt cx="5929560" cy="1467000"/>
            </a:xfrm>
          </p:grpSpPr>
          <p:sp>
            <p:nvSpPr>
              <p:cNvPr id="138" name="Line 28"/>
              <p:cNvSpPr/>
              <p:nvPr/>
            </p:nvSpPr>
            <p:spPr>
              <a:xfrm>
                <a:off x="857160" y="4286160"/>
                <a:ext cx="0" cy="39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9"/>
              <p:cNvSpPr/>
              <p:nvPr/>
            </p:nvSpPr>
            <p:spPr>
              <a:xfrm>
                <a:off x="1143000" y="4786200"/>
                <a:ext cx="0" cy="39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0"/>
              <p:cNvSpPr/>
              <p:nvPr/>
            </p:nvSpPr>
            <p:spPr>
              <a:xfrm>
                <a:off x="1071720" y="5357880"/>
                <a:ext cx="0" cy="39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1"/>
              <p:cNvSpPr/>
              <p:nvPr/>
            </p:nvSpPr>
            <p:spPr>
              <a:xfrm>
                <a:off x="3929040" y="5357880"/>
                <a:ext cx="0" cy="39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2"/>
              <p:cNvSpPr/>
              <p:nvPr/>
            </p:nvSpPr>
            <p:spPr>
              <a:xfrm>
                <a:off x="4214880" y="4857840"/>
                <a:ext cx="0" cy="39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3"/>
              <p:cNvSpPr/>
              <p:nvPr/>
            </p:nvSpPr>
            <p:spPr>
              <a:xfrm>
                <a:off x="4429080" y="4286160"/>
                <a:ext cx="0" cy="39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34"/>
              <p:cNvSpPr/>
              <p:nvPr/>
            </p:nvSpPr>
            <p:spPr>
              <a:xfrm>
                <a:off x="6786720" y="4286160"/>
                <a:ext cx="0" cy="39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Line 35"/>
            <p:cNvSpPr/>
            <p:nvPr/>
          </p:nvSpPr>
          <p:spPr>
            <a:xfrm>
              <a:off x="6929280" y="4857840"/>
              <a:ext cx="0" cy="3952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矩形 1" descr=""/>
          <p:cNvPicPr/>
          <p:nvPr/>
        </p:nvPicPr>
        <p:blipFill>
          <a:blip r:embed="rId1"/>
          <a:stretch/>
        </p:blipFill>
        <p:spPr>
          <a:xfrm>
            <a:off x="-353880" y="66600"/>
            <a:ext cx="5743440" cy="11462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华文楷体"/>
                <a:ea typeface="华文楷体"/>
              </a:rPr>
              <a:t>）确定是几级的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华文楷体"/>
                <a:ea typeface="华文楷体"/>
              </a:rPr>
              <a:t>）高位写起，一级一级往下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）哪一位上一个单位也没有，就用零占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）除了最高级，后面每级要保证有四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9126-4592-4EF6-AA33-B78C63D2EB54}" type="datetime">
              <a:rPr b="0" lang="zh-CN" sz="1200" spc="-1" strike="noStrike">
                <a:solidFill>
                  <a:srgbClr val="898989"/>
                </a:solidFill>
                <a:latin typeface="Corbe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E48A-C36E-475C-9EB0-BADDCFC24B90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d026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2843280" y="14842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一千零三万零七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2843280" y="2565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五千八百零九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1943280" y="836640"/>
            <a:ext cx="7885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写出下面各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2771640" y="364500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三千万三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5"/>
          <p:cNvGrpSpPr/>
          <p:nvPr/>
        </p:nvGrpSpPr>
        <p:grpSpPr>
          <a:xfrm>
            <a:off x="2052720" y="2060640"/>
            <a:ext cx="6048360" cy="703440"/>
            <a:chOff x="2052720" y="2060640"/>
            <a:chExt cx="6048360" cy="703440"/>
          </a:xfrm>
        </p:grpSpPr>
        <p:sp>
          <p:nvSpPr>
            <p:cNvPr id="156" name="Text Box 8"/>
            <p:cNvSpPr/>
            <p:nvPr/>
          </p:nvSpPr>
          <p:spPr>
            <a:xfrm>
              <a:off x="2052720" y="2060640"/>
              <a:ext cx="604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写作： 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100307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>
              <a:off x="5072040" y="2143440"/>
              <a:ext cx="0" cy="612720"/>
            </a:xfrm>
            <a:prstGeom prst="line">
              <a:avLst/>
            </a:prstGeom>
            <a:ln w="63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6"/>
          <p:cNvGrpSpPr/>
          <p:nvPr/>
        </p:nvGrpSpPr>
        <p:grpSpPr>
          <a:xfrm>
            <a:off x="2124000" y="3139920"/>
            <a:ext cx="6048360" cy="703440"/>
            <a:chOff x="2124000" y="3139920"/>
            <a:chExt cx="6048360" cy="703440"/>
          </a:xfrm>
        </p:grpSpPr>
        <p:sp>
          <p:nvSpPr>
            <p:cNvPr id="159" name="Text Box 27"/>
            <p:cNvSpPr/>
            <p:nvPr/>
          </p:nvSpPr>
          <p:spPr>
            <a:xfrm>
              <a:off x="2124000" y="3139920"/>
              <a:ext cx="604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写作： 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580900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8"/>
            <p:cNvSpPr/>
            <p:nvPr/>
          </p:nvSpPr>
          <p:spPr>
            <a:xfrm>
              <a:off x="5143320" y="3214800"/>
              <a:ext cx="0" cy="612720"/>
            </a:xfrm>
            <a:prstGeom prst="line">
              <a:avLst/>
            </a:prstGeom>
            <a:ln w="63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9"/>
          <p:cNvGrpSpPr/>
          <p:nvPr/>
        </p:nvGrpSpPr>
        <p:grpSpPr>
          <a:xfrm>
            <a:off x="2124000" y="4148280"/>
            <a:ext cx="6048360" cy="703440"/>
            <a:chOff x="2124000" y="4148280"/>
            <a:chExt cx="6048360" cy="703440"/>
          </a:xfrm>
        </p:grpSpPr>
        <p:sp>
          <p:nvSpPr>
            <p:cNvPr id="162" name="Text Box 30"/>
            <p:cNvSpPr/>
            <p:nvPr/>
          </p:nvSpPr>
          <p:spPr>
            <a:xfrm>
              <a:off x="2124000" y="4148280"/>
              <a:ext cx="604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写作： 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300030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1"/>
            <p:cNvSpPr/>
            <p:nvPr/>
          </p:nvSpPr>
          <p:spPr>
            <a:xfrm>
              <a:off x="5143320" y="4214880"/>
              <a:ext cx="0" cy="613080"/>
            </a:xfrm>
            <a:prstGeom prst="line">
              <a:avLst/>
            </a:prstGeom>
            <a:ln w="63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32"/>
          <p:cNvSpPr/>
          <p:nvPr/>
        </p:nvSpPr>
        <p:spPr>
          <a:xfrm>
            <a:off x="2771640" y="47260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八百万零三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3"/>
          <p:cNvGrpSpPr/>
          <p:nvPr/>
        </p:nvGrpSpPr>
        <p:grpSpPr>
          <a:xfrm>
            <a:off x="2124000" y="5229360"/>
            <a:ext cx="6048360" cy="740880"/>
            <a:chOff x="2124000" y="5229360"/>
            <a:chExt cx="6048360" cy="740880"/>
          </a:xfrm>
        </p:grpSpPr>
        <p:sp>
          <p:nvSpPr>
            <p:cNvPr id="166" name="Text Box 34"/>
            <p:cNvSpPr/>
            <p:nvPr/>
          </p:nvSpPr>
          <p:spPr>
            <a:xfrm>
              <a:off x="2124000" y="5229360"/>
              <a:ext cx="604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写作：   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80000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5"/>
            <p:cNvSpPr/>
            <p:nvPr/>
          </p:nvSpPr>
          <p:spPr>
            <a:xfrm>
              <a:off x="5143320" y="5357520"/>
              <a:ext cx="0" cy="612720"/>
            </a:xfrm>
            <a:prstGeom prst="line">
              <a:avLst/>
            </a:prstGeom>
            <a:ln w="63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矩形 1" descr=""/>
          <p:cNvPicPr/>
          <p:nvPr/>
        </p:nvPicPr>
        <p:blipFill>
          <a:blip r:embed="rId1"/>
          <a:stretch/>
        </p:blipFill>
        <p:spPr>
          <a:xfrm>
            <a:off x="-457200" y="-298440"/>
            <a:ext cx="5321160" cy="14144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0" y="1214280"/>
            <a:ext cx="89298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7030a0"/>
                </a:solidFill>
                <a:latin typeface="Arial"/>
              </a:rPr>
              <a:t>、写出下面各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千零三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零三百零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写作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0303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千零五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千零二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写作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504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零七百六十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写作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000007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百一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七千零八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千零四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写作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10700830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3"/>
          <p:cNvSpPr/>
          <p:nvPr/>
        </p:nvSpPr>
        <p:spPr>
          <a:xfrm>
            <a:off x="2357280" y="2500200"/>
            <a:ext cx="0" cy="576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>
            <a:off x="2428920" y="3571920"/>
            <a:ext cx="0" cy="576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928880" y="4714920"/>
            <a:ext cx="0" cy="576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3"/>
          <p:cNvSpPr/>
          <p:nvPr/>
        </p:nvSpPr>
        <p:spPr>
          <a:xfrm>
            <a:off x="2857680" y="4714920"/>
            <a:ext cx="0" cy="576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2143080" y="5786280"/>
            <a:ext cx="0" cy="576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>
            <a:off x="3071880" y="5786280"/>
            <a:ext cx="0" cy="576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0" y="8571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400000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是一个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位数，其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（       ）位上，表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（       ）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（       ）位上，表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（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个数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百亿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千万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万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百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一组成，这个数写作（                      ）。它是一个（         ）位数，这个数也可以看成由（      ）个亿、（         ）个万和（       ）个一组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个数，它的千万位、十万位上的数字都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百位上的数字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余各位上的数字都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这个数写作（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0900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是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（       ）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（       ）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个（    ）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0" y="0"/>
            <a:ext cx="40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Times New Roman"/>
                <a:ea typeface="华文楷体"/>
              </a:rPr>
              <a:t>2</a:t>
            </a:r>
            <a:r>
              <a:rPr b="0" lang="zh-CN" sz="4000" spc="-1" strike="noStrike">
                <a:solidFill>
                  <a:srgbClr val="e46c0a"/>
                </a:solidFill>
                <a:latin typeface="Times New Roman"/>
                <a:ea typeface="华文楷体"/>
              </a:rPr>
              <a:t>、填一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>
            <a:off x="1071720" y="4286160"/>
            <a:ext cx="0" cy="395280"/>
          </a:xfrm>
          <a:prstGeom prst="line">
            <a:avLst/>
          </a:prstGeom>
          <a:ln w="38160">
            <a:solidFill>
              <a:srgbClr val="4a45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1428840" y="92880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3"/>
          <p:cNvSpPr/>
          <p:nvPr/>
        </p:nvSpPr>
        <p:spPr>
          <a:xfrm>
            <a:off x="714240" y="92880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1071720" y="478620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4143240" y="2214720"/>
            <a:ext cx="0" cy="395280"/>
          </a:xfrm>
          <a:prstGeom prst="line">
            <a:avLst/>
          </a:prstGeom>
          <a:ln w="38160">
            <a:solidFill>
              <a:srgbClr val="4a45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3429000" y="2214720"/>
            <a:ext cx="0" cy="395280"/>
          </a:xfrm>
          <a:prstGeom prst="line">
            <a:avLst/>
          </a:prstGeom>
          <a:ln w="38160">
            <a:solidFill>
              <a:srgbClr val="4a45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3504240" y="857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2"/>
          <p:cNvSpPr/>
          <p:nvPr/>
        </p:nvSpPr>
        <p:spPr>
          <a:xfrm>
            <a:off x="7220160" y="857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十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3"/>
          <p:cNvSpPr/>
          <p:nvPr/>
        </p:nvSpPr>
        <p:spPr>
          <a:xfrm>
            <a:off x="1648080" y="1285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十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4"/>
          <p:cNvSpPr/>
          <p:nvPr/>
        </p:nvSpPr>
        <p:spPr>
          <a:xfrm>
            <a:off x="4219920" y="1285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5"/>
          <p:cNvSpPr/>
          <p:nvPr/>
        </p:nvSpPr>
        <p:spPr>
          <a:xfrm>
            <a:off x="7863120" y="1285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6"/>
          <p:cNvSpPr/>
          <p:nvPr/>
        </p:nvSpPr>
        <p:spPr>
          <a:xfrm>
            <a:off x="2794320" y="214308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100300804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7"/>
          <p:cNvSpPr/>
          <p:nvPr/>
        </p:nvSpPr>
        <p:spPr>
          <a:xfrm>
            <a:off x="7470360" y="21430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十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8"/>
          <p:cNvSpPr/>
          <p:nvPr/>
        </p:nvSpPr>
        <p:spPr>
          <a:xfrm>
            <a:off x="4218840" y="25718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9"/>
          <p:cNvSpPr/>
          <p:nvPr/>
        </p:nvSpPr>
        <p:spPr>
          <a:xfrm>
            <a:off x="6576840" y="257184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3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0"/>
          <p:cNvSpPr/>
          <p:nvPr/>
        </p:nvSpPr>
        <p:spPr>
          <a:xfrm>
            <a:off x="361080" y="30002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4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1"/>
          <p:cNvSpPr/>
          <p:nvPr/>
        </p:nvSpPr>
        <p:spPr>
          <a:xfrm>
            <a:off x="292680" y="428616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60600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2"/>
          <p:cNvSpPr/>
          <p:nvPr/>
        </p:nvSpPr>
        <p:spPr>
          <a:xfrm>
            <a:off x="3362760" y="471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3"/>
          <p:cNvSpPr/>
          <p:nvPr/>
        </p:nvSpPr>
        <p:spPr>
          <a:xfrm>
            <a:off x="5577120" y="471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4"/>
          <p:cNvSpPr/>
          <p:nvPr/>
        </p:nvSpPr>
        <p:spPr>
          <a:xfrm>
            <a:off x="7643880" y="471492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矩形 1" descr=""/>
          <p:cNvPicPr/>
          <p:nvPr/>
        </p:nvPicPr>
        <p:blipFill>
          <a:blip r:embed="rId1"/>
          <a:stretch/>
        </p:blipFill>
        <p:spPr>
          <a:xfrm>
            <a:off x="-353880" y="66600"/>
            <a:ext cx="5059080" cy="1146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23"/>
          <p:cNvSpPr/>
          <p:nvPr/>
        </p:nvSpPr>
        <p:spPr>
          <a:xfrm>
            <a:off x="785880" y="150012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）如果位数不同，那么位数多的数就大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785880" y="30718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）如果位数相同，那么左起第一位上的数字大的那个数就大；如果左起第一位上的数字相同，就比较左起第二位上的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857160" y="1357200"/>
            <a:ext cx="770436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比较下面各数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8965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00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102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09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2605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2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8456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854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矩形 2" descr=""/>
          <p:cNvPicPr/>
          <p:nvPr/>
        </p:nvPicPr>
        <p:blipFill>
          <a:blip r:embed="rId1"/>
          <a:stretch/>
        </p:blipFill>
        <p:spPr>
          <a:xfrm>
            <a:off x="-371520" y="-36360"/>
            <a:ext cx="3737160" cy="1182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4"/>
          <p:cNvSpPr/>
          <p:nvPr/>
        </p:nvSpPr>
        <p:spPr>
          <a:xfrm>
            <a:off x="3286080" y="221472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3286080" y="464328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3286080" y="3857760"/>
            <a:ext cx="7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 rot="10800000">
            <a:off x="3143160" y="3141720"/>
            <a:ext cx="72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矩形 1" descr=""/>
          <p:cNvPicPr/>
          <p:nvPr/>
        </p:nvPicPr>
        <p:blipFill>
          <a:blip r:embed="rId1"/>
          <a:stretch/>
        </p:blipFill>
        <p:spPr>
          <a:xfrm>
            <a:off x="-341280" y="66600"/>
            <a:ext cx="7113600" cy="11462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642960" y="135720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这是不是大家最头疼的？你做好准备听了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28760" y="11430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）把整万数改写成用“万”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（“亿”）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作单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把万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亿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位后面的四个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个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去掉，并写上“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（“亿”）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字。改写前后数的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大小不变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，所以用“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= ”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39640" y="35002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）省略尾数求近似数：要根据要求用“四舍五入”的方法省略尾数，再改写。这样原数的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大小改变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了，所以用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≈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”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0" y="1571760"/>
          <a:ext cx="9144000" cy="3900240"/>
        </p:xfrm>
        <a:graphic>
          <a:graphicData uri="http://schemas.openxmlformats.org/drawingml/2006/table">
            <a:tbl>
              <a:tblPr/>
              <a:tblGrid>
                <a:gridCol w="604800"/>
                <a:gridCol w="1830600"/>
                <a:gridCol w="3354120"/>
                <a:gridCol w="3354480"/>
              </a:tblGrid>
              <a:tr h="5814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数的改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求近似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rowSpan="2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不同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结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得到准确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得到近似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与原数关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与原数相等，用“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楷体"/>
                        </a:rPr>
                        <a:t>=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”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与原数近似相等，用“</a:t>
                      </a:r>
                      <a:r>
                        <a:rPr b="0" lang="zh-CN" sz="3200" spc="-1" strike="noStrike">
                          <a:solidFill>
                            <a:srgbClr val="ff0000"/>
                          </a:solidFill>
                          <a:latin typeface="Corbel"/>
                          <a:ea typeface="Arial"/>
                        </a:rPr>
                        <a:t>≈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”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26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相同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楷体"/>
                        </a:rPr>
                        <a:t>都是把一个较大的数表示成整“万”或整“亿”的数，后面都要加一个“万”或“亿”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TextBox 2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数的改写与求近似数的相同点与不同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214200" y="2142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四舍五入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0" y="142884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舍五入”法：尾数最高位上的数</a:t>
            </a:r>
            <a:r>
              <a:rPr b="0" lang="zh-CN" sz="3200" spc="-1" strike="noStrike">
                <a:solidFill>
                  <a:srgbClr val="c00000"/>
                </a:solidFill>
                <a:latin typeface="Times New Roman"/>
                <a:ea typeface="华文楷体"/>
              </a:rPr>
              <a:t>小于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舍去尾数，改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；尾数最高位上的数</a:t>
            </a:r>
            <a:r>
              <a:rPr b="0" lang="zh-CN" sz="3200" spc="-1" strike="noStrike">
                <a:solidFill>
                  <a:srgbClr val="c00000"/>
                </a:solidFill>
                <a:latin typeface="Times New Roman"/>
                <a:ea typeface="华文楷体"/>
              </a:rPr>
              <a:t>大于或等于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向前一位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尾数改写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将非整万或整亿的数用“四舍五入”法改写成以“万”或“亿”为单位的近似数的方法；先根据</a:t>
            </a:r>
            <a:r>
              <a:rPr b="0" lang="zh-CN" sz="3200" spc="-1" strike="noStrike">
                <a:solidFill>
                  <a:srgbClr val="c00000"/>
                </a:solidFill>
                <a:latin typeface="Times New Roman"/>
                <a:ea typeface="华文楷体"/>
              </a:rPr>
              <a:t>千位或千万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上的数字大小确定是“四舍”还是“五入”，然后用“四舍五入”法把万位或亿位后面的尾数省略，再改写成“万”字或“亿”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矩形 2" descr=""/>
          <p:cNvPicPr/>
          <p:nvPr/>
        </p:nvPicPr>
        <p:blipFill>
          <a:blip r:embed="rId1"/>
          <a:stretch/>
        </p:blipFill>
        <p:spPr>
          <a:xfrm>
            <a:off x="-658800" y="2048040"/>
            <a:ext cx="9858240" cy="2962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想一想</a:t>
            </a:r>
            <a:r>
              <a:rPr b="0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矩形 2" descr=""/>
          <p:cNvPicPr/>
          <p:nvPr/>
        </p:nvPicPr>
        <p:blipFill>
          <a:blip r:embed="rId1"/>
          <a:stretch/>
        </p:blipFill>
        <p:spPr>
          <a:xfrm>
            <a:off x="-146160" y="146160"/>
            <a:ext cx="2975040" cy="11397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6"/>
          <p:cNvSpPr/>
          <p:nvPr/>
        </p:nvSpPr>
        <p:spPr>
          <a:xfrm>
            <a:off x="0" y="13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把下面各数改写成以“万”或“亿”做单位的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142920" y="192888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00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56000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8"/>
          <p:cNvSpPr/>
          <p:nvPr/>
        </p:nvSpPr>
        <p:spPr>
          <a:xfrm>
            <a:off x="4714920" y="192888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0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2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0000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9"/>
          <p:cNvSpPr/>
          <p:nvPr/>
        </p:nvSpPr>
        <p:spPr>
          <a:xfrm>
            <a:off x="1357200" y="192888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</a:t>
            </a:r>
            <a:r>
              <a:rPr b="0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1857240" y="2500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900</a:t>
            </a:r>
            <a:r>
              <a:rPr b="0" lang="zh-CN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3"/>
          <p:cNvSpPr/>
          <p:nvPr/>
        </p:nvSpPr>
        <p:spPr>
          <a:xfrm>
            <a:off x="428760" y="207180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>
            <a:off x="928800" y="264312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2071800" y="314316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3"/>
          <p:cNvSpPr/>
          <p:nvPr/>
        </p:nvSpPr>
        <p:spPr>
          <a:xfrm>
            <a:off x="1143000" y="314316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>
            <a:off x="5715000" y="207180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3"/>
          <p:cNvSpPr/>
          <p:nvPr/>
        </p:nvSpPr>
        <p:spPr>
          <a:xfrm>
            <a:off x="6000840" y="264312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6429240" y="314316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500800" y="314316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9"/>
          <p:cNvSpPr/>
          <p:nvPr/>
        </p:nvSpPr>
        <p:spPr>
          <a:xfrm>
            <a:off x="214200" y="35719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256</a:t>
            </a:r>
            <a:r>
              <a:rPr b="0" lang="zh-CN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0"/>
          <p:cNvSpPr/>
          <p:nvPr/>
        </p:nvSpPr>
        <p:spPr>
          <a:xfrm>
            <a:off x="6643800" y="19288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700</a:t>
            </a:r>
            <a:r>
              <a:rPr b="0" lang="zh-CN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1"/>
          <p:cNvSpPr/>
          <p:nvPr/>
        </p:nvSpPr>
        <p:spPr>
          <a:xfrm>
            <a:off x="6858000" y="2500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032</a:t>
            </a:r>
            <a:r>
              <a:rPr b="0" lang="zh-CN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2"/>
          <p:cNvSpPr/>
          <p:nvPr/>
        </p:nvSpPr>
        <p:spPr>
          <a:xfrm>
            <a:off x="4714920" y="357192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80</a:t>
            </a:r>
            <a:r>
              <a:rPr b="0" lang="zh-CN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4"/>
          <p:cNvSpPr/>
          <p:nvPr/>
        </p:nvSpPr>
        <p:spPr>
          <a:xfrm>
            <a:off x="0" y="4143240"/>
            <a:ext cx="85010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省略万或亿后面的尾数求近似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92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                             55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48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0                              952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46312                          99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647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6"/>
          <p:cNvSpPr/>
          <p:nvPr/>
        </p:nvSpPr>
        <p:spPr>
          <a:xfrm>
            <a:off x="2000160" y="457200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9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7"/>
          <p:cNvSpPr/>
          <p:nvPr/>
        </p:nvSpPr>
        <p:spPr>
          <a:xfrm>
            <a:off x="1928880" y="514368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4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8"/>
          <p:cNvSpPr/>
          <p:nvPr/>
        </p:nvSpPr>
        <p:spPr>
          <a:xfrm>
            <a:off x="6715080" y="457200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9"/>
          <p:cNvSpPr/>
          <p:nvPr/>
        </p:nvSpPr>
        <p:spPr>
          <a:xfrm>
            <a:off x="6929280" y="514368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5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0"/>
          <p:cNvSpPr/>
          <p:nvPr/>
        </p:nvSpPr>
        <p:spPr>
          <a:xfrm>
            <a:off x="2357280" y="571500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1"/>
          <p:cNvSpPr/>
          <p:nvPr/>
        </p:nvSpPr>
        <p:spPr>
          <a:xfrm>
            <a:off x="7643880" y="56437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>
            <a:off x="1000080" y="464328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3"/>
          <p:cNvSpPr/>
          <p:nvPr/>
        </p:nvSpPr>
        <p:spPr>
          <a:xfrm>
            <a:off x="5786280" y="464328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>
            <a:off x="6000840" y="521496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3"/>
          <p:cNvSpPr/>
          <p:nvPr/>
        </p:nvSpPr>
        <p:spPr>
          <a:xfrm>
            <a:off x="6715080" y="578628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3"/>
          <p:cNvSpPr/>
          <p:nvPr/>
        </p:nvSpPr>
        <p:spPr>
          <a:xfrm>
            <a:off x="5786280" y="578628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1000080" y="528624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1500120" y="578628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"/>
          <p:cNvSpPr/>
          <p:nvPr/>
        </p:nvSpPr>
        <p:spPr>
          <a:xfrm>
            <a:off x="571680" y="5786280"/>
            <a:ext cx="0" cy="395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矩形 1" descr=""/>
          <p:cNvPicPr/>
          <p:nvPr/>
        </p:nvPicPr>
        <p:blipFill>
          <a:blip r:embed="rId1"/>
          <a:stretch/>
        </p:blipFill>
        <p:spPr>
          <a:xfrm>
            <a:off x="-128520" y="-36360"/>
            <a:ext cx="3700440" cy="11332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0" y="14288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547387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省略万位后面的尾数约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30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8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万。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某县去年旅游收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9560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，省略亿位后面的尾数约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亿元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个数省略万后面的尾数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万，这个数最大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9999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据统计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“五一”假期期间，上海世博园的游客接待量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56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之多。横线上的数是一个准确数。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3"/>
          <p:cNvSpPr/>
          <p:nvPr/>
        </p:nvSpPr>
        <p:spPr>
          <a:xfrm>
            <a:off x="3932280" y="28576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858080" y="150012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3857760" y="1928880"/>
            <a:ext cx="64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2071800" y="3857760"/>
            <a:ext cx="64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7"/>
          <p:cNvSpPr/>
          <p:nvPr/>
        </p:nvSpPr>
        <p:spPr>
          <a:xfrm>
            <a:off x="2000160" y="535788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矩形 1" descr=""/>
          <p:cNvPicPr/>
          <p:nvPr/>
        </p:nvPicPr>
        <p:blipFill>
          <a:blip r:embed="rId1"/>
          <a:stretch/>
        </p:blipFill>
        <p:spPr>
          <a:xfrm>
            <a:off x="-79200" y="-195120"/>
            <a:ext cx="2993760" cy="1755720"/>
          </a:xfrm>
          <a:prstGeom prst="rect">
            <a:avLst/>
          </a:prstGeom>
          <a:ln w="0">
            <a:noFill/>
          </a:ln>
        </p:spPr>
      </p:pic>
      <p:sp>
        <p:nvSpPr>
          <p:cNvPr id="256" name="矩形 2"/>
          <p:cNvSpPr/>
          <p:nvPr/>
        </p:nvSpPr>
        <p:spPr>
          <a:xfrm>
            <a:off x="0" y="121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什么叫做自然数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"/>
          <p:cNvSpPr/>
          <p:nvPr/>
        </p:nvSpPr>
        <p:spPr>
          <a:xfrm>
            <a:off x="0" y="3643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最小的自然数是几？有没有最大的自然数？自然数的个数是无限的还是有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0" y="1928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表示物体个数的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6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7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8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9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11……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都是自然数，一个物体也没有，用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表示，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也是自然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0" y="4929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楷体"/>
              </a:rPr>
              <a:t>最小的自然数是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华文楷体"/>
              </a:rPr>
              <a:t>0,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楷体"/>
              </a:rPr>
              <a:t>没有最大的自然数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华文楷体"/>
              </a:rPr>
              <a:t>,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楷体"/>
              </a:rPr>
              <a:t>自然数的个数是无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矩形 1" descr=""/>
          <p:cNvPicPr/>
          <p:nvPr/>
        </p:nvPicPr>
        <p:blipFill>
          <a:blip r:embed="rId1"/>
          <a:stretch/>
        </p:blipFill>
        <p:spPr>
          <a:xfrm>
            <a:off x="-493560" y="1017720"/>
            <a:ext cx="101185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3"/>
          <p:cNvSpPr/>
          <p:nvPr/>
        </p:nvSpPr>
        <p:spPr>
          <a:xfrm>
            <a:off x="2214720" y="214200"/>
            <a:ext cx="46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orbel"/>
                <a:ea typeface="隶书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Corbel"/>
                <a:ea typeface="隶书"/>
              </a:rPr>
              <a:t>主要内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285920" y="1714680"/>
            <a:ext cx="5929200" cy="38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位及数位顺序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万以上数的读法和写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的大小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的改写和省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求近似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矩形 2" descr=""/>
          <p:cNvPicPr/>
          <p:nvPr/>
        </p:nvPicPr>
        <p:blipFill>
          <a:blip r:embed="rId1"/>
          <a:stretch/>
        </p:blipFill>
        <p:spPr>
          <a:xfrm>
            <a:off x="-347760" y="212760"/>
            <a:ext cx="643104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85840" y="1963800"/>
            <a:ext cx="82868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什么叫数位、计数单位、数级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每相邻两个计数单位之间有什么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什么是十进制计数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5D31-7BD3-4F47-905E-9A7CA3E8F532}" type="datetime">
              <a:rPr b="0" lang="zh-CN" sz="1200" spc="-1" strike="noStrike">
                <a:solidFill>
                  <a:srgbClr val="898989"/>
                </a:solidFill>
                <a:latin typeface="Corbe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2392-64EB-4381-8A4B-CABFBEC54E5A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4360" y="1700280"/>
          <a:ext cx="7581600" cy="3478320"/>
        </p:xfrm>
        <a:graphic>
          <a:graphicData uri="http://schemas.openxmlformats.org/drawingml/2006/table">
            <a:tbl>
              <a:tblPr/>
              <a:tblGrid>
                <a:gridCol w="1942920"/>
                <a:gridCol w="2808360"/>
                <a:gridCol w="2830320"/>
              </a:tblGrid>
              <a:tr h="26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280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9900"/>
                      </a:solidFill>
                    </a:lnL>
                    <a:lnR w="280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280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AutoShape 16"/>
          <p:cNvSpPr/>
          <p:nvPr/>
        </p:nvSpPr>
        <p:spPr>
          <a:xfrm>
            <a:off x="684360" y="260280"/>
            <a:ext cx="4319280" cy="92700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数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line08"/>
          <p:cNvPicPr/>
          <p:nvPr/>
        </p:nvPicPr>
        <p:blipFill>
          <a:blip r:embed="rId1"/>
          <a:stretch/>
        </p:blipFill>
        <p:spPr>
          <a:xfrm>
            <a:off x="0" y="6778800"/>
            <a:ext cx="4800600" cy="7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line08"/>
          <p:cNvPicPr/>
          <p:nvPr/>
        </p:nvPicPr>
        <p:blipFill>
          <a:blip r:embed="rId2"/>
          <a:stretch/>
        </p:blipFill>
        <p:spPr>
          <a:xfrm>
            <a:off x="4343400" y="6778800"/>
            <a:ext cx="4800600" cy="79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line08"/>
          <p:cNvPicPr/>
          <p:nvPr/>
        </p:nvPicPr>
        <p:blipFill>
          <a:blip r:embed="rId3"/>
          <a:stretch/>
        </p:blipFill>
        <p:spPr>
          <a:xfrm>
            <a:off x="0" y="0"/>
            <a:ext cx="4800600" cy="7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line08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79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1"/>
          <p:cNvSpPr/>
          <p:nvPr/>
        </p:nvSpPr>
        <p:spPr>
          <a:xfrm>
            <a:off x="7372080" y="2347920"/>
            <a:ext cx="729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个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6160680" y="234792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百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6737040" y="2347920"/>
            <a:ext cx="729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十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5584320" y="2347920"/>
            <a:ext cx="7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千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563720" y="2347920"/>
            <a:ext cx="729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352320" y="234792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百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3928680" y="2347920"/>
            <a:ext cx="729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2776320" y="2347920"/>
            <a:ext cx="7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千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1767960" y="2347920"/>
            <a:ext cx="729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亿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755640" y="2637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6083280" y="4437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个    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3276720" y="4437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万    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971640" y="4437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亿   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714240" y="285840"/>
            <a:ext cx="4319640" cy="92700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数位顺序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714240" y="285840"/>
            <a:ext cx="4319640" cy="92700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计数单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6816960" y="2343240"/>
            <a:ext cx="1277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个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5599440" y="2357280"/>
            <a:ext cx="12776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百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6737040" y="2349360"/>
            <a:ext cx="729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十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5035680" y="2349360"/>
            <a:ext cx="127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千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4027680" y="2357280"/>
            <a:ext cx="1277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万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2810160" y="2347920"/>
            <a:ext cx="1277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百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3380040" y="2349360"/>
            <a:ext cx="127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十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2233800" y="2347920"/>
            <a:ext cx="127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千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1225800" y="2347920"/>
            <a:ext cx="1277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亿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762120" y="26431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4"/>
          <p:cNvSpPr/>
          <p:nvPr/>
        </p:nvSpPr>
        <p:spPr>
          <a:xfrm>
            <a:off x="714240" y="285840"/>
            <a:ext cx="4319640" cy="92700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数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539640" y="333360"/>
            <a:ext cx="777564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每相邻两个计数单位之间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个一万是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个十万是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个一百万是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个一千万是 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什么是十进制计数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每相邻的两个计数单位之间的进率都是十，这种计数方法叫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十进制计数法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71640" y="10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黑体"/>
                <a:ea typeface="黑体"/>
              </a:rPr>
              <a:t>十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51160" y="1773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黑体"/>
                <a:ea typeface="黑体"/>
              </a:rPr>
              <a:t>一百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203640" y="256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黑体"/>
                <a:ea typeface="黑体"/>
              </a:rPr>
              <a:t>一千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56400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黑体"/>
                <a:ea typeface="黑体"/>
              </a:rPr>
              <a:t>一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0" y="642960"/>
            <a:ext cx="45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动脑筋，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0" y="18615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、每相邻两个计数单位间的进率都是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、按照我国的计数习惯，从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）位起，每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）个数位是一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329724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数位顺序表中，从右边起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是（   ）位，亿位在第（   ）位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一万是（        ）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（        ）是一百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  ）个一百万是一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一个七位数，它的最高位是（       ）位，最高位的计数单位是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143760" y="1643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7358040" y="2071800"/>
            <a:ext cx="3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6044760" y="3071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216720" y="35002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2728440" y="39290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5229000" y="39290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361440" y="4357800"/>
            <a:ext cx="8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1871280" y="521496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5229000" y="478620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4786200" y="20718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矩形 1" descr=""/>
          <p:cNvPicPr/>
          <p:nvPr/>
        </p:nvPicPr>
        <p:blipFill>
          <a:blip r:embed="rId1"/>
          <a:stretch/>
        </p:blipFill>
        <p:spPr>
          <a:xfrm>
            <a:off x="-304920" y="-176040"/>
            <a:ext cx="5126040" cy="1023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0" y="928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十万位上的计数单位是十万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十进制计数法中，两个计数单位间的进率都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位、十位、百位、千位、万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都是计数单位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5004000" y="928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8497800" y="178596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8497800" y="128592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0" y="4071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硬币叠放在一起的高度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，照这样计算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硬币叠放在一起的高度是多少米？一万枚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矩形 11" descr=""/>
          <p:cNvPicPr/>
          <p:nvPr/>
        </p:nvPicPr>
        <p:blipFill>
          <a:blip r:embed="rId2"/>
          <a:stretch/>
        </p:blipFill>
        <p:spPr>
          <a:xfrm>
            <a:off x="-212760" y="2816280"/>
            <a:ext cx="43340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矩形 1" descr=""/>
          <p:cNvPicPr/>
          <p:nvPr/>
        </p:nvPicPr>
        <p:blipFill>
          <a:blip r:embed="rId1"/>
          <a:stretch/>
        </p:blipFill>
        <p:spPr>
          <a:xfrm>
            <a:off x="-353880" y="66600"/>
            <a:ext cx="574344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684360" y="1197000"/>
            <a:ext cx="80769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7030a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华文楷体"/>
                <a:ea typeface="华文楷体"/>
              </a:rPr>
              <a:t>）先分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7030a0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华文楷体"/>
                <a:ea typeface="华文楷体"/>
              </a:rPr>
              <a:t>）从高位到低位，一级一级地读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7030a0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华文楷体"/>
                <a:ea typeface="华文楷体"/>
              </a:rPr>
              <a:t>）读亿级时，先按个级的读法读出这个数，再加上“亿”字；读万级时也是按个级的读法再加上“万”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注意  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每一级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末尾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都不读出来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每级开头和中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连续有几个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都只读一个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84360" y="4581360"/>
            <a:ext cx="7488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2:11:39Z</dcterms:created>
  <dc:creator>ibm</dc:creator>
  <dc:description/>
  <dc:language>en-US</dc:language>
  <cp:lastModifiedBy>ibm</cp:lastModifiedBy>
  <dcterms:modified xsi:type="dcterms:W3CDTF">2011-12-14T23:58:51Z</dcterms:modified>
  <cp:revision>52</cp:revision>
  <dc:subject/>
  <dc:title>幻灯片 1</dc:title>
</cp:coreProperties>
</file>