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3E77-609F-425B-B5D8-ECEC433E6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8CAC-BCC0-42A9-A7D5-E6D310A5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87C9-6E95-43B3-98AA-8774D6BEF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52AA-0B89-411D-86BB-D148B0E22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D9B7-7D9B-4E90-AF7A-7C3C32582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EDACF-2B08-4A46-A879-7C44578D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D432-0CDE-4533-BC77-30EB5CAE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9CD5-91C6-4A86-9894-21F5DDF5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62AF-DEB6-4C21-BDFB-A98E1055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E3A13-A5B6-4B11-9147-FB5617AA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607B-7E15-42AE-B6CA-430A75D9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9BBB-94A3-4CC3-BBC2-D592B030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2BF0-8F2E-4E2A-A826-F47C1757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8612-E137-4640-A25C-21045BFF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EF5B-FFAE-44E9-A720-81995AAC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8A1A4-7237-4B7D-B7E2-31F0B8145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0083-5398-4312-A491-880895C8B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0EB4-0D99-4AE9-9EB4-89B774A6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5784-AB2A-4601-9A06-6730F7A4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E63E-10E0-4CA8-93D8-FCB73693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7A3A-1DD7-42BA-BE25-B19E7D60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D0D2-59CD-4266-8F87-4DE762CD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0A08-A4BF-45BD-826F-A897CE7B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966D-F1C0-40BF-AB9C-D7721798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任意多边形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直角三角形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直接连接符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124D-0D24-44B7-ADB4-B5DD5482F7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角三角形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组合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任意多边形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任意多边形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任意多边形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任意多边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直接连接符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B9A9D-2078-43A4-BD08-385A997A04B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aike.baidu.com/view/3762.htm" TargetMode="External"/><Relationship Id="rId2" Type="http://schemas.openxmlformats.org/officeDocument/2006/relationships/hyperlink" Target="http://baike.baidu.com/view/368291.htm" TargetMode="External"/><Relationship Id="rId3" Type="http://schemas.openxmlformats.org/officeDocument/2006/relationships/hyperlink" Target="http://baike.baidu.com/view/24652.htm" TargetMode="External"/><Relationship Id="rId4" Type="http://schemas.openxmlformats.org/officeDocument/2006/relationships/hyperlink" Target="http://baike.baidu.com/view/3738807.htm" TargetMode="External"/><Relationship Id="rId5" Type="http://schemas.openxmlformats.org/officeDocument/2006/relationships/hyperlink" Target="http://baike.baidu.com/view/587353.htm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Rectangle 2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7431120" cy="3882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7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4646"/>
                </a:solidFill>
                <a:latin typeface="Lucida Sans Unicode"/>
              </a:rPr>
              <a:t>学习他始终不懈地实现自己的理想而努力，善于从失误中吸取教训，善于从异常现象中发现问题。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08080" y="1116000"/>
            <a:ext cx="8423280" cy="1230480"/>
            <a:chOff x="208080" y="1116000"/>
            <a:chExt cx="8423280" cy="1230480"/>
          </a:xfrm>
        </p:grpSpPr>
        <p:pic>
          <p:nvPicPr>
            <p:cNvPr id="132" name="Rectangle 2" descr=""/>
            <p:cNvPicPr/>
            <p:nvPr/>
          </p:nvPicPr>
          <p:blipFill>
            <a:blip r:embed="rId1"/>
            <a:stretch/>
          </p:blipFill>
          <p:spPr>
            <a:xfrm>
              <a:off x="208080" y="1116000"/>
              <a:ext cx="8423280" cy="12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 txBox="1"/>
            <p:nvPr/>
          </p:nvSpPr>
          <p:spPr>
            <a:xfrm>
              <a:off x="208080" y="1116000"/>
              <a:ext cx="8423280" cy="1230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100" spc="-1" strike="noStrike">
                <a:solidFill>
                  <a:srgbClr val="464646"/>
                </a:solidFill>
                <a:latin typeface="Lucida Sans Unicod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8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5"/>
          <p:cNvSpPr/>
          <p:nvPr/>
        </p:nvSpPr>
        <p:spPr>
          <a:xfrm>
            <a:off x="2050920" y="549360"/>
            <a:ext cx="5975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zh-CN" sz="3200" spc="-1" strike="noStrike">
                <a:solidFill>
                  <a:srgbClr val="0000ff"/>
                </a:solidFill>
                <a:latin typeface="Arial"/>
                <a:ea typeface="方正小标宋_GBK"/>
              </a:rPr>
              <a:t>如果选取下面这件事来介绍李比希，应当怎样调整内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楷体_GB2312"/>
              </a:rPr>
              <a:t>李比希经常从黎明工作到黄昏，又从黄昏工作到黎明。他的仆人常常这样抱怨说：“您整天都在实验室里工作，使得我简直没有机会等您不在时打扫它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-225360" y="255600"/>
            <a:ext cx="8881920" cy="1152360"/>
            <a:chOff x="-225360" y="255600"/>
            <a:chExt cx="8881920" cy="1152360"/>
          </a:xfrm>
        </p:grpSpPr>
        <p:pic>
          <p:nvPicPr>
            <p:cNvPr id="136" name="Rectangle 2" descr=""/>
            <p:cNvPicPr/>
            <p:nvPr/>
          </p:nvPicPr>
          <p:blipFill>
            <a:blip r:embed="rId1"/>
            <a:stretch/>
          </p:blipFill>
          <p:spPr>
            <a:xfrm>
              <a:off x="-225360" y="255600"/>
              <a:ext cx="888192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 txBox="1"/>
            <p:nvPr/>
          </p:nvSpPr>
          <p:spPr>
            <a:xfrm>
              <a:off x="-225360" y="255600"/>
              <a:ext cx="8881920" cy="115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100" spc="-1" strike="noStrike">
                <a:solidFill>
                  <a:srgbClr val="464646"/>
                </a:solidFill>
                <a:latin typeface="Lucida Sans Unicode"/>
              </a:endParaRPr>
            </a:p>
          </p:txBody>
        </p:sp>
      </p:grpSp>
      <p:sp>
        <p:nvSpPr>
          <p:cNvPr id="138" name="TextBox 5"/>
          <p:cNvSpPr/>
          <p:nvPr/>
        </p:nvSpPr>
        <p:spPr>
          <a:xfrm>
            <a:off x="1357200" y="1571760"/>
            <a:ext cx="7358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标签是李比希浅尝辄止导致失败的见证，李比希用标签时刻提醒自己在进行科学研究时要有严谨的科学态度，以“床头上的标签”为题意在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告诫人们：在科学研究的道路上，要有认真、严谨的工作态度和持之以恒的科学精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1547640" y="836640"/>
            <a:ext cx="67694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叶永烈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4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出生于浙江温州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6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毕业于北京大学化学系。现为上海作家协会专业一级作家。中国科普作家协会常务理事，世界科幻小说协会理事，香港海外文联名誉主席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5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开始发表作品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7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加入中国作家协会。现已出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部著作。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十万个为什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作者之一，创作了大量科普作品，代表作是三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灵通漫游未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主要新著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叶永烈自选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红色的起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历史选择了毛泽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毛泽东与蒋介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多部传记作品。作品曾在美、英、法、日等多国出版或发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5"/>
          <p:cNvSpPr txBox="1"/>
          <p:nvPr/>
        </p:nvSpPr>
        <p:spPr>
          <a:xfrm rot="5400000">
            <a:off x="-360000" y="873000"/>
            <a:ext cx="2160360" cy="79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了解作者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blinds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611280" y="1557360"/>
            <a:ext cx="799308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尤斯图斯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冯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·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李比希 ，男爵。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1803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日出生于</a:t>
            </a:r>
            <a:r>
              <a:rPr b="0" lang="zh-CN" sz="3200" spc="-1" strike="noStrike" u="sng">
                <a:solidFill>
                  <a:srgbClr val="ff8119"/>
                </a:solidFill>
                <a:uFillTx/>
                <a:latin typeface="Arial"/>
                <a:hlinkClick r:id="rId1"/>
              </a:rPr>
              <a:t>德国</a:t>
            </a:r>
            <a:r>
              <a:rPr b="0" lang="zh-CN" sz="3200" spc="-1" strike="noStrike" u="sng">
                <a:solidFill>
                  <a:srgbClr val="ff8119"/>
                </a:solidFill>
                <a:uFillTx/>
                <a:latin typeface="Arial"/>
                <a:hlinkClick r:id="rId2"/>
              </a:rPr>
              <a:t>达姆施塔特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1873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18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日逝世于德国</a:t>
            </a:r>
            <a:r>
              <a:rPr b="0" lang="zh-CN" sz="3200" spc="-1" strike="noStrike" u="sng">
                <a:solidFill>
                  <a:srgbClr val="ff8119"/>
                </a:solidFill>
                <a:uFillTx/>
                <a:latin typeface="Arial"/>
                <a:hlinkClick r:id="rId3"/>
              </a:rPr>
              <a:t>慕尼黑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，是一位德国化学家，他最重要的贡献在于农业和生物化学，他创立了有机化学。因此被称为“化学之父”。作为</a:t>
            </a:r>
            <a:r>
              <a:rPr b="0" lang="zh-CN" sz="3200" spc="-1" strike="noStrike" u="sng">
                <a:solidFill>
                  <a:srgbClr val="ff8119"/>
                </a:solidFill>
                <a:uFillTx/>
                <a:latin typeface="Arial"/>
                <a:hlinkClick r:id="rId4"/>
              </a:rPr>
              <a:t>大学教授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他发明了现代面向实验室的教学方法，因为这一创新，他被誉为历史上最伟大的化学</a:t>
            </a:r>
            <a:r>
              <a:rPr b="0" lang="zh-CN" sz="3200" spc="-1" strike="noStrike" u="sng">
                <a:solidFill>
                  <a:srgbClr val="ff8119"/>
                </a:solidFill>
                <a:uFillTx/>
                <a:latin typeface="Arial"/>
                <a:hlinkClick r:id="rId5"/>
              </a:rPr>
              <a:t>教育家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5"/>
          <p:cNvSpPr txBox="1"/>
          <p:nvPr/>
        </p:nvSpPr>
        <p:spPr>
          <a:xfrm>
            <a:off x="2916360" y="404640"/>
            <a:ext cx="3384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主人公李比希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zoom dir="in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11"/>
          <p:cNvSpPr/>
          <p:nvPr/>
        </p:nvSpPr>
        <p:spPr>
          <a:xfrm>
            <a:off x="1187280" y="1268280"/>
            <a:ext cx="7632720" cy="5040360"/>
          </a:xfrm>
          <a:prstGeom prst="wedgeEllipseCallout">
            <a:avLst>
              <a:gd name="adj1" fmla="val -63884"/>
              <a:gd name="adj2" fmla="val -31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课文讲述了德国著名化学家李比希的两件事，其一（                           ）；其二（                                 ）。通过这两件事告诉我们，在科学研究的道路上要有（                            ）的工作态度和（           ）的科学精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0" y="69228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床头上的标签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主要讲了关于李比希的哪两件事情？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4643280" y="271476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与新元素溴失之交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3357720" y="3286080"/>
            <a:ext cx="32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提高柏林蓝的质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3714840" y="4500720"/>
            <a:ext cx="32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认真、严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3357720" y="5072040"/>
            <a:ext cx="32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持之以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0"/>
          <p:cNvSpPr/>
          <p:nvPr/>
        </p:nvSpPr>
        <p:spPr>
          <a:xfrm>
            <a:off x="0" y="0"/>
            <a:ext cx="9144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默读课文，想想课文围饶着李比希写了哪些内容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684360" y="907920"/>
            <a:ext cx="774036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课文讲述的是德国著名化学家李比希的故事，他曾在一项实验中“浅尝辄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(zh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é)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止”而与新元素“溴”失之交臂。后来李比希发现了自己的失误后，非常懊悔，他把自己的错误判断制成标签，“装在镜框里，挂在床头，不但自己天天看，还经常让朋友们看”。第二件事是李比希接受教训后，善于在异常现象中发现问题，又能通过实验找出解决问题的途径，帮助化工厂提高柏林蓝的质量的故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椭圆形标注 6"/>
          <p:cNvSpPr/>
          <p:nvPr/>
        </p:nvSpPr>
        <p:spPr>
          <a:xfrm>
            <a:off x="5500800" y="2071800"/>
            <a:ext cx="2857320" cy="2714400"/>
          </a:xfrm>
          <a:prstGeom prst="wedgeEllipseCallout">
            <a:avLst>
              <a:gd name="adj1" fmla="val -65638"/>
              <a:gd name="adj2" fmla="val -44731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Lucida Sans Unicode"/>
                <a:ea typeface="黑体"/>
              </a:rPr>
              <a:t>略微尝试一下就停止，比喻不肯下工夫深入钻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接连接符 8"/>
          <p:cNvSpPr/>
          <p:nvPr/>
        </p:nvSpPr>
        <p:spPr>
          <a:xfrm>
            <a:off x="4071960" y="2143080"/>
            <a:ext cx="221472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Rectangle 6" descr=""/>
          <p:cNvPicPr/>
          <p:nvPr/>
        </p:nvPicPr>
        <p:blipFill>
          <a:blip r:embed="rId1"/>
          <a:stretch/>
        </p:blipFill>
        <p:spPr>
          <a:xfrm>
            <a:off x="-158760" y="-79200"/>
            <a:ext cx="7675560" cy="6332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0" y="549000"/>
            <a:ext cx="7956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00"/>
                </a:solidFill>
                <a:latin typeface="Lucida Sans Unicode"/>
              </a:rPr>
              <a:t>思考题</a:t>
            </a:r>
            <a:r>
              <a:rPr b="1" lang="en-US" sz="2000" spc="-1" strike="noStrike">
                <a:solidFill>
                  <a:srgbClr val="006600"/>
                </a:solidFill>
                <a:latin typeface="Lucida Sans Unicode"/>
              </a:rPr>
              <a:t>1</a:t>
            </a:r>
            <a:r>
              <a:rPr b="1" lang="zh-CN" sz="2000" spc="-1" strike="noStrike">
                <a:solidFill>
                  <a:srgbClr val="006600"/>
                </a:solidFill>
                <a:latin typeface="Lucida Sans Unicode"/>
              </a:rPr>
              <a:t>：李比希在科研上有过什么失误？为什么让李比希懊悔莫及？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0" y="1484280"/>
            <a:ext cx="91440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李比希曾经试着把海藻烧成灰，用热水浸泡，再往里面通氯气，这样就能提取出海藻里面的碘。但是他发现，在剩余的残渣底部，沉淀着一层褐色的液体，收集起这些液体，会闻到一股刺鼻的臭味。他重复做这个实验，都得到了同样的结果。 李比希想，这些液体是通了氯气后得到的，说明氯气和海藻中的碘起了化学反应，生成了氯化碘。于是，他在盛着这些液体的瓶子上贴了一个标签，上面写着“氯化碘”。  几年后，李比希看到了一篇论文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——《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海藻中的新元素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，他屏着呼吸，细细地阅读，读完懊悔莫及。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Lucida Sans Unicode"/>
              </a:rPr>
              <a:t>思考题</a:t>
            </a:r>
            <a:r>
              <a:rPr b="1" lang="en-US" sz="2800" spc="-1" strike="noStrike">
                <a:solidFill>
                  <a:srgbClr val="3333ff"/>
                </a:solidFill>
                <a:latin typeface="Lucida Sans Unicode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Lucida Sans Unicode"/>
              </a:rPr>
              <a:t>：李比希是怎样对待自己的失误的？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68200" y="268200"/>
            <a:ext cx="8759880" cy="1158840"/>
            <a:chOff x="268200" y="268200"/>
            <a:chExt cx="8759880" cy="1158840"/>
          </a:xfrm>
        </p:grpSpPr>
        <p:pic>
          <p:nvPicPr>
            <p:cNvPr id="116" name="Rectangle 5" descr=""/>
            <p:cNvPicPr/>
            <p:nvPr/>
          </p:nvPicPr>
          <p:blipFill>
            <a:blip r:embed="rId1"/>
            <a:stretch/>
          </p:blipFill>
          <p:spPr>
            <a:xfrm>
              <a:off x="268200" y="268200"/>
              <a:ext cx="875988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 txBox="1"/>
            <p:nvPr/>
          </p:nvSpPr>
          <p:spPr>
            <a:xfrm>
              <a:off x="268200" y="268200"/>
              <a:ext cx="8759880" cy="11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100" spc="-1" strike="noStrike">
                <a:solidFill>
                  <a:srgbClr val="464646"/>
                </a:solidFill>
                <a:latin typeface="Lucida Sans Unicode"/>
              </a:endParaRPr>
            </a:p>
          </p:txBody>
        </p:sp>
      </p:grpSp>
      <p:sp>
        <p:nvSpPr>
          <p:cNvPr id="118" name="Text Box 7"/>
          <p:cNvSpPr/>
          <p:nvPr/>
        </p:nvSpPr>
        <p:spPr>
          <a:xfrm>
            <a:off x="1908000" y="2205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这件事，深深地教育了李比希。他把那张“氯化碘”的标签从瓶子上小心翼翼地揭下来，装在镜框里，挂在床头，不但自己天天看，还经常让朋友们看。后来，他在自传中写道：“从那以后，除非有非常可靠的实验作根据，我再也不凭空地自造理论了。”从此，李比希更认真、更严谨地从事研究工作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0" y="1773360"/>
            <a:ext cx="91440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方正小标宋_GBK"/>
                <a:ea typeface="方正小标宋_GBK"/>
              </a:rPr>
              <a:t>1</a:t>
            </a:r>
            <a:r>
              <a:rPr b="1" lang="zh-CN" sz="2700" spc="-1" strike="noStrike">
                <a:solidFill>
                  <a:srgbClr val="000000"/>
                </a:solidFill>
                <a:latin typeface="方正小标宋_GBK"/>
                <a:ea typeface="方正小标宋_GBK"/>
              </a:rPr>
              <a:t>、</a:t>
            </a:r>
            <a:r>
              <a:rPr b="1" lang="zh-CN" sz="2700" spc="-1" strike="noStrike">
                <a:solidFill>
                  <a:srgbClr val="000000"/>
                </a:solidFill>
                <a:latin typeface="Lucida Sans Unicode"/>
              </a:rPr>
              <a:t>文章写李比希在工厂的那件事是要说明什么？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511360" y="596880"/>
            <a:ext cx="3309840" cy="1030320"/>
            <a:chOff x="2511360" y="596880"/>
            <a:chExt cx="3309840" cy="1030320"/>
          </a:xfrm>
        </p:grpSpPr>
        <p:pic>
          <p:nvPicPr>
            <p:cNvPr id="121" name="Rectangle 2" descr=""/>
            <p:cNvPicPr/>
            <p:nvPr/>
          </p:nvPicPr>
          <p:blipFill>
            <a:blip r:embed="rId1"/>
            <a:stretch/>
          </p:blipFill>
          <p:spPr>
            <a:xfrm>
              <a:off x="2511360" y="596880"/>
              <a:ext cx="330984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 txBox="1"/>
            <p:nvPr/>
          </p:nvSpPr>
          <p:spPr>
            <a:xfrm>
              <a:off x="2511360" y="596880"/>
              <a:ext cx="3309840" cy="1030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100" spc="-1" strike="noStrike">
                <a:solidFill>
                  <a:srgbClr val="464646"/>
                </a:solidFill>
                <a:latin typeface="Lucida Sans Unicode"/>
              </a:endParaRPr>
            </a:p>
          </p:txBody>
        </p:sp>
      </p:grpSp>
      <p:sp>
        <p:nvSpPr>
          <p:cNvPr id="123" name="Rectangle 5"/>
          <p:cNvSpPr/>
          <p:nvPr/>
        </p:nvSpPr>
        <p:spPr>
          <a:xfrm>
            <a:off x="755640" y="256536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4646"/>
                </a:solidFill>
                <a:latin typeface="Arial"/>
              </a:rPr>
              <a:t>写李比希在工厂的那件事说明那次重大失误使李比希变得更认真，更严谨，从此以后，李比希不断从发生在身边的异常现象中提出研究课题，做出新的贡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24000" y="2349000"/>
            <a:ext cx="8229600" cy="25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464646"/>
                </a:solidFill>
                <a:latin typeface="Lucida Sans Unicode"/>
              </a:rPr>
              <a:t>因为前次失误，使李比希变得更认真，更严谨。李比希接受教训后，善于在异常现象中发现问题，又能通过实验找出解决问题的途径。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3760" y="890640"/>
            <a:ext cx="8461440" cy="1334880"/>
            <a:chOff x="23760" y="890640"/>
            <a:chExt cx="8461440" cy="1334880"/>
          </a:xfrm>
        </p:grpSpPr>
        <p:pic>
          <p:nvPicPr>
            <p:cNvPr id="126" name="Rectangle 2" descr=""/>
            <p:cNvPicPr/>
            <p:nvPr/>
          </p:nvPicPr>
          <p:blipFill>
            <a:blip r:embed="rId1"/>
            <a:stretch/>
          </p:blipFill>
          <p:spPr>
            <a:xfrm>
              <a:off x="23760" y="890640"/>
              <a:ext cx="846144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 txBox="1"/>
            <p:nvPr/>
          </p:nvSpPr>
          <p:spPr>
            <a:xfrm>
              <a:off x="23760" y="890640"/>
              <a:ext cx="8461440" cy="1334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100" spc="-1" strike="noStrike">
                <a:solidFill>
                  <a:srgbClr val="464646"/>
                </a:solidFill>
                <a:latin typeface="Lucida Sans Unicode"/>
              </a:endParaRPr>
            </a:p>
          </p:txBody>
        </p:sp>
      </p:grpSp>
      <p:sp>
        <p:nvSpPr>
          <p:cNvPr id="128" name="Rectangle 4"/>
          <p:cNvSpPr/>
          <p:nvPr/>
        </p:nvSpPr>
        <p:spPr>
          <a:xfrm>
            <a:off x="395280" y="47973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、文章最后一段在全文中起了什么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1042920" y="551664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4646"/>
                </a:solidFill>
                <a:latin typeface="Arial"/>
              </a:rPr>
              <a:t>起总结全文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9T11:28:54Z</dcterms:created>
  <dc:creator>Administrator</dc:creator>
  <dc:description/>
  <dc:language>en-US</dc:language>
  <cp:lastModifiedBy/>
  <dcterms:modified xsi:type="dcterms:W3CDTF">2015-07-21T03:36:51Z</dcterms:modified>
  <cp:revision>7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