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image9.jpeg" ContentType="image/jpeg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4.jpeg" ContentType="image/jpeg"/>
  <Override PartName="/ppt/media/image5.gif" ContentType="image/gi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3C3-29C3-4BE2-90D8-5C07985F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ADA-8E32-41DD-8D66-3900E7D8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6C5-C221-423A-9D4E-68B10841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739-7583-4EB2-8EDB-7454338D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AF3-ACFE-4495-923A-D05CBBE8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9CF0-8C4E-40DD-A529-11E09017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8AB-F870-4D3E-83D9-878CF50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E5C-9009-475B-8D3F-C459427B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858-B70B-41B0-BC03-D9FA31B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3EA-E4A9-403D-9987-67160D87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D9C-9C3F-4DAF-944E-674D6005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CF47-7A72-4851-A5D2-FD3DC0D2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F693-31C1-44D5-A85D-D830C4E8F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=1585170590,212886501&amp;fm=2&amp;gp=25[1]"/>
          <p:cNvPicPr/>
          <p:nvPr/>
        </p:nvPicPr>
        <p:blipFill>
          <a:blip r:embed="rId1"/>
          <a:stretch/>
        </p:blipFill>
        <p:spPr>
          <a:xfrm>
            <a:off x="-6480" y="0"/>
            <a:ext cx="9150480" cy="6811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pic_141424"/>
          <p:cNvPicPr/>
          <p:nvPr/>
        </p:nvPicPr>
        <p:blipFill>
          <a:blip r:embed="rId2"/>
          <a:stretch/>
        </p:blipFill>
        <p:spPr>
          <a:xfrm>
            <a:off x="0" y="2666880"/>
            <a:ext cx="4500720" cy="316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ic_141425"/>
          <p:cNvPicPr/>
          <p:nvPr/>
        </p:nvPicPr>
        <p:blipFill>
          <a:blip r:embed="rId3"/>
          <a:srcRect l="0" t="0" r="0" b="-78"/>
          <a:stretch/>
        </p:blipFill>
        <p:spPr>
          <a:xfrm>
            <a:off x="4500720" y="2638440"/>
            <a:ext cx="4643280" cy="3166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990720" y="1295280"/>
            <a:ext cx="832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66"/>
                </a:solidFill>
                <a:latin typeface="Arial"/>
                <a:ea typeface="楷体_GB2312"/>
              </a:rPr>
              <a:t>大自然的秘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7"/>
          <p:cNvGraphicFramePr/>
          <p:nvPr/>
        </p:nvGraphicFramePr>
        <p:xfrm>
          <a:off x="0" y="5734080"/>
          <a:ext cx="4788000" cy="111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5734080"/>
                    <a:ext cx="47880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8"/>
          <p:cNvGraphicFramePr/>
          <p:nvPr/>
        </p:nvGraphicFramePr>
        <p:xfrm>
          <a:off x="4356000" y="5734080"/>
          <a:ext cx="4788000" cy="11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8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56000" y="5734080"/>
                    <a:ext cx="478800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 Box 9"/>
          <p:cNvSpPr/>
          <p:nvPr/>
        </p:nvSpPr>
        <p:spPr>
          <a:xfrm>
            <a:off x="3712320" y="5830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371600" y="144792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只幼龟率先把头探出巢穴，却又欲出而止，似乎在侦察外面是否安全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523880" y="3733920"/>
            <a:ext cx="68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换别的词，可以怎么说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 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感受领悟"/>
          <p:cNvPicPr/>
          <p:nvPr/>
        </p:nvPicPr>
        <p:blipFill>
          <a:blip r:embed="rId1"/>
          <a:stretch/>
        </p:blipFill>
        <p:spPr>
          <a:xfrm>
            <a:off x="324000" y="907920"/>
            <a:ext cx="1890720" cy="5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cc"/>
                </a:solidFill>
                <a:latin typeface="Arial"/>
              </a:rPr>
              <a:t>游客情绪的变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320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紧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505320" y="3429000"/>
            <a:ext cx="4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48120" y="32004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震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334120" y="32004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懊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7467480" y="3505320"/>
            <a:ext cx="138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696080" y="3200400"/>
            <a:ext cx="131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悲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191120" y="320040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6553080" y="32004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752480" y="3124080"/>
            <a:ext cx="154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--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Arial"/>
              </a:rPr>
              <a:t>紧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cc00cc"/>
                </a:solidFill>
                <a:latin typeface="Arial"/>
              </a:rPr>
              <a:t>正当幼龟踯躅不前时，一只嘲鹰突兀而来。它用尖嘴啄幼龟的头，企图把它拉到沙滩上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感受领悟"/>
          <p:cNvPicPr/>
          <p:nvPr/>
        </p:nvPicPr>
        <p:blipFill>
          <a:blip r:embed="rId1"/>
          <a:stretch/>
        </p:blipFill>
        <p:spPr>
          <a:xfrm>
            <a:off x="380880" y="228600"/>
            <a:ext cx="221004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89323"/>
          <p:cNvPicPr/>
          <p:nvPr/>
        </p:nvPicPr>
        <p:blipFill>
          <a:blip r:embed="rId2">
            <a:lum bright="6000"/>
          </a:blip>
          <a:srcRect l="5242" t="11551" r="25134" b="8892"/>
          <a:stretch/>
        </p:blipFill>
        <p:spPr>
          <a:xfrm>
            <a:off x="609480" y="4191120"/>
            <a:ext cx="26640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3200400" y="5105520"/>
            <a:ext cx="45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啄，幼龟小心，太弱小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震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3208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成群的幼龟鱼贯而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从龟巢到海边的一大段沙滩，无遮无挡，成百上千的幼龟接群而出，很快引来许多食肉鸟，它们确实可以饱餐一顿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）这时，几十只幼龟已成了嘲鹰、海鸥、鲣鸟的口中之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感受领悟"/>
          <p:cNvPicPr/>
          <p:nvPr/>
        </p:nvPicPr>
        <p:blipFill>
          <a:blip r:embed="rId1"/>
          <a:stretch/>
        </p:blipFill>
        <p:spPr>
          <a:xfrm>
            <a:off x="0" y="304920"/>
            <a:ext cx="2666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aoqingxiyangguangyuhaitanbizhi2_461713_m"/>
          <p:cNvPicPr/>
          <p:nvPr/>
        </p:nvPicPr>
        <p:blipFill>
          <a:blip r:embed="rId1"/>
          <a:stretch/>
        </p:blipFill>
        <p:spPr>
          <a:xfrm>
            <a:off x="0" y="0"/>
            <a:ext cx="914544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aoqingxiyangguangyuhaitanbizhi2_461713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gaoqingxiyangguangyuhaitanbizhi2_461713_m"/>
          <p:cNvPicPr/>
          <p:nvPr/>
        </p:nvPicPr>
        <p:blipFill>
          <a:blip r:embed="rId2"/>
          <a:stretch/>
        </p:blipFill>
        <p:spPr>
          <a:xfrm>
            <a:off x="0" y="-11160"/>
            <a:ext cx="9144000" cy="5429160"/>
          </a:xfrm>
          <a:prstGeom prst="rect">
            <a:avLst/>
          </a:prstGeom>
          <a:ln w="0">
            <a:noFill/>
          </a:ln>
        </p:spPr>
      </p:pic>
      <p:pic>
        <p:nvPicPr>
          <p:cNvPr id="95" name="Object 4" descr=""/>
          <p:cNvPicPr/>
          <p:nvPr/>
        </p:nvPicPr>
        <p:blipFill>
          <a:blip r:embed="rId3"/>
          <a:stretch/>
        </p:blipFill>
        <p:spPr>
          <a:xfrm>
            <a:off x="2629080" y="4221000"/>
            <a:ext cx="2016000" cy="1730520"/>
          </a:xfrm>
          <a:prstGeom prst="rect">
            <a:avLst/>
          </a:prstGeom>
          <a:ln w="0">
            <a:noFill/>
          </a:ln>
        </p:spPr>
      </p:pic>
      <p:pic>
        <p:nvPicPr>
          <p:cNvPr id="96" name="Object 5" descr=""/>
          <p:cNvPicPr/>
          <p:nvPr/>
        </p:nvPicPr>
        <p:blipFill>
          <a:blip r:embed="rId4"/>
          <a:stretch/>
        </p:blipFill>
        <p:spPr>
          <a:xfrm>
            <a:off x="5580000" y="4653000"/>
            <a:ext cx="208908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aoqingxiyangguangyuhaitanbizhi2_461713_m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4433760"/>
          </a:xfrm>
          <a:prstGeom prst="rect">
            <a:avLst/>
          </a:prstGeom>
          <a:ln w="0">
            <a:noFill/>
          </a:ln>
        </p:spPr>
      </p:pic>
      <p:pic>
        <p:nvPicPr>
          <p:cNvPr id="98" name="Object 3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520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443040" y="1123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争先恐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Object 5" descr=""/>
          <p:cNvPicPr/>
          <p:nvPr/>
        </p:nvPicPr>
        <p:blipFill>
          <a:blip r:embed="rId3"/>
          <a:stretch/>
        </p:blipFill>
        <p:spPr>
          <a:xfrm>
            <a:off x="1403280" y="357336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6" descr=""/>
          <p:cNvPicPr/>
          <p:nvPr/>
        </p:nvPicPr>
        <p:blipFill>
          <a:blip r:embed="rId4"/>
          <a:stretch/>
        </p:blipFill>
        <p:spPr>
          <a:xfrm>
            <a:off x="6372360" y="4724280"/>
            <a:ext cx="1726920" cy="144000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7" descr=""/>
          <p:cNvPicPr/>
          <p:nvPr/>
        </p:nvPicPr>
        <p:blipFill>
          <a:blip r:embed="rId5"/>
          <a:stretch/>
        </p:blipFill>
        <p:spPr>
          <a:xfrm>
            <a:off x="3635280" y="4292640"/>
            <a:ext cx="1728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gaoqingxiyangguangyuhaitanbizhi2_461713_m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443376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" descr=""/>
          <p:cNvPicPr/>
          <p:nvPr/>
        </p:nvPicPr>
        <p:blipFill>
          <a:blip r:embed="rId2"/>
          <a:stretch/>
        </p:blipFill>
        <p:spPr>
          <a:xfrm>
            <a:off x="0" y="4365720"/>
            <a:ext cx="914400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3443040" y="112392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鱼贯而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89323"/>
          <p:cNvPicPr/>
          <p:nvPr/>
        </p:nvPicPr>
        <p:blipFill>
          <a:blip r:embed="rId3">
            <a:lum bright="6000"/>
          </a:blip>
          <a:srcRect l="5242" t="11551" r="25134" b="8892"/>
          <a:stretch/>
        </p:blipFill>
        <p:spPr>
          <a:xfrm>
            <a:off x="6804000" y="4653000"/>
            <a:ext cx="1873440" cy="1914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89323"/>
          <p:cNvPicPr/>
          <p:nvPr/>
        </p:nvPicPr>
        <p:blipFill>
          <a:blip r:embed="rId4">
            <a:lum bright="6000"/>
          </a:blip>
          <a:srcRect l="5242" t="11551" r="25134" b="8892"/>
          <a:stretch/>
        </p:blipFill>
        <p:spPr>
          <a:xfrm>
            <a:off x="5364000" y="4221000"/>
            <a:ext cx="1800360" cy="191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89323"/>
          <p:cNvPicPr/>
          <p:nvPr/>
        </p:nvPicPr>
        <p:blipFill>
          <a:blip r:embed="rId5">
            <a:lum bright="6000"/>
          </a:blip>
          <a:srcRect l="5242" t="11551" r="25134" b="8892"/>
          <a:stretch/>
        </p:blipFill>
        <p:spPr>
          <a:xfrm>
            <a:off x="3708360" y="3860640"/>
            <a:ext cx="1800360" cy="1914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89323"/>
          <p:cNvPicPr/>
          <p:nvPr/>
        </p:nvPicPr>
        <p:blipFill>
          <a:blip r:embed="rId6">
            <a:lum bright="6000"/>
          </a:blip>
          <a:srcRect l="5242" t="11551" r="25134" b="8892"/>
          <a:stretch/>
        </p:blipFill>
        <p:spPr>
          <a:xfrm>
            <a:off x="2195640" y="3502080"/>
            <a:ext cx="1800000" cy="19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89323"/>
          <p:cNvPicPr/>
          <p:nvPr/>
        </p:nvPicPr>
        <p:blipFill>
          <a:blip r:embed="rId7">
            <a:lum bright="6000"/>
          </a:blip>
          <a:srcRect l="5242" t="11551" r="25134" b="8892"/>
          <a:stretch/>
        </p:blipFill>
        <p:spPr>
          <a:xfrm>
            <a:off x="539640" y="3213000"/>
            <a:ext cx="18734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2" descr="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2519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gaoqingxiyangguangyuhaitanbizhi2_461713_m"/>
          <p:cNvPicPr/>
          <p:nvPr/>
        </p:nvPicPr>
        <p:blipFill>
          <a:blip r:embed="rId2"/>
          <a:stretch/>
        </p:blipFill>
        <p:spPr>
          <a:xfrm>
            <a:off x="0" y="0"/>
            <a:ext cx="9144000" cy="4440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0" y="3716280"/>
            <a:ext cx="1979640" cy="1612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0" y="5245200"/>
            <a:ext cx="1979640" cy="1612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5"/>
          <a:stretch/>
        </p:blipFill>
        <p:spPr>
          <a:xfrm>
            <a:off x="1763640" y="371628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6"/>
          <a:stretch/>
        </p:blipFill>
        <p:spPr>
          <a:xfrm>
            <a:off x="1763640" y="5229360"/>
            <a:ext cx="2160720" cy="162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7"/>
          <a:stretch/>
        </p:blipFill>
        <p:spPr>
          <a:xfrm>
            <a:off x="3635280" y="5229360"/>
            <a:ext cx="2160720" cy="1628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8"/>
          <a:stretch/>
        </p:blipFill>
        <p:spPr>
          <a:xfrm>
            <a:off x="5580000" y="5229360"/>
            <a:ext cx="2160720" cy="16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"/>
          <p:cNvPicPr/>
          <p:nvPr/>
        </p:nvPicPr>
        <p:blipFill>
          <a:blip r:embed="rId9"/>
          <a:stretch/>
        </p:blipFill>
        <p:spPr>
          <a:xfrm>
            <a:off x="3635280" y="3716280"/>
            <a:ext cx="2160720" cy="1513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"/>
          <p:cNvPicPr/>
          <p:nvPr/>
        </p:nvPicPr>
        <p:blipFill>
          <a:blip r:embed="rId10"/>
          <a:stretch/>
        </p:blipFill>
        <p:spPr>
          <a:xfrm>
            <a:off x="5580000" y="3716280"/>
            <a:ext cx="2160720" cy="151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1"/>
          <a:stretch/>
        </p:blipFill>
        <p:spPr>
          <a:xfrm>
            <a:off x="7451640" y="5229360"/>
            <a:ext cx="1692360" cy="1628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12"/>
          <a:stretch/>
        </p:blipFill>
        <p:spPr>
          <a:xfrm>
            <a:off x="7451640" y="3716280"/>
            <a:ext cx="1692360" cy="1513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4"/>
          <p:cNvSpPr/>
          <p:nvPr/>
        </p:nvSpPr>
        <p:spPr>
          <a:xfrm>
            <a:off x="1578600" y="1052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成百上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859280" y="1052640"/>
            <a:ext cx="44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结群而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gaoqingxiyangguangyuhaitanbizhi2_461713_m"/>
          <p:cNvPicPr/>
          <p:nvPr/>
        </p:nvPicPr>
        <p:blipFill>
          <a:blip r:embed="rId1"/>
          <a:stretch/>
        </p:blipFill>
        <p:spPr>
          <a:xfrm>
            <a:off x="0" y="0"/>
            <a:ext cx="9144000" cy="4437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0" y="3716280"/>
            <a:ext cx="1979640" cy="161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3"/>
          <a:stretch/>
        </p:blipFill>
        <p:spPr>
          <a:xfrm>
            <a:off x="0" y="5245200"/>
            <a:ext cx="1979640" cy="1612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4"/>
          <a:stretch/>
        </p:blipFill>
        <p:spPr>
          <a:xfrm>
            <a:off x="1763640" y="371628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5"/>
          <a:stretch/>
        </p:blipFill>
        <p:spPr>
          <a:xfrm>
            <a:off x="1763640" y="5229360"/>
            <a:ext cx="2160720" cy="1628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6"/>
          <a:stretch/>
        </p:blipFill>
        <p:spPr>
          <a:xfrm>
            <a:off x="3635280" y="5229360"/>
            <a:ext cx="2160720" cy="16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7"/>
          <a:stretch/>
        </p:blipFill>
        <p:spPr>
          <a:xfrm>
            <a:off x="5580000" y="5229360"/>
            <a:ext cx="2160720" cy="162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8"/>
          <a:stretch/>
        </p:blipFill>
        <p:spPr>
          <a:xfrm>
            <a:off x="3635280" y="3716280"/>
            <a:ext cx="2160720" cy="151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9"/>
          <a:stretch/>
        </p:blipFill>
        <p:spPr>
          <a:xfrm>
            <a:off x="5580000" y="3716280"/>
            <a:ext cx="2160720" cy="151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"/>
          <p:cNvPicPr/>
          <p:nvPr/>
        </p:nvPicPr>
        <p:blipFill>
          <a:blip r:embed="rId10"/>
          <a:stretch/>
        </p:blipFill>
        <p:spPr>
          <a:xfrm>
            <a:off x="7451640" y="5229360"/>
            <a:ext cx="1692360" cy="1628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"/>
          <p:cNvPicPr/>
          <p:nvPr/>
        </p:nvPicPr>
        <p:blipFill>
          <a:blip r:embed="rId11"/>
          <a:stretch/>
        </p:blipFill>
        <p:spPr>
          <a:xfrm>
            <a:off x="7451640" y="3716280"/>
            <a:ext cx="1692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，我们第五单元课文的主题是冲突。上两节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学习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矛与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鹬蚌相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道面对矛盾和冲突应事实求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互相谦让。今天我们走进大自然，去一起探寻大自然的秘密。一起来思考怎样与大自然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pic_141424"/>
          <p:cNvPicPr/>
          <p:nvPr/>
        </p:nvPicPr>
        <p:blipFill>
          <a:blip r:embed="rId1"/>
          <a:srcRect l="0" t="53527" r="0" b="0"/>
          <a:stretch/>
        </p:blipFill>
        <p:spPr>
          <a:xfrm>
            <a:off x="3240" y="0"/>
            <a:ext cx="4425840" cy="6886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pic_141425"/>
          <p:cNvPicPr/>
          <p:nvPr/>
        </p:nvPicPr>
        <p:blipFill>
          <a:blip r:embed="rId2"/>
          <a:srcRect l="0" t="51871" r="0" b="0"/>
          <a:stretch/>
        </p:blipFill>
        <p:spPr>
          <a:xfrm>
            <a:off x="4356000" y="0"/>
            <a:ext cx="4826160" cy="6883560"/>
          </a:xfrm>
          <a:prstGeom prst="rect">
            <a:avLst/>
          </a:prstGeom>
          <a:ln w="0">
            <a:noFill/>
          </a:ln>
        </p:spPr>
      </p:pic>
      <p:pic>
        <p:nvPicPr>
          <p:cNvPr id="138" name="Song From A Secret Garden.mp3" descr=""/>
          <p:cNvPicPr/>
          <p:nvPr/>
        </p:nvPicPr>
        <p:blipFill>
          <a:blip r:embed="rId3"/>
          <a:stretch/>
        </p:blipFill>
        <p:spPr>
          <a:xfrm>
            <a:off x="468360" y="6183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懊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我们原来干了一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愚不可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蠢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天啊！”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……“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看我们做了些什么！”</a:t>
            </a:r>
            <a:r>
              <a:rPr b="0" lang="zh-CN" sz="36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感受领悟"/>
          <p:cNvPicPr/>
          <p:nvPr/>
        </p:nvPicPr>
        <p:blipFill>
          <a:blip r:embed="rId1"/>
          <a:stretch/>
        </p:blipFill>
        <p:spPr>
          <a:xfrm>
            <a:off x="380880" y="457200"/>
            <a:ext cx="2514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3"/>
          <p:cNvSpPr txBox="1"/>
          <p:nvPr/>
        </p:nvSpPr>
        <p:spPr>
          <a:xfrm>
            <a:off x="609480" y="7621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黑体"/>
              </a:rPr>
              <a:t>悲叹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43" name="Picture 4" descr="感受领悟"/>
          <p:cNvPicPr/>
          <p:nvPr/>
        </p:nvPicPr>
        <p:blipFill>
          <a:blip r:embed="rId1"/>
          <a:stretch/>
        </p:blipFill>
        <p:spPr>
          <a:xfrm>
            <a:off x="0" y="15228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838080" y="160020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几十只幼龟成了嘲鹰、海鸥、鲣鸟的口中食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5800" y="35053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着食肉鸟大饱口福，此时，我们还能做什么呢？齐读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感受领悟"/>
          <p:cNvPicPr/>
          <p:nvPr/>
        </p:nvPicPr>
        <p:blipFill>
          <a:blip r:embed="rId1"/>
          <a:stretch/>
        </p:blipFill>
        <p:spPr>
          <a:xfrm>
            <a:off x="0" y="15228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152280" y="9144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虽然我们在尽力补救，可是已经来不及了，几十只食肉鸟已经吃得饱饱的，这说明许多幼龟已经成为了它们的口中之食。请同学们想像一下，此刻，鸟儿们的心理；我们人类的心理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28600" y="411480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食肉鸟们是得意、高兴、欢快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们人类是沉重、悲叹、懊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悲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如果不是我们人类，这些海龟根本就不会受到伤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752480" y="4724280"/>
            <a:ext cx="670572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向导向谁悲叹？悲叹什么？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3"/>
          <p:cNvSpPr/>
          <p:nvPr/>
        </p:nvSpPr>
        <p:spPr>
          <a:xfrm>
            <a:off x="685800" y="304920"/>
            <a:ext cx="7924680" cy="16002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悲叹游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悲叹游客自作聪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这是一种埋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09480" y="2362320"/>
            <a:ext cx="8229600" cy="15238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悲叹弱小的海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悲叹它们无辜被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这是一种惋惜与无奈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304920" y="4343400"/>
            <a:ext cx="8839080" cy="25146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他悲叹自己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悲叹自己为什么当初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坚持自己的意见，而听信游客的劝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这是一种自责、后悔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想一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如果向导当时没有帮助那只幼龟“侦察兵”，结果会怎样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-27000"/>
            <a:ext cx="9144000" cy="6885000"/>
            <a:chOff x="0" y="-27000"/>
            <a:chExt cx="9144000" cy="6885000"/>
          </a:xfrm>
        </p:grpSpPr>
        <p:grpSp>
          <p:nvGrpSpPr>
            <p:cNvPr id="158" name="Group 3"/>
            <p:cNvGrpSpPr/>
            <p:nvPr/>
          </p:nvGrpSpPr>
          <p:grpSpPr>
            <a:xfrm>
              <a:off x="0" y="-27000"/>
              <a:ext cx="9144000" cy="6885000"/>
              <a:chOff x="0" y="-27000"/>
              <a:chExt cx="9144000" cy="6885000"/>
            </a:xfrm>
          </p:grpSpPr>
          <p:sp>
            <p:nvSpPr>
              <p:cNvPr id="159" name="AutoShape 4"/>
              <p:cNvSpPr/>
              <p:nvPr/>
            </p:nvSpPr>
            <p:spPr>
              <a:xfrm rot="10800000">
                <a:off x="6300720" y="6110280"/>
                <a:ext cx="2843280" cy="720720"/>
              </a:xfrm>
              <a:custGeom>
                <a:avLst/>
                <a:gdLst>
                  <a:gd name="textAreaLeft" fmla="*/ 0 w 2843280"/>
                  <a:gd name="textAreaRight" fmla="*/ 2843640 w 28432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"/>
              <p:cNvSpPr/>
              <p:nvPr/>
            </p:nvSpPr>
            <p:spPr>
              <a:xfrm>
                <a:off x="0" y="-27000"/>
                <a:ext cx="9144000" cy="404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6"/>
              <p:cNvSpPr/>
              <p:nvPr/>
            </p:nvSpPr>
            <p:spPr>
              <a:xfrm>
                <a:off x="0" y="6453000"/>
                <a:ext cx="9144000" cy="405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7"/>
              <p:cNvSpPr/>
              <p:nvPr/>
            </p:nvSpPr>
            <p:spPr>
              <a:xfrm>
                <a:off x="0" y="17280"/>
                <a:ext cx="2843280" cy="720720"/>
              </a:xfrm>
              <a:custGeom>
                <a:avLst/>
                <a:gdLst>
                  <a:gd name="textAreaLeft" fmla="*/ 0 w 2843280"/>
                  <a:gd name="textAreaRight" fmla="*/ 2843640 w 28432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WordArt 8"/>
            <p:cNvSpPr txBox="1"/>
            <p:nvPr/>
          </p:nvSpPr>
          <p:spPr>
            <a:xfrm>
              <a:off x="144360" y="162000"/>
              <a:ext cx="19796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8100000"/>
                  </a:gradFill>
                  <a:latin typeface="宋体"/>
                </a:rPr>
                <a:t>大自然的秘密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宋体"/>
                <a:ea typeface="宋体"/>
              </a:endParaRPr>
            </a:p>
          </p:txBody>
        </p:sp>
        <p:sp>
          <p:nvSpPr>
            <p:cNvPr id="164" name="WordArt 9"/>
            <p:cNvSpPr txBox="1"/>
            <p:nvPr/>
          </p:nvSpPr>
          <p:spPr>
            <a:xfrm>
              <a:off x="7020000" y="6388200"/>
              <a:ext cx="19810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宋体"/>
                </a:rPr>
                <a:t>大自然的秘密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65" name="Rectangle 10"/>
          <p:cNvSpPr/>
          <p:nvPr/>
        </p:nvSpPr>
        <p:spPr>
          <a:xfrm>
            <a:off x="380880" y="2023920"/>
            <a:ext cx="7925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只死里逃生的幼龟悲愤地说道：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随行的同伴懊悔地说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向导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说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说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u=3079717997,1175710695&amp;fm=0&amp;gp=10"/>
          <p:cNvPicPr/>
          <p:nvPr/>
        </p:nvPicPr>
        <p:blipFill>
          <a:blip r:embed="rId1"/>
          <a:stretch/>
        </p:blipFill>
        <p:spPr>
          <a:xfrm>
            <a:off x="228600" y="5029200"/>
            <a:ext cx="1447920" cy="1473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u=225177882,568126966&amp;fm=0&amp;gp=30"/>
          <p:cNvPicPr/>
          <p:nvPr/>
        </p:nvPicPr>
        <p:blipFill>
          <a:blip r:embed="rId2"/>
          <a:stretch/>
        </p:blipFill>
        <p:spPr>
          <a:xfrm>
            <a:off x="6705720" y="457200"/>
            <a:ext cx="175248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u=1585170590,212886501&amp;fm=2&amp;gp=25[1]"/>
          <p:cNvPicPr/>
          <p:nvPr/>
        </p:nvPicPr>
        <p:blipFill>
          <a:blip r:embed="rId1"/>
          <a:stretch/>
        </p:blipFill>
        <p:spPr>
          <a:xfrm>
            <a:off x="-9360" y="0"/>
            <a:ext cx="9148680" cy="68104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304920" y="228600"/>
            <a:ext cx="82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人是万物之灵。然而，当人自作聪明时，一切都可能走向反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713320" y="27432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总结全文，点明中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是自然中最智慧的，大自然万物 都有其生存规律，人类要遵守大自然的规律与动物们共同生存，不可人为破坏和改变自然环境，不要人为干涉动物的行动，否则，结果只能适得其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01212232217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120" y="2209320"/>
            <a:ext cx="7086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了解大自然的秘密，激发我们热      爱大自然、爱护动物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理解“人是万物之灵。然而，当人    自作聪明时，一切都可能走向反面”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、有感情地朗读课文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3716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cc"/>
                </a:solidFill>
                <a:latin typeface="Arial"/>
              </a:rPr>
              <a:t>认读词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743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巢穴   踯躅不前   颓丧   鱼贯而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愚不可及    争先恐后    接群而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饱餐一顿   气喘吁吁    响彻云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cc00cc"/>
                </a:solidFill>
                <a:latin typeface="Arial"/>
              </a:rPr>
              <a:t>伫立    佳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小女孩"/>
          <p:cNvPicPr/>
          <p:nvPr/>
        </p:nvPicPr>
        <p:blipFill>
          <a:blip r:embed="rId1"/>
          <a:stretch/>
        </p:blipFill>
        <p:spPr>
          <a:xfrm>
            <a:off x="468360" y="112536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106640" y="177336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洞穴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踯躅    伫立    捕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2556000" y="2565360"/>
            <a:ext cx="5976720" cy="1008000"/>
          </a:xfrm>
          <a:prstGeom prst="cloudCallout">
            <a:avLst>
              <a:gd name="adj1" fmla="val -13587"/>
              <a:gd name="adj2" fmla="val 58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根据提示写词语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17680" y="3801960"/>
            <a:ext cx="465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、像游鱼那样一个接一个地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、形容呼吸急促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、形容愚蠢无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、吃得特别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2520" y="1484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xu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2360" y="148428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zhí zhú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2520" y="14842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zh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2520" y="141300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读课文，思考课文讲了一件什么事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523880" y="45082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文章讲述了“我”和七个同伴以及一个生物学家向导在一个小岛上旅游，因救了一只小幼龟而导致一大群幼龟都成了食肉鸟的美餐的故事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Arial"/>
              </a:rPr>
              <a:t>课文分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3048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~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段      介绍太平洋绿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~7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段      幼龟的“侦察兵”被引向大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8~1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段    幼龟成为食肉鸟口中之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段        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201203251750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读课文，小组合作交流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课文中“大自然的秘密”指什么？从文中找出相关句子，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出并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~~~~~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出我们情绪变化的句子，并体会情绪变化的原因，做简单批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突然，一直幼龟把头率先探出巢穴，    却又欲出而止，似乎在侦察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、那只先出来的幼龟，原来是龟群的“侦察兵”，一旦遇到危险，它便会返回龟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03:25:31Z</dcterms:created>
  <dc:creator>Administrator</dc:creator>
  <dc:description/>
  <dc:language>en-US</dc:language>
  <cp:lastModifiedBy/>
  <dcterms:modified xsi:type="dcterms:W3CDTF">2015-07-21T03:27:54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