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D92-E219-4E3D-B3B5-9732E471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94C0-9651-4616-B52C-727610BB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3830-9A00-48B6-BA2A-5E1268D6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D485-BDAA-41F3-8B9B-5B0469F7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3BCC-082C-455D-9FB6-E0A7B0D1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6B9D-A6BC-4FD8-BB0E-35AB94FE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C302-8F06-4690-90BA-C979BC52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04E6-F62F-4DCC-93D7-7F888098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4570-F143-407F-81E0-05AC4929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18A8-955F-4041-94BA-48A01779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DAD8-C081-4739-9CE3-35F37958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AF3-8C1E-43B2-903B-8B1BE692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866C-749A-47C6-9673-EB943484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A2AE-E4B6-4866-BDB1-BD1C058A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EF75-988B-4F77-AEC7-BC41743C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38F8-18F9-4434-BE7D-07AD454F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8397-9CC7-4F59-BE29-D2A204FA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84A11-B2CD-4AF7-95B2-B06E4B90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716C-47D1-44AC-82E3-F8B76459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35003-4164-4FF8-9F51-93E3C1F3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6A805-2D04-4937-AF67-9580D9CC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A3E07-7021-4E91-BEFF-F49E8513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5F0-717D-4005-A718-FD2682E7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BC3BA-2C23-4D02-B9BB-BEE66DF6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4D601-5F06-49F6-B726-C6BC8F74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A9861-4336-44FF-B11C-DB3C56AD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D99AF-E1E3-4861-964B-8BE8CDF7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73C83-2AAE-4226-80F6-7BEF0365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DDE38-8FE5-4161-AD87-2C5542CB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6EC80-B74C-490A-B88F-51B139C7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93D-C2B3-47B1-ABCD-F8A64F8B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C3A-970E-48C3-8DFA-368D5D2E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F60-F45B-44E9-A593-E8935984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E308-59C3-432D-87FF-CF2BE0B8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C36-B87C-49EF-924A-797CA6B4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55D-0E37-486F-8F41-945CA8FF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A9FE-3AD9-48FF-8B02-0F6E14137635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8DC9-040C-4C55-8EE5-8B6156699376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C286-25A8-4918-8676-D6E2EBC1C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ffff00"/>
                </a:solidFill>
                <a:latin typeface="Calibri"/>
                <a:ea typeface="楷体"/>
              </a:rPr>
              <a:t>南沙卫士</a:t>
            </a:r>
            <a:endParaRPr b="0" lang="en-US" sz="1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alibri"/>
                <a:ea typeface="宋体"/>
              </a:rPr>
              <a:t>请找出有关描写南沙缺蔬菜的句子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0" y="-360"/>
            <a:ext cx="8964720" cy="62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为了种好菜地，官兵们费尽了心思。起初，他们用洗脸水或油腻很重的刷锅水、洗碗水浇菜。菜是长出来了，可吃起来有一种难以言喻的苦味——黄瓜竟比苦瓜还要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　　 为了给蔬菜浇上干净的水，许多战士养成了洗脸不用香皂、刷牙不用牙膏的习惯。一名战士用这样的水浇种的秧苗，结了一条半斤重的黄瓜，几十号人围在一起品尝。     战士们把切得不能再薄的黄瓜片    放在嘴里，品味着它的清凉，半天舍不得咽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48316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Calibri"/>
                <a:ea typeface="宋体"/>
              </a:rPr>
              <a:t>请找出描写战士生活单调的句子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训练放哨巡逻侦察，数星望月听涛思乡，海岛的生活是单调和寂寞的。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627280" y="1341360"/>
            <a:ext cx="244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华文行楷"/>
              </a:rPr>
              <a:t>生活单调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708280"/>
            <a:ext cx="1657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放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巡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侦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250920" y="476280"/>
            <a:ext cx="2089080" cy="566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48000" y="2708280"/>
            <a:ext cx="936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数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望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听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思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3141720"/>
            <a:ext cx="399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想象这些活动，你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体会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Calibri"/>
                <a:ea typeface="宋体"/>
              </a:rPr>
              <a:t>南沙卫士的精神像什么花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是</a:t>
            </a:r>
            <a:r>
              <a:rPr b="1" lang="zh-CN" sz="3600" spc="-1" strike="noStrike">
                <a:solidFill>
                  <a:srgbClr val="ff3399"/>
                </a:solidFill>
                <a:latin typeface="Calibri"/>
              </a:rPr>
              <a:t>太阳花，这种叫“死不了”的太阳花在南沙群岛顽强的存活了下来，说明他极富有生命力与忍耐力。象征着守礁官兵坚忍不拔、无所畏惧的精神，体现出南沙卫士同这太阳花一样具有美丽、顽强的生命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ff3399"/>
                </a:solidFill>
                <a:latin typeface="Calibri"/>
              </a:rPr>
              <a:t>一个</a:t>
            </a:r>
            <a:r>
              <a:rPr b="1" lang="en-US" sz="4000" spc="-1" strike="noStrike">
                <a:solidFill>
                  <a:srgbClr val="ff3399"/>
                </a:solidFill>
                <a:latin typeface="Calibri"/>
              </a:rPr>
              <a:t>6</a:t>
            </a:r>
            <a:r>
              <a:rPr b="1" lang="zh-CN" sz="4000" spc="-1" strike="noStrike">
                <a:solidFill>
                  <a:srgbClr val="ff3399"/>
                </a:solidFill>
                <a:latin typeface="Calibri"/>
              </a:rPr>
              <a:t>岁小女孩知道南沙缺水，寄给南沙守礁部队政委一幅画。这位共和国未来的主人，用她那充满稚气的画袒露自己的心声—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alibri"/>
              </a:rPr>
              <a:t>  </a:t>
            </a:r>
            <a:r>
              <a:rPr b="1" lang="zh-CN" sz="4000" spc="-1" strike="noStrike">
                <a:solidFill>
                  <a:srgbClr val="ff3399"/>
                </a:solidFill>
                <a:latin typeface="Calibri"/>
              </a:rPr>
              <a:t>　图画的上方是一轮鲜红的大太阳，太阳下面有一把粉红的小伞，伞的旁边是绿色的草地和一条蓝色的小河，河里是欢腾的浪花，中间歪歪扭扭地写着三个象声词：“哗、哗、哗”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1" lang="zh-CN" sz="4400" spc="-1" strike="noStrike">
                <a:solidFill>
                  <a:srgbClr val="ff3399"/>
                </a:solidFill>
                <a:latin typeface="Calibri"/>
              </a:rPr>
              <a:t>政委把这幅画贴在他的床头，每当他看到这幅画，心中的情感总如大海的波涛。他在给小女孩的回信中写道：“谢谢你，小朋友！为了五星红旗能永远在南沙上空飘扬，我们甘愿奉献每一滴水，每一滴血。我们热、我们渴，就是为了你们永远幸福！”　　</a:t>
            </a:r>
            <a:r>
              <a:rPr b="0" lang="en-US" sz="4400" spc="-1" strike="noStrike">
                <a:solidFill>
                  <a:srgbClr val="ff33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ff3399"/>
                </a:solidFill>
                <a:latin typeface="Calibri"/>
              </a:rPr>
              <a:t>官兵们自己千方百计地节水，对祖国亲人却无比慷慨。</a:t>
            </a:r>
            <a:r>
              <a:rPr b="1" lang="en-US" sz="3200" spc="-1" strike="noStrike">
                <a:solidFill>
                  <a:srgbClr val="ff3399"/>
                </a:solidFill>
                <a:latin typeface="Calibri"/>
              </a:rPr>
              <a:t>1996</a:t>
            </a:r>
            <a:r>
              <a:rPr b="1" lang="zh-CN" sz="3200" spc="-1" strike="noStrike">
                <a:solidFill>
                  <a:srgbClr val="ff3399"/>
                </a:solidFill>
                <a:latin typeface="Calibri"/>
              </a:rPr>
              <a:t>年</a:t>
            </a:r>
            <a:r>
              <a:rPr b="1" lang="en-US" sz="3200" spc="-1" strike="noStrike">
                <a:solidFill>
                  <a:srgbClr val="ff3399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ff3399"/>
                </a:solidFill>
                <a:latin typeface="Calibri"/>
              </a:rPr>
              <a:t>月，广东阳江一艘渔船在南沙作业时，船长的妻子不慎被鱼刺扎伤，伤口感染，生命垂危。加上渔船主机损坏，在海上漫无目标地漂泊了</a:t>
            </a:r>
            <a:r>
              <a:rPr b="1" lang="en-US" sz="3200" spc="-1" strike="noStrike">
                <a:solidFill>
                  <a:srgbClr val="ff3399"/>
                </a:solidFill>
                <a:latin typeface="Calibri"/>
              </a:rPr>
              <a:t>10</a:t>
            </a:r>
            <a:r>
              <a:rPr b="1" lang="zh-CN" sz="3200" spc="-1" strike="noStrike">
                <a:solidFill>
                  <a:srgbClr val="ff3399"/>
                </a:solidFill>
                <a:latin typeface="Calibri"/>
              </a:rPr>
              <a:t>多天，船上滴水无存。部队值班船听到呼救后，迅速将渔民接到礁上。很快，病人得到救治，渔船得到修整。临走时哨所又送了</a:t>
            </a:r>
            <a:r>
              <a:rPr b="1" lang="en-US" sz="3200" spc="-1" strike="noStrike">
                <a:solidFill>
                  <a:srgbClr val="ff3399"/>
                </a:solidFill>
                <a:latin typeface="Calibri"/>
              </a:rPr>
              <a:t>300</a:t>
            </a:r>
            <a:r>
              <a:rPr b="1" lang="zh-CN" sz="3200" spc="-1" strike="noStrike">
                <a:solidFill>
                  <a:srgbClr val="ff3399"/>
                </a:solidFill>
                <a:latin typeface="Calibri"/>
              </a:rPr>
              <a:t>公斤淡水。像这样的事时有发生。船长和他妻子离开时泪流满面地说：“妈祖救助渔民只是美丽的传说，守礁官兵才是我们真正的守护神。我们永远在祖国的怀抱中航行！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25" name="Espace réservé du texte 2" descr=""/>
          <p:cNvPicPr/>
          <p:nvPr/>
        </p:nvPicPr>
        <p:blipFill>
          <a:blip r:embed="rId2"/>
          <a:stretch/>
        </p:blipFill>
        <p:spPr>
          <a:xfrm>
            <a:off x="108000" y="-25560"/>
            <a:ext cx="907236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7570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alibri"/>
                <a:ea typeface="宋体"/>
              </a:rPr>
              <a:t>从这段话中你感受到了什么？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-360" y="-360"/>
            <a:ext cx="845964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ff3399"/>
                </a:solidFill>
                <a:latin typeface="Calibri"/>
              </a:rPr>
              <a:t>我感受到战士为了祖国人民的幸福，为了捍卫国家海洋权益，战士们用自己的口号诠释了英雄的真谛，那就是“吃苦不是标准，主动作为、艰苦奋斗、创造一流成绩才是我们永恒的追求”。战士们的精神将薪火相传、生生不息。这种不知疲倦、永不停息的追求精神铸造了南沙的军魂，他们不愧是祖国的英雄、不愧是南沙卫士</a:t>
            </a:r>
            <a:r>
              <a:rPr b="0" lang="zh-CN" sz="4000" spc="-1" strike="noStrike">
                <a:solidFill>
                  <a:srgbClr val="ff3399"/>
                </a:solidFill>
                <a:latin typeface="Calibri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25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课文怎样描写南沙群岛缺水情况    的？这样的描写怎样突出了“英雄”的主题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916280"/>
            <a:ext cx="82915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66ff"/>
                </a:solidFill>
                <a:latin typeface="Calibri"/>
                <a:ea typeface="宋体"/>
              </a:rPr>
              <a:t>本文的中心思想？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691920"/>
            <a:ext cx="662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400" spc="-1" strike="noStrike">
                <a:solidFill>
                  <a:srgbClr val="ff66ff"/>
                </a:solidFill>
                <a:latin typeface="Calibri"/>
              </a:rPr>
              <a:t>本文通过南沙海军驻守中遭受到的种种困难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Calibri"/>
              </a:rPr>
              <a:t>  </a:t>
            </a:r>
            <a:r>
              <a:rPr b="0" lang="zh-CN" sz="4000" spc="-1" strike="noStrike">
                <a:solidFill>
                  <a:srgbClr val="ff66ff"/>
                </a:solidFill>
                <a:latin typeface="Calibri"/>
              </a:rPr>
              <a:t>详细介绍，再现了南沙卫士艰苦的生活画面。歌颂了他们艰苦奋斗、主动作为的精神与无私奉献、舍己为人的高尚品质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411280" y="2565360"/>
            <a:ext cx="367056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南沙掠影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Espace réservé du texte 2" descr=""/>
          <p:cNvPicPr/>
          <p:nvPr/>
        </p:nvPicPr>
        <p:blipFill>
          <a:blip r:embed="rId2"/>
          <a:stretch/>
        </p:blipFill>
        <p:spPr>
          <a:xfrm>
            <a:off x="1440" y="47520"/>
            <a:ext cx="4427640" cy="6811920"/>
          </a:xfrm>
          <a:prstGeom prst="rect">
            <a:avLst/>
          </a:prstGeom>
          <a:ln w="0">
            <a:noFill/>
          </a:ln>
        </p:spPr>
      </p:pic>
      <p:pic>
        <p:nvPicPr>
          <p:cNvPr id="155" name="Espace réservé du texte 2" descr=""/>
          <p:cNvPicPr/>
          <p:nvPr/>
        </p:nvPicPr>
        <p:blipFill>
          <a:blip r:embed="rId3"/>
          <a:stretch/>
        </p:blipFill>
        <p:spPr>
          <a:xfrm>
            <a:off x="4429080" y="47520"/>
            <a:ext cx="475128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Espace réservé du texte 2" descr=""/>
          <p:cNvPicPr/>
          <p:nvPr/>
        </p:nvPicPr>
        <p:blipFill>
          <a:blip r:embed="rId2"/>
          <a:stretch/>
        </p:blipFill>
        <p:spPr>
          <a:xfrm>
            <a:off x="457200" y="-25560"/>
            <a:ext cx="4038480" cy="6696360"/>
          </a:xfrm>
          <a:prstGeom prst="rect">
            <a:avLst/>
          </a:prstGeom>
          <a:ln w="0">
            <a:noFill/>
          </a:ln>
        </p:spPr>
      </p:pic>
      <p:pic>
        <p:nvPicPr>
          <p:cNvPr id="157" name="Espace réservé du texte 2" descr=""/>
          <p:cNvPicPr/>
          <p:nvPr/>
        </p:nvPicPr>
        <p:blipFill>
          <a:blip r:embed="rId3"/>
          <a:stretch/>
        </p:blipFill>
        <p:spPr>
          <a:xfrm>
            <a:off x="4502160" y="44280"/>
            <a:ext cx="418608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宋体"/>
              </a:rPr>
              <a:t>帮你学词语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106560" y="1341360"/>
            <a:ext cx="8793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ff"/>
                </a:solidFill>
                <a:latin typeface="Calibri"/>
                <a:ea typeface="宋体"/>
              </a:rPr>
              <a:t>浩渺  蕴藏    名副其实   消耗    赤道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Calibri"/>
                <a:ea typeface="宋体"/>
              </a:rPr>
              <a:t>溃烂   恩赐  坍塌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Calibri"/>
                <a:ea typeface="宋体"/>
              </a:rPr>
              <a:t> </a:t>
            </a:r>
            <a:r>
              <a:rPr b="0" lang="zh-CN" sz="5400" spc="-1" strike="noStrike">
                <a:solidFill>
                  <a:srgbClr val="ff9900"/>
                </a:solidFill>
                <a:latin typeface="Calibri"/>
                <a:ea typeface="宋体"/>
              </a:rPr>
              <a:t>呵护  坚忍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0504d"/>
                </a:solidFill>
                <a:latin typeface="Calibri"/>
                <a:ea typeface="宋体"/>
              </a:rPr>
              <a:t>千方百计 慷慨 手舞足蹈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Espace réservé du texte 2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060800" cy="6192720"/>
          </a:xfrm>
          <a:prstGeom prst="rect">
            <a:avLst/>
          </a:prstGeom>
          <a:ln w="0">
            <a:noFill/>
          </a:ln>
        </p:spPr>
      </p:pic>
      <p:pic>
        <p:nvPicPr>
          <p:cNvPr id="159" name="Espace réservé du texte 2" descr=""/>
          <p:cNvPicPr/>
          <p:nvPr/>
        </p:nvPicPr>
        <p:blipFill>
          <a:blip r:embed="rId3"/>
          <a:srcRect l="0" t="0" r="22863" b="1291"/>
          <a:stretch/>
        </p:blipFill>
        <p:spPr>
          <a:xfrm>
            <a:off x="5292720" y="692280"/>
            <a:ext cx="32846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Calibri"/>
                <a:ea typeface="宋体"/>
              </a:rPr>
              <a:t>浩渺：形容水面辽阔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Calibri"/>
                <a:ea typeface="宋体"/>
              </a:rPr>
              <a:t>蕴藏：蓄积而未显露或未发掘。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Calibri"/>
                <a:ea typeface="宋体"/>
              </a:rPr>
              <a:t>名副其实：名称或名声与实际相符合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Calibri"/>
                <a:ea typeface="宋体"/>
              </a:rPr>
              <a:t>消耗：因使用或损失而渐渐减少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Calibri"/>
                <a:ea typeface="宋体"/>
              </a:rPr>
              <a:t>赤道：环地球表面，与地球南北两极距离相等的圆周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Calibri"/>
                <a:ea typeface="宋体"/>
              </a:rPr>
              <a:t>溃烂：（肌肉组织）腐烂化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Calibri"/>
                <a:ea typeface="宋体"/>
              </a:rPr>
              <a:t>恩赐：原指帝王给予赏赐，现泛指应怜悯而施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坍塌：（山坡、河岸、建筑物或堆积的东西）倒下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呵护：保佑；爱护、保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坚忍：（在艰苦的条件下，）坚持而不动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千方百计：形容想尽或用尽种种办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慷慨：充满正气，情绪激昂；不吝惜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手舞足蹈：手舞起来，脚也跳起来，形容兴高采烈的样子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24000" y="33300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996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年春，一支战士演出队来到南沙。运送演出队的船只还运去了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00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余吨建筑材料。哨所的官兵列队迎接演出队以后，脱掉军衣，穿着短裤，光着脊梁，顶着烈日开始卸运钢筋、木材和水泥。为什么要脱掉军装干活呢？原来是怕弄脏军装后洗衣服消耗淡水。演员们看到官兵们咬着牙，用海水冲洗身上的水泥灰，擦拭流血的伤口，不解地问：“海水可以防止感染吗？”当得知这也是为了节水时，女演员感动得哭了。南沙靠近赤道，常年高温、高湿度、高盐分，因为难得洗澡和洗衣服，许多人都得了皮肤病，奇痒难耐，甚至脱皮、溃烂。然而为了节约用水，他们还用含盐的海水冲洗，这怎么行啊！女演员们不由分说，把官兵被海水和汗水浸染得发硬的军装翻出来，用船上发给自己的淡水搓洗起来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218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宋体"/>
              </a:rPr>
              <a:t>请找出有关描写南沙缺淡水的句子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借助大自然的恩赐，在大雨中洗个澡是官    兵们最快的事，称之为“天浴”。一下大雨，他们就叫着喊着冲上礁堡的平台，手舞足蹈，尽情欢笑，热闹得像过年一样。可是南海的天气变化无常，雨来得急，走得也急，有时刚在身上打了肥皂，雨就停了。刚才还是电闪雷鸣，转眼就是阳光灿烂，官兵们拿老天毫无办法。不得已，官兵们发明了独特的洗澡方法，他们把它叫“南沙桑拿”：高温下紧张训练后，回到像烤箱一样的礁堡里，坐下来让汗出透，然后取两口淡水，把毛巾蘸湿擦身，或者互相按摩，既洗了澡，又能消除疲劳。可是长期做这种“桑拿”，一些人的皮肤病更重了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50560" y="333360"/>
            <a:ext cx="8893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1996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年春，官兵们在礁盘上巡逻，战士臧跃民脚下的珊瑚礁突然坍塌，一下子跌入水流湍急的海沟。战士何正会跃入水中，奋力将臧跃民托出海面，自己却被卷入海底，献出了年轻的生命。面对何正会的遗体，许多战士默默地流下了眼泪：何正会的大腿、臀部长满了癣，发了炎，那是炎热、潮湿，加上缺水洗澡造成的。大家默默地拿出积攒的淡水，倒进锅里烧热，用纱布蘸着热水，轮流为他擦身子。战友们深情地说：“正会，你可以安心地走了！你是南沙唯一洗过热水澡的人。”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2:38:38Z</dcterms:created>
  <dc:creator>Administrator</dc:creator>
  <dc:description/>
  <dc:language>en-US</dc:language>
  <cp:lastModifiedBy/>
  <dcterms:modified xsi:type="dcterms:W3CDTF">2015-07-21T02:55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