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click.wav" ContentType="audio/x-wav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BE4-7F6E-4293-8516-B1CDC466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F3D-1E50-4C50-9B01-9D4D066A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019-B4EC-45B5-A71A-6FD29004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134-F1B0-46CE-A521-F2594145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82D-8820-4D13-AFE8-2A244B5A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2E7-66E0-45D9-9873-1EC65D69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43C-B5FC-4377-99EB-6F0455AE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897-E9A7-4A1C-B58A-48597F12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51D-B4E3-4C8E-9119-372B8111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57A-0791-4574-B7C0-091C1C72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A79-DE9E-42ED-8CDC-9F44EF1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790-A066-4B23-B582-CA9FD293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EB0A-DDC8-4183-8DED-EC488F069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071800" y="107172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，浪花的一滴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>
            <a:off x="2143080" y="1714680"/>
            <a:ext cx="4572000" cy="144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0060340181"/>
          <p:cNvPicPr/>
          <p:nvPr/>
        </p:nvPicPr>
        <p:blipFill>
          <a:blip r:embed="rId2"/>
          <a:stretch/>
        </p:blipFill>
        <p:spPr>
          <a:xfrm>
            <a:off x="4500720" y="2133720"/>
            <a:ext cx="4205160" cy="306864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785880" y="20718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771640" y="1123920"/>
            <a:ext cx="3745080" cy="64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华文中宋"/>
              </a:rPr>
              <a:t>理解题目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835280" y="234936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题目使用了什么修辞方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700360" y="36450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同侧圆角矩形 8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700360" y="8366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  <a:ea typeface="华文中宋"/>
              </a:rPr>
              <a:t>一滴水</a:t>
            </a: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  <a:ea typeface="华文中宋"/>
              </a:rPr>
              <a:t>的用意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844720" y="1917720"/>
            <a:ext cx="6120000" cy="147780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中宋"/>
              </a:rPr>
              <a:t>说明雷锋很普通，很平凡，就像大海中的一滴水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中宋"/>
              </a:rPr>
              <a:t>以此为题既点明了雷锋只是一个普通人，又揭示了一个深刻的道理：平凡中孕育着不平凡，渺小中孕育着伟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同侧圆角矩形 7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692360" y="1773360"/>
            <a:ext cx="71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华文中宋"/>
              </a:rPr>
              <a:t>全诗共七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华文中宋"/>
              </a:rPr>
              <a:t>包括设疑、抒怀、咏叹三部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同侧圆角矩形 6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340000" y="1123920"/>
            <a:ext cx="6572160" cy="1740600"/>
          </a:xfrm>
          <a:prstGeom prst="rect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中宋"/>
                <a:ea typeface="华文中宋"/>
              </a:rPr>
              <a:t>设疑（</a:t>
            </a:r>
            <a:r>
              <a:rPr b="1" lang="zh-CN" sz="3600" spc="-1" strike="noStrike">
                <a:solidFill>
                  <a:srgbClr val="99cc00"/>
                </a:solidFill>
                <a:latin typeface="华文中宋"/>
                <a:ea typeface="华文中宋"/>
              </a:rPr>
              <a:t>1-3</a:t>
            </a:r>
            <a:r>
              <a:rPr b="1" lang="zh-CN" sz="3600" spc="-1" strike="noStrike">
                <a:solidFill>
                  <a:srgbClr val="99cc00"/>
                </a:solidFill>
                <a:latin typeface="华文中宋"/>
                <a:ea typeface="华文中宋"/>
              </a:rPr>
              <a:t>节）开篇点出了颂扬的对象，用第三人称交代人物的特点：“立了无数功勋”的士兵，“写下不朽诗文”的普通人，既“平凡”又“年青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中宋"/>
                <a:ea typeface="华文中宋"/>
              </a:rPr>
              <a:t>抑笔和转折突出人物值得关注，两个“如此”渗透着诗人对写作对象的深切感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同侧圆角矩形 6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916360" y="105264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将其比喻为“一滴小小的春雨”却渗透亿万人民的心，可见其不平凡的力量，小中见大。行文顺畅，直抒胸臆。“为什么呵为什么，六亿人民的心里，都念这这个二十二岁士兵的姓名？”设置悬念，引出下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同侧圆角矩形 6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96720" y="2060640"/>
            <a:ext cx="82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抒怀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4-6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节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第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节连用四个暗喻。把雷锋比喻成反射阳光的水，向党飞的鸟，没浪费光的灯和雷的鼓声。第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节第一次出现称谓，既而转换为第二人称，语气更加亲切，感情更加真挚。诗句进一步的强调了他从来不为自己着想，将一颗滚烫的心无私地奉献给田野，奉献给工厂，奉献给军营，奉献给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侧圆角矩形 6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771640" y="1341360"/>
            <a:ext cx="572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宋体"/>
                <a:ea typeface="华文宋体"/>
              </a:rPr>
              <a:t>第七节是咏叹。“青春！”“永生”“壮丽”三个叹号分别强调了雷锋年轻有为、精神不朽、事业壮丽。而“列兵雷锋的足迹”则暗示着在我国广大青年中，必将涌现出更多的雷锋式的英雄的人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同侧圆角矩形 6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771640" y="882720"/>
            <a:ext cx="59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找出文中的比喻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700360" y="1701720"/>
            <a:ext cx="63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：他呵，是一滴水，却能够反映整个太阳的光辉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：他呵，是刚展翅的鸟，却能够一心向着党飞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：他呵，是才点亮的灯，只不过每一分光都没浪费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!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：他呵，是刚敲响的鼓，却能把每一声都化成雷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!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同侧圆角矩形 7"/>
          <p:cNvSpPr/>
          <p:nvPr/>
        </p:nvSpPr>
        <p:spPr>
          <a:xfrm>
            <a:off x="531720" y="1263600"/>
            <a:ext cx="200052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7080" y="198900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 </a:t>
            </a: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你，《国际歌》里的一个音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   </a:t>
            </a: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你，红旗上的一根纤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   </a:t>
            </a: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你，花丛中的红花一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   </a:t>
            </a:r>
            <a:r>
              <a:rPr b="0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你，浪花里最清的一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同侧圆角矩形 6"/>
          <p:cNvSpPr/>
          <p:nvPr/>
        </p:nvSpPr>
        <p:spPr>
          <a:xfrm>
            <a:off x="581040" y="125748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700360" y="1123920"/>
            <a:ext cx="58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诗人为什么要这样子比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56000" y="249228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  <a:ea typeface="华文中宋"/>
              </a:rPr>
              <a:t>运用这么八个比喻是为了赞颂雷锋平凡、忘我、朴素、虚心的优秀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同侧圆角矩形 7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sp>
          <p:nvSpPr>
            <p:cNvPr id="49" name="直线连接符 21"/>
            <p:cNvSpPr/>
            <p:nvPr/>
          </p:nvSpPr>
          <p:spPr>
            <a:xfrm flipV="1">
              <a:off x="268200" y="112392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00040" y="1857240"/>
            <a:ext cx="12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6002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60" y="-320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39640" y="2925720"/>
            <a:ext cx="5859720" cy="3000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当代诗人、散文家。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192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生，山西繁峙人。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195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年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始写作，著有诗集《灯海曲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散文集《船夫曲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横卷形 11"/>
          <p:cNvSpPr/>
          <p:nvPr/>
        </p:nvSpPr>
        <p:spPr>
          <a:xfrm>
            <a:off x="2484360" y="1844640"/>
            <a:ext cx="3786120" cy="857160"/>
          </a:xfrm>
          <a:prstGeom prst="horizontalScroll">
            <a:avLst>
              <a:gd name="adj" fmla="val 12500"/>
            </a:avLst>
          </a:prstGeom>
          <a:solidFill>
            <a:srgbClr val="c5d8f1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魏钢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e1fe9925bc315c6037cecde08db1cb1348540923dd545759"/>
          <p:cNvPicPr/>
          <p:nvPr/>
        </p:nvPicPr>
        <p:blipFill>
          <a:blip r:embed="rId2"/>
          <a:stretch/>
        </p:blipFill>
        <p:spPr>
          <a:xfrm>
            <a:off x="6372360" y="1052640"/>
            <a:ext cx="266688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同侧圆角矩形 11"/>
          <p:cNvSpPr/>
          <p:nvPr/>
        </p:nvSpPr>
        <p:spPr>
          <a:xfrm>
            <a:off x="395280" y="110664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lick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340000" y="177336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不是将军却立下无数功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不是文豪却写下不朽诗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929320" y="3141720"/>
            <a:ext cx="4185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既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平凡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又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年轻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却渗透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亿万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人的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5406480" y="450864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凡、忘我、朴素、虚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同侧圆角矩形 8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786200" y="981000"/>
            <a:ext cx="16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诗歌中的“编歌曲、织罗衣、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羽毛、流一滴泪”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2700360" y="2421000"/>
            <a:ext cx="6446880" cy="1477800"/>
          </a:xfrm>
          <a:prstGeom prst="rect">
            <a:avLst/>
          </a:prstGeom>
          <a:noFill/>
          <a:ln w="572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编歌曲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指赞扬吹嘘自己。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织罗衣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指满足自己物质的需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梳羽毛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指修饰打扮自己。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流一滴泪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指没有达到自己的目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而难过伤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同侧圆角矩形 7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785880" y="18572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700360" y="2060640"/>
            <a:ext cx="5545080" cy="1252800"/>
          </a:xfrm>
          <a:prstGeom prst="rect">
            <a:avLst/>
          </a:prstGeom>
          <a:noFill/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9900"/>
                </a:solidFill>
                <a:latin typeface="华文中宋"/>
                <a:ea typeface="华文中宋"/>
              </a:rPr>
              <a:t>以上其实都指为名为利、只想着自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同侧圆角矩形 6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304A-0B7E-473F-8E3A-26B2007792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072120" y="785880"/>
            <a:ext cx="277992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 15"/>
          <p:cNvSpPr/>
          <p:nvPr/>
        </p:nvSpPr>
        <p:spPr>
          <a:xfrm>
            <a:off x="2000160" y="2143080"/>
            <a:ext cx="4229280" cy="785880"/>
          </a:xfrm>
          <a:prstGeom prst="roundRect">
            <a:avLst>
              <a:gd name="adj" fmla="val 16667"/>
            </a:avLst>
          </a:prstGeom>
          <a:solidFill>
            <a:srgbClr val="8cb3e3"/>
          </a:solidFill>
          <a:ln w="25560">
            <a:solidFill>
              <a:srgbClr val="8cb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你，浪花的一滴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左大括号 18"/>
          <p:cNvSpPr/>
          <p:nvPr/>
        </p:nvSpPr>
        <p:spPr>
          <a:xfrm>
            <a:off x="1835280" y="3573360"/>
            <a:ext cx="214200" cy="2092320"/>
          </a:xfrm>
          <a:custGeom>
            <a:avLst/>
            <a:gdLst>
              <a:gd name="textAreaLeft" fmla="*/ 136800 w 214200"/>
              <a:gd name="textAreaRight" fmla="*/ 214560 w 214200"/>
              <a:gd name="textAreaTop" fmla="*/ 7920 h 2092320"/>
              <a:gd name="textAreaBottom" fmla="*/ 2084400 h 209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9"/>
          <p:cNvSpPr/>
          <p:nvPr/>
        </p:nvSpPr>
        <p:spPr>
          <a:xfrm>
            <a:off x="2052720" y="35020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设疑（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1-3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1"/>
          <p:cNvSpPr/>
          <p:nvPr/>
        </p:nvSpPr>
        <p:spPr>
          <a:xfrm>
            <a:off x="2052720" y="4508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抒怀（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4-6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42"/>
          <p:cNvSpPr/>
          <p:nvPr/>
        </p:nvSpPr>
        <p:spPr>
          <a:xfrm>
            <a:off x="5292720" y="3429000"/>
            <a:ext cx="2879640" cy="2573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人民服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平凡而伟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左大括号 23"/>
          <p:cNvSpPr/>
          <p:nvPr/>
        </p:nvSpPr>
        <p:spPr>
          <a:xfrm flipH="1">
            <a:off x="4645080" y="3645000"/>
            <a:ext cx="285840" cy="1928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6840 h 1928880"/>
              <a:gd name="textAreaBottom" fmla="*/ 192204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"/>
                  <a:pt x="10800" y="255"/>
                </a:cubicBezTo>
                <a:lnTo>
                  <a:pt x="10800" y="10545"/>
                </a:lnTo>
                <a:cubicBezTo>
                  <a:pt x="10800" y="10673"/>
                  <a:pt x="5400" y="10800"/>
                  <a:pt x="0" y="10800"/>
                </a:cubicBezTo>
                <a:cubicBezTo>
                  <a:pt x="5400" y="10800"/>
                  <a:pt x="10800" y="10928"/>
                  <a:pt x="10800" y="11055"/>
                </a:cubicBezTo>
                <a:lnTo>
                  <a:pt x="10800" y="21345"/>
                </a:lnTo>
                <a:cubicBezTo>
                  <a:pt x="10800" y="2147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1"/>
          <p:cNvSpPr/>
          <p:nvPr/>
        </p:nvSpPr>
        <p:spPr>
          <a:xfrm>
            <a:off x="2050920" y="530208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咏叹（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同侧圆角矩形 12"/>
          <p:cNvSpPr/>
          <p:nvPr/>
        </p:nvSpPr>
        <p:spPr>
          <a:xfrm>
            <a:off x="473040" y="124920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lick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43800" y="492912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241" name="矩形 5"/>
          <p:cNvSpPr/>
          <p:nvPr/>
        </p:nvSpPr>
        <p:spPr>
          <a:xfrm>
            <a:off x="928800" y="19288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你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浪花的一滴水》是一首歌颂雷锋精神的现代诗，以饱蘸深情的笔墨抒发了对雷锋同志的怀念与敬仰。诗句反复咏叹了雷锋用平凡、年轻的生命、为祖国、为人民、为革命建设事业建立下的不朽功勋。热情赞颂了雷锋忠于党、大公无私的崇高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同侧圆角矩形 5"/>
          <p:cNvSpPr/>
          <p:nvPr/>
        </p:nvSpPr>
        <p:spPr>
          <a:xfrm>
            <a:off x="539640" y="1249200"/>
            <a:ext cx="200052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lick.wav"/>
      </p:stSnd>
    </p:sndAc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88000" y="4653000"/>
            <a:ext cx="2368800" cy="16556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714240" y="19288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3"/>
          <p:cNvGrpSpPr/>
          <p:nvPr/>
        </p:nvGrpSpPr>
        <p:grpSpPr>
          <a:xfrm>
            <a:off x="1857240" y="2000160"/>
            <a:ext cx="4500720" cy="792360"/>
            <a:chOff x="1857240" y="2000160"/>
            <a:chExt cx="4500720" cy="792360"/>
          </a:xfrm>
        </p:grpSpPr>
        <p:sp>
          <p:nvSpPr>
            <p:cNvPr id="248" name="二十四角星 5"/>
            <p:cNvSpPr/>
            <p:nvPr/>
          </p:nvSpPr>
          <p:spPr>
            <a:xfrm>
              <a:off x="185724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二十四角星 6"/>
            <p:cNvSpPr/>
            <p:nvPr/>
          </p:nvSpPr>
          <p:spPr>
            <a:xfrm>
              <a:off x="250020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二十四角星 7"/>
            <p:cNvSpPr/>
            <p:nvPr/>
          </p:nvSpPr>
          <p:spPr>
            <a:xfrm>
              <a:off x="314316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二十四角星 8"/>
            <p:cNvSpPr/>
            <p:nvPr/>
          </p:nvSpPr>
          <p:spPr>
            <a:xfrm>
              <a:off x="378612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二十四角星 9"/>
            <p:cNvSpPr/>
            <p:nvPr/>
          </p:nvSpPr>
          <p:spPr>
            <a:xfrm>
              <a:off x="442908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二十四角星 10"/>
            <p:cNvSpPr/>
            <p:nvPr/>
          </p:nvSpPr>
          <p:spPr>
            <a:xfrm>
              <a:off x="507204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二十四角星 11"/>
            <p:cNvSpPr/>
            <p:nvPr/>
          </p:nvSpPr>
          <p:spPr>
            <a:xfrm>
              <a:off x="571500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828720" y="2852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A</a:t>
            </a:r>
            <a:r>
              <a:rPr b="1" lang="zh-CN" sz="3600" spc="-1" strike="noStrike">
                <a:solidFill>
                  <a:srgbClr val="009900"/>
                </a:solidFill>
                <a:latin typeface="华文中宋"/>
                <a:ea typeface="华文中宋"/>
              </a:rPr>
              <a:t>、如果你是一滴水，你是否滋润了一寸土地？如果你是一线阳光，你是否照亮了一分黑暗？如果你是一颗粮食，你是否哺育了有用的生命？如果你是一颗最小的螺丝钉，你是否永远守在你生活的岗位上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华文中宋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同侧圆角矩形 14"/>
          <p:cNvSpPr/>
          <p:nvPr/>
        </p:nvSpPr>
        <p:spPr>
          <a:xfrm>
            <a:off x="522360" y="122400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lick.wav"/>
      </p:stSnd>
    </p:sndAc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9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88000" y="4653000"/>
            <a:ext cx="2368800" cy="16556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714240" y="19288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3"/>
          <p:cNvGrpSpPr/>
          <p:nvPr/>
        </p:nvGrpSpPr>
        <p:grpSpPr>
          <a:xfrm>
            <a:off x="1857240" y="2000160"/>
            <a:ext cx="4500720" cy="792360"/>
            <a:chOff x="1857240" y="2000160"/>
            <a:chExt cx="4500720" cy="792360"/>
          </a:xfrm>
        </p:grpSpPr>
        <p:sp>
          <p:nvSpPr>
            <p:cNvPr id="262" name="二十四角星 5"/>
            <p:cNvSpPr/>
            <p:nvPr/>
          </p:nvSpPr>
          <p:spPr>
            <a:xfrm>
              <a:off x="185724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二十四角星 6"/>
            <p:cNvSpPr/>
            <p:nvPr/>
          </p:nvSpPr>
          <p:spPr>
            <a:xfrm>
              <a:off x="250020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二十四角星 7"/>
            <p:cNvSpPr/>
            <p:nvPr/>
          </p:nvSpPr>
          <p:spPr>
            <a:xfrm>
              <a:off x="314316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二十四角星 8"/>
            <p:cNvSpPr/>
            <p:nvPr/>
          </p:nvSpPr>
          <p:spPr>
            <a:xfrm>
              <a:off x="378612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二十四角星 9"/>
            <p:cNvSpPr/>
            <p:nvPr/>
          </p:nvSpPr>
          <p:spPr>
            <a:xfrm>
              <a:off x="442908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二十四角星 10"/>
            <p:cNvSpPr/>
            <p:nvPr/>
          </p:nvSpPr>
          <p:spPr>
            <a:xfrm>
              <a:off x="507204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二十四角星 11"/>
            <p:cNvSpPr/>
            <p:nvPr/>
          </p:nvSpPr>
          <p:spPr>
            <a:xfrm>
              <a:off x="571500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5"/>
          <p:cNvSpPr/>
          <p:nvPr/>
        </p:nvSpPr>
        <p:spPr>
          <a:xfrm>
            <a:off x="1260360" y="2997360"/>
            <a:ext cx="7631280" cy="643320"/>
          </a:xfrm>
          <a:prstGeom prst="rect">
            <a:avLst/>
          </a:prstGeom>
          <a:noFill/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B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、人的生命是有限的，可是，为人民服务是无限的，我要把有限的生命，投入到无限的“为人民服务”之中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同侧圆角矩形 14"/>
          <p:cNvSpPr/>
          <p:nvPr/>
        </p:nvSpPr>
        <p:spPr>
          <a:xfrm>
            <a:off x="522360" y="122400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lick.wav"/>
      </p:stSnd>
    </p:sndAc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9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A747-4152-439A-8CEC-2693D635D2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714240" y="19288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3"/>
          <p:cNvGrpSpPr/>
          <p:nvPr/>
        </p:nvGrpSpPr>
        <p:grpSpPr>
          <a:xfrm>
            <a:off x="1857240" y="2000160"/>
            <a:ext cx="4500720" cy="792360"/>
            <a:chOff x="1857240" y="2000160"/>
            <a:chExt cx="4500720" cy="792360"/>
          </a:xfrm>
        </p:grpSpPr>
        <p:sp>
          <p:nvSpPr>
            <p:cNvPr id="276" name="二十四角星 5"/>
            <p:cNvSpPr/>
            <p:nvPr/>
          </p:nvSpPr>
          <p:spPr>
            <a:xfrm>
              <a:off x="185724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二十四角星 6"/>
            <p:cNvSpPr/>
            <p:nvPr/>
          </p:nvSpPr>
          <p:spPr>
            <a:xfrm>
              <a:off x="250020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二十四角星 7"/>
            <p:cNvSpPr/>
            <p:nvPr/>
          </p:nvSpPr>
          <p:spPr>
            <a:xfrm>
              <a:off x="314316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二十四角星 8"/>
            <p:cNvSpPr/>
            <p:nvPr/>
          </p:nvSpPr>
          <p:spPr>
            <a:xfrm>
              <a:off x="378612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二十四角星 9"/>
            <p:cNvSpPr/>
            <p:nvPr/>
          </p:nvSpPr>
          <p:spPr>
            <a:xfrm>
              <a:off x="442908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二十四角星 10"/>
            <p:cNvSpPr/>
            <p:nvPr/>
          </p:nvSpPr>
          <p:spPr>
            <a:xfrm>
              <a:off x="507204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二十四角星 11"/>
            <p:cNvSpPr/>
            <p:nvPr/>
          </p:nvSpPr>
          <p:spPr>
            <a:xfrm>
              <a:off x="5715000" y="200016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88000" y="4653000"/>
            <a:ext cx="2368800" cy="16556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5"/>
          <p:cNvSpPr/>
          <p:nvPr/>
        </p:nvSpPr>
        <p:spPr>
          <a:xfrm>
            <a:off x="396720" y="2997360"/>
            <a:ext cx="8137800" cy="2160360"/>
          </a:xfrm>
          <a:prstGeom prst="rect">
            <a:avLst/>
          </a:prstGeom>
          <a:noFill/>
          <a:ln w="381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    </a:t>
            </a:r>
            <a:r>
              <a:rPr b="0" lang="en-US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C</a:t>
            </a:r>
            <a:r>
              <a:rPr b="0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我觉得一个革命者就应该把革命利益放在第一位，为党的事业贡献出自己的一切，这才是最幸福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同侧圆角矩形 15"/>
          <p:cNvSpPr/>
          <p:nvPr/>
        </p:nvSpPr>
        <p:spPr>
          <a:xfrm>
            <a:off x="522360" y="122400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9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3DD4-7A04-401B-9796-46280E2E19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714240" y="19288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3"/>
          <p:cNvGrpSpPr/>
          <p:nvPr/>
        </p:nvGrpSpPr>
        <p:grpSpPr>
          <a:xfrm>
            <a:off x="1835280" y="1989000"/>
            <a:ext cx="4502160" cy="792360"/>
            <a:chOff x="1835280" y="1989000"/>
            <a:chExt cx="4502160" cy="792360"/>
          </a:xfrm>
        </p:grpSpPr>
        <p:sp>
          <p:nvSpPr>
            <p:cNvPr id="291" name="二十四角星 5"/>
            <p:cNvSpPr/>
            <p:nvPr/>
          </p:nvSpPr>
          <p:spPr>
            <a:xfrm>
              <a:off x="1835280" y="198900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二十四角星 6"/>
            <p:cNvSpPr/>
            <p:nvPr/>
          </p:nvSpPr>
          <p:spPr>
            <a:xfrm>
              <a:off x="2478240" y="198900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二十四角星 7"/>
            <p:cNvSpPr/>
            <p:nvPr/>
          </p:nvSpPr>
          <p:spPr>
            <a:xfrm>
              <a:off x="3121560" y="198900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二十四角星 8"/>
            <p:cNvSpPr/>
            <p:nvPr/>
          </p:nvSpPr>
          <p:spPr>
            <a:xfrm>
              <a:off x="3764880" y="198900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二十四角星 9"/>
            <p:cNvSpPr/>
            <p:nvPr/>
          </p:nvSpPr>
          <p:spPr>
            <a:xfrm>
              <a:off x="4407840" y="198900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二十四角星 10"/>
            <p:cNvSpPr/>
            <p:nvPr/>
          </p:nvSpPr>
          <p:spPr>
            <a:xfrm>
              <a:off x="5051160" y="198900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二十四角星 11"/>
            <p:cNvSpPr/>
            <p:nvPr/>
          </p:nvSpPr>
          <p:spPr>
            <a:xfrm>
              <a:off x="5694480" y="1989000"/>
              <a:ext cx="642960" cy="792360"/>
            </a:xfrm>
            <a:custGeom>
              <a:avLst/>
              <a:gdLst>
                <a:gd name="textAreaLeft" fmla="*/ 192240 w 642960"/>
                <a:gd name="textAreaRight" fmla="*/ 450720 w 642960"/>
                <a:gd name="textAreaTop" fmla="*/ 236880 h 792360"/>
                <a:gd name="textAreaBottom" fmla="*/ 55548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710" y="11548"/>
                  </a:lnTo>
                  <a:lnTo>
                    <a:pt x="368" y="13595"/>
                  </a:lnTo>
                  <a:lnTo>
                    <a:pt x="5111" y="13099"/>
                  </a:lnTo>
                  <a:lnTo>
                    <a:pt x="1447" y="16200"/>
                  </a:lnTo>
                  <a:lnTo>
                    <a:pt x="5900" y="14493"/>
                  </a:lnTo>
                  <a:lnTo>
                    <a:pt x="3163" y="18437"/>
                  </a:lnTo>
                  <a:lnTo>
                    <a:pt x="7022" y="15635"/>
                  </a:lnTo>
                  <a:lnTo>
                    <a:pt x="5400" y="20153"/>
                  </a:lnTo>
                  <a:lnTo>
                    <a:pt x="8402" y="16448"/>
                  </a:lnTo>
                  <a:lnTo>
                    <a:pt x="8005" y="21232"/>
                  </a:lnTo>
                  <a:lnTo>
                    <a:pt x="9946" y="16876"/>
                  </a:lnTo>
                  <a:lnTo>
                    <a:pt x="10800" y="21600"/>
                  </a:lnTo>
                  <a:lnTo>
                    <a:pt x="11548" y="16890"/>
                  </a:lnTo>
                  <a:lnTo>
                    <a:pt x="13595" y="21232"/>
                  </a:lnTo>
                  <a:lnTo>
                    <a:pt x="13099" y="16489"/>
                  </a:lnTo>
                  <a:lnTo>
                    <a:pt x="16200" y="20153"/>
                  </a:lnTo>
                  <a:lnTo>
                    <a:pt x="14493" y="15700"/>
                  </a:lnTo>
                  <a:lnTo>
                    <a:pt x="18437" y="18437"/>
                  </a:lnTo>
                  <a:lnTo>
                    <a:pt x="15635" y="14578"/>
                  </a:lnTo>
                  <a:lnTo>
                    <a:pt x="20153" y="16200"/>
                  </a:lnTo>
                  <a:lnTo>
                    <a:pt x="16448" y="13198"/>
                  </a:lnTo>
                  <a:lnTo>
                    <a:pt x="21232" y="13595"/>
                  </a:lnTo>
                  <a:lnTo>
                    <a:pt x="16876" y="11654"/>
                  </a:lnTo>
                  <a:lnTo>
                    <a:pt x="21600" y="10800"/>
                  </a:lnTo>
                  <a:lnTo>
                    <a:pt x="16890" y="10052"/>
                  </a:lnTo>
                  <a:lnTo>
                    <a:pt x="21232" y="8005"/>
                  </a:lnTo>
                  <a:lnTo>
                    <a:pt x="16489" y="8501"/>
                  </a:lnTo>
                  <a:lnTo>
                    <a:pt x="20153" y="5400"/>
                  </a:lnTo>
                  <a:lnTo>
                    <a:pt x="15700" y="7107"/>
                  </a:lnTo>
                  <a:lnTo>
                    <a:pt x="18437" y="3163"/>
                  </a:lnTo>
                  <a:lnTo>
                    <a:pt x="14578" y="5965"/>
                  </a:lnTo>
                  <a:lnTo>
                    <a:pt x="16200" y="1447"/>
                  </a:lnTo>
                  <a:lnTo>
                    <a:pt x="13198" y="5152"/>
                  </a:lnTo>
                  <a:lnTo>
                    <a:pt x="13595" y="368"/>
                  </a:lnTo>
                  <a:lnTo>
                    <a:pt x="11654" y="4724"/>
                  </a:lnTo>
                  <a:lnTo>
                    <a:pt x="10800" y="0"/>
                  </a:lnTo>
                  <a:lnTo>
                    <a:pt x="10052" y="4710"/>
                  </a:lnTo>
                  <a:lnTo>
                    <a:pt x="8005" y="368"/>
                  </a:lnTo>
                  <a:lnTo>
                    <a:pt x="8501" y="5111"/>
                  </a:lnTo>
                  <a:lnTo>
                    <a:pt x="5400" y="1447"/>
                  </a:lnTo>
                  <a:lnTo>
                    <a:pt x="7107" y="5900"/>
                  </a:lnTo>
                  <a:lnTo>
                    <a:pt x="3163" y="3163"/>
                  </a:lnTo>
                  <a:lnTo>
                    <a:pt x="5965" y="7022"/>
                  </a:lnTo>
                  <a:lnTo>
                    <a:pt x="1447" y="5400"/>
                  </a:lnTo>
                  <a:lnTo>
                    <a:pt x="5152" y="8402"/>
                  </a:lnTo>
                  <a:lnTo>
                    <a:pt x="368" y="8005"/>
                  </a:lnTo>
                  <a:lnTo>
                    <a:pt x="4724" y="994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2ccdc"/>
            </a:solidFill>
            <a:ln w="255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88000" y="4653000"/>
            <a:ext cx="2368800" cy="16556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5"/>
          <p:cNvSpPr/>
          <p:nvPr/>
        </p:nvSpPr>
        <p:spPr>
          <a:xfrm>
            <a:off x="611280" y="2997360"/>
            <a:ext cx="8013600" cy="1944360"/>
          </a:xfrm>
          <a:prstGeom prst="rect">
            <a:avLst/>
          </a:prstGeom>
          <a:noFill/>
          <a:ln w="57240">
            <a:solidFill>
              <a:srgbClr val="33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D</a:t>
            </a: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、一个共产党员是人民的勤务员，应该把别人的困难当成自己的困难，把同志的愉快看作自己的幸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同侧圆角矩形 15"/>
          <p:cNvSpPr/>
          <p:nvPr/>
        </p:nvSpPr>
        <p:spPr>
          <a:xfrm>
            <a:off x="522360" y="122400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2629080" y="836640"/>
            <a:ext cx="6335640" cy="6426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99cc00"/>
                </a:solidFill>
                <a:latin typeface="Calibri"/>
              </a:rPr>
              <a:t>司马迁说过：“人固有一死，或重于泰山，或轻于鸿毛。”文天祥写道：“人生自古谁无死，留取丹心照汗青。”雷锋没有死，正像他的战友乔安山说的一样，雷锋永远活在我们的心中。正如雷锋的日记中写   道：人的生命是有限的，可是为人民服务是无限的。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357120" y="178596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F:\七彩课堂插图板式封面\排版用图标、页眉页脚\标题图（终-排版用）共29个\我会说.jpg"/>
          <p:cNvPicPr/>
          <p:nvPr/>
        </p:nvPicPr>
        <p:blipFill>
          <a:blip r:embed="rId1"/>
          <a:stretch/>
        </p:blipFill>
        <p:spPr>
          <a:xfrm>
            <a:off x="571680" y="4572000"/>
            <a:ext cx="2232000" cy="1655640"/>
          </a:xfrm>
          <a:prstGeom prst="rect">
            <a:avLst/>
          </a:prstGeom>
          <a:ln w="0">
            <a:noFill/>
          </a:ln>
        </p:spPr>
      </p:pic>
      <p:sp>
        <p:nvSpPr>
          <p:cNvPr id="306" name="同侧圆角矩形 6"/>
          <p:cNvSpPr/>
          <p:nvPr/>
        </p:nvSpPr>
        <p:spPr>
          <a:xfrm>
            <a:off x="522360" y="122400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grpSp>
        <p:nvGrpSpPr>
          <p:cNvPr id="59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sp>
          <p:nvSpPr>
            <p:cNvPr id="60" name="直线连接符 21"/>
            <p:cNvSpPr/>
            <p:nvPr/>
          </p:nvSpPr>
          <p:spPr>
            <a:xfrm flipV="1">
              <a:off x="268200" y="112392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00040" y="1857240"/>
            <a:ext cx="12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6002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60" y="-320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276720" y="836640"/>
            <a:ext cx="5543280" cy="119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楷体"/>
                <a:ea typeface="华文楷体"/>
              </a:rPr>
              <a:t>雷锋，原名雷正兴</a:t>
            </a:r>
            <a:r>
              <a:rPr b="1" lang="zh-CN" sz="3600" spc="-1" strike="noStrike">
                <a:solidFill>
                  <a:srgbClr val="cc0066"/>
                </a:solidFill>
                <a:latin typeface="华文楷体"/>
                <a:ea typeface="华文楷体"/>
              </a:rPr>
              <a:t>, </a:t>
            </a:r>
            <a:r>
              <a:rPr b="1" lang="zh-CN" sz="3600" spc="-1" strike="noStrike">
                <a:solidFill>
                  <a:srgbClr val="cc0066"/>
                </a:solidFill>
                <a:latin typeface="华文楷体"/>
                <a:ea typeface="华文楷体"/>
              </a:rPr>
              <a:t>（</a:t>
            </a:r>
            <a:r>
              <a:rPr b="1" lang="zh-CN" sz="3600" spc="-1" strike="noStrike">
                <a:solidFill>
                  <a:srgbClr val="cc0066"/>
                </a:solidFill>
                <a:latin typeface="华文楷体"/>
                <a:ea typeface="华文楷体"/>
              </a:rPr>
              <a:t>1940.12.18.-1962.8.15</a:t>
            </a:r>
            <a:r>
              <a:rPr b="1" lang="zh-CN" sz="3600" spc="-1" strike="noStrike">
                <a:solidFill>
                  <a:srgbClr val="cc0066"/>
                </a:solidFill>
                <a:latin typeface="华文楷体"/>
                <a:ea typeface="华文楷体"/>
              </a:rPr>
              <a:t>），雷锋出生在湖南省长沙望城县简家塘一个贫苦农民家里。雷锋出生的时候，正是抗日战争时期，人民生活于水深火热之中。雷锋在不满七岁时就成了孤儿。邻居家的六叔奶奶收养了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60461238694399814"/>
          <p:cNvPicPr/>
          <p:nvPr/>
        </p:nvPicPr>
        <p:blipFill>
          <a:blip r:embed="rId3"/>
          <a:stretch/>
        </p:blipFill>
        <p:spPr>
          <a:xfrm>
            <a:off x="250920" y="2565360"/>
            <a:ext cx="2917800" cy="4121280"/>
          </a:xfrm>
          <a:prstGeom prst="rect">
            <a:avLst/>
          </a:prstGeom>
          <a:ln w="0">
            <a:noFill/>
          </a:ln>
        </p:spPr>
      </p:pic>
      <p:sp>
        <p:nvSpPr>
          <p:cNvPr id="66" name="同侧圆角矩形 10"/>
          <p:cNvSpPr/>
          <p:nvPr/>
        </p:nvSpPr>
        <p:spPr>
          <a:xfrm>
            <a:off x="395280" y="110664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4" name="click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440C-E483-4D43-A3C5-EE6293FE08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13"/>
          <p:cNvSpPr/>
          <p:nvPr/>
        </p:nvSpPr>
        <p:spPr>
          <a:xfrm>
            <a:off x="2786040" y="3429000"/>
            <a:ext cx="1214640" cy="78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0" y="472428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311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714240" y="19288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7"/>
          <p:cNvSpPr/>
          <p:nvPr/>
        </p:nvSpPr>
        <p:spPr>
          <a:xfrm>
            <a:off x="1571760" y="2071800"/>
            <a:ext cx="685800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形近字组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26"/>
          <p:cNvSpPr/>
          <p:nvPr/>
        </p:nvSpPr>
        <p:spPr>
          <a:xfrm>
            <a:off x="1405080" y="2708280"/>
            <a:ext cx="7416720" cy="309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豪（     ）   编（     ）  瓣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毫（     ）   篇（     ）  辨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透（     ）   渗（      ） 滴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诱（      ） 掺（      ） 摘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411280" y="2781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豪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2411280" y="3573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毫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484360" y="4508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透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2556000" y="5229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诱惑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4861080" y="278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编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4932360" y="3645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5003640" y="4365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渗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5076720" y="522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掺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7308720" y="2781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花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7453440" y="450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滴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7453440" y="3573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分辨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1"/>
          <p:cNvSpPr/>
          <p:nvPr/>
        </p:nvSpPr>
        <p:spPr>
          <a:xfrm>
            <a:off x="7453440" y="53020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采摘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同侧圆角矩形 21"/>
          <p:cNvSpPr/>
          <p:nvPr/>
        </p:nvSpPr>
        <p:spPr>
          <a:xfrm>
            <a:off x="522360" y="122400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"/>
          <p:cNvSpPr/>
          <p:nvPr/>
        </p:nvSpPr>
        <p:spPr>
          <a:xfrm>
            <a:off x="1785960" y="200016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根据课文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642960" y="20001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468360" y="2924280"/>
            <a:ext cx="856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一滴水意味着雷锋（          ），但就是这一滴鲜活的水，却产生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（                ）雷锋精神在于（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6555960" y="29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平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971640" y="4437000"/>
            <a:ext cx="26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巨大的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7093080" y="4508640"/>
            <a:ext cx="27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小中见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同侧圆角矩形 9"/>
          <p:cNvSpPr/>
          <p:nvPr/>
        </p:nvSpPr>
        <p:spPr>
          <a:xfrm>
            <a:off x="522360" y="122400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285840" y="464328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340" name="矩形 4"/>
          <p:cNvSpPr/>
          <p:nvPr/>
        </p:nvSpPr>
        <p:spPr>
          <a:xfrm>
            <a:off x="1547640" y="2205000"/>
            <a:ext cx="6596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将下列词语补充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642960" y="20001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971640" y="318600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（        ）的春雨 （          ）的光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（         ）的心   （          ）的羽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（         ）的浪花 </a:t>
            </a: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(           </a:t>
            </a:r>
            <a:r>
              <a:rPr b="1" lang="zh-CN" sz="3600" spc="-1" strike="noStrike">
                <a:solidFill>
                  <a:srgbClr val="6600ff"/>
                </a:solidFill>
                <a:latin typeface="华文中宋"/>
                <a:ea typeface="华文中宋"/>
              </a:rPr>
              <a:t>）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1530360" y="316224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珍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5148360" y="321300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太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1547640" y="3718080"/>
            <a:ext cx="12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无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5219640" y="3789360"/>
            <a:ext cx="12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嫩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1619280" y="429264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雪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5076720" y="4365720"/>
            <a:ext cx="12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鲜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同侧圆角矩形 13"/>
          <p:cNvSpPr/>
          <p:nvPr/>
        </p:nvSpPr>
        <p:spPr>
          <a:xfrm>
            <a:off x="522360" y="122400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4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4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sp>
          <p:nvSpPr>
            <p:cNvPr id="70" name="直线连接符 21"/>
            <p:cNvSpPr/>
            <p:nvPr/>
          </p:nvSpPr>
          <p:spPr>
            <a:xfrm flipV="1">
              <a:off x="268200" y="112392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500040" y="1857240"/>
            <a:ext cx="12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6002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960" y="-320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629080" y="836640"/>
            <a:ext cx="6408720" cy="643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雷锋是全心全意为人民服务的楷模、中国人民解放军战士、伟大的共产主义战士，毛主席曾为他三次题词。雷锋在短暂的一生中帮助人无数，一部《雷锋日记》令无数读者为之动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http_imgload"/>
          <p:cNvPicPr/>
          <p:nvPr/>
        </p:nvPicPr>
        <p:blipFill>
          <a:blip r:embed="rId3"/>
          <a:stretch/>
        </p:blipFill>
        <p:spPr>
          <a:xfrm>
            <a:off x="179280" y="3068640"/>
            <a:ext cx="2425680" cy="3168720"/>
          </a:xfrm>
          <a:prstGeom prst="rect">
            <a:avLst/>
          </a:prstGeom>
          <a:ln w="0">
            <a:noFill/>
          </a:ln>
        </p:spPr>
      </p:pic>
      <p:sp>
        <p:nvSpPr>
          <p:cNvPr id="76" name="同侧圆角矩形 10"/>
          <p:cNvSpPr/>
          <p:nvPr/>
        </p:nvSpPr>
        <p:spPr>
          <a:xfrm>
            <a:off x="395280" y="110664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4" name="click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grpSp>
        <p:nvGrpSpPr>
          <p:cNvPr id="79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sp>
          <p:nvSpPr>
            <p:cNvPr id="80" name="直线连接符 21"/>
            <p:cNvSpPr/>
            <p:nvPr/>
          </p:nvSpPr>
          <p:spPr>
            <a:xfrm flipV="1">
              <a:off x="268200" y="112392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00040" y="1857240"/>
            <a:ext cx="12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6002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960" y="-320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124000" y="2060640"/>
            <a:ext cx="6804000" cy="1740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1962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年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8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月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15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日雷锋同志因公殉职，毛泽东发出了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"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向雷锋同志学习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"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的号召，在这种背景下下，作者魏钢焰于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1963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年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4</a:t>
            </a:r>
            <a:r>
              <a:rPr b="0" lang="zh-CN" sz="3600" spc="-1" strike="noStrike">
                <a:solidFill>
                  <a:srgbClr val="009999"/>
                </a:solidFill>
                <a:latin typeface="微软雅黑"/>
                <a:ea typeface="微软雅黑"/>
              </a:rPr>
              <a:t>月写下了这首赞美“雷锋精神”的现代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3 558"/>
          <p:cNvSpPr/>
          <p:nvPr/>
        </p:nvSpPr>
        <p:spPr>
          <a:xfrm>
            <a:off x="2916360" y="1054080"/>
            <a:ext cx="2089080" cy="647640"/>
          </a:xfrm>
          <a:prstGeom prst="roundRect">
            <a:avLst>
              <a:gd name="adj" fmla="val 16667"/>
            </a:avLst>
          </a:prstGeom>
          <a:solidFill>
            <a:srgbClr val="bbe0e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中宋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同侧圆角矩形 10"/>
          <p:cNvSpPr/>
          <p:nvPr/>
        </p:nvSpPr>
        <p:spPr>
          <a:xfrm>
            <a:off x="395280" y="1106640"/>
            <a:ext cx="2000160" cy="51732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lick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F691-65A7-45C0-876B-B6C3774967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90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42960" y="2214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7"/>
          <p:cNvGrpSpPr/>
          <p:nvPr/>
        </p:nvGrpSpPr>
        <p:grpSpPr>
          <a:xfrm>
            <a:off x="1643040" y="2279520"/>
            <a:ext cx="2592360" cy="863640"/>
            <a:chOff x="1643040" y="2279520"/>
            <a:chExt cx="2592360" cy="863640"/>
          </a:xfrm>
        </p:grpSpPr>
        <p:grpSp>
          <p:nvGrpSpPr>
            <p:cNvPr id="94" name="组合 33"/>
            <p:cNvGrpSpPr/>
            <p:nvPr/>
          </p:nvGrpSpPr>
          <p:grpSpPr>
            <a:xfrm>
              <a:off x="1643040" y="2279520"/>
              <a:ext cx="792000" cy="863640"/>
              <a:chOff x="1643040" y="2279520"/>
              <a:chExt cx="792000" cy="863640"/>
            </a:xfrm>
          </p:grpSpPr>
          <p:sp>
            <p:nvSpPr>
              <p:cNvPr id="95" name="二十四角星 10"/>
              <p:cNvSpPr/>
              <p:nvPr/>
            </p:nvSpPr>
            <p:spPr>
              <a:xfrm>
                <a:off x="1643040" y="2279520"/>
                <a:ext cx="792000" cy="86364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5800 h 863640"/>
                  <a:gd name="textAreaBottom" fmla="*/ 627840 h 8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9537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14"/>
              <p:cNvSpPr/>
              <p:nvPr/>
            </p:nvSpPr>
            <p:spPr>
              <a:xfrm>
                <a:off x="1787040" y="242352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34"/>
            <p:cNvGrpSpPr/>
            <p:nvPr/>
          </p:nvGrpSpPr>
          <p:grpSpPr>
            <a:xfrm>
              <a:off x="2579040" y="2279520"/>
              <a:ext cx="792000" cy="863640"/>
              <a:chOff x="2579040" y="2279520"/>
              <a:chExt cx="792000" cy="863640"/>
            </a:xfrm>
          </p:grpSpPr>
          <p:sp>
            <p:nvSpPr>
              <p:cNvPr id="98" name="二十四角星 18"/>
              <p:cNvSpPr/>
              <p:nvPr/>
            </p:nvSpPr>
            <p:spPr>
              <a:xfrm>
                <a:off x="2579040" y="2279520"/>
                <a:ext cx="792000" cy="86364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5800 h 863640"/>
                  <a:gd name="textAreaBottom" fmla="*/ 627840 h 8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Box 21"/>
              <p:cNvSpPr/>
              <p:nvPr/>
            </p:nvSpPr>
            <p:spPr>
              <a:xfrm>
                <a:off x="2651040" y="242352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认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组合 35"/>
            <p:cNvGrpSpPr/>
            <p:nvPr/>
          </p:nvGrpSpPr>
          <p:grpSpPr>
            <a:xfrm>
              <a:off x="3443400" y="2279520"/>
              <a:ext cx="792000" cy="863640"/>
              <a:chOff x="3443400" y="2279520"/>
              <a:chExt cx="792000" cy="863640"/>
            </a:xfrm>
          </p:grpSpPr>
          <p:sp>
            <p:nvSpPr>
              <p:cNvPr id="101" name="二十四角星 19"/>
              <p:cNvSpPr/>
              <p:nvPr/>
            </p:nvSpPr>
            <p:spPr>
              <a:xfrm>
                <a:off x="3443400" y="2279520"/>
                <a:ext cx="792000" cy="86364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5800 h 863640"/>
                  <a:gd name="textAreaBottom" fmla="*/ 627840 h 8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23"/>
              <p:cNvSpPr/>
              <p:nvPr/>
            </p:nvSpPr>
            <p:spPr>
              <a:xfrm>
                <a:off x="3515400" y="242352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字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TextBox 45"/>
          <p:cNvSpPr/>
          <p:nvPr/>
        </p:nvSpPr>
        <p:spPr>
          <a:xfrm>
            <a:off x="1547640" y="479736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勋           朽             渗            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7"/>
          <p:cNvSpPr/>
          <p:nvPr/>
        </p:nvSpPr>
        <p:spPr>
          <a:xfrm>
            <a:off x="1476360" y="3645000"/>
            <a:ext cx="63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xūn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  xi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ǔ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shèn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  t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同侧圆角矩形 19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108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714240" y="22147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37"/>
          <p:cNvGrpSpPr/>
          <p:nvPr/>
        </p:nvGrpSpPr>
        <p:grpSpPr>
          <a:xfrm>
            <a:off x="1785960" y="2286000"/>
            <a:ext cx="2592360" cy="863640"/>
            <a:chOff x="1785960" y="2286000"/>
            <a:chExt cx="2592360" cy="863640"/>
          </a:xfrm>
        </p:grpSpPr>
        <p:grpSp>
          <p:nvGrpSpPr>
            <p:cNvPr id="112" name="组合 33"/>
            <p:cNvGrpSpPr/>
            <p:nvPr/>
          </p:nvGrpSpPr>
          <p:grpSpPr>
            <a:xfrm>
              <a:off x="1785960" y="2286000"/>
              <a:ext cx="792000" cy="863640"/>
              <a:chOff x="1785960" y="2286000"/>
              <a:chExt cx="792000" cy="863640"/>
            </a:xfrm>
          </p:grpSpPr>
          <p:sp>
            <p:nvSpPr>
              <p:cNvPr id="113" name="二十四角星 10"/>
              <p:cNvSpPr/>
              <p:nvPr/>
            </p:nvSpPr>
            <p:spPr>
              <a:xfrm>
                <a:off x="1785960" y="2286000"/>
                <a:ext cx="792000" cy="86364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5800 h 863640"/>
                  <a:gd name="textAreaBottom" fmla="*/ 627840 h 8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9537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Box 14"/>
              <p:cNvSpPr/>
              <p:nvPr/>
            </p:nvSpPr>
            <p:spPr>
              <a:xfrm>
                <a:off x="1929960" y="243000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34"/>
            <p:cNvGrpSpPr/>
            <p:nvPr/>
          </p:nvGrpSpPr>
          <p:grpSpPr>
            <a:xfrm>
              <a:off x="2721960" y="2286000"/>
              <a:ext cx="792000" cy="863640"/>
              <a:chOff x="2721960" y="2286000"/>
              <a:chExt cx="792000" cy="863640"/>
            </a:xfrm>
          </p:grpSpPr>
          <p:sp>
            <p:nvSpPr>
              <p:cNvPr id="116" name="二十四角星 18"/>
              <p:cNvSpPr/>
              <p:nvPr/>
            </p:nvSpPr>
            <p:spPr>
              <a:xfrm>
                <a:off x="2721960" y="2286000"/>
                <a:ext cx="792000" cy="86364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5800 h 863640"/>
                  <a:gd name="textAreaBottom" fmla="*/ 627840 h 8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Box 21"/>
              <p:cNvSpPr/>
              <p:nvPr/>
            </p:nvSpPr>
            <p:spPr>
              <a:xfrm>
                <a:off x="2793960" y="24300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组合 35"/>
            <p:cNvGrpSpPr/>
            <p:nvPr/>
          </p:nvGrpSpPr>
          <p:grpSpPr>
            <a:xfrm>
              <a:off x="3586320" y="2286000"/>
              <a:ext cx="792000" cy="863640"/>
              <a:chOff x="3586320" y="2286000"/>
              <a:chExt cx="792000" cy="863640"/>
            </a:xfrm>
          </p:grpSpPr>
          <p:sp>
            <p:nvSpPr>
              <p:cNvPr id="119" name="二十四角星 19"/>
              <p:cNvSpPr/>
              <p:nvPr/>
            </p:nvSpPr>
            <p:spPr>
              <a:xfrm>
                <a:off x="3586320" y="2286000"/>
                <a:ext cx="792000" cy="86364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5800 h 863640"/>
                  <a:gd name="textAreaBottom" fmla="*/ 627840 h 8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23"/>
              <p:cNvSpPr/>
              <p:nvPr/>
            </p:nvSpPr>
            <p:spPr>
              <a:xfrm>
                <a:off x="3658320" y="243000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Rectangle 19"/>
          <p:cNvSpPr/>
          <p:nvPr/>
        </p:nvSpPr>
        <p:spPr>
          <a:xfrm>
            <a:off x="1187280" y="335772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近义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1117440" y="41497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宋体"/>
                <a:ea typeface="华文宋体"/>
              </a:rPr>
              <a:t>功勋</a:t>
            </a:r>
            <a:r>
              <a:rPr b="1" lang="en-US" sz="3600" spc="-1" strike="noStrike">
                <a:solidFill>
                  <a:srgbClr val="009999"/>
                </a:solidFill>
                <a:latin typeface="华文宋体"/>
                <a:ea typeface="华文宋体"/>
              </a:rPr>
              <a:t>---</a:t>
            </a:r>
            <a:r>
              <a:rPr b="1" lang="zh-CN" sz="3600" spc="-1" strike="noStrike">
                <a:solidFill>
                  <a:srgbClr val="009999"/>
                </a:solidFill>
                <a:latin typeface="华文宋体"/>
                <a:ea typeface="华文宋体"/>
              </a:rPr>
              <a:t>            </a:t>
            </a:r>
            <a:r>
              <a:rPr b="1" lang="zh-CN" sz="3600" spc="-1" strike="noStrike">
                <a:solidFill>
                  <a:srgbClr val="009999"/>
                </a:solidFill>
                <a:latin typeface="华文宋体"/>
                <a:ea typeface="华文宋体"/>
              </a:rPr>
              <a:t>平凡</a:t>
            </a:r>
            <a:r>
              <a:rPr b="1" lang="zh-CN" sz="3600" spc="-1" strike="noStrike">
                <a:solidFill>
                  <a:srgbClr val="009999"/>
                </a:solidFill>
                <a:latin typeface="华文宋体"/>
                <a:ea typeface="华文宋体"/>
              </a:rPr>
              <a:t>---            </a:t>
            </a:r>
            <a:r>
              <a:rPr b="1" lang="zh-CN" sz="3600" spc="-1" strike="noStrike">
                <a:solidFill>
                  <a:srgbClr val="009999"/>
                </a:solidFill>
                <a:latin typeface="华文宋体"/>
                <a:ea typeface="华文宋体"/>
              </a:rPr>
              <a:t>浪费</a:t>
            </a:r>
            <a:r>
              <a:rPr b="1" lang="zh-CN" sz="3600" spc="-1" strike="noStrike">
                <a:solidFill>
                  <a:srgbClr val="009999"/>
                </a:solidFill>
                <a:latin typeface="华文宋体"/>
                <a:ea typeface="华文宋体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2484360" y="4076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功劳            普通             糟蹋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1332000" y="479736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反义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1187280" y="57340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平凡</a:t>
            </a:r>
            <a:r>
              <a:rPr b="0" lang="en-US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---</a:t>
            </a:r>
            <a:r>
              <a:rPr b="0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              </a:t>
            </a:r>
            <a:r>
              <a:rPr b="0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浪费</a:t>
            </a:r>
            <a:r>
              <a:rPr b="0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---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484360" y="5734080"/>
            <a:ext cx="511344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伟大                   节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同侧圆角矩形 22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130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714240" y="22147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7"/>
          <p:cNvGrpSpPr/>
          <p:nvPr/>
        </p:nvGrpSpPr>
        <p:grpSpPr>
          <a:xfrm>
            <a:off x="1785960" y="2286000"/>
            <a:ext cx="2592360" cy="863640"/>
            <a:chOff x="1785960" y="2286000"/>
            <a:chExt cx="2592360" cy="863640"/>
          </a:xfrm>
        </p:grpSpPr>
        <p:grpSp>
          <p:nvGrpSpPr>
            <p:cNvPr id="134" name="组合 33"/>
            <p:cNvGrpSpPr/>
            <p:nvPr/>
          </p:nvGrpSpPr>
          <p:grpSpPr>
            <a:xfrm>
              <a:off x="1785960" y="2286000"/>
              <a:ext cx="792000" cy="863640"/>
              <a:chOff x="1785960" y="2286000"/>
              <a:chExt cx="792000" cy="863640"/>
            </a:xfrm>
          </p:grpSpPr>
          <p:sp>
            <p:nvSpPr>
              <p:cNvPr id="135" name="二十四角星 10"/>
              <p:cNvSpPr/>
              <p:nvPr/>
            </p:nvSpPr>
            <p:spPr>
              <a:xfrm>
                <a:off x="1785960" y="2286000"/>
                <a:ext cx="792000" cy="86364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5800 h 863640"/>
                  <a:gd name="textAreaBottom" fmla="*/ 627840 h 8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9537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14"/>
              <p:cNvSpPr/>
              <p:nvPr/>
            </p:nvSpPr>
            <p:spPr>
              <a:xfrm>
                <a:off x="1929960" y="243000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组合 34"/>
            <p:cNvGrpSpPr/>
            <p:nvPr/>
          </p:nvGrpSpPr>
          <p:grpSpPr>
            <a:xfrm>
              <a:off x="2721960" y="2286000"/>
              <a:ext cx="792000" cy="863640"/>
              <a:chOff x="2721960" y="2286000"/>
              <a:chExt cx="792000" cy="863640"/>
            </a:xfrm>
          </p:grpSpPr>
          <p:sp>
            <p:nvSpPr>
              <p:cNvPr id="138" name="二十四角星 18"/>
              <p:cNvSpPr/>
              <p:nvPr/>
            </p:nvSpPr>
            <p:spPr>
              <a:xfrm>
                <a:off x="2721960" y="2286000"/>
                <a:ext cx="792000" cy="86364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5800 h 863640"/>
                  <a:gd name="textAreaBottom" fmla="*/ 627840 h 8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21"/>
              <p:cNvSpPr/>
              <p:nvPr/>
            </p:nvSpPr>
            <p:spPr>
              <a:xfrm>
                <a:off x="2793960" y="24300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35"/>
            <p:cNvGrpSpPr/>
            <p:nvPr/>
          </p:nvGrpSpPr>
          <p:grpSpPr>
            <a:xfrm>
              <a:off x="3586320" y="2286000"/>
              <a:ext cx="792000" cy="863640"/>
              <a:chOff x="3586320" y="2286000"/>
              <a:chExt cx="792000" cy="863640"/>
            </a:xfrm>
          </p:grpSpPr>
          <p:sp>
            <p:nvSpPr>
              <p:cNvPr id="141" name="二十四角星 19"/>
              <p:cNvSpPr/>
              <p:nvPr/>
            </p:nvSpPr>
            <p:spPr>
              <a:xfrm>
                <a:off x="3586320" y="2286000"/>
                <a:ext cx="792000" cy="86364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5800 h 863640"/>
                  <a:gd name="textAreaBottom" fmla="*/ 627840 h 8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23"/>
              <p:cNvSpPr/>
              <p:nvPr/>
            </p:nvSpPr>
            <p:spPr>
              <a:xfrm>
                <a:off x="3658320" y="243000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字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Box 33"/>
          <p:cNvSpPr/>
          <p:nvPr/>
        </p:nvSpPr>
        <p:spPr>
          <a:xfrm>
            <a:off x="928800" y="342900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他不是将军，却立了无数功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xū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像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dī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）小小的春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7"/>
          <p:cNvSpPr/>
          <p:nvPr/>
        </p:nvSpPr>
        <p:spPr>
          <a:xfrm>
            <a:off x="1332000" y="4292640"/>
            <a:ext cx="64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勋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2"/>
          <p:cNvSpPr/>
          <p:nvPr/>
        </p:nvSpPr>
        <p:spPr>
          <a:xfrm>
            <a:off x="3132000" y="5084640"/>
            <a:ext cx="6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滴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同侧圆角矩形 19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线连接符 21"/>
          <p:cNvSpPr/>
          <p:nvPr/>
        </p:nvSpPr>
        <p:spPr>
          <a:xfrm flipV="1">
            <a:off x="466560" y="192384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78588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1835280" y="2565360"/>
            <a:ext cx="6715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课文歌颂的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1857240" y="371484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雷锋的精神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同侧圆角矩形 7"/>
          <p:cNvSpPr/>
          <p:nvPr/>
        </p:nvSpPr>
        <p:spPr>
          <a:xfrm>
            <a:off x="480960" y="135396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3:37:30Z</dcterms:created>
  <dc:creator>Administrator</dc:creator>
  <dc:description/>
  <dc:language>en-US</dc:language>
  <cp:lastModifiedBy/>
  <dcterms:modified xsi:type="dcterms:W3CDTF">2016-04-19T03:37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