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gif" ContentType="image/gif"/>
  <Override PartName="/ppt/media/image8.png" ContentType="image/png"/>
  <Override PartName="/ppt/media/image6.png" ContentType="image/png"/>
  <Override PartName="/ppt/media/image7.jpeg" ContentType="image/jpeg"/>
  <Override PartName="/ppt/media/image9.gif" ContentType="image/gif"/>
  <Override PartName="/ppt/media/image11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19FC-1750-4C67-88CD-1A6BD543B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BA01-32A8-4B23-BE23-42B9F763B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B027-29A3-4CB0-A13D-79408EF20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C0FF-9A88-4ED5-ACA2-09BD6F48E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38E2-2D6B-4F5C-8119-7F6693EE1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3F9F-A259-4A00-ABAE-DDB796221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770E-55D5-4D32-9446-FF4FE6B94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8AB6-BB21-4CD4-821F-3A5323845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1D86-4B77-48B8-A39B-5F26B3D67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580D-456D-4B90-B0E2-406EB31E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6177-C3CE-4EF5-B4A6-DCAC7C5A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0364-1043-4CA9-B6DE-0FE68D72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E2B13-EE96-42B3-8DC0-9045CFBE6E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2050920" y="2133720"/>
            <a:ext cx="4926240" cy="1224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6027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华文彩云"/>
              </a:rPr>
              <a:t>人生寓言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华文彩云"/>
              <a:ea typeface="华文彩云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3851280" y="335772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准圆简体"/>
              </a:rPr>
              <a:t>周国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WordArt 5" descr=""/>
          <p:cNvPicPr/>
          <p:nvPr/>
        </p:nvPicPr>
        <p:blipFill>
          <a:blip r:embed="rId1"/>
          <a:stretch/>
        </p:blipFill>
        <p:spPr>
          <a:xfrm>
            <a:off x="2914560" y="549360"/>
            <a:ext cx="3353040" cy="7254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6"/>
          <p:cNvSpPr/>
          <p:nvPr/>
        </p:nvSpPr>
        <p:spPr>
          <a:xfrm>
            <a:off x="2195640" y="1773360"/>
            <a:ext cx="705636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⒈ </a:t>
            </a:r>
            <a:r>
              <a:rPr b="1" lang="zh-CN" sz="28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白兔赏月的心态前后有什么不同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⒉ </a:t>
            </a:r>
            <a:r>
              <a:rPr b="1" lang="zh-CN" sz="28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白兔最终要求诸神之王撤销那个慷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     </a:t>
            </a:r>
            <a:r>
              <a:rPr b="1" lang="zh-CN" sz="28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的决定，说明了什么？这一点与人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     </a:t>
            </a:r>
            <a:r>
              <a:rPr b="1" lang="zh-CN" sz="28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有什么不同之处？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⒊ </a:t>
            </a:r>
            <a:r>
              <a:rPr b="1" lang="zh-CN" sz="28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请用一句话概括这则寓言的寓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387000" y="716040"/>
            <a:ext cx="7290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华康简黑"/>
                <a:ea typeface="华康简黑"/>
              </a:rPr>
              <a:t>         </a:t>
            </a:r>
            <a:r>
              <a:rPr b="1" lang="zh-CN" sz="3600" spc="-1" strike="noStrike">
                <a:solidFill>
                  <a:srgbClr val="ff6600"/>
                </a:solidFill>
                <a:latin typeface="华康简黑"/>
                <a:ea typeface="华康简黑"/>
              </a:rPr>
              <a:t>白兔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8"/>
          <p:cNvSpPr/>
          <p:nvPr/>
        </p:nvSpPr>
        <p:spPr>
          <a:xfrm>
            <a:off x="973080" y="2060640"/>
            <a:ext cx="214200" cy="2663640"/>
          </a:xfrm>
          <a:custGeom>
            <a:avLst/>
            <a:gdLst>
              <a:gd name="textAreaLeft" fmla="*/ 136800 w 214200"/>
              <a:gd name="textAreaRight" fmla="*/ 214560 w 214200"/>
              <a:gd name="textAreaTop" fmla="*/ 69120 h 2663640"/>
              <a:gd name="textAreaBottom" fmla="*/ 2594520 h 26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1184400" y="17082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华康简黑"/>
              </a:rPr>
              <a:t>赏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1187280" y="278136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华康简黑"/>
              </a:rPr>
              <a:t>得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1187280" y="429264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华康简黑"/>
              </a:rPr>
              <a:t>还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5"/>
          <p:cNvSpPr/>
          <p:nvPr/>
        </p:nvSpPr>
        <p:spPr>
          <a:xfrm>
            <a:off x="414720" y="1413000"/>
            <a:ext cx="1277640" cy="38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华康简黑"/>
                <a:ea typeface="华康简黑"/>
              </a:rPr>
              <a:t>    </a:t>
            </a:r>
            <a:r>
              <a:rPr b="1" lang="zh-CN" sz="3600" spc="-1" strike="noStrike">
                <a:solidFill>
                  <a:srgbClr val="ff6600"/>
                </a:solidFill>
                <a:latin typeface="华康简黑"/>
                <a:ea typeface="华康简黑"/>
              </a:rPr>
              <a:t>白  兔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1620720" y="1125360"/>
            <a:ext cx="287280" cy="4104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106920 h 4104000"/>
              <a:gd name="textAreaBottom" fmla="*/ 3997080 h 410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1835280" y="771480"/>
            <a:ext cx="1371600" cy="48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华文新魏"/>
              </a:rPr>
              <a:t>赏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华文新魏"/>
              </a:rPr>
              <a:t>得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华文新魏"/>
              </a:rPr>
              <a:t>还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2590920" y="692280"/>
            <a:ext cx="43434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华文新魏"/>
                <a:ea typeface="华文新魏"/>
              </a:rPr>
              <a:t>（无忧无虑   心旷神怡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准圆简体"/>
              </a:rPr>
              <a:t>月的阴晴圆缺各具风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9"/>
          <p:cNvSpPr/>
          <p:nvPr/>
        </p:nvSpPr>
        <p:spPr>
          <a:xfrm>
            <a:off x="4643280" y="1989000"/>
            <a:ext cx="304920" cy="503280"/>
          </a:xfrm>
          <a:prstGeom prst="downArrow">
            <a:avLst>
              <a:gd name="adj1" fmla="val 50000"/>
              <a:gd name="adj2" fmla="val 412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2666880" y="2527200"/>
            <a:ext cx="49532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华文新魏"/>
                <a:ea typeface="华文新魏"/>
              </a:rPr>
              <a:t>（紧张不安   心痛如割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方正准圆简体"/>
                <a:ea typeface="方正准圆简体"/>
              </a:rPr>
              <a:t>月的阴晴圆缺险象迭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4648320" y="4076640"/>
            <a:ext cx="304560" cy="647640"/>
          </a:xfrm>
          <a:prstGeom prst="downArrow">
            <a:avLst>
              <a:gd name="adj1" fmla="val 50000"/>
              <a:gd name="adj2" fmla="val 5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3276720" y="502920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华文新魏"/>
                <a:ea typeface="华文新魏"/>
              </a:rPr>
              <a:t>（  慧心未泯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3"/>
          <p:cNvSpPr/>
          <p:nvPr/>
        </p:nvSpPr>
        <p:spPr>
          <a:xfrm>
            <a:off x="6443640" y="982800"/>
            <a:ext cx="380880" cy="4390920"/>
          </a:xfrm>
          <a:custGeom>
            <a:avLst/>
            <a:gdLst>
              <a:gd name="textAreaLeft" fmla="*/ 0 w 380880"/>
              <a:gd name="textAreaRight" fmla="*/ 137520 w 380880"/>
              <a:gd name="textAreaTop" fmla="*/ 114480 h 4390920"/>
              <a:gd name="textAreaBottom" fmla="*/ 4276440 h 43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5345280" y="1830240"/>
            <a:ext cx="26175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方正准圆简体"/>
                <a:ea typeface="方正准圆简体"/>
              </a:rPr>
              <a:t>拥有财富会勾起                                             无穷的</a:t>
            </a:r>
            <a:r>
              <a:rPr b="1" lang="zh-CN" sz="32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得失之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5"/>
          <p:cNvSpPr/>
          <p:nvPr/>
        </p:nvSpPr>
        <p:spPr>
          <a:xfrm>
            <a:off x="685800" y="380880"/>
            <a:ext cx="2590920" cy="76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拓展延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1042920" y="1484280"/>
            <a:ext cx="72741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⒈ </a:t>
            </a:r>
            <a:r>
              <a:rPr b="1" lang="zh-CN" sz="32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白兔得到月亮后必然会产生得失之患 </a:t>
            </a:r>
            <a:br>
              <a:rPr sz="3200"/>
            </a:br>
            <a:r>
              <a:rPr b="1" lang="zh-CN" sz="32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     吗</a:t>
            </a:r>
            <a:r>
              <a:rPr b="1" lang="en-US" sz="32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?</a:t>
            </a:r>
            <a:r>
              <a:rPr b="1" lang="zh-CN" sz="32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有无得失之患的关键在哪里</a:t>
            </a:r>
            <a:r>
              <a:rPr b="1" lang="en-US" sz="32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⒉ </a:t>
            </a:r>
            <a:r>
              <a:rPr b="1" lang="zh-CN" sz="32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我们可以从白兔身上学到些什么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-181080" y="3463920"/>
            <a:ext cx="81378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准圆简体"/>
                <a:ea typeface="方正准圆简体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方正准圆简体"/>
                <a:ea typeface="方正准圆简体"/>
              </a:rPr>
              <a:t>关键在有没有能力保卫财富</a:t>
            </a:r>
            <a:r>
              <a:rPr b="1" lang="en-US" sz="2800" spc="-1" strike="noStrike">
                <a:solidFill>
                  <a:srgbClr val="ff0000"/>
                </a:solidFill>
                <a:latin typeface="方正准圆简体"/>
                <a:ea typeface="方正准圆简体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方正准圆简体"/>
                <a:ea typeface="方正准圆简体"/>
              </a:rPr>
              <a:t>不怕别人抢去偷去</a:t>
            </a:r>
            <a:r>
              <a:rPr b="1" lang="en-US" sz="2800" spc="-1" strike="noStrike">
                <a:solidFill>
                  <a:srgbClr val="ff0000"/>
                </a:solidFill>
                <a:latin typeface="方正准圆简体"/>
                <a:ea typeface="方正准圆简体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方正准圆简体"/>
                <a:ea typeface="方正准圆简体"/>
              </a:rPr>
              <a:t>就没有得失之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5"/>
          <p:cNvSpPr txBox="1"/>
          <p:nvPr/>
        </p:nvSpPr>
        <p:spPr>
          <a:xfrm rot="5400000">
            <a:off x="-685440" y="2348640"/>
            <a:ext cx="4321080" cy="1297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ff33"/>
                    </a:gs>
                    <a:gs pos="100000">
                      <a:srgbClr val="ff00ff"/>
                    </a:gs>
                  </a:gsLst>
                  <a:lin ang="16200000"/>
                </a:gradFill>
                <a:latin typeface="宋体"/>
              </a:rPr>
              <a:t>落难的王子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ff33"/>
                  </a:gs>
                  <a:gs pos="100000">
                    <a:srgbClr val="ff00ff"/>
                  </a:gs>
                </a:gsLst>
                <a:lin ang="16200000"/>
              </a:gradFill>
              <a:latin typeface="宋体"/>
              <a:ea typeface="宋体"/>
            </a:endParaRPr>
          </a:p>
        </p:txBody>
      </p:sp>
      <p:pic>
        <p:nvPicPr>
          <p:cNvPr id="103" name="Picture 6" descr="图片2"/>
          <p:cNvPicPr/>
          <p:nvPr/>
        </p:nvPicPr>
        <p:blipFill>
          <a:blip r:embed="rId1"/>
          <a:stretch/>
        </p:blipFill>
        <p:spPr>
          <a:xfrm>
            <a:off x="90000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6" descr="img29329_2"/>
          <p:cNvPicPr/>
          <p:nvPr/>
        </p:nvPicPr>
        <p:blipFill>
          <a:blip r:embed="rId1"/>
          <a:stretch/>
        </p:blipFill>
        <p:spPr>
          <a:xfrm>
            <a:off x="4788000" y="4724280"/>
            <a:ext cx="2735280" cy="2021040"/>
          </a:xfrm>
          <a:prstGeom prst="rect">
            <a:avLst/>
          </a:prstGeom>
          <a:ln w="38160">
            <a:solidFill>
              <a:srgbClr val="ff9966"/>
            </a:solidFill>
            <a:miter/>
          </a:ln>
        </p:spPr>
      </p:pic>
      <p:sp>
        <p:nvSpPr>
          <p:cNvPr id="105" name="WordArt 4"/>
          <p:cNvSpPr txBox="1"/>
          <p:nvPr/>
        </p:nvSpPr>
        <p:spPr>
          <a:xfrm>
            <a:off x="611280" y="404640"/>
            <a:ext cx="29509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写作背景：</a:t>
            </a:r>
            <a:endParaRPr b="1" lang="en-US" sz="4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324000" y="1052640"/>
            <a:ext cx="8353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        </a:t>
            </a:r>
            <a:r>
              <a:rPr b="1" lang="zh-CN" sz="28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这篇寓言是我有感而写的，在写作时，我自己正遭受着一个灾难，当时，我有了一个女儿，出生不久便被诊断患有绝症，注定夭折，我确实听到了旁人的叹息，说如果这样的灾难落在他们头上，他们可受不了。回想起以前看见别人遭受灾难时，我自己也会有类似的感受。于是，产生这篇寓言的构思，后来，我的女儿才一岁多就离开了人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5"/>
          <p:cNvSpPr/>
          <p:nvPr/>
        </p:nvSpPr>
        <p:spPr>
          <a:xfrm>
            <a:off x="358920" y="473040"/>
            <a:ext cx="61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默读课文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分钟，思考下列问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684360" y="1413000"/>
            <a:ext cx="755964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⒈ </a:t>
            </a:r>
            <a:r>
              <a:rPr b="1" lang="zh-CN" sz="28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王子落难的前后性格有什么不同？是什么使</a:t>
            </a:r>
            <a:br>
              <a:rPr sz="2800"/>
            </a:br>
            <a:r>
              <a:rPr b="1" lang="zh-CN" sz="28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     他发生了这样的变化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⒉ </a:t>
            </a:r>
            <a:r>
              <a:rPr b="1" lang="zh-CN" sz="28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王子遭受了哪些厄运？这篇寓言告诉我们一</a:t>
            </a:r>
            <a:br>
              <a:rPr sz="2800"/>
            </a:br>
            <a:r>
              <a:rPr b="1" lang="zh-CN" sz="28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     个什么道理？请用课文的原句回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⒊ </a:t>
            </a:r>
            <a:r>
              <a:rPr b="1" lang="zh-CN" sz="28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只有落难后才会变得坚强，才能战胜脆弱，</a:t>
            </a:r>
            <a:br>
              <a:rPr sz="2800"/>
            </a:br>
            <a:r>
              <a:rPr b="1" lang="zh-CN" sz="28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     这是一条定律吗？没有遭遇过厄运的人应该</a:t>
            </a:r>
            <a:br>
              <a:rPr sz="2800"/>
            </a:br>
            <a:r>
              <a:rPr b="1" lang="zh-CN" sz="28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     怎样培养坚韧的意志</a:t>
            </a:r>
            <a:r>
              <a:rPr b="1" lang="en-US" sz="28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4"/>
          <p:cNvSpPr txBox="1"/>
          <p:nvPr/>
        </p:nvSpPr>
        <p:spPr>
          <a:xfrm>
            <a:off x="684360" y="1557360"/>
            <a:ext cx="18018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黑体"/>
              </a:rPr>
              <a:t>厄运</a:t>
            </a:r>
            <a:endParaRPr b="1" lang="en-US" sz="1800" spc="1" strike="noStrike">
              <a:ln w="0">
                <a:noFill/>
              </a:ln>
              <a:solidFill>
                <a:srgbClr val="ff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10" name="AutoShape 5"/>
          <p:cNvSpPr/>
          <p:nvPr/>
        </p:nvSpPr>
        <p:spPr>
          <a:xfrm>
            <a:off x="2627280" y="1052640"/>
            <a:ext cx="144360" cy="1368360"/>
          </a:xfrm>
          <a:custGeom>
            <a:avLst/>
            <a:gdLst>
              <a:gd name="textAreaLeft" fmla="*/ 92160 w 144360"/>
              <a:gd name="textAreaRight" fmla="*/ 144360 w 14436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2843280" y="835200"/>
            <a:ext cx="6156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 </a:t>
            </a:r>
            <a:r>
              <a:rPr b="1" lang="zh-CN" sz="28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父王被杀    母后受辱自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自己当了奴隶    靠行乞度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成了残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7"/>
          <p:cNvSpPr/>
          <p:nvPr/>
        </p:nvSpPr>
        <p:spPr>
          <a:xfrm>
            <a:off x="1403280" y="2298600"/>
            <a:ext cx="304920" cy="914400"/>
          </a:xfrm>
          <a:prstGeom prst="downArrow">
            <a:avLst>
              <a:gd name="adj1" fmla="val 50000"/>
              <a:gd name="adj2" fmla="val 749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WordArt 8"/>
          <p:cNvSpPr txBox="1"/>
          <p:nvPr/>
        </p:nvSpPr>
        <p:spPr>
          <a:xfrm>
            <a:off x="466560" y="3332160"/>
            <a:ext cx="2160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3300"/>
                    </a:gs>
                  </a:gsLst>
                  <a:lin ang="27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黑体"/>
              </a:rPr>
              <a:t>落难的王子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ff3300"/>
                  </a:gs>
                </a:gsLst>
                <a:lin ang="27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14" name="AutoShape 9"/>
          <p:cNvSpPr/>
          <p:nvPr/>
        </p:nvSpPr>
        <p:spPr>
          <a:xfrm>
            <a:off x="2773440" y="3211560"/>
            <a:ext cx="142920" cy="865080"/>
          </a:xfrm>
          <a:custGeom>
            <a:avLst/>
            <a:gdLst>
              <a:gd name="textAreaLeft" fmla="*/ 91440 w 142920"/>
              <a:gd name="textAreaRight" fmla="*/ 143280 w 14292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WordArt 10"/>
          <p:cNvSpPr txBox="1"/>
          <p:nvPr/>
        </p:nvSpPr>
        <p:spPr>
          <a:xfrm>
            <a:off x="2987640" y="3141720"/>
            <a:ext cx="1800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黑体"/>
              </a:rPr>
              <a:t>多愁善感</a:t>
            </a:r>
            <a:endParaRPr b="1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黑体"/>
              </a:rPr>
              <a:t>脆  弱</a:t>
            </a:r>
            <a:endParaRPr b="1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16" name="AutoShape 11"/>
          <p:cNvSpPr/>
          <p:nvPr/>
        </p:nvSpPr>
        <p:spPr>
          <a:xfrm rot="16200000">
            <a:off x="5211720" y="3364920"/>
            <a:ext cx="304920" cy="574920"/>
          </a:xfrm>
          <a:prstGeom prst="downArrow">
            <a:avLst>
              <a:gd name="adj1" fmla="val 50000"/>
              <a:gd name="adj2" fmla="val 471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WordArt 12"/>
          <p:cNvSpPr txBox="1"/>
          <p:nvPr/>
        </p:nvSpPr>
        <p:spPr>
          <a:xfrm>
            <a:off x="5724360" y="3357720"/>
            <a:ext cx="2160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黑体"/>
              </a:rPr>
              <a:t>坚强起来了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18" name="AutoShape 13"/>
          <p:cNvSpPr/>
          <p:nvPr/>
        </p:nvSpPr>
        <p:spPr>
          <a:xfrm>
            <a:off x="1387440" y="4098960"/>
            <a:ext cx="304920" cy="914400"/>
          </a:xfrm>
          <a:prstGeom prst="downArrow">
            <a:avLst>
              <a:gd name="adj1" fmla="val 50000"/>
              <a:gd name="adj2" fmla="val 749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250920" y="5013360"/>
            <a:ext cx="83883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方正准圆简体"/>
                <a:ea typeface="方正准圆简体"/>
              </a:rPr>
              <a:t>        </a:t>
            </a:r>
            <a:r>
              <a:rPr b="1" lang="zh-CN" sz="3200" spc="-1" strike="noStrike">
                <a:solidFill>
                  <a:srgbClr val="ff0066"/>
                </a:solidFill>
                <a:latin typeface="方正准圆简体"/>
                <a:ea typeface="方正准圆简体"/>
              </a:rPr>
              <a:t>凡是人间的灾难，无论落到谁的头上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方正准圆简体"/>
                <a:ea typeface="方正准圆简体"/>
              </a:rPr>
              <a:t>谁都得受着，而且都受得了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方正准圆简体"/>
              </a:rPr>
              <a:t>——</a:t>
            </a:r>
            <a:r>
              <a:rPr b="1" lang="zh-CN" sz="3200" spc="-1" strike="noStrike">
                <a:solidFill>
                  <a:srgbClr val="ff0066"/>
                </a:solidFill>
                <a:latin typeface="方正准圆简体"/>
                <a:ea typeface="方正准圆简体"/>
              </a:rPr>
              <a:t>只要它不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xing"/>
          <p:cNvPicPr/>
          <p:nvPr/>
        </p:nvPicPr>
        <p:blipFill>
          <a:blip r:embed="rId1"/>
          <a:stretch/>
        </p:blipFill>
        <p:spPr>
          <a:xfrm>
            <a:off x="108000" y="189000"/>
            <a:ext cx="934920" cy="8967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xing"/>
          <p:cNvPicPr/>
          <p:nvPr/>
        </p:nvPicPr>
        <p:blipFill>
          <a:blip r:embed="rId2"/>
          <a:stretch/>
        </p:blipFill>
        <p:spPr>
          <a:xfrm>
            <a:off x="1189080" y="155520"/>
            <a:ext cx="934920" cy="897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xing"/>
          <p:cNvPicPr/>
          <p:nvPr/>
        </p:nvPicPr>
        <p:blipFill>
          <a:blip r:embed="rId3"/>
          <a:stretch/>
        </p:blipFill>
        <p:spPr>
          <a:xfrm>
            <a:off x="2268360" y="189000"/>
            <a:ext cx="935280" cy="896760"/>
          </a:xfrm>
          <a:prstGeom prst="rect">
            <a:avLst/>
          </a:prstGeom>
          <a:ln w="0">
            <a:noFill/>
          </a:ln>
        </p:spPr>
      </p:pic>
      <p:sp>
        <p:nvSpPr>
          <p:cNvPr id="123" name="WordArt 7"/>
          <p:cNvSpPr txBox="1"/>
          <p:nvPr/>
        </p:nvSpPr>
        <p:spPr>
          <a:xfrm>
            <a:off x="3851280" y="260280"/>
            <a:ext cx="4249800" cy="180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自由论坛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3197160" y="2419200"/>
            <a:ext cx="5622840" cy="2178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9"/>
          <p:cNvSpPr/>
          <p:nvPr/>
        </p:nvSpPr>
        <p:spPr>
          <a:xfrm>
            <a:off x="612720" y="2924280"/>
            <a:ext cx="81360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天啊，太可怕了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······”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这句话是贯穿全文的线索，它在文中出现了几次？分别是谁说的？最后厄运降临到谁的头上？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你认为在遭遇不幸的时候，应该怎样面对厄运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5"/>
          <p:cNvSpPr/>
          <p:nvPr/>
        </p:nvSpPr>
        <p:spPr>
          <a:xfrm>
            <a:off x="755640" y="692280"/>
            <a:ext cx="7920000" cy="29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康简黑"/>
                <a:ea typeface="华康简黑"/>
              </a:rPr>
              <a:t>告诉我们如何对待苦难的道理</a:t>
            </a:r>
            <a:r>
              <a:rPr b="1" lang="en-US" sz="3600" spc="-1" strike="noStrike">
                <a:solidFill>
                  <a:srgbClr val="ff0000"/>
                </a:solidFill>
                <a:latin typeface="华康简黑"/>
                <a:ea typeface="华康简黑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⒈ </a:t>
            </a:r>
            <a:r>
              <a:rPr b="1" lang="zh-CN" sz="32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苦难是人生不可避免的，不可怀侥幸心  </a:t>
            </a:r>
            <a:br>
              <a:rPr sz="3200"/>
            </a:br>
            <a:r>
              <a:rPr b="1" lang="zh-CN" sz="32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     理，认为苦难只会落在别人头上，而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     </a:t>
            </a:r>
            <a:r>
              <a:rPr b="1" lang="zh-CN" sz="32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该对自己遭遇苦难有足够的精神准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⒉ </a:t>
            </a:r>
            <a:r>
              <a:rPr b="1" lang="zh-CN" sz="32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一旦遭遇苦难，我们就要勇敢面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"/>
          <p:cNvSpPr/>
          <p:nvPr/>
        </p:nvSpPr>
        <p:spPr>
          <a:xfrm>
            <a:off x="993240" y="189000"/>
            <a:ext cx="1521720" cy="7642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拓展延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501480" y="995400"/>
            <a:ext cx="853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白兔和月亮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进行比较阅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276120" y="222264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主题上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8"/>
          <p:cNvSpPr/>
          <p:nvPr/>
        </p:nvSpPr>
        <p:spPr>
          <a:xfrm>
            <a:off x="1763640" y="1981080"/>
            <a:ext cx="216000" cy="1087560"/>
          </a:xfrm>
          <a:custGeom>
            <a:avLst/>
            <a:gdLst>
              <a:gd name="textAreaLeft" fmla="*/ 137880 w 216000"/>
              <a:gd name="textAreaRight" fmla="*/ 216360 w 216000"/>
              <a:gd name="textAreaTop" fmla="*/ 28080 h 1087560"/>
              <a:gd name="textAreaBottom" fmla="*/ 1059480 h 108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2233440" y="168120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同：人生态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1879560" y="2222640"/>
            <a:ext cx="67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不同：角度   前则主要写人在获利之后的  </a:t>
            </a:r>
            <a:br>
              <a:rPr sz="2800"/>
            </a:br>
            <a:r>
              <a:rPr b="1" lang="zh-CN" sz="28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            心境；后则写人受难后的状态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150840" y="357336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情节上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2"/>
          <p:cNvSpPr/>
          <p:nvPr/>
        </p:nvSpPr>
        <p:spPr>
          <a:xfrm>
            <a:off x="1692360" y="3500280"/>
            <a:ext cx="215640" cy="936720"/>
          </a:xfrm>
          <a:custGeom>
            <a:avLst/>
            <a:gdLst>
              <a:gd name="textAreaLeft" fmla="*/ 137880 w 215640"/>
              <a:gd name="textAreaRight" fmla="*/ 216000 w 21564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2195640" y="320040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同：寓言的形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1847880" y="3751200"/>
            <a:ext cx="654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不同：前则寓言味道比较浓些；后则更    </a:t>
            </a:r>
            <a:br>
              <a:rPr sz="2800"/>
            </a:br>
            <a:r>
              <a:rPr b="1" lang="zh-CN" sz="28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            像是事实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216000" y="50338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表达方式上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6"/>
          <p:cNvSpPr/>
          <p:nvPr/>
        </p:nvSpPr>
        <p:spPr>
          <a:xfrm>
            <a:off x="2700360" y="4805280"/>
            <a:ext cx="228600" cy="129564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7"/>
          <p:cNvSpPr/>
          <p:nvPr/>
        </p:nvSpPr>
        <p:spPr>
          <a:xfrm>
            <a:off x="2882880" y="46530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同：叙事为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8"/>
          <p:cNvSpPr/>
          <p:nvPr/>
        </p:nvSpPr>
        <p:spPr>
          <a:xfrm>
            <a:off x="2916360" y="5213520"/>
            <a:ext cx="554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不同：而前则更多的是人物的心理　</a:t>
            </a:r>
            <a:br>
              <a:rPr sz="2800"/>
            </a:br>
            <a:r>
              <a:rPr b="1" lang="zh-CN" sz="28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　　　描写；后则重在叙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5"/>
          <p:cNvSpPr/>
          <p:nvPr/>
        </p:nvSpPr>
        <p:spPr>
          <a:xfrm>
            <a:off x="934920" y="2053800"/>
            <a:ext cx="7453440" cy="16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6600"/>
                </a:solidFill>
                <a:latin typeface="Arial"/>
                <a:ea typeface="华文新魏"/>
              </a:rPr>
              <a:t>                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华康简黑"/>
              </a:rPr>
              <a:t>寓言</a:t>
            </a:r>
            <a:br>
              <a:rPr sz="3200"/>
            </a:b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华文新魏"/>
              </a:rPr>
              <a:t>　   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方正准圆简体"/>
              </a:rPr>
              <a:t>文学体裁的一种。以散文或韵诗的形式，讲述带有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方正准圆简体"/>
              </a:rPr>
              <a:t>劝谕或讽刺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方正准圆简体"/>
              </a:rPr>
              <a:t>意味的故事。结构大多短小，主人公多为动物，也可以是人或非生物。主题多是惩恶扬善，多充满智慧哲理。素材起源于民间传说。西方文学中最著名的寓言有古希腊的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方正准圆简体"/>
              </a:rPr>
              <a:t>《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方正准圆简体"/>
              </a:rPr>
              <a:t>伊索寓言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方正准圆简体"/>
              </a:rPr>
              <a:t>》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方正准圆简体"/>
              </a:rPr>
              <a:t>等。中国春秋战国时期已盛行寓言，都保留在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方正准圆简体"/>
              </a:rPr>
              <a:t>《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方正准圆简体"/>
              </a:rPr>
              <a:t>庄子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方正准圆简体"/>
              </a:rPr>
              <a:t>》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方正准圆简体"/>
              </a:rPr>
              <a:t>、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方正准圆简体"/>
              </a:rPr>
              <a:t>《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方正准圆简体"/>
              </a:rPr>
              <a:t>韩非子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方正准圆简体"/>
              </a:rPr>
              <a:t>》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方正准圆简体"/>
              </a:rPr>
              <a:t>等著作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838080" y="685800"/>
            <a:ext cx="3446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华康简综艺"/>
                <a:ea typeface="华康简综艺"/>
              </a:rPr>
              <a:t>体验反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611280" y="1773360"/>
            <a:ext cx="784836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6600"/>
                </a:solidFill>
                <a:latin typeface="黑体"/>
                <a:ea typeface="黑体"/>
              </a:rPr>
              <a:t>．人生在世，或福或祸，可能不期而至， </a:t>
            </a:r>
            <a:br>
              <a:rPr sz="3200"/>
            </a:br>
            <a:r>
              <a:rPr b="1" lang="zh-CN" sz="3200" spc="-1" strike="noStrike">
                <a:solidFill>
                  <a:srgbClr val="ff6600"/>
                </a:solidFill>
                <a:latin typeface="黑体"/>
                <a:ea typeface="黑体"/>
              </a:rPr>
              <a:t>   对此我们应怎样对待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6600"/>
                </a:solidFill>
                <a:latin typeface="黑体"/>
                <a:ea typeface="黑体"/>
              </a:rPr>
              <a:t>．实际上人的一生挺平淡，大悲大喜的事 </a:t>
            </a:r>
            <a:br>
              <a:rPr sz="3200"/>
            </a:br>
            <a:r>
              <a:rPr b="1" lang="zh-CN" sz="3200" spc="-1" strike="noStrike">
                <a:solidFill>
                  <a:srgbClr val="ff6600"/>
                </a:solidFill>
                <a:latin typeface="黑体"/>
                <a:ea typeface="黑体"/>
              </a:rPr>
              <a:t>   情也不是很多，我们应当怎样在日常生 </a:t>
            </a:r>
            <a:br>
              <a:rPr sz="3200"/>
            </a:br>
            <a:r>
              <a:rPr b="1" lang="zh-CN" sz="3200" spc="-1" strike="noStrike">
                <a:solidFill>
                  <a:srgbClr val="ff6600"/>
                </a:solidFill>
                <a:latin typeface="黑体"/>
                <a:ea typeface="黑体"/>
              </a:rPr>
              <a:t>   活中培养自己的坚强的意志？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1015920" y="266760"/>
            <a:ext cx="809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康简黑"/>
                <a:ea typeface="华康简黑"/>
              </a:rPr>
              <a:t>交流、推荐有关厄运的名言警句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l-18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46836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6"/>
          <p:cNvSpPr/>
          <p:nvPr/>
        </p:nvSpPr>
        <p:spPr>
          <a:xfrm>
            <a:off x="647640" y="1395360"/>
            <a:ext cx="7956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灾祸是一个人的真正试金石。         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  <a:ea typeface="方正准圆简体"/>
              </a:rPr>
              <a:t>——</a:t>
            </a:r>
            <a:r>
              <a:rPr b="1" lang="zh-CN" sz="28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鲍蒙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烈火试真金，逆境试强者。             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  <a:ea typeface="方正准圆简体"/>
              </a:rPr>
              <a:t>——</a:t>
            </a:r>
            <a:r>
              <a:rPr b="1" lang="zh-CN" sz="28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塞内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没有经历过逆境的人不知道自己的力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                                                            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  <a:ea typeface="方正准圆简体"/>
              </a:rPr>
              <a:t>——</a:t>
            </a:r>
            <a:r>
              <a:rPr b="1" lang="zh-CN" sz="28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琼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交好运令人羡慕，而战胜厄运令人敬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                                                            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  <a:ea typeface="方正准圆简体"/>
              </a:rPr>
              <a:t>——</a:t>
            </a:r>
            <a:r>
              <a:rPr b="1" lang="zh-CN" sz="28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培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在厄运中满怀希望，在好运中不忘忧虑，这样便能泰然担待祸福。                            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  <a:ea typeface="方正准圆简体"/>
              </a:rPr>
              <a:t>——</a:t>
            </a:r>
            <a:r>
              <a:rPr b="1" lang="zh-CN" sz="28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贺拉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5"/>
          <p:cNvSpPr/>
          <p:nvPr/>
        </p:nvSpPr>
        <p:spPr>
          <a:xfrm>
            <a:off x="1630440" y="334800"/>
            <a:ext cx="7189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华文隶书"/>
                <a:ea typeface="华文隶书"/>
              </a:rPr>
              <a:t>送 你 金 玉 良 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755640" y="1650960"/>
            <a:ext cx="7694640" cy="34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        </a:t>
            </a:r>
            <a:r>
              <a:rPr b="1" lang="zh-CN" sz="32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如果某种拥有，带给你的是无穷的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失之患，使你紧张不安，失去了生活的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趣，那么，请你果断而勇敢的放弃这种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有。当厄运降临的时候，逃避只能使你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为不幸者，应当学会化悲痛为力量，勇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直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5"/>
          <p:cNvSpPr/>
          <p:nvPr/>
        </p:nvSpPr>
        <p:spPr>
          <a:xfrm>
            <a:off x="4211640" y="260280"/>
            <a:ext cx="4537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            </a:t>
            </a:r>
            <a:r>
              <a:rPr b="1" lang="zh-CN" sz="25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周国平，</a:t>
            </a:r>
            <a:r>
              <a:rPr b="1" lang="en-US" sz="25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1945</a:t>
            </a:r>
            <a:r>
              <a:rPr b="1" lang="zh-CN" sz="25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年</a:t>
            </a:r>
            <a:r>
              <a:rPr b="1" lang="en-US" sz="25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7</a:t>
            </a:r>
            <a:r>
              <a:rPr b="1" lang="zh-CN" sz="25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月生于上海。</a:t>
            </a:r>
            <a:r>
              <a:rPr b="1" lang="en-US" sz="25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1962</a:t>
            </a:r>
            <a:r>
              <a:rPr b="1" lang="zh-CN" sz="25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～</a:t>
            </a:r>
            <a:r>
              <a:rPr b="1" lang="en-US" sz="25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1968</a:t>
            </a:r>
            <a:r>
              <a:rPr b="1" lang="zh-CN" sz="25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年就学于北京大学哲学系，毕业后分配到广西深山老林中工作。</a:t>
            </a:r>
            <a:r>
              <a:rPr b="1" lang="en-US" sz="25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1978</a:t>
            </a:r>
            <a:r>
              <a:rPr b="1" lang="zh-CN" sz="25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年考入中国社会科学研究生院</a:t>
            </a:r>
            <a:r>
              <a:rPr b="1" lang="en-US" sz="25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,</a:t>
            </a:r>
            <a:r>
              <a:rPr b="1" lang="zh-CN" sz="25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先后获硕士、博士学位。现为中国社会科学院哲学研究所副研员。</a:t>
            </a:r>
            <a:r>
              <a:rPr b="1" lang="en-US" sz="25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1996</a:t>
            </a:r>
            <a:r>
              <a:rPr b="1" lang="zh-CN" sz="25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年以怀念夭折女儿为主题的</a:t>
            </a:r>
            <a:r>
              <a:rPr b="1" lang="en-US" sz="25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《</a:t>
            </a:r>
            <a:r>
              <a:rPr b="1" lang="zh-CN" sz="25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妞妞</a:t>
            </a:r>
            <a:r>
              <a:rPr b="1" lang="en-US" sz="2500" spc="-1" strike="noStrike">
                <a:solidFill>
                  <a:srgbClr val="ff6600"/>
                </a:solidFill>
                <a:latin typeface="宋体"/>
                <a:ea typeface="方正准圆简体"/>
              </a:rPr>
              <a:t>——</a:t>
            </a:r>
            <a:r>
              <a:rPr b="1" lang="zh-CN" sz="25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一个父亲的札记</a:t>
            </a:r>
            <a:r>
              <a:rPr b="1" lang="en-US" sz="25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》</a:t>
            </a:r>
            <a:r>
              <a:rPr b="1" lang="zh-CN" sz="25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一书而闻名，但其大量的作品还是以哲理性思辩性为主，是一个很优秀的学者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6"/>
          <p:cNvSpPr txBox="1"/>
          <p:nvPr/>
        </p:nvSpPr>
        <p:spPr>
          <a:xfrm>
            <a:off x="900000" y="5157720"/>
            <a:ext cx="2664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隶书"/>
              </a:rPr>
              <a:t>作者简介</a:t>
            </a:r>
            <a:endParaRPr b="1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隶书"/>
              <a:ea typeface="华文隶书"/>
            </a:endParaRPr>
          </a:p>
        </p:txBody>
      </p:sp>
      <p:pic>
        <p:nvPicPr>
          <p:cNvPr id="46" name="Picture 7" descr="图片1"/>
          <p:cNvPicPr/>
          <p:nvPr/>
        </p:nvPicPr>
        <p:blipFill>
          <a:blip r:embed="rId1"/>
          <a:stretch/>
        </p:blipFill>
        <p:spPr>
          <a:xfrm>
            <a:off x="142920" y="601560"/>
            <a:ext cx="4141800" cy="4056120"/>
          </a:xfrm>
          <a:prstGeom prst="rect">
            <a:avLst/>
          </a:prstGeom>
          <a:ln w="57240">
            <a:solidFill>
              <a:srgbClr val="ff9966"/>
            </a:solidFill>
            <a:miter/>
          </a:ln>
        </p:spPr>
      </p:pic>
    </p:spTree>
  </p:cSld>
  <p:transition>
    <p:randomBar dir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6"/>
          <p:cNvSpPr/>
          <p:nvPr/>
        </p:nvSpPr>
        <p:spPr>
          <a:xfrm>
            <a:off x="920880" y="2060640"/>
            <a:ext cx="71071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        </a:t>
            </a:r>
            <a:r>
              <a:rPr b="1" lang="en-US" sz="3200" spc="-1" strike="noStrike">
                <a:solidFill>
                  <a:srgbClr val="ff6600"/>
                </a:solidFill>
                <a:latin typeface="Times New Roman"/>
                <a:ea typeface="方正准圆简体"/>
              </a:rPr>
              <a:t>“</a:t>
            </a:r>
            <a:r>
              <a:rPr b="1" lang="zh-CN" sz="32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人生中有两大不幸，一是</a:t>
            </a:r>
            <a:r>
              <a:rPr b="1" lang="zh-CN" sz="3200" spc="-1" strike="noStrike">
                <a:solidFill>
                  <a:srgbClr val="ff0000"/>
                </a:solidFill>
                <a:latin typeface="方正准圆简体"/>
                <a:ea typeface="方正准圆简体"/>
              </a:rPr>
              <a:t>没有</a:t>
            </a:r>
            <a:r>
              <a:rPr b="1" lang="zh-CN" sz="32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得到他心爱的东西，二是</a:t>
            </a:r>
            <a:r>
              <a:rPr b="1" lang="zh-CN" sz="3200" spc="-1" strike="noStrike">
                <a:solidFill>
                  <a:srgbClr val="ff0000"/>
                </a:solidFill>
                <a:latin typeface="方正准圆简体"/>
                <a:ea typeface="方正准圆简体"/>
              </a:rPr>
              <a:t>得到</a:t>
            </a:r>
            <a:r>
              <a:rPr b="1" lang="zh-CN" sz="32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他心爱的东西。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方正准圆简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方正准圆简体"/>
                <a:ea typeface="方正准圆简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方正准圆简体"/>
                <a:ea typeface="方正准圆简体"/>
              </a:rPr>
              <a:t>                                     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  <a:ea typeface="方正准圆简体"/>
              </a:rPr>
              <a:t>——</a:t>
            </a:r>
            <a:r>
              <a:rPr b="1" lang="zh-CN" sz="3200" spc="-1" strike="noStrike">
                <a:solidFill>
                  <a:srgbClr val="009900"/>
                </a:solidFill>
                <a:latin typeface="方正准圆简体"/>
                <a:ea typeface="方正准圆简体"/>
              </a:rPr>
              <a:t>英国 肖伯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3345120" y="620640"/>
            <a:ext cx="2695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00ff"/>
                </a:solidFill>
                <a:latin typeface="Times New Roman"/>
                <a:ea typeface="隶书"/>
              </a:rPr>
              <a:t>失   </a:t>
            </a:r>
            <a:r>
              <a:rPr b="1" lang="zh-CN" sz="6600" spc="-1" strike="noStrike">
                <a:solidFill>
                  <a:srgbClr val="ff5050"/>
                </a:solidFill>
                <a:latin typeface="Times New Roman"/>
                <a:ea typeface="隶书"/>
              </a:rPr>
              <a:t>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1029"/>
          <p:cNvSpPr txBox="1"/>
          <p:nvPr/>
        </p:nvSpPr>
        <p:spPr>
          <a:xfrm>
            <a:off x="1692360" y="1125360"/>
            <a:ext cx="2496960" cy="81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3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隶书"/>
              </a:rPr>
              <a:t>白兔</a:t>
            </a:r>
            <a:endParaRPr b="1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0" name="WordArt 1030"/>
          <p:cNvSpPr txBox="1"/>
          <p:nvPr/>
        </p:nvSpPr>
        <p:spPr>
          <a:xfrm>
            <a:off x="4211640" y="2205000"/>
            <a:ext cx="936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31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66ff33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隶书"/>
              </a:rPr>
              <a:t>与</a:t>
            </a:r>
            <a:endParaRPr b="1" lang="en-US" sz="1800" spc="1" strike="noStrike">
              <a:ln w="12600">
                <a:solidFill>
                  <a:srgbClr val="66ff33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1" name="WordArt 1031"/>
          <p:cNvSpPr txBox="1"/>
          <p:nvPr/>
        </p:nvSpPr>
        <p:spPr>
          <a:xfrm>
            <a:off x="5003640" y="3573360"/>
            <a:ext cx="2160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8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5e9e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隶书"/>
              </a:rPr>
              <a:t>月亮</a:t>
            </a:r>
            <a:endParaRPr b="1" lang="en-US" sz="1800" spc="1" strike="noStrike">
              <a:ln w="1908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5e9eff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52" name="Picture 1032" descr="白兔1"/>
          <p:cNvPicPr/>
          <p:nvPr/>
        </p:nvPicPr>
        <p:blipFill>
          <a:blip r:embed="rId1"/>
          <a:stretch/>
        </p:blipFill>
        <p:spPr>
          <a:xfrm>
            <a:off x="5940360" y="5734080"/>
            <a:ext cx="1728720" cy="6984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5"/>
          <p:cNvSpPr/>
          <p:nvPr/>
        </p:nvSpPr>
        <p:spPr>
          <a:xfrm>
            <a:off x="380880" y="40176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康简黑"/>
                <a:ea typeface="华康简黑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华康简黑"/>
                <a:ea typeface="华康简黑"/>
              </a:rPr>
              <a:t>给加点字注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533520" y="990720"/>
            <a:ext cx="8431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禀（       ）告     金窖（       ）      险象迭生（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皎（       ）洁      嬉（      ）戏      心旷神怡（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1187280" y="981000"/>
            <a:ext cx="107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Pinyinok-d"/>
              </a:rPr>
              <a:t>b@n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4140360" y="965160"/>
            <a:ext cx="113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Pinyinok-d"/>
              </a:rPr>
              <a:t>ji3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7409160" y="98748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Pinyinok-d"/>
              </a:rPr>
              <a:t>di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1270080" y="1614600"/>
            <a:ext cx="114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Pinyinok-d"/>
              </a:rPr>
              <a:t>ji2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1"/>
          <p:cNvSpPr/>
          <p:nvPr/>
        </p:nvSpPr>
        <p:spPr>
          <a:xfrm>
            <a:off x="3940560" y="1620720"/>
            <a:ext cx="49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Pinyinok-d"/>
              </a:rPr>
              <a:t>x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7524720" y="1614600"/>
            <a:ext cx="52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Pinyinok-d"/>
              </a:rPr>
              <a:t>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171360" y="2371680"/>
            <a:ext cx="7620120" cy="26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康简黑"/>
                <a:ea typeface="华康简黑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华康简黑"/>
                <a:ea typeface="华康简黑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华康简黑"/>
                <a:ea typeface="华康简黑"/>
              </a:rPr>
              <a:t>根据意思写出适合的词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       ⑴ </a:t>
            </a:r>
            <a:r>
              <a:rPr b="1" lang="zh-CN" sz="28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生怕失去个人利益的忧虑心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       ⑵ </a:t>
            </a:r>
            <a:r>
              <a:rPr b="1" lang="zh-CN" sz="28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突然发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       ⑶ </a:t>
            </a:r>
            <a:r>
              <a:rPr b="1" lang="zh-CN" sz="28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心境开阔，精神愉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       ⑷ </a:t>
            </a:r>
            <a:r>
              <a:rPr b="1" lang="zh-CN" sz="28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形容人感情脆弱，容易发愁或感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5935680" y="29098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华康简黑"/>
                <a:ea typeface="华康简黑"/>
              </a:rPr>
              <a:t>（得失之患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2700360" y="3429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华康简黑"/>
                <a:ea typeface="华康简黑"/>
              </a:rPr>
              <a:t>（突如其来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0" y="3933720"/>
            <a:ext cx="336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华康简黑"/>
                <a:ea typeface="华康简黑"/>
              </a:rPr>
              <a:t>（心旷神怡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7"/>
          <p:cNvSpPr/>
          <p:nvPr/>
        </p:nvSpPr>
        <p:spPr>
          <a:xfrm>
            <a:off x="4932360" y="49258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华康简黑"/>
                <a:ea typeface="华康简黑"/>
              </a:rPr>
              <a:t>（多愁善感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5"/>
          <p:cNvSpPr/>
          <p:nvPr/>
        </p:nvSpPr>
        <p:spPr>
          <a:xfrm>
            <a:off x="611280" y="62064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康简黑"/>
                <a:ea typeface="华康简黑"/>
              </a:rPr>
              <a:t>⒊</a:t>
            </a:r>
            <a:r>
              <a:rPr b="1" lang="zh-CN" sz="3200" spc="-1" strike="noStrike">
                <a:solidFill>
                  <a:srgbClr val="ff0000"/>
                </a:solidFill>
                <a:latin typeface="华康简黑"/>
                <a:ea typeface="华康简黑"/>
              </a:rPr>
              <a:t>解释词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682560" y="1341360"/>
            <a:ext cx="295272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慧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风韵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落难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厄运</a:t>
            </a:r>
            <a:r>
              <a:rPr b="1" lang="en-US" sz="28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闲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正色</a:t>
            </a:r>
            <a:r>
              <a:rPr b="1" lang="en-US" sz="28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审美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1692360" y="1332000"/>
            <a:ext cx="6480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方正准圆简体"/>
                <a:ea typeface="方正准圆简体"/>
              </a:rPr>
              <a:t>原是佛教用语，指能够领悟佛理的心，今泛指智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1692360" y="2421000"/>
            <a:ext cx="43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方正准圆简体"/>
                <a:ea typeface="方正准圆简体"/>
              </a:rPr>
              <a:t>优美的姿态神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1547640" y="292428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方正准圆简体"/>
                <a:ea typeface="方正准圆简体"/>
              </a:rPr>
              <a:t>（</a:t>
            </a:r>
            <a:r>
              <a:rPr b="1" lang="en-US" sz="2800" spc="-1" strike="noStrike">
                <a:solidFill>
                  <a:srgbClr val="009900"/>
                </a:solidFill>
                <a:latin typeface="Pinyinok-d"/>
                <a:ea typeface="方正准圆简体"/>
              </a:rPr>
              <a:t>m@n</a:t>
            </a:r>
            <a:r>
              <a:rPr b="1" lang="zh-CN" sz="2800" spc="-1" strike="noStrike">
                <a:solidFill>
                  <a:srgbClr val="009900"/>
                </a:solidFill>
                <a:latin typeface="方正准圆简体"/>
                <a:ea typeface="方正准圆简体"/>
              </a:rPr>
              <a:t>）灭，丧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1692360" y="347184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方正准圆简体"/>
                <a:ea typeface="方正准圆简体"/>
              </a:rPr>
              <a:t>遭遇灾难，陷入困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1554120" y="4005360"/>
            <a:ext cx="352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方正准圆简体"/>
                <a:ea typeface="方正准圆简体"/>
              </a:rPr>
              <a:t>（</a:t>
            </a:r>
            <a:r>
              <a:rPr b="1" lang="en-US" sz="2800" spc="-1" strike="noStrike">
                <a:solidFill>
                  <a:srgbClr val="009900"/>
                </a:solidFill>
                <a:latin typeface="Pinyinok-d"/>
                <a:ea typeface="方正准圆简体"/>
              </a:rPr>
              <a:t>=</a:t>
            </a:r>
            <a:r>
              <a:rPr b="1" lang="zh-CN" sz="2800" spc="-1" strike="noStrike">
                <a:solidFill>
                  <a:srgbClr val="009900"/>
                </a:solidFill>
                <a:latin typeface="方正准圆简体"/>
                <a:ea typeface="方正准圆简体"/>
              </a:rPr>
              <a:t>）不幸的命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1692360" y="449424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方正准圆简体"/>
                <a:ea typeface="方正准圆简体"/>
              </a:rPr>
              <a:t>清闲安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3"/>
          <p:cNvSpPr/>
          <p:nvPr/>
        </p:nvSpPr>
        <p:spPr>
          <a:xfrm>
            <a:off x="1692360" y="499752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方正准圆简体"/>
                <a:ea typeface="方正准圆简体"/>
              </a:rPr>
              <a:t>态度很严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1692360" y="55738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方正准圆简体"/>
                <a:ea typeface="方正准圆简体"/>
              </a:rPr>
              <a:t>欣赏、领会事物和艺术品的美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5"/>
          <p:cNvSpPr/>
          <p:nvPr/>
        </p:nvSpPr>
        <p:spPr>
          <a:xfrm>
            <a:off x="757080" y="62064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康简黑"/>
                <a:ea typeface="华康简黑"/>
              </a:rPr>
              <a:t>朗读课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792000" y="1484280"/>
            <a:ext cx="86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方正准圆简体"/>
                <a:ea typeface="方正准圆简体"/>
              </a:rPr>
              <a:t>   </a:t>
            </a:r>
            <a:r>
              <a:rPr b="1" lang="zh-CN" sz="3600" spc="-1" strike="noStrike">
                <a:solidFill>
                  <a:srgbClr val="6600ff"/>
                </a:solidFill>
                <a:latin typeface="方正准圆简体"/>
                <a:ea typeface="方正准圆简体"/>
              </a:rPr>
              <a:t>找出能概括这则寓言的主题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WordArt 7"/>
          <p:cNvSpPr txBox="1"/>
          <p:nvPr/>
        </p:nvSpPr>
        <p:spPr>
          <a:xfrm>
            <a:off x="2771640" y="3429000"/>
            <a:ext cx="4464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25560">
                  <a:solidFill>
                    <a:srgbClr val="800000"/>
                  </a:solidFill>
                  <a:miter/>
                </a:ln>
                <a:solidFill>
                  <a:srgbClr val="ff9900"/>
                </a:solidFill>
                <a:latin typeface="隶书"/>
              </a:rPr>
              <a:t>得失之患</a:t>
            </a:r>
            <a:endParaRPr b="1" lang="en-US" sz="9600" spc="1" strike="noStrike">
              <a:ln w="25560">
                <a:solidFill>
                  <a:srgbClr val="800000"/>
                </a:solidFill>
                <a:miter/>
              </a:ln>
              <a:solidFill>
                <a:srgbClr val="ff9900"/>
              </a:solidFill>
              <a:latin typeface="隶书"/>
              <a:ea typeface="隶书"/>
            </a:endParaRPr>
          </a:p>
        </p:txBody>
      </p:sp>
    </p:spTree>
  </p:cSld>
  <p:transition>
    <p:randomBar dir="horz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6"/>
          <p:cNvSpPr/>
          <p:nvPr/>
        </p:nvSpPr>
        <p:spPr>
          <a:xfrm>
            <a:off x="611280" y="1268280"/>
            <a:ext cx="80769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⒈ </a:t>
            </a:r>
            <a:r>
              <a:rPr b="1" lang="zh-CN" sz="2800" spc="-1" strike="noStrike">
                <a:solidFill>
                  <a:srgbClr val="ff6600"/>
                </a:solidFill>
                <a:latin typeface="方正准圆简体"/>
                <a:ea typeface="方正准圆简体"/>
              </a:rPr>
              <a:t>这则寓言讲了一个什么故事？                                                                                     ⒉ 试找出故事情节中的两次转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611280" y="2421000"/>
            <a:ext cx="84963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方正准圆简体"/>
                <a:ea typeface="方正准圆简体"/>
              </a:rPr>
              <a:t>两个转折</a:t>
            </a:r>
            <a:r>
              <a:rPr b="1" lang="en-US" sz="2800" spc="-1" strike="noStrike">
                <a:solidFill>
                  <a:srgbClr val="009900"/>
                </a:solidFill>
                <a:latin typeface="方正准圆简体"/>
                <a:ea typeface="方正准圆简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方正准圆简体"/>
                <a:ea typeface="方正准圆简体"/>
              </a:rPr>
              <a:t>⑴ </a:t>
            </a:r>
            <a:r>
              <a:rPr b="1" lang="zh-CN" sz="2800" spc="-1" strike="noStrike">
                <a:solidFill>
                  <a:srgbClr val="009900"/>
                </a:solidFill>
                <a:latin typeface="方正准圆简体"/>
                <a:ea typeface="方正准圆简体"/>
              </a:rPr>
              <a:t>诸神之王宣布月亮归属于白兔；</a:t>
            </a:r>
            <a:r>
              <a:rPr b="1" lang="zh-CN" sz="2800" spc="-1" strike="noStrike">
                <a:solidFill>
                  <a:srgbClr val="ff00ff"/>
                </a:solidFill>
                <a:latin typeface="方正准圆简体"/>
                <a:ea typeface="方正准圆简体"/>
              </a:rPr>
              <a:t>（前后鲜明对比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方正准圆简体"/>
                <a:ea typeface="方正准圆简体"/>
              </a:rPr>
              <a:t>⑵ </a:t>
            </a:r>
            <a:r>
              <a:rPr b="1" lang="zh-CN" sz="2800" spc="-1" strike="noStrike">
                <a:solidFill>
                  <a:srgbClr val="009900"/>
                </a:solidFill>
                <a:latin typeface="方正准圆简体"/>
                <a:ea typeface="方正准圆简体"/>
              </a:rPr>
              <a:t>白兔请求诸神之王撤消决定；</a:t>
            </a:r>
            <a:r>
              <a:rPr b="1" lang="zh-CN" sz="2800" spc="-1" strike="noStrike">
                <a:solidFill>
                  <a:srgbClr val="ff00ff"/>
                </a:solidFill>
                <a:latin typeface="方正准圆简体"/>
                <a:ea typeface="方正准圆简体"/>
              </a:rPr>
              <a:t>（留下启迪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1108080" y="4237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康简黑"/>
              </a:rPr>
              <a:t>整体感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15:21:50Z</dcterms:created>
  <dc:creator>Administrator</dc:creator>
  <dc:description/>
  <dc:language>en-US</dc:language>
  <cp:lastModifiedBy>hpppygoa</cp:lastModifiedBy>
  <dcterms:modified xsi:type="dcterms:W3CDTF">2016-04-08T12:58:40Z</dcterms:modified>
  <cp:revision>17</cp:revision>
  <dc:subject/>
  <dc:title>PowerPoint 演示文稿</dc:title>
</cp:coreProperties>
</file>