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25DF-89C9-4901-91E9-FD2BD68707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530A2-1DEB-40FB-9058-FD94482232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FAE04-98D4-45F0-A4A3-82CD6D1162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B433B-9176-429A-9C94-942A5F431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682A80-7759-45AA-BD3D-7DEEDE10A8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88714-840E-4022-83B1-5A6E946C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01B878-76DB-4312-A645-5CEE96680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28FD79-9B2A-423F-81DC-ADB7ED907F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8E91FE-5396-463B-9797-E0DF68743B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458D71-CEA0-441F-A40C-147817DF3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0D4F10-5620-46D2-A12B-A7B6670AA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BF78-F136-4C01-8C98-98A21D7C1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92B09-D8F3-4D7E-B330-C4962DF73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E8CBE6-29D9-4BF1-B922-52EFB1560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C154A-AFDE-42AF-864B-AFE71F3AD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A3840-88F9-4D44-9498-D455357884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D9633-3414-400E-A48B-C43236F4B8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444E-3969-4B54-AC40-530DA1B0E4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398C-0B8B-4058-AB5E-5EB37F343B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B2FAD-85DD-4424-B75F-E7E4514823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BFC1-8741-40BF-8046-EAB095EC0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DBCC7-70B9-4D6C-A9DE-955CCC4B2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5337A-5218-4F94-8333-1B52C9FCF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4C69F-35FD-4EF6-8F3A-0D84359B3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094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198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A6C5C-4384-48DC-901E-E88B126668B4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79AC4F-901F-43FF-8809-78FFCD6018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 txBox="1"/>
          <p:nvPr/>
        </p:nvSpPr>
        <p:spPr>
          <a:xfrm>
            <a:off x="2340000" y="2781360"/>
            <a:ext cx="4565520" cy="1090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17.</a:t>
            </a: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山谷中的谜底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86" name=""/>
          <p:cNvSpPr/>
          <p:nvPr/>
        </p:nvSpPr>
        <p:spPr>
          <a:xfrm>
            <a:off x="611280" y="907920"/>
            <a:ext cx="705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苏教版 六年级 语文 下册 第五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900000" y="1052640"/>
            <a:ext cx="7201080" cy="71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填上合适的词语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特殊的（             ）  洁白的（ 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挺拔的（              ）  爽朗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飞舞的（              ）  崇高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800000"/>
                </a:solidFill>
                <a:latin typeface="楷体_GB2312"/>
                <a:ea typeface="楷体_GB2312"/>
              </a:rPr>
              <a:t>奇异的（              ）  适当的（          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1" dur="5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4" dur="5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07" dur="500"/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0" dur="500"/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13" dur="500"/>
                                        <p:tgtEl>
                                          <p:spTgt spid="10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2747520" y="2593440"/>
            <a:ext cx="4689720" cy="231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0000"/>
          </a:bodyPr>
          <a:p>
            <a:pPr marL="3758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8000"/>
                </a:solidFill>
                <a:latin typeface="Verdana"/>
                <a:ea typeface="楷体_GB2312"/>
              </a:rPr>
              <a:t>大雪压青松，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8000"/>
                </a:solidFill>
                <a:latin typeface="Verdana"/>
                <a:ea typeface="楷体_GB2312"/>
              </a:rPr>
              <a:t>青松挺且直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8000"/>
                </a:solidFill>
                <a:latin typeface="Verdana"/>
                <a:ea typeface="楷体_GB2312"/>
              </a:rPr>
              <a:t>要知松高洁，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  <a:p>
            <a:pPr marL="375840" indent="0">
              <a:spcBef>
                <a:spcPts val="9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900" spc="-1" strike="noStrike">
                <a:solidFill>
                  <a:srgbClr val="008000"/>
                </a:solidFill>
                <a:latin typeface="Verdana"/>
                <a:ea typeface="楷体_GB2312"/>
              </a:rPr>
              <a:t>待到雪化时。</a:t>
            </a:r>
            <a:endParaRPr b="0" lang="en-US" sz="3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"/>
          <p:cNvSpPr/>
          <p:nvPr/>
        </p:nvSpPr>
        <p:spPr>
          <a:xfrm>
            <a:off x="3348000" y="1125360"/>
            <a:ext cx="33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8000"/>
                </a:solidFill>
                <a:latin typeface="Arial"/>
                <a:ea typeface="黑体"/>
              </a:rPr>
              <a:t>青松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500720" y="1916280"/>
            <a:ext cx="12236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Arial"/>
              </a:rPr>
              <a:t>陈毅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395280" y="4869000"/>
            <a:ext cx="2341440" cy="17110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10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10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10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3" dur="1000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843280" y="2492280"/>
            <a:ext cx="3436920" cy="1666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黑体"/>
              </a:rPr>
              <a:t>再见！</a:t>
            </a:r>
            <a:endParaRPr b="1" lang="en-US" sz="1800" spc="-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黑体"/>
              <a:ea typeface="黑体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971640" y="1484280"/>
            <a:ext cx="7416720" cy="250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　　 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能正确、流利、有感情的朗读课文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  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学会自主学习，掌握本课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个生字，理解新词“抗争、反弹、完好无损（加拿大、魁北克）”等（绿线内的只识不写）。 </a:t>
            </a:r>
            <a:br>
              <a:rPr sz="2800"/>
            </a:b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　　</a:t>
            </a: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. 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读懂课文，了解雪松能在逆境中生存的原因，初步领会既要敢于抗争，也要学会退让的道理。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539640" y="620640"/>
            <a:ext cx="273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716040" y="2933280"/>
            <a:ext cx="7702560" cy="156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0000"/>
          </a:bodyPr>
          <a:p>
            <a:pPr marL="328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 </a:t>
            </a:r>
            <a:r>
              <a:rPr b="1" lang="zh-CN" sz="3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柘 枝丫  女贞   惟一  摧毁  帐篷 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28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  <a:p>
            <a:pPr marL="32868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完好无损   苍翠挺拔</a:t>
            </a:r>
            <a:r>
              <a:rPr b="1" lang="en-US" sz="3400" spc="-1" strike="noStrike">
                <a:solidFill>
                  <a:srgbClr val="008000"/>
                </a:solidFill>
                <a:latin typeface="Verdana"/>
              </a:rPr>
              <a:t> </a:t>
            </a:r>
            <a:br>
              <a:rPr sz="3400"/>
            </a:b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"/>
          <p:cNvSpPr/>
          <p:nvPr/>
        </p:nvSpPr>
        <p:spPr>
          <a:xfrm>
            <a:off x="-108000" y="2276640"/>
            <a:ext cx="822960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0000"/>
          </a:bodyPr>
          <a:p>
            <a:pPr marL="422640" indent="-42264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66"/>
                </a:solidFill>
                <a:latin typeface="Verdana"/>
              </a:rPr>
              <a:t>    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</a:rPr>
              <a:t>zhè  yā          zhēn   wéi    cuī     zhàng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50920" y="692280"/>
            <a:ext cx="302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8000"/>
                </a:solidFill>
                <a:latin typeface="Arial"/>
                <a:ea typeface="黑体"/>
              </a:rPr>
              <a:t>读准字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52360" y="1053720"/>
            <a:ext cx="369432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100" spc="-1" strike="noStrike">
                <a:solidFill>
                  <a:srgbClr val="008000"/>
                </a:solidFill>
                <a:latin typeface="Verdana"/>
                <a:ea typeface="黑体"/>
              </a:rPr>
              <a:t>词语解释</a:t>
            </a:r>
            <a:r>
              <a:rPr b="0" lang="en-US" sz="3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94920" y="1915920"/>
            <a:ext cx="8497800" cy="360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魁北克：加拿大东部一省。主要属寒温带针叶林气候。森林覆盖率</a:t>
            </a:r>
            <a:r>
              <a:rPr b="1" lang="en-US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45%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柘： 灌木，常有刺。夏季开花，叶可饲蚕；果可食，并可酿酒；茎皮为造纸原料；根可药用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女贞：果实入药，称：“女贞子”，性平、味甘苦，功能补益肝肾。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" dur="500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" dur="500"/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" dur="500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4762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8000"/>
                </a:solidFill>
                <a:latin typeface="Verdana"/>
                <a:ea typeface="黑体"/>
              </a:rPr>
              <a:t>文章层次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74560" y="2133720"/>
            <a:ext cx="85694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10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如果用猜谜语来打比方的话，文章的哪一部分是谜面，哪一部分是谜底？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lnSpc>
                <a:spcPct val="10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（谜面：</a:t>
            </a:r>
            <a:r>
              <a:rPr b="1" lang="en-US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—2 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节   谜底：</a:t>
            </a:r>
            <a:r>
              <a:rPr b="1" lang="en-US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3—6</a:t>
            </a:r>
            <a:r>
              <a:rPr b="1" lang="zh-CN" sz="30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节）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179280" y="1267920"/>
            <a:ext cx="874872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0000"/>
                </a:solidFill>
                <a:latin typeface="Verdana"/>
                <a:ea typeface="楷体_GB2312"/>
              </a:rPr>
              <a:t>           </a:t>
            </a: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楷体_GB2312"/>
              </a:rPr>
              <a:t>谜面：山谷没有什么特别之处，惟一能引人注意的是，它的西坡长满松、柏、拓、女贞等杂树，而东坡只有雪松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Verdana"/>
                <a:ea typeface="楷体_GB2312"/>
              </a:rPr>
              <a:t>   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8000"/>
                </a:solidFill>
                <a:latin typeface="Verdana"/>
                <a:ea typeface="楷体_GB2312"/>
              </a:rPr>
              <a:t>   </a:t>
            </a:r>
            <a:r>
              <a:rPr b="1" lang="zh-CN" sz="2600" spc="-1" strike="noStrike">
                <a:solidFill>
                  <a:srgbClr val="008000"/>
                </a:solidFill>
                <a:latin typeface="Verdana"/>
                <a:ea typeface="楷体_GB2312"/>
              </a:rPr>
              <a:t>谜底：东坡雪大，其他那些树，因为没有雪松这个本领，树枝都被积雪压断了，渐渐地丧失了生机。而西坡雪小，树上少量的积雪根本就压不断树枝，所以除了雪松之外，拓、柏、女贞之类的树种，也都存活了下来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3" dur="5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3166560" y="5444640"/>
            <a:ext cx="24512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8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Verdana"/>
                <a:ea typeface="黑体"/>
              </a:rPr>
              <a:t>山谷中的谜底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1547640" y="907920"/>
            <a:ext cx="5826240" cy="43704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/>
          </p:nvPr>
        </p:nvSpPr>
        <p:spPr>
          <a:xfrm>
            <a:off x="429840" y="476280"/>
            <a:ext cx="8713800" cy="31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  <a:ea typeface="楷体_GB2312"/>
              </a:rPr>
              <a:t>           </a:t>
            </a:r>
            <a:r>
              <a:rPr b="1" lang="zh-CN" sz="2600" spc="-1" strike="noStrike">
                <a:solidFill>
                  <a:srgbClr val="000000"/>
                </a:solidFill>
                <a:latin typeface="Verdana"/>
                <a:ea typeface="楷体_GB2312"/>
              </a:rPr>
              <a:t>由于特殊的风向，山谷东坡的雪总比西坡的雪来得大。不一会儿满坡的雪松上就积了厚厚的一层雪。当雪积到一定程度时，雪松那富有弹性的枝丫就开始向下弯曲，于是积雪便从树枝上滑落，待压力减轻，刚弯下去的树枝又立即反弹过来，雪松依旧保持着苍翠挺拔的身姿。就这样，反复地积，反复地弯，反复地落，反复地弹……不论雪下得多大，雪松始终完好无损。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"/>
          <p:cNvSpPr/>
          <p:nvPr/>
        </p:nvSpPr>
        <p:spPr>
          <a:xfrm>
            <a:off x="719280" y="3598560"/>
            <a:ext cx="842472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1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产生奇异景观的关键是什么？  用横线画出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2.</a:t>
            </a:r>
            <a:r>
              <a:rPr b="1" lang="zh-CN" sz="28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体会雪松与风雪抗争的过程与艰辛。连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复地积   感受雪松不屈不挠的精神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复地弯   想象暴雪之大，之狂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复地落   体会雪松承受的压力之大，和在承受的同时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当退让的策略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反复地弹   体会“退让”策略的成功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" dur="500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1" dur="500"/>
                                        <p:tgtEl>
                                          <p:spTgt spid="1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1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" dur="500"/>
                                        <p:tgtEl>
                                          <p:spTgt spid="1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394920" y="2349000"/>
            <a:ext cx="8567640" cy="218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0">
              <a:lnSpc>
                <a:spcPct val="90000"/>
              </a:lnSpc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          </a:t>
            </a:r>
            <a:r>
              <a:rPr b="1" lang="zh-CN" sz="3400" spc="-1" strike="noStrike">
                <a:solidFill>
                  <a:srgbClr val="008000"/>
                </a:solidFill>
                <a:latin typeface="楷体_GB2312"/>
                <a:ea typeface="楷体_GB2312"/>
              </a:rPr>
              <a:t>本课记叙了加拿大魁北克山谷的一个奇异的自然现象，告诉人们在逆境和压力面前，既要敢于抗争，也要学会退让，以退为进。 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title"/>
          </p:nvPr>
        </p:nvSpPr>
        <p:spPr>
          <a:xfrm>
            <a:off x="468360" y="333360"/>
            <a:ext cx="512280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1562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500" spc="-1" strike="noStrike">
                <a:solidFill>
                  <a:srgbClr val="008000"/>
                </a:solidFill>
                <a:latin typeface="Verdana"/>
                <a:ea typeface="黑体"/>
              </a:rPr>
              <a:t>文章中心思想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绿色圃中小学教育网http://www.lspjy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4" dur="5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07T02:55:33Z</dcterms:created>
  <dc:creator>绿色圃中小学教育网http://www.lspjy.com</dc:creator>
  <dc:description>绿色圃中小学教育网http://www.lspjy.com</dc:description>
  <cp:keywords>绿色圃中小学教育网http://www.lspjy.com</cp:keywords>
  <dc:language>en-US</dc:language>
  <cp:lastModifiedBy>微软中国</cp:lastModifiedBy>
  <dcterms:modified xsi:type="dcterms:W3CDTF">2015-07-13T03:44:01Z</dcterms:modified>
  <cp:revision>20</cp:revision>
  <dc:subject>绿色圃中小学教育网http://www.lspjy.com</dc:subject>
  <dc:title>绿色圃中小学教育网http://www.lspjy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