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766-9BC1-4D4E-A97F-E95E6EEE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769-E9AC-461E-88EB-B5CE778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A60-39AB-4108-AD67-5675299E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0CA-412A-4041-9ACF-A1D33C91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49DB-09D7-450B-9D63-DD4B5012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4291-1A29-4923-919A-94DD00D1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AFA3-351B-42AA-B4E9-D10DAF8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62DB-8CA5-4E5E-BAA0-78A52234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41EF-C926-4B43-B8AF-45DCC1A6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6303-7A23-403D-8D8E-F12BB061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D6A1-A127-4B1D-96C6-4AC4D9D6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D43-D764-448A-ADEF-5A61A9C1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F805-5B0B-4F54-96C4-BD5681C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73A5-E293-4F74-A0B9-E9D0524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A86A-21EB-497F-8743-C4484DE9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BF86-787D-4A31-998F-771CBCC7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050-1F4E-4EAD-AF59-6BEC06D1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C6A-BF5E-447C-9A75-45B61C06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8A3-4817-43B2-809C-FB831B0D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431-8024-455D-BD76-639644C6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4A5-4737-4415-B09E-C5879EE2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AFD-9C01-4E13-A14F-5260287B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2D9-24BE-412D-90F4-FE16EB7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F5D-7338-4374-B55D-D07E248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2686-D7B8-4A1E-AA79-97C2A8919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0741-35EE-4946-A116-59D2CE93E14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324000" y="1628640"/>
            <a:ext cx="7164360" cy="180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王安石"/>
          <p:cNvPicPr/>
          <p:nvPr/>
        </p:nvPicPr>
        <p:blipFill>
          <a:blip r:embed="rId2"/>
          <a:stretch/>
        </p:blipFill>
        <p:spPr>
          <a:xfrm>
            <a:off x="6012000" y="189000"/>
            <a:ext cx="2754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4"/>
          <p:cNvSpPr/>
          <p:nvPr/>
        </p:nvSpPr>
        <p:spPr>
          <a:xfrm>
            <a:off x="2700360" y="4437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王安石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722240" y="8492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划分朗读节奏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838080"/>
            <a:ext cx="466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划分朗读节奏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43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金溪民方仲永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537560" y="342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借旁近与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14400" y="3429000"/>
            <a:ext cx="437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借旁近与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986840" y="44956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自是指物作诗立就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066680" y="5562720"/>
            <a:ext cx="64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日扳仲永环谒于邑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3505320"/>
            <a:ext cx="0" cy="838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2971800" y="2286000"/>
            <a:ext cx="0" cy="838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2286000" y="4648320"/>
            <a:ext cx="0" cy="838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990720" y="4495680"/>
            <a:ext cx="63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自是指物作诗立就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2362320" y="5638680"/>
            <a:ext cx="0" cy="838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3657600" y="5638680"/>
            <a:ext cx="0" cy="838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4876920" y="5638680"/>
            <a:ext cx="0" cy="838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4724280" y="4495680"/>
            <a:ext cx="0" cy="838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Picture 20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457200" y="685800"/>
            <a:ext cx="757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揣摩下列句子的朗读语气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38080" y="1981080"/>
            <a:ext cx="632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其文理皆有可观者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3048120"/>
            <a:ext cx="40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父利其然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62120" y="4038480"/>
            <a:ext cx="54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不能称前时之闻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990720" y="5105520"/>
            <a:ext cx="473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泯然众人矣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7">
            <a:hlinkClick r:id="rId1" action="ppaction://hlinksldjump"/>
          </p:cNvPr>
          <p:cNvSpPr/>
          <p:nvPr/>
        </p:nvSpPr>
        <p:spPr>
          <a:xfrm flipH="1">
            <a:off x="8171640" y="404640"/>
            <a:ext cx="1203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9" name="Picture 10" descr="0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57200" y="685800"/>
            <a:ext cx="40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参考答案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50920" y="1981080"/>
            <a:ext cx="63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其文理皆有可观者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39640" y="3048120"/>
            <a:ext cx="36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父利其然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4038480"/>
            <a:ext cx="524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不能称前时之闻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5280" y="5105520"/>
            <a:ext cx="38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泯然众人矣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012000" y="3068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愤怒语气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84720" y="198900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惊叹语气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940360" y="4076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遗憾语气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940360" y="515772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痛心语气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Picture 12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51480" y="56844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28600" y="838080"/>
            <a:ext cx="84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翻译时注意事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）以直译为主，意译为辅。（直译按文言文的词序，句式，一字一句地对照着翻译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）凡是人名、官名、地名、朝代、年号等专用名词，只须照搬，不必去翻译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）把省略的内容补译出来，使句子贯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）要按现代汉语的习惯，适当调整语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2" name="Picture 4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826920" y="549360"/>
            <a:ext cx="42498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补充课文注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父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诗四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484360" y="141300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焉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语气代词，代这件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348000" y="221148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动词，写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828720" y="2708280"/>
            <a:ext cx="36720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以钱币乞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利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然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先人还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还自扬州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4655520" y="285912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有的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203640" y="364500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利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动词的意动用法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以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为利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然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这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276720" y="50925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从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跟从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2843280" y="5877000"/>
            <a:ext cx="33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从扬州回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Picture 12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11280" y="333360"/>
            <a:ext cx="417672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贤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材人远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之为众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且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为众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固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众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得为众人而已耶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900000" y="58831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反问句。恐怕他连普通人还不如罢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870280" y="4005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固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本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916360" y="2924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且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况且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34800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卒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最终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780000" y="76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比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Picture 9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68360" y="50760"/>
            <a:ext cx="691200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理解几个用法特殊的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诗四句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扳仲永环谒于邑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邑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稍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宾客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其父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利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其然也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403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词活用为动词，写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352520" y="2421000"/>
            <a:ext cx="62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词活用为状语，每天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116000" y="365112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形容词活用为动词，对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感到惊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079640" y="48751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词活用为动词，把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当宾客招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042920" y="602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词活用为动词，认为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有利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5" name="Picture 9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50920" y="265320"/>
            <a:ext cx="43909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下列句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不使学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还自扬州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受之天也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900000" y="836640"/>
            <a:ext cx="79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省略句，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省略了宾语，即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不使（之）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不让（仲永）学习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474920" y="2649600"/>
            <a:ext cx="7561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倒装句，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正确的语序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扬州还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从扬州回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116000" y="4437000"/>
            <a:ext cx="7812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省略句，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省略了介词，即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受之（于）天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从上天那里得到或上天赋予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0" name="Picture 7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4046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金溪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方仲永，        世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隶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1125360"/>
            <a:ext cx="727236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溪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平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仲永，世代以耕田为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11280" y="2060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仲永生五年，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未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识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书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忽啼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611280" y="2852640"/>
            <a:ext cx="727236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仲永长到五岁的时候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不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见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书写的工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（有一天）忽然哭叫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些东西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5280" y="4076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异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旁近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与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书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诗四句，并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其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468360" y="4941720"/>
            <a:ext cx="8207280" cy="9471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父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到诧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（便）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邻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书具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给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仲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马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四句诗，并且自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题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自己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7" name="Picture 8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9528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其诗以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父母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收族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为意，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乡秀才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4000" y="1268280"/>
            <a:ext cx="813564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诗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赡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团结同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作为旨意，传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乡的秀才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首诗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24000" y="2421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是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指物作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立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理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可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者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280" y="3141720"/>
            <a:ext cx="813600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此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人们指事物让他作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立即完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诗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采和道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值得观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地方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8360" y="4581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邑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之，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稍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宾客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其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以钱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乞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95280" y="5300640"/>
            <a:ext cx="813600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同县的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到奇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渐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请他父亲去做客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拿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4" name="Picture 8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9640" y="2205000"/>
            <a:ext cx="78645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王安石，唐宋古文八大家之一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唐宋八大家”，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是唐宋时期八大散文代表作家的合称，即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</a:rPr>
              <a:t>唐代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韩愈、柳宗元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</a:rPr>
              <a:t>宋代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欧阳修、苏洵、苏轼、苏辙、王安石、曾巩。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Picture 3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684360" y="692280"/>
            <a:ext cx="3240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73000"/>
                  </a:srgbClr>
                </a:solidFill>
                <a:latin typeface="华文行楷"/>
              </a:rPr>
              <a:t>作者简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73000"/>
                </a:srgbClr>
              </a:solidFill>
              <a:latin typeface="华文行楷"/>
              <a:ea typeface="华文行楷"/>
            </a:endParaRPr>
          </a:p>
        </p:txBody>
      </p:sp>
    </p:spTree>
  </p:cSld>
  <p:transition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95280" y="206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利其然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也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扳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仲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环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于邑人，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95280" y="2924280"/>
            <a:ext cx="813600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他父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认为这样有利可图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天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牵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仲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处拜访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同县的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让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他学习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7" name="Picture 4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95280" y="836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余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闻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也久。明道中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先人还家，于舅家见之，十二三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95280" y="2133720"/>
            <a:ext cx="813600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听说这件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很久了。明道年间，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跟随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先父回家乡，在舅舅家看见了仲永，他十二三岁了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95280" y="350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令作诗，不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称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前时之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68360" y="4508640"/>
            <a:ext cx="813600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让他写诗，他的诗不能和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以前的名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当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了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2" name="Picture 6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9528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又七年，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扬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复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到舅家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50920" y="1052640"/>
            <a:ext cx="838836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又过了七年，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扬州回来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到舅舅家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仲永的情况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50920" y="2205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曰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泯然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众人矣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4000" y="4653000"/>
            <a:ext cx="838836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认为，仲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通达聪慧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先天得到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68360" y="4005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王子曰：仲永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通悟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受之天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95280" y="2852640"/>
            <a:ext cx="838836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舅舅说：“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才能完全消失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和普通人一样了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9" name="Picture 8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9528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其受之天也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贤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于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材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远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50920" y="1052640"/>
            <a:ext cx="838836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他先天得到的，远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胜过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有才能的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24000" y="184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之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众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则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于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者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不至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24000" y="2565360"/>
            <a:ext cx="838836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他成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普通的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就是（因为）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天所受的教育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没有达到要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95280" y="3860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彼其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受之天也，如此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贤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也，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之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为众人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50920" y="4653000"/>
            <a:ext cx="8388360" cy="5205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先天得到的，像这样聪明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缺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天教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尚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还成为普通的人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6" name="Picture 8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68360" y="1628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夫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受之天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众人，又不受之人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为众人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耶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50920" y="3068640"/>
            <a:ext cx="8388360" cy="9378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现在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那些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没有天赋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本来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就是普通人，又缺乏后天教育的人，想成为一个平常的人恐怕都不能够吧？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9" name="Picture 4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332000" y="1159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考译文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547560" y="69228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金溪有个叫方仲永的，世代以种田为业。仲永长到五岁，不曾认识笔墨纸砚，有一天忽然放声哭着要这些东西。父亲对此感到惊异，从邻近人家借来给他，仲永当即写了四句诗，并且题上自己的名字。这首诗以赡养父母，团结同宗族的人为内容，传给全乡的秀才看了。从此，指定物品让他作诗，他能立即写好，诗的文章和道理都有值得看的地方。同县的人对他感到惊奇，渐渐的请他的父亲去做客，有的人还花钱求仲永题诗。他的父亲认为这样有利可图，每天牵着仲永四处拜访同县的人，不让他学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2" name="Picture 4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260280"/>
            <a:ext cx="1619280" cy="3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755640" y="1268280"/>
            <a:ext cx="77770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我听到这件事很久了，明道年间，我随先父回到家乡，在舅舅家里见到他，十二三岁了。让他作诗，写出来的诗不能与从前的名声相称。又过了七年，我从扬州回来，再次到舅舅家，问起方仲永的情况，回答说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他完全同平常人一样了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4" name="Picture 3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333360"/>
            <a:ext cx="161892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539640" y="907920"/>
            <a:ext cx="822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王先生说：仲永通达聪慧是天赋的。他的天资，比一般有才能的人高得多。他最终成为一个平常的人，是因为他没有受到后天的教育。像他那样天生聪明，如此有才智，没有受到后天的教育，尚且要成为平常的人；那么，现在那些不是天生聪明，本来就是平常的人，又不接受后天的教育，想成为一个平常的人恐怕都不能够吧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6" name="Picture 3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856800" y="380880"/>
            <a:ext cx="1826640" cy="9169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本文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3276720"/>
            <a:ext cx="855000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第一阶段：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幼年作诗表现出非凡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	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才华与天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第二阶段：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十二三岁时才能大不如先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	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	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	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    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第三阶段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写成年之后的仲永才能泯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79280" y="1700280"/>
            <a:ext cx="85345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第一部分：（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1-2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以叙事为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	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简叙仲永才能发展变化的三个阶段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0" name="Picture 5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4114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、写仲永最终沦为平庸，又是以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闻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”的形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838080" y="556272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见闻结合，使叙事显得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真实可信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04920" y="297180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、写仲永十二三岁才思“不能称前时之闻”，是以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见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”的形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04920" y="304920"/>
            <a:ext cx="7940520" cy="5814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三个阶段的叙述，有见有闻，有详有略，这样写有什么好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0492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、写仲永少时天资聪明，是以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闻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”的形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6" name="Picture 7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646200" y="1228320"/>
            <a:ext cx="8497800" cy="3134520"/>
            <a:chOff x="646200" y="1228320"/>
            <a:chExt cx="8497800" cy="3134520"/>
          </a:xfrm>
        </p:grpSpPr>
        <p:sp>
          <p:nvSpPr>
            <p:cNvPr id="89" name="Rectangle 3"/>
            <p:cNvSpPr/>
            <p:nvPr/>
          </p:nvSpPr>
          <p:spPr>
            <a:xfrm>
              <a:off x="646200" y="1228320"/>
              <a:ext cx="842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王安石（</a:t>
              </a:r>
              <a:r>
                <a:rPr b="1" lang="en-US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1021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——</a:t>
              </a:r>
              <a:r>
                <a:rPr b="1" lang="en-US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1086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），字</a:t>
              </a: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介甫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，号</a:t>
              </a: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半山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，江西临川人，</a:t>
              </a: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北宋政治家、文学家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。做官后，向朝廷上万言书，提出政治改革的主张。继而推行各项政治革新，取得一定成就。但由于保守派的强烈反对，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3743280" y="3171600"/>
              <a:ext cx="54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他两次被罢相。晚年封为荆国公，谥号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文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”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。著有</a:t>
              </a:r>
              <a:r>
                <a:rPr b="1" lang="en-US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王临川集</a:t>
              </a:r>
              <a:r>
                <a:rPr b="1" lang="en-US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王文公文集</a:t>
              </a:r>
              <a:r>
                <a:rPr b="1" lang="en-US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6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91" name="Picture 5" descr="was"/>
          <p:cNvPicPr/>
          <p:nvPr/>
        </p:nvPicPr>
        <p:blipFill>
          <a:blip r:embed="rId1"/>
          <a:srcRect l="26959" t="4104" r="22802" b="57242"/>
          <a:stretch/>
        </p:blipFill>
        <p:spPr>
          <a:xfrm>
            <a:off x="539640" y="3500280"/>
            <a:ext cx="2592360" cy="3097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0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28600" y="198108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、课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详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写第一阶段。铺陈仲永才能初露的情形，暗示其前途无量，而其父贪利导致他才能衰退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28600" y="3733920"/>
            <a:ext cx="85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、后两个阶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略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写，几笔点出其沦为平庸的原因，引人深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57200" y="4952880"/>
            <a:ext cx="83628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这样详略处理，有力地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突出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了“伤”这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主题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533520" y="533520"/>
            <a:ext cx="7940520" cy="5814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三个阶段的叙述，有见有闻，有详有略，这样写有什么好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1" name="Picture 6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38080" y="2286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第二部分：（ 第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3</a:t>
            </a:r>
            <a:r>
              <a:rPr b="0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自然段）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本段以议论为主，讲了两层意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52280" y="51814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这一段作者主要强调了后天努力学习，接受教育对成才的重要作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246400" y="1676520"/>
            <a:ext cx="40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层：从“王子曰”到“不至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104000" y="2286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揭示了仲永才能泯灭的原因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812960" y="30481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层：从“彼其”到文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122920" y="3657600"/>
            <a:ext cx="439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由仲永引申出天赋差的人如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不“受之人”，结局将更可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8" name="Picture 8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6988320" y="685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神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7740000" y="2743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使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6988320" y="4648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庸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713520" y="762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914400" y="1447920"/>
            <a:ext cx="0" cy="114300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13520" y="2743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914400" y="3505320"/>
            <a:ext cx="0" cy="106668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713520" y="4648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793240" y="76212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父异焉    邑人奇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4114800" y="1523880"/>
            <a:ext cx="0" cy="114300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2928240" y="27432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不能称前时之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4114800" y="3581280"/>
            <a:ext cx="0" cy="99072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256920" y="46483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泯然众人矣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7315200" y="1371600"/>
            <a:ext cx="0" cy="320040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3" name="Picture 16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55640" y="76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第三段议论写作者的观点。请简要说说作者的观点是什么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611280" y="2492280"/>
            <a:ext cx="8136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认为人的才能有赖于后天的教育和培养，即使是天赋很高的人，如果不加以教育和培养，也会变成平庸无能的人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6" name="Picture 4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539640" y="1052640"/>
            <a:ext cx="813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⒈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方仲永的天资过人，表现在哪里？在课文中找出原句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826920" y="2708280"/>
            <a:ext cx="79930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尝识书具，忽啼求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书诗四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物作诗立就，其文理皆有可观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65680" y="404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Arial"/>
              </a:rPr>
              <a:t>阅读课文，回答下面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0" name="Picture 5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1116000" y="836640"/>
            <a:ext cx="720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方仲永的变化经历了哪几个阶段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539640" y="1989000"/>
            <a:ext cx="8280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阶段：幼时天资过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阶段：十二三岁时才能衰退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阶段：又过七年后变成平庸之人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3" name="Picture 4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755640" y="549360"/>
            <a:ext cx="777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⒊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方仲永由天资过人变得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泯然众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原因是什么？用原句回答。你还有什么新的、独到的见解吗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26920" y="270828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从方仲永个人情况来看，原因是其父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不使学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；从道理上来说，原因是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其受于人者不至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没有受到后天正常的教育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6" name="Picture 4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755640" y="765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⒋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最后一段作者讲了什么道理？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611280" y="177336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资好的人，没有得到良好的教育，尚且变成普通的人，那些天资平常的人，如不接受教育，连普通人都赶不上了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9" name="Picture 4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611280" y="1052640"/>
            <a:ext cx="8136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⒌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文章叙述了方仲永从五岁到二十岁间才能变化的三个阶段，你认为哪一个阶段写得最详细？说说你的依据。再想想：作者为什么要详写这一阶段呢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1" name="Picture 3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539640" y="1125360"/>
            <a:ext cx="8136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方仲永才能初露时的幼年阶段详写。详写这一阶段，意在说明一方面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仲永之通悟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确实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受之天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有先天的因素；另一方面，正是在这个时期，就已经埋下了才能衰退的种子，即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父利其然也，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不使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以方仲永为反面的例子，来说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受之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即后天教育的重要性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3" name="Picture 3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620640"/>
            <a:ext cx="849780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80"/>
                </a:solidFill>
                <a:latin typeface="宋体"/>
              </a:rPr>
              <a:t>　　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8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王安石少怀大志，博学多思，随父宦游各地，目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了北宋“民劳财匮”，提出了一个完整的新的思想体系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对后来学术思想产生较大影响，也为其改革奠定了基础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　　王自２２岁考中进士，踏入仕途。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宋体"/>
              </a:rPr>
              <a:t>1069-1076</a:t>
            </a:r>
            <a:r>
              <a:rPr b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，王安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两度为相。为改变北宋“积贫积若非”的政治局面，王安石不顾守旧势力的反对和阻挠，发动和领导了一场社会变革运动。史称“</a:t>
            </a:r>
            <a:r>
              <a:rPr b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熙宁新法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”。</a:t>
            </a:r>
            <a:r>
              <a:rPr b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列宁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称王为“</a:t>
            </a:r>
            <a:r>
              <a:rPr b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中国十一世纪的改革家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　　在文学方面，王安石的诗词瘦硬雄直，散文说理逻辑严密，行文峭菝凌厉，给后人留下</a:t>
            </a:r>
            <a:r>
              <a:rPr b="1" lang="en-US" sz="2400" spc="-1" strike="noStrike">
                <a:solidFill>
                  <a:srgbClr val="000080"/>
                </a:solidFill>
                <a:latin typeface="宋体"/>
              </a:rPr>
              <a:t>1540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多首诗歌，</a:t>
            </a:r>
            <a:r>
              <a:rPr b="1" lang="en-US" sz="2400" spc="-1" strike="noStrike">
                <a:solidFill>
                  <a:srgbClr val="000080"/>
                </a:solidFill>
                <a:latin typeface="宋体"/>
              </a:rPr>
              <a:t>800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多篇散文的丰富文化遗产。其诗文</a:t>
            </a:r>
            <a:r>
              <a:rPr b="1" lang="en-US" sz="2400" spc="-1" strike="noStrike">
                <a:solidFill>
                  <a:srgbClr val="000080"/>
                </a:solidFill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泊船瓜洲</a:t>
            </a:r>
            <a:r>
              <a:rPr b="1" lang="en-US" sz="2400" spc="-1" strike="noStrike">
                <a:solidFill>
                  <a:srgbClr val="00008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中“</a:t>
            </a:r>
            <a:r>
              <a:rPr b="1" lang="zh-CN" sz="2400" spc="-1" strike="noStrike" u="sng">
                <a:solidFill>
                  <a:srgbClr val="800080"/>
                </a:solidFill>
                <a:uFillTx/>
                <a:latin typeface="宋体"/>
              </a:rPr>
              <a:t>春风又绿江南岸，明月何时照我还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”堪为千古绝唱。</a:t>
            </a:r>
            <a:r>
              <a:rPr b="1" lang="en-US" sz="2400" spc="-1" strike="noStrike">
                <a:solidFill>
                  <a:srgbClr val="00008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桂枝香　金陵怀古</a:t>
            </a:r>
            <a:r>
              <a:rPr b="1" lang="en-US" sz="2400" spc="-1" strike="noStrike">
                <a:solidFill>
                  <a:srgbClr val="00008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一词写景言志为诗词名篇。散文</a:t>
            </a:r>
            <a:r>
              <a:rPr b="1" lang="en-US" sz="2400" spc="-1" strike="noStrike" u="sng">
                <a:solidFill>
                  <a:srgbClr val="000080"/>
                </a:solidFill>
                <a:uFillTx/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000080"/>
                </a:solidFill>
                <a:uFillTx/>
                <a:latin typeface="宋体"/>
              </a:rPr>
              <a:t>答司马谏议书</a:t>
            </a:r>
            <a:r>
              <a:rPr b="1" lang="en-US" sz="2400" spc="-1" strike="noStrike" u="sng">
                <a:solidFill>
                  <a:srgbClr val="000080"/>
                </a:solidFill>
                <a:uFillTx/>
                <a:latin typeface="宋体"/>
              </a:rPr>
              <a:t>》《</a:t>
            </a:r>
            <a:r>
              <a:rPr b="1" lang="zh-CN" sz="2400" spc="-1" strike="noStrike" u="sng">
                <a:solidFill>
                  <a:srgbClr val="000080"/>
                </a:solidFill>
                <a:uFillTx/>
                <a:latin typeface="宋体"/>
              </a:rPr>
              <a:t>游褒禅山记</a:t>
            </a:r>
            <a:r>
              <a:rPr b="1" lang="en-US" sz="2400" spc="-1" strike="noStrike" u="sng">
                <a:solidFill>
                  <a:srgbClr val="000080"/>
                </a:solidFill>
                <a:uFillTx/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80"/>
                </a:solidFill>
                <a:latin typeface="宋体"/>
              </a:rPr>
              <a:t>作为范文精选入中学课本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Picture 3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611280" y="1052640"/>
            <a:ext cx="80643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你怎样认识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受之天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受之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关系，即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人的天资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后天教育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关系？假如你认为自己很聪明的话，读了文章后，有什么感受和启发？假如你认为自己还有点笨，读了文章后，又有什么感受和启发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5" name="Picture 3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619280" y="476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33cc"/>
                </a:solidFill>
                <a:latin typeface="隶书"/>
                <a:ea typeface="隶书"/>
              </a:rPr>
              <a:t>小 结</a:t>
            </a:r>
            <a:r>
              <a:rPr b="1" i="1" lang="zh-CN" sz="54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39640" y="134136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本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寓理于事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通过方仲永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岁到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岁才能发展变化的故事，说明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的天资和后天成才的关系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前两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叙事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最后一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议论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叙事部分详写方仲永幼年才能出众的情形，而略写此后的情况，先抑后扬，对比鲜明，表达了作者的惋惜之情；然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事说理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提出作者的见解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龙点睛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起了突出中心的作用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8" name="Picture 4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646200" y="148428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华文隶书"/>
                <a:ea typeface="华文隶书"/>
              </a:rPr>
              <a:t>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本文语言非常精练，作者将丰富的表现力赋予了每一个句子、每一个词甚至每一个字，找出相应的例子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39640" y="40464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语言揣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1" name="Picture 4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304920" y="22860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三字交代了方仲永的身份、家庭环境，既衬托了非凡天资，又暗示了造成他命运的家庭背景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304920" y="4038480"/>
            <a:ext cx="84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个字生动地写出仲永索求书具的儿童情态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0" y="54756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i="1" lang="zh-CN" sz="3200" spc="-1" strike="noStrike">
                <a:solidFill>
                  <a:srgbClr val="ff0000"/>
                </a:solidFill>
                <a:latin typeface="宋体"/>
              </a:rPr>
              <a:t>世隶耕</a:t>
            </a:r>
            <a:r>
              <a:rPr b="1" i="1" lang="zh-CN" sz="3200" spc="-1" strike="noStrike">
                <a:solidFill>
                  <a:srgbClr val="0033cc"/>
                </a:solidFill>
                <a:latin typeface="宋体"/>
              </a:rPr>
              <a:t>”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73280" y="4305240"/>
            <a:ext cx="12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i="1" lang="zh-CN" sz="3600" spc="-1" strike="noStrike">
                <a:solidFill>
                  <a:srgbClr val="ff0000"/>
                </a:solidFill>
                <a:latin typeface="宋体"/>
              </a:rPr>
              <a:t>啼</a:t>
            </a:r>
            <a:r>
              <a:rPr b="1" i="1" lang="zh-CN" sz="3600" spc="-1" strike="noStrike">
                <a:solidFill>
                  <a:srgbClr val="0033cc"/>
                </a:solidFill>
                <a:latin typeface="宋体"/>
              </a:rPr>
              <a:t>”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6" name="Picture 6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28600" y="457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三个副词，使一个天资非凡、文思敏捷的神童形象跃然纸上</a:t>
            </a:r>
            <a:r>
              <a:rPr b="1" lang="zh-CN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52280" y="3657600"/>
            <a:ext cx="877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三言两语就从旁衬托出方仲永的杰出</a:t>
            </a:r>
            <a:r>
              <a:rPr b="1" i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才华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449360" y="668160"/>
            <a:ext cx="28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忽</a:t>
            </a:r>
            <a:r>
              <a:rPr b="1" i="1" lang="zh-CN" sz="4000" spc="-1" strike="noStrike">
                <a:solidFill>
                  <a:srgbClr val="0033cc"/>
                </a:solidFill>
                <a:latin typeface="宋体"/>
              </a:rPr>
              <a:t>”“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即</a:t>
            </a:r>
            <a:r>
              <a:rPr b="1" i="1" lang="zh-CN" sz="4000" spc="-1" strike="noStrike">
                <a:solidFill>
                  <a:srgbClr val="0033cc"/>
                </a:solidFill>
                <a:latin typeface="宋体"/>
              </a:rPr>
              <a:t>”“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立</a:t>
            </a:r>
            <a:r>
              <a:rPr b="1" i="1" lang="zh-CN" sz="4000" spc="-1" strike="noStrike">
                <a:solidFill>
                  <a:srgbClr val="0033cc"/>
                </a:solidFill>
                <a:latin typeface="宋体"/>
              </a:rPr>
              <a:t>”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0" y="38685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奇之</a:t>
            </a:r>
            <a:r>
              <a:rPr b="1" i="1" lang="zh-CN" sz="4000" spc="-1" strike="noStrike">
                <a:solidFill>
                  <a:srgbClr val="0033cc"/>
                </a:solidFill>
                <a:latin typeface="宋体"/>
              </a:rPr>
              <a:t>”“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宾客其父</a:t>
            </a:r>
            <a:r>
              <a:rPr b="1" i="1" lang="zh-CN" sz="4000" spc="-1" strike="noStrike">
                <a:solidFill>
                  <a:srgbClr val="0033cc"/>
                </a:solidFill>
                <a:latin typeface="宋体"/>
              </a:rPr>
              <a:t>”“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乞之</a:t>
            </a:r>
            <a:r>
              <a:rPr b="1" i="1" lang="zh-CN" sz="4000" spc="-1" strike="noStrike">
                <a:solidFill>
                  <a:srgbClr val="0033cc"/>
                </a:solidFill>
                <a:latin typeface="宋体"/>
              </a:rPr>
              <a:t>”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1" name="Picture 6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860280" y="1828800"/>
            <a:ext cx="1737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利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”：表现了其父贪求钱财、鼠目寸光的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格特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657960" y="297180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环谒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”：概括了其父求财的可鄙行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153880" y="3657600"/>
            <a:ext cx="5148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不使学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”：暗示了仲永“泯然众人”的必然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57200" y="304920"/>
            <a:ext cx="8169120" cy="703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“父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Times New Roman"/>
                <a:ea typeface="隶书"/>
              </a:rPr>
              <a:t>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其然也，日扳仲永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Times New Roman"/>
                <a:ea typeface="隶书"/>
              </a:rPr>
              <a:t>环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邑人，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Times New Roman"/>
                <a:ea typeface="隶书"/>
              </a:rPr>
              <a:t>不使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一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04920" y="4724280"/>
            <a:ext cx="862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本句用极其凝炼的笔墨，揭示了仲永才能衰竭，天资尽丧的原因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7" name="Picture 7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457200" y="40384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受于人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是指人的后天学习和所受到的教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066680" y="533520"/>
            <a:ext cx="5737320" cy="13129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3366ff"/>
                </a:solidFill>
                <a:latin typeface="隶书"/>
                <a:ea typeface="隶书"/>
              </a:rPr>
              <a:t>受于天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3366ff"/>
                </a:solidFill>
                <a:latin typeface="隶书"/>
                <a:ea typeface="隶书"/>
              </a:rPr>
              <a:t>指什么？</a:t>
            </a:r>
            <a:br>
              <a:rPr sz="4000"/>
            </a:b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3366ff"/>
                </a:solidFill>
                <a:latin typeface="隶书"/>
                <a:ea typeface="隶书"/>
              </a:rPr>
              <a:t>受于人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3366ff"/>
                </a:solidFill>
                <a:latin typeface="隶书"/>
                <a:ea typeface="隶书"/>
              </a:rPr>
              <a:t>又指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80880" y="2438280"/>
            <a:ext cx="82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受于天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是指人的先天条件好，即有天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1" name="Picture 5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304920" y="457200"/>
            <a:ext cx="8397720" cy="703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可以从仲永身上吸取哪些教训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447920"/>
            <a:ext cx="8534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人的智力发展存在着某些差异，但这不是起决定作用的因素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起决定作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因素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后天的教育和学习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。青少年应正确认识自己：天资好的，加上勤奋学习，可能成为栋梁之材；反之，即使天资再好，如不学习，同样会碌碌无为。另一方面，即使天资差的人，如勤奋学习，也可以成为有用之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4" name="Picture 4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073240" y="56196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主题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700640" y="2060640"/>
            <a:ext cx="616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《</a:t>
            </a:r>
            <a:r>
              <a:rPr b="0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伤仲永</a:t>
            </a:r>
            <a:r>
              <a:rPr b="0" lang="en-US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》</a:t>
            </a:r>
            <a:r>
              <a:rPr b="0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通过方仲永五岁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到</a:t>
            </a:r>
            <a:r>
              <a:rPr b="0" lang="en-US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</a:t>
            </a:r>
            <a:r>
              <a:rPr b="0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岁才能发展变化的故事</a:t>
            </a:r>
            <a:r>
              <a:rPr b="0" lang="en-US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说明了人的天资与后天成才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的关系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7" name="Picture 6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24000" y="836640"/>
            <a:ext cx="86263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作业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以“由方仲永所想到的”为题，作即席发言，自己确定发言的角度和观点。 （写成四百字的短文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确立观察角度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方仲永、方父、邑人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从材料中提炼观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要求：中心明确，层次清楚，语言简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5508720" y="533520"/>
            <a:ext cx="324000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华文行楷"/>
              </a:rPr>
              <a:t>练习与研讨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330" name="Picture 4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gif69"/>
          <p:cNvPicPr/>
          <p:nvPr/>
        </p:nvPicPr>
        <p:blipFill>
          <a:blip r:embed="rId1"/>
          <a:stretch/>
        </p:blipFill>
        <p:spPr>
          <a:xfrm>
            <a:off x="5508720" y="1268280"/>
            <a:ext cx="3635280" cy="4032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404640"/>
            <a:ext cx="57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王安石的散文以议论性居多，较少注意文章气氛的酝酿，从感情上打动人，而是针砭时弊，根据深刻的分析，提出明确主张。因此，他的散文一般具有较强的概括力与逻辑性，语言简炼、朴素，立意非凡，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紧贴社会、政治和人生的实际，直接为他的政治斗争服务。如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答司马谏议书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读孟尝君传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在游记这一最具辞采和情趣的文体里，王安石也常将极富哲理的主题引入，如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游褒禅山记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等。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　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Picture 4" descr="0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3"/>
          <p:cNvSpPr/>
          <p:nvPr/>
        </p:nvSpPr>
        <p:spPr>
          <a:xfrm>
            <a:off x="974880" y="1197000"/>
            <a:ext cx="8169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一、下列句中停顿有误的一项是：</a:t>
            </a:r>
            <a:r>
              <a:rPr b="1" lang="zh-CN" sz="2800" spc="-1" strike="noStrike">
                <a:solidFill>
                  <a:srgbClr val="c0c0c0"/>
                </a:solidFill>
                <a:latin typeface="华文中宋"/>
                <a:ea typeface="华文中宋"/>
              </a:rPr>
              <a:t> （    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   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考查要点：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掌握停顿，理解句意。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借旁近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/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与之，即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/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书诗四句，并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/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自为其名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其诗以养父母、收族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/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为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父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/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利其然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余闻之也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/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久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950160" y="1413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906200" y="3733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4" name="Picture 8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9"/>
          <p:cNvSpPr/>
          <p:nvPr/>
        </p:nvSpPr>
        <p:spPr>
          <a:xfrm>
            <a:off x="250920" y="260280"/>
            <a:ext cx="48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知识归类练习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2208600" y="1673280"/>
            <a:ext cx="4917240" cy="29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二、掌握下列加点字的含义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父异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焉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：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书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诗 ：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立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就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：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奇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之 ：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宾客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其父：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或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以钱币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: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516040" y="2362320"/>
            <a:ext cx="58118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华文中宋"/>
                <a:ea typeface="华文中宋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代词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这件事                  写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完成                         认为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奇怪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以宾客之礼相待               有的人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739960" y="4027320"/>
            <a:ext cx="6051240" cy="22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利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其然 ：                     环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谒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：    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然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：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受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于天：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固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众人：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伤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仲永 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903400" y="4038480"/>
            <a:ext cx="6525000" cy="22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认为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有利                   拜访    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完全                         承受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本来                         哀伤，哀怜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0" name="Picture 7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三，词类活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、邑人</a:t>
            </a:r>
            <a:r>
              <a:rPr b="0" lang="zh-CN" sz="4400" spc="-1" strike="noStrike">
                <a:solidFill>
                  <a:srgbClr val="f53144"/>
                </a:solidFill>
                <a:latin typeface="隶书"/>
                <a:ea typeface="隶书"/>
              </a:rPr>
              <a:t>奇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之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0" lang="zh-CN" sz="4400" spc="-1" strike="noStrike">
                <a:solidFill>
                  <a:srgbClr val="f53144"/>
                </a:solidFill>
                <a:latin typeface="隶书"/>
                <a:ea typeface="隶书"/>
              </a:rPr>
              <a:t>宾客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其父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0" lang="zh-CN" sz="4400" spc="-1" strike="noStrike">
                <a:solidFill>
                  <a:srgbClr val="f53144"/>
                </a:solidFill>
                <a:latin typeface="隶书"/>
                <a:ea typeface="隶书"/>
              </a:rPr>
              <a:t>利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其然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0" lang="zh-CN" sz="4400" spc="-1" strike="noStrike">
                <a:solidFill>
                  <a:srgbClr val="f53144"/>
                </a:solidFill>
                <a:latin typeface="隶书"/>
                <a:ea typeface="隶书"/>
              </a:rPr>
              <a:t>伤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仲永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895480" y="160020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635280" y="1413000"/>
            <a:ext cx="550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以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隶书"/>
              </a:rPr>
              <a:t>…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为奇，</a:t>
            </a:r>
            <a:r>
              <a:rPr b="0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形容词作动词。 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3956040" y="2492280"/>
            <a:ext cx="51879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把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隶书"/>
              </a:rPr>
              <a:t>…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当作宾客，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名词作动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4519080" y="335772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以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隶书"/>
              </a:rPr>
              <a:t>…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为利，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名词作动词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3276720" y="42210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哀伤，感伤，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形容词作动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8" name="Picture 9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318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行楷"/>
              </a:rPr>
              <a:t>之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忽啼求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借旁近与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余闻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也久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不能称前时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闻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卒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为众人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：</a:t>
            </a:r>
            <a:br>
              <a:rPr sz="3600"/>
            </a:br>
            <a:r>
              <a:rPr b="0" lang="zh-CN" sz="3600" spc="-1" strike="noStrike">
                <a:solidFill>
                  <a:srgbClr val="007a77"/>
                </a:solidFill>
                <a:latin typeface="隶书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14800" y="1523520"/>
            <a:ext cx="464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代词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它，指书具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代词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他，指仲永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.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代词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这事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.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指仲永父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不使学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环谒于邑人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助词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的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助词，不译</a:t>
            </a:r>
            <a:r>
              <a:rPr b="0" lang="en-US" sz="3600" spc="-1" strike="noStrike">
                <a:solidFill>
                  <a:srgbClr val="003399"/>
                </a:solidFill>
                <a:latin typeface="隶书"/>
                <a:ea typeface="隶书"/>
              </a:rPr>
              <a:t>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2" name="Picture 6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6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传一乡秀才观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7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邑人奇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8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或以钱币乞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9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于舅家见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10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受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之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天也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仲永</a:t>
            </a:r>
            <a:r>
              <a:rPr b="0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之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通悟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14560" y="191628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代词</a:t>
            </a:r>
            <a:r>
              <a:rPr b="0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，它，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代指诗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代词，他，代指仲永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代词，它，代指诗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代词，他，代指仲永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代词，它，代指天赋、天资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助词，无实义，主谓间取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5" name="Picture 4" descr="05"/>
          <p:cNvPicPr/>
          <p:nvPr/>
        </p:nvPicPr>
        <p:blipFill>
          <a:blip r:embed="rId1"/>
          <a:stretch/>
        </p:blipFill>
        <p:spPr>
          <a:xfrm>
            <a:off x="395280" y="333360"/>
            <a:ext cx="1979640" cy="4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0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99"/>
                </a:solidFill>
                <a:latin typeface="Arial"/>
                <a:ea typeface="华文行楷"/>
              </a:rPr>
              <a:t>      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华文行楷"/>
              </a:rPr>
              <a:t>于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2200" y="1905120"/>
            <a:ext cx="49532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、环谒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于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邑人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于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舅家见之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、贤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于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材人远矣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4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、受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于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人者不至：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6160" y="2065320"/>
            <a:ext cx="403236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介词，到。 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介词，在。 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介词，比。 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介词，被。 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9" name="Picture 5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WordArt 3"/>
          <p:cNvSpPr txBox="1"/>
          <p:nvPr/>
        </p:nvSpPr>
        <p:spPr>
          <a:xfrm>
            <a:off x="6248520" y="380880"/>
            <a:ext cx="2000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一词多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1268280"/>
            <a:ext cx="799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诗以养父母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 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文理皆有可观者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 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父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然也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       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受之天也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       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此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贤也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       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受之天也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  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4725360" y="1268280"/>
            <a:ext cx="213156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的，指方仲永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代方仲永写的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这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4" name="Picture 9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0"/>
          <p:cNvSpPr/>
          <p:nvPr/>
        </p:nvSpPr>
        <p:spPr>
          <a:xfrm>
            <a:off x="606960" y="2937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7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2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7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2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7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50920" y="333360"/>
            <a:ext cx="5327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四，重点句子翻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684360" y="256212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、邑人奇之，稍稍宾客其父，或以钱币乞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84360" y="981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、自是指物作诗立就，其文理皆有可观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755640" y="14986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从此，指定物品让他作诗，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他能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立刻写好，诗的文采和道理都有值得看的地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84360" y="3141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县的人对他感到惊奇，渐渐地请他的父亲去做客，有的人还花钱请仲永题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684360" y="41497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、其父利其然也，日扳仲永环谒于邑人，不使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684360" y="508464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他的父亲认为这样有利可图，每天拉着仲永四处拜访同县的人，不让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他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学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73" name="Picture 9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611280" y="1844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、其受之天也，贤于材人远矣。卒之为众人，则其受于人者不至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84360" y="5065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、令作诗，不能称前时之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55640" y="9399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让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他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作诗，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写出来的诗已经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能与从前的名声相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684360" y="2738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他的天赋比一般有才能的人高得多。他最终成为一个平凡的人，是因为他没有受到后天的教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684360" y="4076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、今夫不受之天，固众人，又不受之人，得为众人而已耶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611280" y="49705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现在那些不是天生聪明，本来就平凡的人，又不接受后天的教育，想成为一个平常的人  恐怕都不能够吧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80" name="Picture 8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892800" y="157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五，理解下列句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1200240" y="853920"/>
            <a:ext cx="308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、“不使学”</a:t>
            </a:r>
            <a:r>
              <a:rPr b="1" i="1" lang="zh-CN" sz="4000" spc="-1" strike="noStrike" u="sng">
                <a:solidFill>
                  <a:srgbClr val="003399"/>
                </a:solidFill>
                <a:uFillTx/>
                <a:latin typeface="宋体"/>
              </a:rPr>
              <a:t>省略</a:t>
            </a:r>
            <a:r>
              <a:rPr b="1" i="1" lang="zh-CN" sz="4000" spc="-1" strike="noStrike">
                <a:solidFill>
                  <a:srgbClr val="003399"/>
                </a:solidFill>
                <a:latin typeface="宋体"/>
              </a:rPr>
              <a:t>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1612800" y="1649520"/>
            <a:ext cx="50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即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不使之学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：不让（仲永）学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226520" y="2301840"/>
            <a:ext cx="338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、“受之天也”</a:t>
            </a:r>
            <a:r>
              <a:rPr b="1" i="1" lang="zh-CN" sz="4000" spc="-1" strike="noStrike" u="sng">
                <a:solidFill>
                  <a:srgbClr val="003399"/>
                </a:solidFill>
                <a:uFillTx/>
                <a:latin typeface="宋体"/>
              </a:rPr>
              <a:t>省略</a:t>
            </a:r>
            <a:r>
              <a:rPr b="1" i="1" lang="zh-CN" sz="4000" spc="-1" strike="noStrike">
                <a:solidFill>
                  <a:srgbClr val="003399"/>
                </a:solidFill>
                <a:latin typeface="宋体"/>
              </a:rPr>
              <a:t>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6440" y="2971800"/>
            <a:ext cx="90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即</a:t>
            </a:r>
            <a:r>
              <a:rPr b="1" lang="zh-CN" sz="3600" spc="-1" strike="noStrike">
                <a:solidFill>
                  <a:srgbClr val="3366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受之（于）天</a:t>
            </a:r>
            <a:r>
              <a:rPr b="1" lang="zh-CN" sz="3600" spc="-1" strike="noStrike">
                <a:solidFill>
                  <a:srgbClr val="3366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：从上天那里得到或上天赋予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1074240" y="4435560"/>
            <a:ext cx="338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、“还自扬州”</a:t>
            </a:r>
            <a:r>
              <a:rPr b="1" i="1" lang="zh-CN" sz="4000" spc="-1" strike="noStrike" u="sng">
                <a:solidFill>
                  <a:srgbClr val="003399"/>
                </a:solidFill>
                <a:uFillTx/>
                <a:latin typeface="宋体"/>
              </a:rPr>
              <a:t>倒装</a:t>
            </a:r>
            <a:r>
              <a:rPr b="1" i="1" lang="zh-CN" sz="4000" spc="-1" strike="noStrike">
                <a:solidFill>
                  <a:srgbClr val="003399"/>
                </a:solidFill>
                <a:latin typeface="宋体"/>
              </a:rPr>
              <a:t>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0" y="5181480"/>
            <a:ext cx="89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正确的语序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扬州还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 从扬州回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88" name="Picture 9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11280" y="1557360"/>
            <a:ext cx="68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仲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隶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啼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焉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扳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谒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泯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矣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87280" y="155736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zhòng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38560" y="162864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lì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732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cháng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942240" y="2571840"/>
            <a:ext cx="10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yì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067280" y="25718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yā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332000" y="270828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t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403280" y="486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mǐ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140360" y="3645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330200" y="3716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pā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020000" y="4869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y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211640" y="4869000"/>
            <a:ext cx="10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y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804000" y="37242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chè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39640" y="33336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33cc"/>
                </a:solidFill>
                <a:latin typeface="Arial"/>
                <a:ea typeface="华文新魏"/>
              </a:rPr>
              <a:t>读准字音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Picture 17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913680" y="1122480"/>
            <a:ext cx="1887480" cy="33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泊船瓜洲</a:t>
            </a:r>
            <a:r>
              <a:rPr b="0" lang="en-US" sz="2400" spc="-1" strike="noStrike">
                <a:solidFill>
                  <a:srgbClr val="00008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宋体"/>
              </a:rPr>
              <a:t>[</a:t>
            </a:r>
            <a:r>
              <a:rPr b="1" lang="zh-CN" sz="2000" spc="-1" strike="noStrike">
                <a:solidFill>
                  <a:srgbClr val="3366cc"/>
                </a:solidFill>
                <a:latin typeface="宋体"/>
              </a:rPr>
              <a:t>宋</a:t>
            </a:r>
            <a:r>
              <a:rPr b="1" lang="en-US" sz="2000" spc="-1" strike="noStrike">
                <a:solidFill>
                  <a:srgbClr val="3366cc"/>
                </a:solidFill>
                <a:latin typeface="宋体"/>
              </a:rPr>
              <a:t>] </a:t>
            </a:r>
            <a:r>
              <a:rPr b="1" lang="zh-CN" sz="2000" spc="-1" strike="noStrike">
                <a:solidFill>
                  <a:srgbClr val="3366cc"/>
                </a:solidFill>
                <a:latin typeface="宋体"/>
              </a:rPr>
              <a:t>王安石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8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京口瓜洲一水间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钟山只隔数重山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春风又绿江南岸</a:t>
            </a:r>
            <a:r>
              <a:rPr b="1" lang="en-US" sz="2800" spc="-1" strike="noStrike">
                <a:solidFill>
                  <a:srgbClr val="3366ff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明月何时照我还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564000" y="907920"/>
            <a:ext cx="4724280" cy="53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宋体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桂枝香　金陵怀古</a:t>
            </a:r>
            <a:r>
              <a:rPr b="0" lang="en-US" sz="2400" spc="-1" strike="noStrike">
                <a:solidFill>
                  <a:srgbClr val="000080"/>
                </a:solidFill>
                <a:latin typeface="宋体"/>
              </a:rPr>
              <a:t>》</a:t>
            </a:r>
            <a:r>
              <a:rPr b="0" lang="en-US" sz="2000" spc="-1" strike="noStrike">
                <a:solidFill>
                  <a:srgbClr val="00008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宋体"/>
              </a:rPr>
              <a:t>           </a:t>
            </a:r>
            <a:r>
              <a:rPr b="1" lang="en-US" sz="2000" spc="-1" strike="noStrike">
                <a:solidFill>
                  <a:srgbClr val="3366cc"/>
                </a:solidFill>
                <a:latin typeface="宋体"/>
              </a:rPr>
              <a:t>[</a:t>
            </a:r>
            <a:r>
              <a:rPr b="1" lang="zh-CN" sz="2000" spc="-1" strike="noStrike">
                <a:solidFill>
                  <a:srgbClr val="3366cc"/>
                </a:solidFill>
                <a:latin typeface="宋体"/>
              </a:rPr>
              <a:t>宋</a:t>
            </a:r>
            <a:r>
              <a:rPr b="1" lang="en-US" sz="2000" spc="-1" strike="noStrike">
                <a:solidFill>
                  <a:srgbClr val="3366cc"/>
                </a:solidFill>
                <a:latin typeface="宋体"/>
              </a:rPr>
              <a:t>] </a:t>
            </a:r>
            <a:r>
              <a:rPr b="1" lang="zh-CN" sz="2000" spc="-1" strike="noStrike">
                <a:solidFill>
                  <a:srgbClr val="3366cc"/>
                </a:solidFill>
                <a:latin typeface="宋体"/>
              </a:rPr>
              <a:t>王安石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登临送目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正故国晚秋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天气初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千里澄江似练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翠峰如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归帆去棹斜阳里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背西风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酒旗斜矗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彩舟云淡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星河鹭起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画图难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444720" y="2133720"/>
            <a:ext cx="16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念往昔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繁华兑逐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叹门外楼头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悲恨相续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千古凭高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对此漫嗟荣辱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六朝旧事如流水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但寒烟、衰草凝绿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至今商女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时时犹唱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后庭遗曲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015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WordArt 6"/>
          <p:cNvSpPr txBox="1"/>
          <p:nvPr/>
        </p:nvSpPr>
        <p:spPr>
          <a:xfrm>
            <a:off x="0" y="476280"/>
            <a:ext cx="2000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拓展阅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394" name="WordArt 7"/>
          <p:cNvSpPr txBox="1"/>
          <p:nvPr/>
        </p:nvSpPr>
        <p:spPr>
          <a:xfrm>
            <a:off x="3492360" y="404640"/>
            <a:ext cx="327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王安石诗词二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395" name="Picture 8" descr="05"/>
          <p:cNvPicPr/>
          <p:nvPr/>
        </p:nvPicPr>
        <p:blipFill>
          <a:blip r:embed="rId1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3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8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3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8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3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8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3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43448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才与勤奋的名言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90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哪里有天才，我是把喝咖啡的工夫都用在工作上了。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鲁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天才就是长期劳动的结果。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牛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天才就是百分之一的灵感加上百分之九十九的勤奋。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爱迪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我是个拙笨的学艺者，没有充分的天才，全凭苦学。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梅兰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人们把我的成功，归因于我的天才；其实我的天才只是刻苦罢了。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爱因斯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98" name="Picture 4" descr="05"/>
          <p:cNvPicPr/>
          <p:nvPr/>
        </p:nvPicPr>
        <p:blipFill>
          <a:blip r:embed="rId1"/>
          <a:stretch/>
        </p:blipFill>
        <p:spPr>
          <a:xfrm>
            <a:off x="7308720" y="6381720"/>
            <a:ext cx="1835280" cy="47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38080" y="91440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i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本文属于</a:t>
            </a:r>
            <a:r>
              <a:rPr b="1" i="1" lang="zh-CN" sz="4800" spc="-1" strike="noStrike">
                <a:solidFill>
                  <a:srgbClr val="cc3300"/>
                </a:solidFill>
                <a:latin typeface="Times New Roman"/>
                <a:ea typeface="华文琥珀"/>
              </a:rPr>
              <a:t>随笔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3300"/>
                </a:solidFill>
                <a:latin typeface="Times New Roman"/>
                <a:ea typeface="华文琥珀"/>
              </a:rPr>
              <a:t>随笔，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即随手笔录，不拘一格。是散文的一种。古代随笔常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借一件事来抒发作者的情感或阐述某种观点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。短小活泼，意境隽永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Picture 3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826920" y="2256120"/>
            <a:ext cx="7705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点出作者的写作意图。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伤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是哀伤，哀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，表达了作者对方仲永这样的人才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泯然众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哀伤，惋惜之情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58920" y="1268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题目“伤仲永”的“伤”是什么意思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2286000" y="3809880"/>
            <a:ext cx="358128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7543800" y="3809880"/>
            <a:ext cx="7621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1143000" y="4952880"/>
            <a:ext cx="68580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1066680" y="6095880"/>
            <a:ext cx="46483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" name="Picture 9" descr="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539640" y="260280"/>
            <a:ext cx="20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解题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143000" y="0"/>
            <a:ext cx="129528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朗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读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训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练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AutoShape 3">
            <a:hlinkClick r:id="rId2" action="ppaction://hlinksldjump"/>
          </p:cNvPr>
          <p:cNvSpPr/>
          <p:nvPr/>
        </p:nvSpPr>
        <p:spPr>
          <a:xfrm>
            <a:off x="2438280" y="990720"/>
            <a:ext cx="4267440" cy="18288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a77"/>
                </a:solidFill>
                <a:latin typeface="Times New Roman"/>
                <a:ea typeface="隶书"/>
              </a:rPr>
              <a:t>朗读节奏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AutoShape 4">
            <a:hlinkClick r:id="rId3" action="ppaction://hlinksldjump"/>
          </p:cNvPr>
          <p:cNvSpPr/>
          <p:nvPr/>
        </p:nvSpPr>
        <p:spPr>
          <a:xfrm>
            <a:off x="2362320" y="3809880"/>
            <a:ext cx="4419360" cy="18288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a77"/>
                </a:solidFill>
                <a:latin typeface="Times New Roman"/>
                <a:ea typeface="隶书"/>
              </a:rPr>
              <a:t>朗读语气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Picture 6" descr="0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24720" y="6523200"/>
            <a:ext cx="1619280" cy="33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8:03:08Z</dcterms:created>
  <dc:creator>Administrator</dc:creator>
  <dc:description/>
  <dc:language>en-US</dc:language>
  <cp:lastModifiedBy>hpppygoa</cp:lastModifiedBy>
  <dcterms:modified xsi:type="dcterms:W3CDTF">2016-04-08T13:17:48Z</dcterms:modified>
  <cp:revision>37</cp:revision>
  <dc:subject/>
  <dc:title>PowerPoint 演示文稿</dc:title>
</cp:coreProperties>
</file>