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voltage.wav" ContentType="audio/x-wav"/>
  <Override PartName="/ppt/media/image7.jpeg" ContentType="image/jpeg"/>
  <Override PartName="/ppt/media/image12.jpeg" ContentType="image/jpeg"/>
  <Override PartName="/ppt/media/image13.jpeg" ContentType="image/jpeg"/>
  <Override PartName="/ppt/media/arrow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00F7-A40B-4781-85B1-2F28E71633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转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CF9-DDE9-4858-9A31-AEE51FE0E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ADB-43A7-48C7-817F-ADD14A81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D53923-E840-4332-B020-6BEF46BD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EF7C5-A765-4F27-ABB5-89B41BD3A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890B5-4F79-4215-BC56-D65CFE73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E3603-372B-467D-98DB-9B17FD76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3DEE7-3D79-4208-AC3C-C8320934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1E33F-8D3F-4F46-9B0A-83C5762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5C35B-D17A-445B-AF92-A72EF2E4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4BD4B-A762-4E96-B8A0-1517B4C16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8F9AC-A858-48D8-AF48-064246FC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336DB6-66FD-453D-8628-67B9D80B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CEBA-B94F-4EC5-AA1B-8D68303F2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6FC7D-E81F-42BB-A4BC-28B61E458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00F3F-A955-428C-9537-0B255ED3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4AF88-D8A4-4AB0-8903-D6A8E008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2CC49-AE8A-44F3-AAC7-CCBF7C8B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FE06E-8268-443A-AAE2-0496B185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8F617-83F7-45B9-8072-291B5727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AC7C5A-2410-4B0A-8BCB-025A886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A86E4-D56A-4183-852F-0A9EEB81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E83134-BBB1-42C9-8DB2-4C5AD13E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114354-535A-406F-96C5-F673F2D7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CE5-A1FA-4563-8CE1-CE543E3C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73E424-A51D-4CF8-B40D-E73A16CC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F25FF-26C4-44E4-AA89-124A1F055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9991B6-D460-4803-82C1-8C1577D84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63730-E5C1-4348-B44A-3C01EE4D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49AC58-8284-4415-B9BE-F4D2A94C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294C6-5786-454B-8B46-F1D1477E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7398A-E1AE-40AE-9B68-87385E70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6423E-2C5F-49EB-9BCC-78CD8A11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706CE6-AC00-4D92-B419-47DCEF89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290F6-12CC-452E-92DA-E26954D1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ACB6-6936-43E2-9AE5-590CB4993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BF21BE-C6F5-46EC-AC5B-2E5084C3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B93E9-42DD-413A-9E1B-BF2A1018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E73E8-4898-4219-BDBC-68A70C7A4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40CB0-297C-43CF-A211-4A30AFA0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8D9D3-6314-489F-9937-18D24596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94C09-5533-4A5E-8585-0A3D5559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A3735D-ED91-4FB9-859B-D720360A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D9295-D666-4932-8290-9C4B2909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33280-8EA7-447F-8ADA-BB099FA5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91DB4-11BF-445B-B0EC-4F29682F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7F70-5009-419A-BF0B-F4644A4C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74479-C2EF-4E52-A531-4235CE4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097B5-40A2-44E5-B435-6634274E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A3593-50B7-4E4A-857F-D16B0135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899DE-11C8-4F03-90C2-80F2DA0D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BECE6-63F1-4E30-AA09-0FA6B355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EB717-6AA8-49FA-B97D-A4831B9A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3F3AA-7B34-4EF6-AD39-72DC07B7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5FCF3B-A8C6-4A54-8965-1549DFFF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CD00D-2843-423D-B8BB-1FA63B8A6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C76747-91B8-413F-AD9F-2E2167EA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A142-6B56-42F1-A623-3D11A75D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5B756-B16A-46B3-AA68-CAB59EBA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1A8DF6-509A-4E20-AFED-DDDE2DC0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D90D6F-54F4-467F-B776-B0A7668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D97D2-5E4D-4520-B563-445CB909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DCB280-22FB-4B02-A680-9A102D11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00798-B950-4862-A784-ACF20179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7C171E-E067-4D81-98FF-11F4527E0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BC4DBF-932F-4A83-9BD5-123A44DA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F703A8-A1D7-4633-8B58-9C2F59DE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C488F-8CE1-4EC0-9558-01970A85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FA96-DF1C-43B5-B443-479EEDEF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FC655-17DB-48E8-9E48-B788AB9F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53B2C-180D-436E-96A6-157B154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50F8ED-01D3-4B1B-928D-EB972AF0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82D761-767F-49E3-9F29-4A6EC393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39DDFD-3A6B-4E5A-9BF3-E2A20875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0BC139-2BC3-4FF1-B4FC-31FD37A1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704F6-3E55-4BF5-B435-C09FC5ABB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E9EDA-02BF-43B4-8146-C16714DB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8001AF-EB25-470F-A620-4BEF3A8F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3175B6-EBFC-4561-9743-9F4FD27C6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812-BB56-4C55-82F4-6CB27D88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3C543-39CD-4E72-9D78-F7BD4033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A4435-6108-4235-BB4A-003D95C9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7064D-2F13-4DE6-90E7-04E3C5CA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B9C5A-EF1B-4F7D-9F94-07F4074C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D4C854-CE32-4305-94C6-EBDBDAA2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850BC-53DA-400A-A6BF-A4954CDF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E7203F-1EDF-4913-B750-B5D6C932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7A41E2-A2DD-4EA8-8536-6213031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354E5-99A7-4AAD-B8DF-58522A09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055E0-EA97-40A4-A141-89A992DD6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9A22-C77A-4E48-87DE-2C6564B8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F117B-C9CB-4FF8-AEE0-59D1A628A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3C099-FCDE-45EA-BCB3-31C43F3A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8974D6-DBB2-449C-A7FB-2DA9E200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523D61-C529-47D2-B42D-C29668C4F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75DAB-F4E9-4FCE-B072-A286DEE0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DCCFE7-12E8-48E5-986A-22E03B58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94AF28-31A1-4729-AEE4-C338D8E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9C0BE4-5B1F-41C1-A034-4E5E54DC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20AA66-2FB3-460E-A968-ED22ED0C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1C9CE-0262-4208-BA2D-91B79F56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CBAF-D936-45CF-BD8B-44F80DA1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521FF1-A543-4C5F-8A6A-D16E8167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0E9CA2-4088-49B1-97D0-1606D2AF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332C1-0595-48BC-9299-938A2906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BDF4B-D4A2-4EB5-89BC-F0E33CE74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C41661-E65C-4FC4-B7A0-0D4C0EA6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FFB06-7508-4E33-B1C2-BD02EF46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6116A-9C99-4B4F-86C0-9731DEB6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A09E07-4B3F-4DA5-9606-CD0CC30D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14E60-29AB-445E-8961-EEB4C628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1CD639-8696-4C54-9766-E62BB15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AF3-D9B7-446E-A159-B622511E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660A-66A9-4F5E-A1A3-FE70712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934131-0700-4CCE-BCE0-8DFBD31C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F2226-7453-4E9B-93D4-DDC94763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68F4CD-AD94-4161-B2D3-622AD66B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E92E4-6D21-4030-B009-EAF9FA7B5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C9DFC-F032-48AD-97DA-F88AE345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FC005-C819-4BEC-A923-0923570D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9972F7-3B09-4CC1-B387-FFF86BA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466F52-2ECC-4147-8BDD-697D46BE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3704E4-060C-4684-B5FF-9112E404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AFFC47-2A7D-43B1-93EA-92107B9F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A17F-FC7B-4A3B-97A8-B1DDB512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8FAF30-1142-4532-B072-3E5AF818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D6BF3D-7E6B-47AE-B2E6-92C0A937B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F16AB-9333-4F11-9E17-99236A70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6CF7E5-D10F-4D38-8FB6-606E173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31C7D5-87E7-4D5E-9DF9-F25ACBFA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F9D82-E53B-4224-B4A3-1CEA717B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6E324E-F96D-4189-9EDF-FCF06E33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66204-E004-45AE-8753-7C08B940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A5C1F8-CB05-4A7A-AE4A-D08DDF63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E2AD8-E894-4071-84A5-825F5ABDD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66D2-ABD3-49B0-8BD9-1E459558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50DC3D-29E7-46D5-B296-A33C4A67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6CB8C-5132-414C-996A-524F115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BB469F-D59C-44D6-99B4-59346D18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81343-DCD1-4337-89FC-74AEA3A1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F5907-7DD9-4883-AA54-06853276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C67364-D7CE-4A48-A9B1-01B39DF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1B4BD-F5F8-4CE6-8616-280AC1D9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21B6A1-9CAC-4638-B4C6-CDAAFD020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D57425-F8D4-4188-93AB-B85C91A6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92B304-C470-4606-BC5E-516A33A1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2A73-D2DE-44C2-A475-0797243C1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52AF2-AB3E-427B-8DC4-7B2AC50F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1109F6-2DED-4927-B810-CD2FA90C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EEC8B2-752A-43A4-AECC-D2E9C668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4B7BC2-38C2-44DB-BDCA-A1A3EA7CF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9A2F59-DCD5-43B5-8AFA-4BE13E56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A6F713-8B34-42F4-B02F-BB9417C5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72584-5AE8-482A-86AB-C7E3EF00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C25C4-467B-426F-BBEE-09F8EFF1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2C5AC1-6C56-44D6-9B62-2439CCF7F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78C70D-4D1C-4FB7-A6B0-19E04DB8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1B26-AFDF-4632-9B66-DC46A9A7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2CD608-1600-4985-BD81-D9D7A4A0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155C08-E3E7-4BC2-BE07-F59D1DF3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80B2BE-E432-420E-84DA-F2C52862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281C37-0902-484F-899E-C6B53AE7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A162E-F7A0-46A2-8722-A2C0C6E0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1DC060-DE1B-4145-A406-58780748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A92963-4B15-4315-BD18-FF67920A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0D1515-E167-4DD6-874D-ADE7FA20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E2197E-D7A2-41B4-A7F2-737C4F8F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2DFC3-B724-44A1-A8B9-697563EE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EDAD6-85B5-4559-B872-6D1C049BA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9A3A1-7B65-447E-BFDE-F353A109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0F66C9-08F8-4B37-9FC0-9091EF786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F30A8-3255-4A9E-8082-730955F1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57A7D5-C702-4D59-8D95-B7C2E4E9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0084F0-54EA-4395-B891-67655714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128C22-0792-45B5-92F7-0C53558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009EA7-18F9-4889-94FA-6A1BE7F8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CF3E32-FEAD-4C93-A95B-327D133A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F6B013-42CC-40A0-8162-63E414302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AB763-0A86-4097-B35C-DF4984BA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205D2-2B28-4C74-9F36-C7A1369E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31EC19-744D-42C3-932E-AAEBB3EA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37EFE-EB65-4A79-AADA-E2EAD04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25E7F-7385-4BF8-A6E8-56C89619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0F6D8-BF83-4D8C-A98C-6940C988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3F46B6-9F67-4400-8B01-2DAAD08CF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4A1CD8-EAE4-4EC2-98B4-0A7FE91B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52E1F-C42A-4914-91E4-1820CDE7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D3ED5B-33C1-4695-B828-FC8F7BEE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739443-8039-40EC-8358-6B06F854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670D6B-488C-4472-ADEF-02F85215D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43A81-D821-4288-8B6F-6846FFB1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0879A2-72AC-4B02-BA6F-04B4E89B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175D46-E3D2-42B1-BBBA-9842693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945649-396B-4DFC-A196-52DCCEAB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0B5BE0-6116-4A37-8872-717DFBA6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B60F4-E465-4506-8C37-CC21124F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B309B2-D160-42EC-BA00-00FE8681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B8A4F8C-827B-44B0-9F5C-13357D67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5F5901-8030-4062-9813-99E768BE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B8CFA9-6B54-4B29-9254-F51611D6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992991-6E7B-4EF5-A19D-014290C32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8D107-73D3-456C-820A-D573E65F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622461-B625-407E-A093-7F7B80CE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427345-7F35-47B4-8789-7B7CC3DF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976E90-25CA-4CED-A62D-A85686FE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594C85-4848-49BF-8EAA-B8FAFE4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DBDA4D-6D61-4F32-8B75-92464F97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44D52C-BD2C-4FF8-A635-BA0D72D0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58042A-65CC-4148-9994-87F23325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F039C8-7F27-414A-B9B4-5C4BF47B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137544-CBEE-41EB-B5B8-4E4689268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5D72E-7432-480C-9353-4B69DEB23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7EF5-8B5F-4D5E-99F7-CA5D65B7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93272-B6A6-4725-82BA-C8BADA94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220A5-3492-4897-926E-D69C394D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3A7CA-592F-43C3-903B-906E9654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5E230-49F6-4D83-9377-764F73A1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F139-67D7-4788-B55D-27A45D46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5622-1071-4D3E-99D1-DDB2E36A5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5BA90-8E48-468F-ADFA-52CB7B74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AAE22-82E7-4A66-A711-EA5F9356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A575-E648-421E-BBDA-219DB041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5CBFC-D1B4-445A-8B13-3472C58C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1162-916F-4F89-9070-2BFD8026E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EE73B-45CB-429D-A10D-37D79785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6B1E6-3E88-4600-81AB-A3CF1508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91F4-87B9-4093-AC9E-2358E865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910C-9F07-432D-846D-7BB33608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3703B-3393-4EBE-987C-B2698F08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9B6BD-DDB2-44E4-AFE7-C7D5698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1C8CC-4AB5-45B7-8BC3-C551ADB7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2440-B445-4AD4-87E9-D1F3D641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1A248-F870-487E-BAB0-5C6BFAF3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66BE7-CB70-40D3-9938-00C50131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9DB-F5F8-49AA-B55A-DC6294C87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3B032-0321-4638-A261-BE464EB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92FAA-B5A8-43E2-BFC5-3C8857F5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FD3E9-BB80-4DC7-9630-0B4EFBD18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BFEC8-66BE-4321-B75B-84BD4A73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E1BA-B5CC-4973-8B27-B93C1127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62FCE-FFF7-4034-9678-602F140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0F522-AE2B-4836-B6AE-ADEC5A7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5CE7-EA4F-4990-8B85-0813AA34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BCC7E-7D76-46C4-9BAF-458B185B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05588-3C07-4493-A99E-E64BD1EBC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A55-F457-4F71-BD64-D79A35BC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35BE-2E0F-4288-B9AF-E0751798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92800-7125-4494-8091-809E714E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0E20E-AC33-42BA-ABBE-BB5A8B69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77E7-5F06-4631-A960-1F2A436E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A2798-66F2-4A97-8356-AABF14AE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18A30-18D8-4C0F-8502-0AEB9F59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CA8F0-4754-4205-9462-F31FC08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36251-AF70-49FA-9F05-2F843B6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78A84-A1B5-4012-ABA1-484C0337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CFC75-B6B5-4514-B6C0-5C4AE27F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2BF-B5FB-4A01-A03C-30B5FF1B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32A1-34AC-4B64-A027-6FE32512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FF35E-3308-462D-8B3E-7401166BA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33D86-308A-4510-9670-3F1DDE9A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3B0AD-33A5-4CE8-B99B-0EE3ED47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37A6C-2668-4ED1-A8E2-CBAFCA3D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07A2B-E682-490C-9328-61214614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62D10-3AF3-4BFE-BD1C-B9BEFE7B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FD15F-3BD9-499D-992E-3A572010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9B114-63CE-4B46-844D-69C6B171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E034A-E628-4B84-999D-6203951B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A92-A711-40A8-9F3A-8F711763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58E7-461F-4C81-AC97-3CB96D14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684FF-3FE2-4E45-8707-BA2F5B0E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98AEC-C4B6-476A-B5B9-5663AB3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D0E9C-3295-420D-A2E6-82E6BBFA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0B211-0A71-46D1-B0BD-DB58C505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11E81-79DA-4934-BA23-DB20C7A63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5781A-B98F-43BE-8816-655B1017D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90DB0-EA53-41E6-B4E6-689FF074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25819-4596-418A-9223-9D32FD6E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4F1C9-AC0C-445A-867A-46B0BB5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6B3B-3A14-4EF9-AC48-C5820C6E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4537D-051E-477E-9406-41576835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08DB9-BA9A-4631-BB8C-4EEEEFC7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C0AE2-5AE6-48AA-953B-9CC02193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26C587-8BBC-45A9-8872-4BFCBD2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02CA5-C52E-4B81-9C45-9751F4029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FEBF8-F159-472D-8D43-EA345456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1B9CE-0556-4AE1-8C49-2FF587D81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45A33-3A9D-4BCF-AB07-616AD9E0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D2009-AB2E-4FE9-8EB3-8C6C947C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92313-19F2-49A2-B678-37F02EFA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67042-6DCC-4C21-926A-1700642CDBB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55B7-BDDC-41C6-8834-93CF670D4E6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AE22-002A-4931-B67C-53B3EAF363D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68DE-55E8-4D21-8CDA-51CC0D07A90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E2FA-63C8-41B7-A90E-E913BBA1D4C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52B2-5118-4137-BBAB-C47AD2027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8EF2-2046-4A1B-A17C-5E6C51A737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329-560C-4C95-80BC-D3B6C336CC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6A3D-163D-48C0-8FE8-78F6D9BCA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6C5F-8FFB-4659-BE39-DAD2D0907B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19DD-F356-4158-BE29-E48822D9FB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BF3A-9EC8-4BE1-80EA-8FAFAA3D6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F0A0-F427-47FB-A7D6-D2922A2F79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12F40-D1EC-404B-8897-86AD4CB39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1899-D36F-48DF-AB42-35374889FE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A578-1116-4C2B-9906-DC8C87D99B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D0E9-8F8E-4B82-8541-F5A62653D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0800" y="281160"/>
              <a:ext cx="3571920" cy="16146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1960" cy="145908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08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5800" y="4318200"/>
            <a:ext cx="980280" cy="1159920"/>
            <a:chOff x="7795800" y="4318200"/>
            <a:chExt cx="980280" cy="115992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1480" y="4658760"/>
              <a:ext cx="998640" cy="46620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8800" y="4637160"/>
              <a:ext cx="995400" cy="46152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4760" y="4621320"/>
              <a:ext cx="660600" cy="421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5800" y="4318200"/>
              <a:ext cx="980280" cy="1159920"/>
              <a:chOff x="7795800" y="4318200"/>
              <a:chExt cx="980280" cy="115992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232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0840"/>
                <a:ext cx="1058760" cy="4942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5920" y="4757760"/>
                <a:ext cx="749160" cy="279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3640" y="455976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2200" y="4759920"/>
                <a:ext cx="306360" cy="165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A1BB-EAD1-4E23-8147-B82B1B6B1C3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5DCB-2164-4FB1-9D68-61CD7A863B2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8D24-DF20-4D99-A344-A90EB2EF8B6F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CB33-279C-4AF3-983D-9CF639B3BDD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78FC-6334-4ADC-9540-2CEFEE353346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75B6-57BB-44CA-9990-E4FBA2D83FC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c9131"/>
            </a:gs>
            <a:gs pos="100000">
              <a:srgbClr val="fff8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5D83-C498-493F-A3A7-AB3226F99D8E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6&#1081;%FA%D0%C4&amp;in=26589&amp;cl=2&amp;cm=1&amp;sc=0&amp;lm=-1&amp;pn=3&amp;rn=1&amp;di=3282636015&amp;ln=2000&amp;fr=&amp;ic=0&amp;s=0&amp;se=1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22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voltage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2" descr="u=1744935052,954114932&amp;fm=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34920" y="44280"/>
            <a:ext cx="3672000" cy="335916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3"/>
          <p:cNvSpPr/>
          <p:nvPr/>
        </p:nvSpPr>
        <p:spPr>
          <a:xfrm>
            <a:off x="1107000" y="2853000"/>
            <a:ext cx="2527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的中国心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-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张明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河山只在我梦里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祖国已多年未亲近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可是不管怎样也改变不了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的中国心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洋装虽然穿在身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心依然是中国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Text Box 4"/>
          <p:cNvSpPr/>
          <p:nvPr/>
        </p:nvSpPr>
        <p:spPr>
          <a:xfrm>
            <a:off x="5544000" y="476280"/>
            <a:ext cx="2527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的祖先早已把我的一切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烙上中国印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长江长城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黄山黄河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在我心中重千斤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论何时无论何地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心中一样亲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流在心里的血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澎湃着中华的声音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就算生在他乡也改变不了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我的中国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Text Box 2"/>
          <p:cNvSpPr/>
          <p:nvPr/>
        </p:nvSpPr>
        <p:spPr>
          <a:xfrm>
            <a:off x="1897920" y="1125360"/>
            <a:ext cx="488412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题目中，“根”指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“兰花”指什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失根的兰花”又是什么意思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Text Box 2"/>
          <p:cNvSpPr/>
          <p:nvPr/>
        </p:nvSpPr>
        <p:spPr>
          <a:xfrm>
            <a:off x="971640" y="1197000"/>
            <a:ext cx="641016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揣摩品味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文中哪些语句打动了你的心，有感情地读一读，并说说这些语句的特点和你的感悟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 Box 2"/>
          <p:cNvSpPr/>
          <p:nvPr/>
        </p:nvSpPr>
        <p:spPr>
          <a:xfrm>
            <a:off x="2757600" y="198900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为什么郑思肖画的兰花根是不着地的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Picture 2" descr="1181069002278707351"/>
          <p:cNvPicPr/>
          <p:nvPr/>
        </p:nvPicPr>
        <p:blipFill>
          <a:blip r:embed="rId1"/>
          <a:stretch/>
        </p:blipFill>
        <p:spPr>
          <a:xfrm>
            <a:off x="252360" y="549360"/>
            <a:ext cx="3780000" cy="60498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3" descr="QQ截图20150610135944"/>
          <p:cNvPicPr/>
          <p:nvPr/>
        </p:nvPicPr>
        <p:blipFill>
          <a:blip r:embed="rId2"/>
          <a:stretch/>
        </p:blipFill>
        <p:spPr>
          <a:xfrm>
            <a:off x="4068720" y="692280"/>
            <a:ext cx="4743360" cy="3687480"/>
          </a:xfrm>
          <a:prstGeom prst="rect">
            <a:avLst/>
          </a:prstGeom>
          <a:ln w="0">
            <a:noFill/>
          </a:ln>
        </p:spPr>
      </p:pic>
      <p:sp>
        <p:nvSpPr>
          <p:cNvPr id="1080" name="Text Box 4"/>
          <p:cNvSpPr/>
          <p:nvPr/>
        </p:nvSpPr>
        <p:spPr>
          <a:xfrm>
            <a:off x="5722920" y="501336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割麦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Picture 2" descr="22342J4T_0"/>
          <p:cNvPicPr/>
          <p:nvPr/>
        </p:nvPicPr>
        <p:blipFill>
          <a:blip r:embed="rId1"/>
          <a:stretch/>
        </p:blipFill>
        <p:spPr>
          <a:xfrm>
            <a:off x="684360" y="693720"/>
            <a:ext cx="3635280" cy="2808360"/>
          </a:xfrm>
          <a:prstGeom prst="rect">
            <a:avLst/>
          </a:prstGeom>
          <a:ln w="0">
            <a:noFill/>
          </a:ln>
        </p:spPr>
      </p:pic>
      <p:sp>
        <p:nvSpPr>
          <p:cNvPr id="1082" name="Text Box 3"/>
          <p:cNvSpPr/>
          <p:nvPr/>
        </p:nvSpPr>
        <p:spPr>
          <a:xfrm>
            <a:off x="4276080" y="3573360"/>
            <a:ext cx="23144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沁凉如水的夏夜中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牛郎织女的故事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才显得星光晶亮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2" descr="92f790523f2774000cf3e370"/>
          <p:cNvPicPr/>
          <p:nvPr/>
        </p:nvPicPr>
        <p:blipFill>
          <a:blip r:embed="rId1"/>
          <a:stretch/>
        </p:blipFill>
        <p:spPr>
          <a:xfrm>
            <a:off x="973080" y="981000"/>
            <a:ext cx="3635280" cy="2879640"/>
          </a:xfrm>
          <a:prstGeom prst="rect">
            <a:avLst/>
          </a:prstGeom>
          <a:ln w="0">
            <a:noFill/>
          </a:ln>
        </p:spPr>
      </p:pic>
      <p:sp>
        <p:nvSpPr>
          <p:cNvPr id="1084" name="Text Box 3"/>
          <p:cNvSpPr/>
          <p:nvPr/>
        </p:nvSpPr>
        <p:spPr>
          <a:xfrm>
            <a:off x="5502240" y="3860640"/>
            <a:ext cx="1887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群山万壑中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竹篱茅舍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才显得诗意盎然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Picture 2" descr="4394430_092702053667_2"/>
          <p:cNvPicPr/>
          <p:nvPr/>
        </p:nvPicPr>
        <p:blipFill>
          <a:blip r:embed="rId1"/>
          <a:srcRect l="0" t="0" r="-1002" b="14802"/>
          <a:stretch/>
        </p:blipFill>
        <p:spPr>
          <a:xfrm>
            <a:off x="612720" y="2852640"/>
            <a:ext cx="3673440" cy="2576520"/>
          </a:xfrm>
          <a:prstGeom prst="rect">
            <a:avLst/>
          </a:prstGeom>
          <a:ln w="0">
            <a:noFill/>
          </a:ln>
        </p:spPr>
      </p:pic>
      <p:sp>
        <p:nvSpPr>
          <p:cNvPr id="1086" name="Text Box 3"/>
          <p:cNvSpPr/>
          <p:nvPr/>
        </p:nvSpPr>
        <p:spPr>
          <a:xfrm>
            <a:off x="5358600" y="1557360"/>
            <a:ext cx="18874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晨曦的原野中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拙重的老牛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才显得纯朴可爱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/>
          </p:nvPr>
        </p:nvSpPr>
        <p:spPr>
          <a:xfrm>
            <a:off x="-360" y="693720"/>
            <a:ext cx="4870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郑思肖是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124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18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宋末诗人、画家。宋亡后，隐居苏州。他擅长作墨兰，花叶萧疏而不画根土，有人当面指出缺陷：“怎么所有兰花都不画根？”郑思肖顿时脸像霜冻，沉沉地回道：“国土已失，何处有兰花长根的所在？” 来人深为他的高尚民族气节所感动，放声大哭：“国土沧丧，山河破碎，兰花无根，人也无立脚之地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3"/>
          <p:cNvSpPr/>
          <p:nvPr/>
        </p:nvSpPr>
        <p:spPr>
          <a:xfrm>
            <a:off x="468360" y="260280"/>
            <a:ext cx="41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郑思肖画兰的故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9" name="Picture 4" descr="12222CZ6-1"/>
          <p:cNvPicPr/>
          <p:nvPr/>
        </p:nvPicPr>
        <p:blipFill>
          <a:blip r:embed="rId1"/>
          <a:stretch/>
        </p:blipFill>
        <p:spPr>
          <a:xfrm>
            <a:off x="4861080" y="549360"/>
            <a:ext cx="3816360" cy="5549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2" name="arrow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Box 2"/>
          <p:cNvSpPr/>
          <p:nvPr/>
        </p:nvSpPr>
        <p:spPr>
          <a:xfrm>
            <a:off x="1116000" y="1557360"/>
            <a:ext cx="66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者在前面说“我，到处都可以为家”。后来又说“到处不可以为家”这两种说法是否矛盾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Text Box 3"/>
          <p:cNvSpPr/>
          <p:nvPr/>
        </p:nvSpPr>
        <p:spPr>
          <a:xfrm>
            <a:off x="1187280" y="342900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不矛盾，因为原来到处都可以为家的时候是没有离开国土，后来到处都不可以为家的时候是身在异国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WordArt 3"/>
          <p:cNvSpPr txBox="1"/>
          <p:nvPr/>
        </p:nvSpPr>
        <p:spPr>
          <a:xfrm>
            <a:off x="1042920" y="1125360"/>
            <a:ext cx="6875640" cy="374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再见！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  <p:sndAc>
      <p:stSnd>
        <p:snd r:embed="rId1" name="voltag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3" name="Picture 2" descr="《失根的兰花》图片1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Text Box 2"/>
          <p:cNvSpPr/>
          <p:nvPr/>
        </p:nvSpPr>
        <p:spPr>
          <a:xfrm>
            <a:off x="3987720" y="1052640"/>
            <a:ext cx="15523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基础知识，理清脉络，理解题目的深刻含义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本文优美的语言和写作手法，并能仿写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受作者浓浓的思乡之情，升华自己的爱国情感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Text Box 2"/>
          <p:cNvSpPr/>
          <p:nvPr/>
        </p:nvSpPr>
        <p:spPr>
          <a:xfrm>
            <a:off x="2887200" y="2060640"/>
            <a:ext cx="266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幢             群山万壑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花圃             诗意盎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栅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坍塌           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晨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拙重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枯萎           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Text Box 3"/>
          <p:cNvSpPr/>
          <p:nvPr/>
        </p:nvSpPr>
        <p:spPr>
          <a:xfrm>
            <a:off x="97920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我会认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Box 2"/>
          <p:cNvSpPr/>
          <p:nvPr/>
        </p:nvSpPr>
        <p:spPr>
          <a:xfrm>
            <a:off x="4389840" y="907920"/>
            <a:ext cx="350928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之藩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9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生，河北人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立北洋大学机电系学士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美国宾夕法尼亚大学科学硕士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英国剑桥大学哲学博士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著有电机工程论文百余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文有《旅美小简》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在春风里》、《剑桥倒影》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《一星如月》、《时空之海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Picture 3" descr="d058ccbf6c81800a040a32b9b13533fa838b479d"/>
          <p:cNvPicPr/>
          <p:nvPr/>
        </p:nvPicPr>
        <p:blipFill>
          <a:blip r:embed="rId1"/>
          <a:srcRect l="0" t="38749" r="0" b="0"/>
          <a:stretch/>
        </p:blipFill>
        <p:spPr>
          <a:xfrm>
            <a:off x="324000" y="3000240"/>
            <a:ext cx="3273120" cy="3308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Text Box 2"/>
          <p:cNvSpPr/>
          <p:nvPr/>
        </p:nvSpPr>
        <p:spPr>
          <a:xfrm>
            <a:off x="684360" y="620640"/>
            <a:ext cx="73324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写作背景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陈之藩为了他所献身的事业半生漂泊奔波于异域他乡。本文写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世纪三四十代，中国遭受日本侵略，作者当时在美国留学，“洋装虽然穿在身，心依然是中国心”的他对当时的中国和自己的处境有感而作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Text Box 2"/>
          <p:cNvSpPr/>
          <p:nvPr/>
        </p:nvSpPr>
        <p:spPr>
          <a:xfrm>
            <a:off x="539640" y="1413000"/>
            <a:ext cx="83901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PMingLiU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章 以“失根的兰花”为题目，表达了作者怎样的思想感情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表现了作者刻骨铭心的思乡爱国之情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2" descr="《失根的兰花》图片3"/>
          <p:cNvPicPr/>
          <p:nvPr/>
        </p:nvPicPr>
        <p:blipFill>
          <a:blip r:embed="rId1"/>
          <a:stretch/>
        </p:blipFill>
        <p:spPr>
          <a:xfrm>
            <a:off x="4572000" y="1701720"/>
            <a:ext cx="4033800" cy="44388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3" descr="《失根的兰花》图片4"/>
          <p:cNvPicPr/>
          <p:nvPr/>
        </p:nvPicPr>
        <p:blipFill>
          <a:blip r:embed="rId2"/>
          <a:stretch/>
        </p:blipFill>
        <p:spPr>
          <a:xfrm>
            <a:off x="324000" y="1701720"/>
            <a:ext cx="4140000" cy="4464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Picture 2" descr="《失根的兰花》图片5"/>
          <p:cNvPicPr/>
          <p:nvPr/>
        </p:nvPicPr>
        <p:blipFill>
          <a:blip r:embed="rId1"/>
          <a:stretch/>
        </p:blipFill>
        <p:spPr>
          <a:xfrm>
            <a:off x="252360" y="1197000"/>
            <a:ext cx="4176720" cy="46735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3" descr="《失根的兰花》图片6"/>
          <p:cNvPicPr/>
          <p:nvPr/>
        </p:nvPicPr>
        <p:blipFill>
          <a:blip r:embed="rId2"/>
          <a:stretch/>
        </p:blipFill>
        <p:spPr>
          <a:xfrm>
            <a:off x="4645080" y="1268280"/>
            <a:ext cx="4174920" cy="4610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1:10:45Z</dcterms:created>
  <dc:creator> </dc:creator>
  <dc:description/>
  <cp:keywords/>
  <dc:language>en-US</dc:language>
  <cp:lastModifiedBy>bonny</cp:lastModifiedBy>
  <dcterms:modified xsi:type="dcterms:W3CDTF">2015-07-25T20:00:0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40</vt:lpwstr>
  </property>
</Properties>
</file>