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9.wmf" ContentType="image/x-wmf"/>
  <Override PartName="/ppt/media/image19.jpeg" ContentType="image/jpeg"/>
  <Override PartName="/ppt/media/image17.png" ContentType="image/png"/>
  <Override PartName="/ppt/media/image13.png" ContentType="image/png"/>
  <Override PartName="/ppt/media/image12.jpeg" ContentType="image/jpeg"/>
  <Override PartName="/ppt/media/image7.jpeg" ContentType="image/jpeg"/>
  <Override PartName="/ppt/media/image34.jpeg" ContentType="image/jpeg"/>
  <Override PartName="/ppt/media/image8.jpeg" ContentType="image/jpeg"/>
  <Override PartName="/ppt/media/image9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36.png" ContentType="image/png"/>
  <Override PartName="/ppt/media/image37.gif" ContentType="image/gif"/>
  <Override PartName="/ppt/media/image20.png" ContentType="image/png"/>
  <Override PartName="/ppt/media/image2.jpeg" ContentType="image/jpeg"/>
  <Override PartName="/ppt/media/image18.png" ContentType="image/png"/>
  <Override PartName="/ppt/media/image25.gif" ContentType="image/gif"/>
  <Override PartName="/ppt/media/image6.jpeg" ContentType="image/jpeg"/>
  <Override PartName="/ppt/media/image27.jpeg" ContentType="image/jpeg"/>
  <Override PartName="/ppt/media/image28.wmf" ContentType="image/x-wmf"/>
  <Override PartName="/ppt/media/image5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0.jpeg" ContentType="image/jpeg"/>
  <Override PartName="/ppt/media/image14.png" ContentType="image/pn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6BDB-812C-42C8-AB1A-5CB0CB653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09BE-4FD3-458F-BCF9-80BB57DB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C0B3-A4A3-4EDC-9637-E6030BF14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872F-A5F8-4D9E-A305-808CF677D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F85E-B540-4CEC-A690-2642FFB5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D055-5FED-4A3C-A095-D72B72D6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9765-7828-4EF1-9FA5-C25FF168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FDA2-188A-4EC2-919A-5B3A8E70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949B-B9F5-47F8-92AE-24EBD242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3BF0-D125-482B-8CB9-A7223526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E3AA-A74E-45AD-9629-22DA2258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E402-08BB-4DB4-8BFD-5F5D10B9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F57C-ED7F-4403-9003-62A5B11EBB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6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7.jpeg"/><Relationship Id="rId6" Type="http://schemas.openxmlformats.org/officeDocument/2006/relationships/image" Target="../media/image23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37"/>
          <p:cNvPicPr/>
          <p:nvPr/>
        </p:nvPicPr>
        <p:blipFill>
          <a:blip r:embed="rId1"/>
          <a:stretch/>
        </p:blipFill>
        <p:spPr>
          <a:xfrm>
            <a:off x="228600" y="0"/>
            <a:ext cx="7543800" cy="6629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titou copy"/>
          <p:cNvPicPr/>
          <p:nvPr/>
        </p:nvPicPr>
        <p:blipFill>
          <a:blip r:embed="rId2"/>
          <a:stretch/>
        </p:blipFill>
        <p:spPr>
          <a:xfrm>
            <a:off x="7924680" y="762120"/>
            <a:ext cx="941400" cy="4419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school"/>
          <p:cNvPicPr/>
          <p:nvPr/>
        </p:nvPicPr>
        <p:blipFill>
          <a:blip r:embed="rId3"/>
          <a:stretch/>
        </p:blipFill>
        <p:spPr>
          <a:xfrm>
            <a:off x="8077320" y="51055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2"/>
          <p:cNvSpPr txBox="1"/>
          <p:nvPr/>
        </p:nvSpPr>
        <p:spPr>
          <a:xfrm>
            <a:off x="1676520" y="1066680"/>
            <a:ext cx="617220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十三岁的际遇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0" y="2286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初中语文第一册第二单元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1" name="AutoShape 4"/>
          <p:cNvSpPr/>
          <p:nvPr/>
        </p:nvSpPr>
        <p:spPr>
          <a:xfrm rot="2973000">
            <a:off x="1180440" y="2552400"/>
            <a:ext cx="609840" cy="838440"/>
          </a:xfrm>
          <a:custGeom>
            <a:avLst/>
            <a:gdLst>
              <a:gd name="textAreaLeft" fmla="*/ 260280 w 609840"/>
              <a:gd name="textAreaRight" fmla="*/ 349560 w 609840"/>
              <a:gd name="textAreaTop" fmla="*/ 357840 h 838440"/>
              <a:gd name="textAreaBottom" fmla="*/ 4806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217" y="9217"/>
                </a:lnTo>
                <a:lnTo>
                  <a:pt x="10800" y="0"/>
                </a:lnTo>
                <a:lnTo>
                  <a:pt x="12383" y="9217"/>
                </a:lnTo>
                <a:lnTo>
                  <a:pt x="21600" y="10800"/>
                </a:lnTo>
                <a:lnTo>
                  <a:pt x="12383" y="12383"/>
                </a:lnTo>
                <a:lnTo>
                  <a:pt x="10800" y="21600"/>
                </a:lnTo>
                <a:lnTo>
                  <a:pt x="9217" y="1238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2" name="AutoShape 5"/>
          <p:cNvSpPr/>
          <p:nvPr/>
        </p:nvSpPr>
        <p:spPr>
          <a:xfrm rot="18514200">
            <a:off x="3695400" y="3999960"/>
            <a:ext cx="762120" cy="838080"/>
          </a:xfrm>
          <a:custGeom>
            <a:avLst/>
            <a:gdLst>
              <a:gd name="textAreaLeft" fmla="*/ 326520 w 762120"/>
              <a:gd name="textAreaRight" fmla="*/ 435600 w 762120"/>
              <a:gd name="textAreaTop" fmla="*/ 359280 h 838080"/>
              <a:gd name="textAreaBottom" fmla="*/ 47880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260" y="9260"/>
                </a:lnTo>
                <a:lnTo>
                  <a:pt x="10800" y="0"/>
                </a:lnTo>
                <a:lnTo>
                  <a:pt x="12340" y="9260"/>
                </a:lnTo>
                <a:lnTo>
                  <a:pt x="21600" y="10800"/>
                </a:lnTo>
                <a:lnTo>
                  <a:pt x="12340" y="12340"/>
                </a:lnTo>
                <a:lnTo>
                  <a:pt x="10800" y="21600"/>
                </a:lnTo>
                <a:lnTo>
                  <a:pt x="9260" y="1234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bcbcb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3" name="AutoShape 6"/>
          <p:cNvSpPr/>
          <p:nvPr/>
        </p:nvSpPr>
        <p:spPr>
          <a:xfrm rot="1759200">
            <a:off x="7086240" y="3429000"/>
            <a:ext cx="685800" cy="838080"/>
          </a:xfrm>
          <a:custGeom>
            <a:avLst/>
            <a:gdLst>
              <a:gd name="textAreaLeft" fmla="*/ 292680 w 685800"/>
              <a:gd name="textAreaRight" fmla="*/ 393120 w 685800"/>
              <a:gd name="textAreaTop" fmla="*/ 357480 h 838080"/>
              <a:gd name="textAreaBottom" fmla="*/ 48060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217" y="9217"/>
                </a:lnTo>
                <a:lnTo>
                  <a:pt x="10800" y="0"/>
                </a:lnTo>
                <a:lnTo>
                  <a:pt x="12383" y="9217"/>
                </a:lnTo>
                <a:lnTo>
                  <a:pt x="21600" y="10800"/>
                </a:lnTo>
                <a:lnTo>
                  <a:pt x="12383" y="12383"/>
                </a:lnTo>
                <a:lnTo>
                  <a:pt x="10800" y="21600"/>
                </a:lnTo>
                <a:lnTo>
                  <a:pt x="9217" y="1238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4" name="AutoShape 7"/>
          <p:cNvSpPr/>
          <p:nvPr/>
        </p:nvSpPr>
        <p:spPr>
          <a:xfrm rot="21459000">
            <a:off x="4647960" y="228600"/>
            <a:ext cx="685800" cy="609480"/>
          </a:xfrm>
          <a:custGeom>
            <a:avLst/>
            <a:gdLst>
              <a:gd name="textAreaLeft" fmla="*/ 292680 w 685800"/>
              <a:gd name="textAreaRight" fmla="*/ 393120 w 685800"/>
              <a:gd name="textAreaTop" fmla="*/ 259920 h 609480"/>
              <a:gd name="textAreaBottom" fmla="*/ 349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217" y="9217"/>
                </a:lnTo>
                <a:lnTo>
                  <a:pt x="10800" y="0"/>
                </a:lnTo>
                <a:lnTo>
                  <a:pt x="12383" y="9217"/>
                </a:lnTo>
                <a:lnTo>
                  <a:pt x="21600" y="10800"/>
                </a:lnTo>
                <a:lnTo>
                  <a:pt x="12383" y="12383"/>
                </a:lnTo>
                <a:lnTo>
                  <a:pt x="10800" y="21600"/>
                </a:lnTo>
                <a:lnTo>
                  <a:pt x="9217" y="1238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840" bIns="42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5" name="AutoShape 8"/>
          <p:cNvSpPr/>
          <p:nvPr/>
        </p:nvSpPr>
        <p:spPr>
          <a:xfrm rot="3251400">
            <a:off x="7221240" y="5579640"/>
            <a:ext cx="720720" cy="838080"/>
          </a:xfrm>
          <a:custGeom>
            <a:avLst/>
            <a:gdLst>
              <a:gd name="textAreaLeft" fmla="*/ 307440 w 720720"/>
              <a:gd name="textAreaRight" fmla="*/ 413280 w 720720"/>
              <a:gd name="textAreaTop" fmla="*/ 357480 h 838080"/>
              <a:gd name="textAreaBottom" fmla="*/ 48060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217" y="9217"/>
                </a:lnTo>
                <a:lnTo>
                  <a:pt x="10800" y="0"/>
                </a:lnTo>
                <a:lnTo>
                  <a:pt x="12383" y="9217"/>
                </a:lnTo>
                <a:lnTo>
                  <a:pt x="21600" y="10800"/>
                </a:lnTo>
                <a:lnTo>
                  <a:pt x="12383" y="12383"/>
                </a:lnTo>
                <a:lnTo>
                  <a:pt x="10800" y="21600"/>
                </a:lnTo>
                <a:lnTo>
                  <a:pt x="9217" y="1238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6" name="AutoShape 9"/>
          <p:cNvSpPr/>
          <p:nvPr/>
        </p:nvSpPr>
        <p:spPr>
          <a:xfrm rot="3251400">
            <a:off x="8059320" y="855360"/>
            <a:ext cx="720720" cy="838080"/>
          </a:xfrm>
          <a:custGeom>
            <a:avLst/>
            <a:gdLst>
              <a:gd name="textAreaLeft" fmla="*/ 307440 w 720720"/>
              <a:gd name="textAreaRight" fmla="*/ 413280 w 720720"/>
              <a:gd name="textAreaTop" fmla="*/ 357480 h 838080"/>
              <a:gd name="textAreaBottom" fmla="*/ 48060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217" y="9217"/>
                </a:lnTo>
                <a:lnTo>
                  <a:pt x="10800" y="0"/>
                </a:lnTo>
                <a:lnTo>
                  <a:pt x="12383" y="9217"/>
                </a:lnTo>
                <a:lnTo>
                  <a:pt x="21600" y="10800"/>
                </a:lnTo>
                <a:lnTo>
                  <a:pt x="12383" y="12383"/>
                </a:lnTo>
                <a:lnTo>
                  <a:pt x="10800" y="21600"/>
                </a:lnTo>
                <a:lnTo>
                  <a:pt x="9217" y="1238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026"/>
          <p:cNvSpPr/>
          <p:nvPr/>
        </p:nvSpPr>
        <p:spPr>
          <a:xfrm>
            <a:off x="732600" y="412920"/>
            <a:ext cx="77439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粉碎“四人帮”以后，由于经济建设的需要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急需大量科技人才，因此在八十年代部分名牌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大学，如北京大学等招收品学兼优的有超常自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学能力的少年大学生加以培养。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田晓菲，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1985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年在天津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13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中学读初中时，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被北京大学英语系破格录取。本文是她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1987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年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十月，为纪念北京大学建校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90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周年写的。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13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岁就进了大学之门，而且是全国一流的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高等学府，她怎么看北大呢？她对北大有怎样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的感情呢？学习了次文，我们就会有收获。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682440" y="4572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解题：什么是际遇？请结合实际谈一谈。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89" name="Picture 3" descr="button781"/>
          <p:cNvPicPr/>
          <p:nvPr/>
        </p:nvPicPr>
        <p:blipFill>
          <a:blip r:embed="rId1"/>
          <a:stretch/>
        </p:blipFill>
        <p:spPr>
          <a:xfrm>
            <a:off x="762120" y="17524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3478320" y="1668600"/>
            <a:ext cx="11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际遇是一种机遇、时运。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2438280" y="0"/>
            <a:ext cx="1828800" cy="205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？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602000" y="2286000"/>
            <a:ext cx="59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 “际遇”能不能改为“遭遇”？为什么？</a:t>
            </a:r>
            <a:endParaRPr b="0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432520" y="3429000"/>
            <a:ext cx="348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课文题目能否改为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的大学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》</a:t>
            </a:r>
            <a:endParaRPr b="0" lang="en-US" sz="36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或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十三岁的学习生活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？</a:t>
            </a:r>
            <a:endParaRPr b="0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4" name="WordArt 5"/>
          <p:cNvSpPr txBox="1"/>
          <p:nvPr/>
        </p:nvSpPr>
        <p:spPr>
          <a:xfrm>
            <a:off x="533520" y="228600"/>
            <a:ext cx="2809800" cy="15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问题探讨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 spd="med">
    <p:blinds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之所以要写这个际遇，因为对于作者的一生来说，是一个里程碑，实在是太重要了，用作者自己的话来说，北大是“自七岁起便结识便热爱的地方”，“正是在北大，我由一个无忧无虑的小女孩，一步一步艰难地走向成熟”，“北大是我的一部分，是一部分的我”，“它流淌在我的血液里”，和我“永远无法分割开来”，简而言之，“我”一切的一切都来自于“十三岁的那次不寻常的际遇”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026" descr="button781"/>
          <p:cNvPicPr/>
          <p:nvPr/>
        </p:nvPicPr>
        <p:blipFill>
          <a:blip r:embed="rId1"/>
          <a:stretch/>
        </p:blipFill>
        <p:spPr>
          <a:xfrm>
            <a:off x="0" y="5335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027"/>
          <p:cNvSpPr/>
          <p:nvPr/>
        </p:nvSpPr>
        <p:spPr>
          <a:xfrm>
            <a:off x="533520" y="45720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当年以神童著称的田晓菲，凭十三岁的年龄走进北大，可谓踌躇满志。面对北大浩瀚的书海，眼前如同展现出蔚蓝无际的天空。成就感鼓舞作者奋发努力，搏击长空；身处北大，“北大精神”即科学、民主、进取、创新的精神又以无穷的魅力感召作者，所以产生了“渴望生活、渴望创造”的激情。代表作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《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精神的魅力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》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。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99" name="Picture 1030" descr="button106"/>
          <p:cNvPicPr/>
          <p:nvPr/>
        </p:nvPicPr>
        <p:blipFill>
          <a:blip r:embed="rId2"/>
          <a:stretch/>
        </p:blipFill>
        <p:spPr>
          <a:xfrm>
            <a:off x="8469360" y="6183360"/>
            <a:ext cx="674640" cy="674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3"/>
          <p:cNvSpPr txBox="1"/>
          <p:nvPr/>
        </p:nvSpPr>
        <p:spPr>
          <a:xfrm>
            <a:off x="457200" y="533520"/>
            <a:ext cx="204804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隶书"/>
              </a:rPr>
              <a:t>学习目标：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ffcc99"/>
                  </a:gs>
                  <a:gs pos="100000">
                    <a:srgbClr val="ffff00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pic>
        <p:nvPicPr>
          <p:cNvPr id="101" name="Picture 4" descr="button781"/>
          <p:cNvPicPr/>
          <p:nvPr/>
        </p:nvPicPr>
        <p:blipFill>
          <a:blip r:embed="rId1"/>
          <a:stretch/>
        </p:blipFill>
        <p:spPr>
          <a:xfrm>
            <a:off x="228600" y="1600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button781"/>
          <p:cNvPicPr/>
          <p:nvPr/>
        </p:nvPicPr>
        <p:blipFill>
          <a:blip r:embed="rId2"/>
          <a:stretch/>
        </p:blipFill>
        <p:spPr>
          <a:xfrm>
            <a:off x="228600" y="2971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button781"/>
          <p:cNvPicPr/>
          <p:nvPr/>
        </p:nvPicPr>
        <p:blipFill>
          <a:blip r:embed="rId3"/>
          <a:stretch/>
        </p:blipFill>
        <p:spPr>
          <a:xfrm>
            <a:off x="228600" y="51814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6" descr="button781"/>
          <p:cNvPicPr/>
          <p:nvPr/>
        </p:nvPicPr>
        <p:blipFill>
          <a:blip r:embed="rId4"/>
          <a:stretch/>
        </p:blipFill>
        <p:spPr>
          <a:xfrm>
            <a:off x="228600" y="38862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29"/>
          <p:cNvSpPr/>
          <p:nvPr/>
        </p:nvSpPr>
        <p:spPr>
          <a:xfrm>
            <a:off x="2541600" y="1523880"/>
            <a:ext cx="50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学习各部分的内容，理清文章线索，并分别指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6" name="Text Box 31"/>
          <p:cNvSpPr/>
          <p:nvPr/>
        </p:nvSpPr>
        <p:spPr>
          <a:xfrm>
            <a:off x="2135160" y="213372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出表达了作者什么样的思想感情？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7" name="Text Box 32"/>
          <p:cNvSpPr/>
          <p:nvPr/>
        </p:nvSpPr>
        <p:spPr>
          <a:xfrm>
            <a:off x="4914720" y="297180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学习运用多种修辞手法抒发浓厚、真挚的感情。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8" name="Text Box 33"/>
          <p:cNvSpPr/>
          <p:nvPr/>
        </p:nvSpPr>
        <p:spPr>
          <a:xfrm>
            <a:off x="4711680" y="388620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学习叙述、议论、抒情相结合，材料安排精当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9" name="Text Box 34"/>
          <p:cNvSpPr/>
          <p:nvPr/>
        </p:nvSpPr>
        <p:spPr>
          <a:xfrm>
            <a:off x="2036160" y="44956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合理的写法。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0" name="Text Box 35"/>
          <p:cNvSpPr/>
          <p:nvPr/>
        </p:nvSpPr>
        <p:spPr>
          <a:xfrm>
            <a:off x="1219320" y="495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1" name="Text Box 36"/>
          <p:cNvSpPr/>
          <p:nvPr/>
        </p:nvSpPr>
        <p:spPr>
          <a:xfrm>
            <a:off x="4532040" y="5257800"/>
            <a:ext cx="69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领会课文表现的“渴望生活、渴望创造、渴望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2" name="Text Box 37"/>
          <p:cNvSpPr/>
          <p:nvPr/>
        </p:nvSpPr>
        <p:spPr>
          <a:xfrm>
            <a:off x="2766240" y="6019920"/>
            <a:ext cx="113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副轻灵的翅膀”的激情。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4627080" y="9144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给加横线的字注音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14" name="Picture 3" descr="hand"/>
          <p:cNvPicPr/>
          <p:nvPr/>
        </p:nvPicPr>
        <p:blipFill>
          <a:blip r:embed="rId1"/>
          <a:stretch/>
        </p:blipFill>
        <p:spPr>
          <a:xfrm>
            <a:off x="1066680" y="838080"/>
            <a:ext cx="1905120" cy="6955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838080" y="1600200"/>
            <a:ext cx="80168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白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Times New Roman"/>
              </a:rPr>
              <a:t>驹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过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Times New Roman"/>
              </a:rPr>
              <a:t>隙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       ）    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Times New Roman"/>
              </a:rPr>
              <a:t>蓦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然（    ）   积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Times New Roman"/>
              </a:rPr>
              <a:t>攒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       ）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ffff"/>
                </a:solidFill>
                <a:uFillTx/>
                <a:latin typeface="Times New Roman"/>
              </a:rPr>
              <a:t>絮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语（     ）  安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Times New Roman"/>
              </a:rPr>
              <a:t>恬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     ）    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Times New Roman"/>
              </a:rPr>
              <a:t>樯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橹（          ）   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ffff"/>
                </a:solidFill>
                <a:uFillTx/>
                <a:latin typeface="Times New Roman"/>
              </a:rPr>
              <a:t>惆怅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                     ）  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Times New Roman"/>
              </a:rPr>
              <a:t>徜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                 ）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ffff"/>
                </a:solidFill>
                <a:uFillTx/>
                <a:latin typeface="Times New Roman"/>
              </a:rPr>
              <a:t>摒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弃（        ） 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Times New Roman"/>
              </a:rPr>
              <a:t>迸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溅（        ）  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Times New Roman"/>
              </a:rPr>
              <a:t>穹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隆（         ） 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Times New Roman"/>
              </a:rPr>
              <a:t>弹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指（      ）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Times New Roman"/>
              </a:rPr>
              <a:t>撷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取（     ） 呜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Times New Roman"/>
              </a:rPr>
              <a:t>咽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    ） 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Times New Roman"/>
              </a:rPr>
              <a:t>犀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利（    ）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Times New Roman"/>
              </a:rPr>
              <a:t>骤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然（       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651760" y="1590840"/>
            <a:ext cx="82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ū,xì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014800" y="166680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ò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7158960" y="159084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ǎn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1890360" y="24289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ù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3947400" y="24289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án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6233400" y="242892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iáng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1966320" y="3267000"/>
            <a:ext cx="189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óu  chàng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1889640" y="410544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ìng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4100040" y="41054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èng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6461640" y="4181400"/>
            <a:ext cx="99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ióng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1966320" y="501984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án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3947760" y="494352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ié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5929200" y="494352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è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7797240" y="494352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ī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0" name="Text Box 19"/>
          <p:cNvSpPr/>
          <p:nvPr/>
        </p:nvSpPr>
        <p:spPr>
          <a:xfrm>
            <a:off x="2118600" y="578160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hòu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5394960" y="3267000"/>
            <a:ext cx="18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áng yáng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2216520" y="228600"/>
            <a:ext cx="45698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际遇：遭遇。（多指好的）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尘缘：尘世间的缘分。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迷离：模糊而难以分辨清楚。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涉足：指进入某种环境或范围。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徜徉（）：闲游，安闲自在的步行。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屏弃（）：抛弃，扔掉。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古朴：朴素而有古代的风格。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撷取：摘下，采下 。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惆怅（）：伤感，失意。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似曾相识：好象曾经认识它。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白驹过隙：形容时间过得很快，象小白马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在细小的缝隙前跑过一样。白驹：原指骏马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后比喻日影。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4471920" y="838080"/>
            <a:ext cx="57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茫然若失：心中感到空虚，好象失去了什么。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绅士风度：指有教养的美好的举止姿态。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通幽曲径：通向幽深去处的曲折小路。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26" descr="北大西门"/>
          <p:cNvPicPr/>
          <p:nvPr/>
        </p:nvPicPr>
        <p:blipFill>
          <a:blip r:embed="rId1"/>
          <a:stretch/>
        </p:blipFill>
        <p:spPr>
          <a:xfrm>
            <a:off x="900000" y="260280"/>
            <a:ext cx="7239240" cy="63309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27"/>
          <p:cNvSpPr/>
          <p:nvPr/>
        </p:nvSpPr>
        <p:spPr>
          <a:xfrm>
            <a:off x="7456680" y="2286000"/>
            <a:ext cx="1277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古朴的北大西大门</a:t>
            </a:r>
            <a:endParaRPr b="0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46" name="Picture 1028" descr="图片2"/>
          <p:cNvPicPr/>
          <p:nvPr/>
        </p:nvPicPr>
        <p:blipFill>
          <a:blip r:embed="rId2"/>
          <a:stretch/>
        </p:blipFill>
        <p:spPr>
          <a:xfrm>
            <a:off x="644400" y="560520"/>
            <a:ext cx="7855200" cy="57355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29"/>
          <p:cNvSpPr/>
          <p:nvPr/>
        </p:nvSpPr>
        <p:spPr>
          <a:xfrm>
            <a:off x="7775640" y="2438280"/>
            <a:ext cx="1185840" cy="3810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南校门</a:t>
            </a:r>
            <a:endParaRPr b="0" lang="en-US" sz="66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button104"/>
          <p:cNvPicPr/>
          <p:nvPr/>
        </p:nvPicPr>
        <p:blipFill>
          <a:blip r:embed="rId1"/>
          <a:stretch/>
        </p:blipFill>
        <p:spPr>
          <a:xfrm>
            <a:off x="5486400" y="579132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button103"/>
          <p:cNvPicPr/>
          <p:nvPr/>
        </p:nvPicPr>
        <p:blipFill>
          <a:blip r:embed="rId2"/>
          <a:stretch/>
        </p:blipFill>
        <p:spPr>
          <a:xfrm>
            <a:off x="6629400" y="579132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button106"/>
          <p:cNvPicPr/>
          <p:nvPr/>
        </p:nvPicPr>
        <p:blipFill>
          <a:blip r:embed="rId3"/>
          <a:stretch/>
        </p:blipFill>
        <p:spPr>
          <a:xfrm>
            <a:off x="7772400" y="579132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button781"/>
          <p:cNvPicPr/>
          <p:nvPr/>
        </p:nvPicPr>
        <p:blipFill>
          <a:blip r:embed="rId4"/>
          <a:stretch/>
        </p:blipFill>
        <p:spPr>
          <a:xfrm>
            <a:off x="762120" y="1676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button781"/>
          <p:cNvPicPr/>
          <p:nvPr/>
        </p:nvPicPr>
        <p:blipFill>
          <a:blip r:embed="rId5"/>
          <a:stretch/>
        </p:blipFill>
        <p:spPr>
          <a:xfrm>
            <a:off x="762120" y="5257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button781"/>
          <p:cNvPicPr/>
          <p:nvPr/>
        </p:nvPicPr>
        <p:blipFill>
          <a:blip r:embed="rId6"/>
          <a:stretch/>
        </p:blipFill>
        <p:spPr>
          <a:xfrm>
            <a:off x="762120" y="30481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40" name="WordArt 11" descr=""/>
          <p:cNvPicPr/>
          <p:nvPr/>
        </p:nvPicPr>
        <p:blipFill>
          <a:blip r:embed="rId7"/>
          <a:stretch/>
        </p:blipFill>
        <p:spPr>
          <a:xfrm>
            <a:off x="1060560" y="523800"/>
            <a:ext cx="2530440" cy="6285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3"/>
          <p:cNvSpPr/>
          <p:nvPr/>
        </p:nvSpPr>
        <p:spPr>
          <a:xfrm>
            <a:off x="4320000" y="167652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第一部分是按什么顺序来写的？分别用一个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2719440" y="236232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恰当的词来表达作者的感情？主要写了什么？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2089440" y="52578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文章以什么为线索？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44" name="Picture 16" descr="button781"/>
          <p:cNvPicPr/>
          <p:nvPr/>
        </p:nvPicPr>
        <p:blipFill>
          <a:blip r:embed="rId8"/>
          <a:stretch/>
        </p:blipFill>
        <p:spPr>
          <a:xfrm>
            <a:off x="762120" y="42670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7"/>
          <p:cNvSpPr/>
          <p:nvPr/>
        </p:nvSpPr>
        <p:spPr>
          <a:xfrm>
            <a:off x="2719440" y="304812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第二部分具体写什么内容？划出北大给予作者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6" name="Text Box 19"/>
          <p:cNvSpPr/>
          <p:nvPr/>
        </p:nvSpPr>
        <p:spPr>
          <a:xfrm>
            <a:off x="2352960" y="36576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感受的词语。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2653560" y="426708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第三部分表达了作者对北大的什么感情？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button781"/>
          <p:cNvPicPr/>
          <p:nvPr/>
        </p:nvPicPr>
        <p:blipFill>
          <a:blip r:embed="rId1"/>
          <a:stretch/>
        </p:blipFill>
        <p:spPr>
          <a:xfrm>
            <a:off x="228600" y="5335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2"/>
          <p:cNvSpPr/>
          <p:nvPr/>
        </p:nvSpPr>
        <p:spPr>
          <a:xfrm>
            <a:off x="1805040" y="4572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99"/>
                </a:solidFill>
                <a:latin typeface="Times New Roman"/>
              </a:rPr>
              <a:t>第一部分：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1528560" y="202896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Times New Roman"/>
              </a:rPr>
              <a:t>时间顺序</a:t>
            </a:r>
            <a:endParaRPr b="0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3570480" y="1600200"/>
            <a:ext cx="23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ffff99"/>
                </a:solidFill>
                <a:latin typeface="Times New Roman"/>
              </a:rPr>
              <a:t>岁时的梦想（向往）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2" name="AutoShape 17"/>
          <p:cNvSpPr/>
          <p:nvPr/>
        </p:nvSpPr>
        <p:spPr>
          <a:xfrm>
            <a:off x="2362320" y="1905120"/>
            <a:ext cx="152280" cy="2819160"/>
          </a:xfrm>
          <a:custGeom>
            <a:avLst/>
            <a:gdLst>
              <a:gd name="textAreaLeft" fmla="*/ 97200 w 152280"/>
              <a:gd name="textAreaRight" fmla="*/ 152640 w 15228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3" name="AutoShape 18"/>
          <p:cNvSpPr/>
          <p:nvPr/>
        </p:nvSpPr>
        <p:spPr>
          <a:xfrm>
            <a:off x="2362320" y="1828800"/>
            <a:ext cx="75960" cy="2590920"/>
          </a:xfrm>
          <a:custGeom>
            <a:avLst/>
            <a:gdLst>
              <a:gd name="textAreaLeft" fmla="*/ 48600 w 75960"/>
              <a:gd name="textAreaRight" fmla="*/ 76320 w 759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4" name="AutoShape 21"/>
          <p:cNvSpPr/>
          <p:nvPr/>
        </p:nvSpPr>
        <p:spPr>
          <a:xfrm>
            <a:off x="2286000" y="1905120"/>
            <a:ext cx="152280" cy="2666880"/>
          </a:xfrm>
          <a:custGeom>
            <a:avLst/>
            <a:gdLst>
              <a:gd name="textAreaLeft" fmla="*/ 97200 w 152280"/>
              <a:gd name="textAreaRight" fmla="*/ 152640 w 15228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5" name="AutoShape 23"/>
          <p:cNvSpPr/>
          <p:nvPr/>
        </p:nvSpPr>
        <p:spPr>
          <a:xfrm>
            <a:off x="2286000" y="2209680"/>
            <a:ext cx="76320" cy="2971800"/>
          </a:xfrm>
          <a:custGeom>
            <a:avLst/>
            <a:gdLst>
              <a:gd name="textAreaLeft" fmla="*/ 48960 w 76320"/>
              <a:gd name="textAreaRight" fmla="*/ 76320 w 7632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6" name="AutoShape 26"/>
          <p:cNvSpPr/>
          <p:nvPr/>
        </p:nvSpPr>
        <p:spPr>
          <a:xfrm>
            <a:off x="2438280" y="2209680"/>
            <a:ext cx="76320" cy="2438640"/>
          </a:xfrm>
          <a:custGeom>
            <a:avLst/>
            <a:gdLst>
              <a:gd name="textAreaLeft" fmla="*/ 22320 w 76320"/>
              <a:gd name="textAreaRight" fmla="*/ 76320 w 76320"/>
              <a:gd name="textAreaTop" fmla="*/ 101520 h 2438640"/>
              <a:gd name="textAreaBottom" fmla="*/ 233712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3570120" y="2438280"/>
            <a:ext cx="25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ffff99"/>
                </a:solidFill>
                <a:latin typeface="Times New Roman"/>
              </a:rPr>
              <a:t>岁时的信心（自信）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3646440" y="3301920"/>
            <a:ext cx="25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3</a:t>
            </a:r>
            <a:r>
              <a:rPr b="0" lang="zh-CN" sz="2800" spc="-1" strike="noStrike">
                <a:solidFill>
                  <a:srgbClr val="ffff99"/>
                </a:solidFill>
                <a:latin typeface="Times New Roman"/>
              </a:rPr>
              <a:t>岁时的际遇（机遇）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3646440" y="4343400"/>
            <a:ext cx="25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6</a:t>
            </a:r>
            <a:r>
              <a:rPr b="0" lang="zh-CN" sz="2800" spc="-1" strike="noStrike">
                <a:solidFill>
                  <a:srgbClr val="ffff99"/>
                </a:solidFill>
                <a:latin typeface="Times New Roman"/>
              </a:rPr>
              <a:t>岁时的回顾（回忆）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0" name="AutoShape 30"/>
          <p:cNvSpPr/>
          <p:nvPr/>
        </p:nvSpPr>
        <p:spPr>
          <a:xfrm>
            <a:off x="7467480" y="2286000"/>
            <a:ext cx="76320" cy="2438280"/>
          </a:xfrm>
          <a:prstGeom prst="bracketPair">
            <a:avLst>
              <a:gd name="adj" fmla="val 1712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1" name="Text Box 32"/>
          <p:cNvSpPr/>
          <p:nvPr/>
        </p:nvSpPr>
        <p:spPr>
          <a:xfrm>
            <a:off x="6819840" y="1905120"/>
            <a:ext cx="549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2" name="AutoShape 33"/>
          <p:cNvSpPr/>
          <p:nvPr/>
        </p:nvSpPr>
        <p:spPr>
          <a:xfrm>
            <a:off x="7162920" y="2438280"/>
            <a:ext cx="75960" cy="2133720"/>
          </a:xfrm>
          <a:prstGeom prst="bracketPair">
            <a:avLst>
              <a:gd name="adj" fmla="val 1712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3" name="Text Box 34"/>
          <p:cNvSpPr/>
          <p:nvPr/>
        </p:nvSpPr>
        <p:spPr>
          <a:xfrm>
            <a:off x="7776720" y="1101600"/>
            <a:ext cx="606960" cy="44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99"/>
                </a:solidFill>
                <a:latin typeface="Times New Roman"/>
              </a:rPr>
              <a:t>对北大的向往与自信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/>
          <p:cNvSpPr/>
          <p:nvPr/>
        </p:nvSpPr>
        <p:spPr>
          <a:xfrm>
            <a:off x="5181480" y="228600"/>
            <a:ext cx="3733920" cy="3048120"/>
          </a:xfrm>
          <a:prstGeom prst="octagon">
            <a:avLst>
              <a:gd name="adj" fmla="val 29287"/>
            </a:avLst>
          </a:prstGeom>
          <a:blipFill rotWithShape="0">
            <a:blip r:embed="rId1"/>
            <a:srcRect/>
            <a:stretch/>
          </a:blip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304920" y="228600"/>
            <a:ext cx="3733560" cy="304812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stretch/>
          </a:blip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304920" y="3581280"/>
            <a:ext cx="3733560" cy="3048120"/>
          </a:xfrm>
          <a:prstGeom prst="octagon">
            <a:avLst>
              <a:gd name="adj" fmla="val 29287"/>
            </a:avLst>
          </a:prstGeom>
          <a:blipFill rotWithShape="0">
            <a:blip r:embed="rId3"/>
            <a:srcRect/>
            <a:stretch/>
          </a:blip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5181480" y="3581280"/>
            <a:ext cx="3733920" cy="304812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3048120" y="2057400"/>
            <a:ext cx="3047760" cy="2743200"/>
          </a:xfrm>
          <a:prstGeom prst="diamond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3657600" y="31240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图书馆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70" name="Picture 8" descr="button104"/>
          <p:cNvPicPr/>
          <p:nvPr/>
        </p:nvPicPr>
        <p:blipFill>
          <a:blip r:embed="rId6"/>
          <a:stretch/>
        </p:blipFill>
        <p:spPr>
          <a:xfrm>
            <a:off x="3657600" y="6183360"/>
            <a:ext cx="533520" cy="674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button103"/>
          <p:cNvPicPr/>
          <p:nvPr/>
        </p:nvPicPr>
        <p:blipFill>
          <a:blip r:embed="rId7"/>
          <a:stretch/>
        </p:blipFill>
        <p:spPr>
          <a:xfrm>
            <a:off x="4800600" y="6183360"/>
            <a:ext cx="533520" cy="674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0" y="0"/>
            <a:ext cx="9067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图书馆的前身是京师大学堂藏书楼，建于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1902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年，是我国历史最悠久的国立大学图书馆。目前馆藏文献总量已达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450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余万册，订有中外报刊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7000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余种。馆藏中外主要学科文献齐备，语种多样，还有古籍善本、旧报刊、金石拓片等 珍贵特藏。图书馆目前的馆舍于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1975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年落成，总建筑面积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25500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平方米。近年来，图书馆朝着现代化方向迅速迈进。目前可利用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Internet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国际联机检索和光盘检索，为读者提高效率的文献信息服务。图书馆自动化集成系统已在全馆范围内投入使用。“国家教委北京大学文科文献信息中心”的建立，为全校师生和全国高校系统提供了高水平的现代化信息服务。“‘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211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工程’高等教育文献保障体系管理中心”正在建设中。 图书馆新馆于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1998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年建成后，总面积达到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50000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平米，阅览座位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4000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多个，总藏书容量超过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600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万册，在规模上将成为亚洲高校第一大馆。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026"/>
          <p:cNvSpPr/>
          <p:nvPr/>
        </p:nvSpPr>
        <p:spPr>
          <a:xfrm>
            <a:off x="990720" y="12193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、作者在不到十四岁时被北大录取，两年的北大生活使作者对北大有了深刻而丰富的认识，你能说说北大是如何深刻的影响着作者的成长吗？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4" name="Text Box 1027"/>
          <p:cNvSpPr/>
          <p:nvPr/>
        </p:nvSpPr>
        <p:spPr>
          <a:xfrm>
            <a:off x="971640" y="4005360"/>
            <a:ext cx="81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Times New Roman"/>
                <a:ea typeface="幼圆"/>
              </a:rPr>
              <a:t>明确：①、北大的图书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幼圆"/>
              </a:rPr>
              <a:t>(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  <a:ea typeface="幼圆"/>
              </a:rPr>
              <a:t>因为是知识的象征）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5" name="Text Box 1028"/>
          <p:cNvSpPr/>
          <p:nvPr/>
        </p:nvSpPr>
        <p:spPr>
          <a:xfrm>
            <a:off x="1258920" y="494172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  <a:ea typeface="幼圆"/>
              </a:rPr>
              <a:t>②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幼圆"/>
              </a:rPr>
              <a:t>、北大的人（老师  学生  ）（因为是北大的主体）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0000"/>
                </a:solidFill>
                <a:latin typeface="Times New Roman"/>
                <a:ea typeface="隶书"/>
              </a:rPr>
              <a:t>影响的因素</a:t>
            </a:r>
            <a:endParaRPr b="0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276720" y="4952880"/>
            <a:ext cx="655308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师长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绅士风度和蔼可亲、     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平易近人、严谨、诚恳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380880" y="1523880"/>
            <a:ext cx="289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北大的书</a:t>
            </a:r>
            <a:endParaRPr b="0" lang="en-US" sz="4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0" y="403848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北大的人</a:t>
            </a:r>
            <a:endParaRPr b="0" lang="en-US" sz="4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3733920" y="14479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沉静，愉悦，安详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7238880" y="15238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Times New Roman"/>
              </a:rPr>
              <a:t>渴望</a:t>
            </a:r>
            <a:endParaRPr b="0" lang="en-US" sz="4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3429000" y="274320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学生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：专注而入迷，敏感，纯洁、犀利、机智、生机勃勃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2971800" y="3048120"/>
            <a:ext cx="76320" cy="2971800"/>
          </a:xfrm>
          <a:custGeom>
            <a:avLst/>
            <a:gdLst>
              <a:gd name="textAreaLeft" fmla="*/ 48960 w 76320"/>
              <a:gd name="textAreaRight" fmla="*/ 76320 w 7632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4" name="Line 10"/>
          <p:cNvSpPr/>
          <p:nvPr/>
        </p:nvSpPr>
        <p:spPr>
          <a:xfrm>
            <a:off x="3200400" y="1981080"/>
            <a:ext cx="60948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5" name="Line 11"/>
          <p:cNvSpPr/>
          <p:nvPr/>
        </p:nvSpPr>
        <p:spPr>
          <a:xfrm>
            <a:off x="6400800" y="1905120"/>
            <a:ext cx="83808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0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3" dur="3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8" dur="3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457200" y="914400"/>
          <a:ext cx="8686800" cy="5241960"/>
        </p:xfrm>
        <a:graphic>
          <a:graphicData uri="http://schemas.openxmlformats.org/drawingml/2006/table">
            <a:tbl>
              <a:tblPr/>
              <a:tblGrid>
                <a:gridCol w="380880"/>
                <a:gridCol w="457200"/>
                <a:gridCol w="2057400"/>
                <a:gridCol w="2133720"/>
                <a:gridCol w="2066760"/>
                <a:gridCol w="1590840"/>
              </a:tblGrid>
              <a:tr h="488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北大的书</a:t>
                      </a:r>
                      <a:endParaRPr b="0" lang="en-US" sz="24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最初的感觉</a:t>
                      </a:r>
                      <a:endParaRPr b="0" lang="en-US" sz="24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后来的感情</a:t>
                      </a:r>
                      <a:endParaRPr b="0" lang="en-US" sz="24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对学校评价</a:t>
                      </a:r>
                      <a:endParaRPr b="0" lang="en-US" sz="24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个人成长</a:t>
                      </a:r>
                      <a:endParaRPr b="0" lang="en-US" sz="24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2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北大的人</a:t>
                      </a:r>
                      <a:endParaRPr b="0" lang="en-US" sz="24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学生</a:t>
                      </a:r>
                      <a:endParaRPr b="0" lang="en-US" sz="24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师长</a:t>
                      </a:r>
                      <a:endParaRPr b="0" lang="en-US" sz="24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对学校评价</a:t>
                      </a:r>
                      <a:endParaRPr b="0" lang="en-US" sz="24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个人成长</a:t>
                      </a:r>
                      <a:endParaRPr b="0" lang="en-US" sz="24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肖像</a:t>
                      </a:r>
                      <a:endParaRPr b="0" lang="en-US" sz="24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品质</a:t>
                      </a:r>
                      <a:endParaRPr b="0" lang="en-US" sz="24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7" name="Text Box 46"/>
          <p:cNvSpPr/>
          <p:nvPr/>
        </p:nvSpPr>
        <p:spPr>
          <a:xfrm>
            <a:off x="1116000" y="1413000"/>
            <a:ext cx="20574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个人誓言“苍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白无力”，心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中感到“近乎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绝望”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8" name="Text Box 47"/>
          <p:cNvSpPr/>
          <p:nvPr/>
        </p:nvSpPr>
        <p:spPr>
          <a:xfrm>
            <a:off x="3352680" y="1523880"/>
            <a:ext cx="18432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开始“进行探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寻”，逐渐变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得“沉静、愉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悦、安详”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9" name="Text Box 48"/>
          <p:cNvSpPr/>
          <p:nvPr/>
        </p:nvSpPr>
        <p:spPr>
          <a:xfrm>
            <a:off x="6042960" y="1447920"/>
            <a:ext cx="120492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真理之光”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为学生打开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神奇之窗，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展示新世界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0" name="Text Box 49"/>
          <p:cNvSpPr/>
          <p:nvPr/>
        </p:nvSpPr>
        <p:spPr>
          <a:xfrm>
            <a:off x="7870320" y="1676520"/>
            <a:ext cx="10220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四个“开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始”，三个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渴望”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1" name="Text Box 50"/>
          <p:cNvSpPr/>
          <p:nvPr/>
        </p:nvSpPr>
        <p:spPr>
          <a:xfrm>
            <a:off x="1371600" y="3886200"/>
            <a:ext cx="19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专注而入迷”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高声争论”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2" name="Text Box 51"/>
          <p:cNvSpPr/>
          <p:nvPr/>
        </p:nvSpPr>
        <p:spPr>
          <a:xfrm>
            <a:off x="3586680" y="3886200"/>
            <a:ext cx="12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绅士风度”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谈笑风生”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3" name="Text Box 52"/>
          <p:cNvSpPr/>
          <p:nvPr/>
        </p:nvSpPr>
        <p:spPr>
          <a:xfrm>
            <a:off x="1554840" y="4800600"/>
            <a:ext cx="142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敏感”“纯洁”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犀利”“机智”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生机勃勃”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4" name="Text Box 53"/>
          <p:cNvSpPr/>
          <p:nvPr/>
        </p:nvSpPr>
        <p:spPr>
          <a:xfrm>
            <a:off x="3352680" y="464832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和蔼可亲”“平易近人”“严谨治学”“诚恳做人”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5" name="Text Box 54"/>
          <p:cNvSpPr/>
          <p:nvPr/>
        </p:nvSpPr>
        <p:spPr>
          <a:xfrm>
            <a:off x="5486400" y="3962520"/>
            <a:ext cx="203832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一条生命饱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满的河流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向那充满希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望的未来流淌。”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6" name="Text Box 55"/>
          <p:cNvSpPr/>
          <p:nvPr/>
        </p:nvSpPr>
        <p:spPr>
          <a:xfrm>
            <a:off x="7827120" y="3962520"/>
            <a:ext cx="109512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因浸透了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汗水、泪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水与欢笑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而格外充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实”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button781"/>
          <p:cNvPicPr/>
          <p:nvPr/>
        </p:nvPicPr>
        <p:blipFill>
          <a:blip r:embed="rId1"/>
          <a:stretch/>
        </p:blipFill>
        <p:spPr>
          <a:xfrm>
            <a:off x="228600" y="5335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1297080" y="404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第二部分：</a:t>
            </a:r>
            <a:endParaRPr b="0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1372680" y="16686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事物：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2943000" y="1700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99"/>
                </a:solidFill>
                <a:latin typeface="Times New Roman"/>
              </a:rPr>
              <a:t>北大的图书馆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1" name="AutoShape 6"/>
          <p:cNvSpPr/>
          <p:nvPr/>
        </p:nvSpPr>
        <p:spPr>
          <a:xfrm>
            <a:off x="5181480" y="1600200"/>
            <a:ext cx="76320" cy="1523880"/>
          </a:xfrm>
          <a:custGeom>
            <a:avLst/>
            <a:gdLst>
              <a:gd name="textAreaLeft" fmla="*/ 48960 w 76320"/>
              <a:gd name="textAreaRight" fmla="*/ 76320 w 763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5786640" y="1600200"/>
            <a:ext cx="12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400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多万册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5562720" y="2286000"/>
            <a:ext cx="17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震憾、探索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6174000" y="28195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渴望生活、创造、翅膀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1143000" y="4724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人物：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2876760" y="4800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北大的人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7" name="AutoShape 12"/>
          <p:cNvSpPr/>
          <p:nvPr/>
        </p:nvSpPr>
        <p:spPr>
          <a:xfrm>
            <a:off x="5181480" y="4343400"/>
            <a:ext cx="76320" cy="1295280"/>
          </a:xfrm>
          <a:prstGeom prst="bracketPair">
            <a:avLst>
              <a:gd name="adj" fmla="val 17129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5762160" y="4114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犀利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5838480" y="47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机智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5884200" y="5410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生机勃勃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1" name="AutoShape 16"/>
          <p:cNvSpPr/>
          <p:nvPr/>
        </p:nvSpPr>
        <p:spPr>
          <a:xfrm>
            <a:off x="1752480" y="2590920"/>
            <a:ext cx="152640" cy="2057400"/>
          </a:xfrm>
          <a:prstGeom prst="downArrow">
            <a:avLst>
              <a:gd name="adj1" fmla="val 50000"/>
              <a:gd name="adj2" fmla="val 33696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212" name="Picture 17" descr="BS00554_"/>
          <p:cNvPicPr/>
          <p:nvPr/>
        </p:nvPicPr>
        <p:blipFill>
          <a:blip r:embed="rId2"/>
          <a:stretch/>
        </p:blipFill>
        <p:spPr>
          <a:xfrm>
            <a:off x="5410080" y="380880"/>
            <a:ext cx="2895840" cy="990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1" descr="PE03166_"/>
          <p:cNvPicPr/>
          <p:nvPr/>
        </p:nvPicPr>
        <p:blipFill>
          <a:blip r:embed="rId3"/>
          <a:stretch/>
        </p:blipFill>
        <p:spPr>
          <a:xfrm>
            <a:off x="7010280" y="4419720"/>
            <a:ext cx="234648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21"/>
          <p:cNvPicPr/>
          <p:nvPr/>
        </p:nvPicPr>
        <p:blipFill>
          <a:blip r:embed="rId1"/>
          <a:stretch/>
        </p:blipFill>
        <p:spPr>
          <a:xfrm>
            <a:off x="380880" y="990720"/>
            <a:ext cx="4030920" cy="50292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3"/>
          <p:cNvSpPr/>
          <p:nvPr/>
        </p:nvSpPr>
        <p:spPr>
          <a:xfrm flipH="1" flipV="1">
            <a:off x="4647600" y="1218600"/>
            <a:ext cx="549000" cy="42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216" name="Picture 4" descr="22"/>
          <p:cNvPicPr/>
          <p:nvPr/>
        </p:nvPicPr>
        <p:blipFill>
          <a:blip r:embed="rId2"/>
          <a:stretch/>
        </p:blipFill>
        <p:spPr>
          <a:xfrm>
            <a:off x="5410080" y="1066680"/>
            <a:ext cx="3399120" cy="4876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"/>
          <p:cNvPicPr/>
          <p:nvPr/>
        </p:nvPicPr>
        <p:blipFill>
          <a:blip r:embed="rId3"/>
          <a:stretch/>
        </p:blipFill>
        <p:spPr>
          <a:xfrm>
            <a:off x="4495680" y="1371600"/>
            <a:ext cx="800280" cy="4191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8290080" y="1066680"/>
            <a:ext cx="5490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012680" cy="4724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29"/>
          <p:cNvPicPr/>
          <p:nvPr/>
        </p:nvPicPr>
        <p:blipFill>
          <a:blip r:embed="rId2"/>
          <a:stretch/>
        </p:blipFill>
        <p:spPr>
          <a:xfrm>
            <a:off x="228600" y="762120"/>
            <a:ext cx="7238880" cy="5429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269000" y="3049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北大简介</a:t>
            </a:r>
            <a:endParaRPr b="0" lang="en-US" sz="6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419040" y="1371600"/>
            <a:ext cx="8496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北京大学创于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1898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年，初名京师大学堂，是第一所国立综合性大学，也是当时中国的最高教育行政机关。辛亥革命后，于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1912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年改为现名。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作为新文化运动的中心和“五四”运动的策源地，作为中国最早传播马克思主义和民主科学思想的发祥地，作为中国共产党最早的活动基地，北京大学为民族的振兴和解放、国家的建设和发展、社会的文明和进步做出了不可代替的贡献，在中国走向现代化的进程中起到了重要的先锋作用。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爱国、进步、民主、科学的传统精神和勤奋、严谨、求实、创新的学风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在这里生生不息、代代相传。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44"/>
          <p:cNvPicPr/>
          <p:nvPr/>
        </p:nvPicPr>
        <p:blipFill>
          <a:blip r:embed="rId1"/>
          <a:stretch/>
        </p:blipFill>
        <p:spPr>
          <a:xfrm>
            <a:off x="304920" y="990720"/>
            <a:ext cx="7162560" cy="4903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7848720" y="1447920"/>
            <a:ext cx="922320" cy="3504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button781"/>
          <p:cNvPicPr/>
          <p:nvPr/>
        </p:nvPicPr>
        <p:blipFill>
          <a:blip r:embed="rId1"/>
          <a:stretch/>
        </p:blipFill>
        <p:spPr>
          <a:xfrm>
            <a:off x="0" y="5335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7"/>
          <p:cNvSpPr/>
          <p:nvPr/>
        </p:nvSpPr>
        <p:spPr>
          <a:xfrm>
            <a:off x="914400" y="457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第三部分：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4706280" y="121932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划出表达作者对北大的热爱、思念、作出贡献的心情的句子？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1291320" y="2583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热爱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1291320" y="40305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思念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1287000" y="52052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贡献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29" name="Line 13"/>
          <p:cNvSpPr/>
          <p:nvPr/>
        </p:nvSpPr>
        <p:spPr>
          <a:xfrm>
            <a:off x="1905120" y="2971800"/>
            <a:ext cx="1676160" cy="1219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0" name="AutoShape 15"/>
          <p:cNvSpPr/>
          <p:nvPr/>
        </p:nvSpPr>
        <p:spPr>
          <a:xfrm>
            <a:off x="2209680" y="3048120"/>
            <a:ext cx="2590920" cy="1447560"/>
          </a:xfrm>
          <a:prstGeom prst="rightArrow">
            <a:avLst>
              <a:gd name="adj1" fmla="val 50000"/>
              <a:gd name="adj2" fmla="val 447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3718080" y="329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2" name="Line 17"/>
          <p:cNvSpPr/>
          <p:nvPr/>
        </p:nvSpPr>
        <p:spPr>
          <a:xfrm>
            <a:off x="3809880" y="3429000"/>
            <a:ext cx="76212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3" name="Text Box 18"/>
          <p:cNvSpPr/>
          <p:nvPr/>
        </p:nvSpPr>
        <p:spPr>
          <a:xfrm>
            <a:off x="3718080" y="405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4" name="AutoShape 19"/>
          <p:cNvSpPr/>
          <p:nvPr/>
        </p:nvSpPr>
        <p:spPr>
          <a:xfrm>
            <a:off x="3200400" y="3809880"/>
            <a:ext cx="2743200" cy="609840"/>
          </a:xfrm>
          <a:prstGeom prst="leftRightArrow">
            <a:avLst>
              <a:gd name="adj1" fmla="val 50000"/>
              <a:gd name="adj2" fmla="val 8954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5" name="Text Box 20"/>
          <p:cNvSpPr/>
          <p:nvPr/>
        </p:nvSpPr>
        <p:spPr>
          <a:xfrm>
            <a:off x="7250760" y="2666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感激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6" name="Text Box 21"/>
          <p:cNvSpPr/>
          <p:nvPr/>
        </p:nvSpPr>
        <p:spPr>
          <a:xfrm>
            <a:off x="7327080" y="4648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依恋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7" name="Text Box 22"/>
          <p:cNvSpPr/>
          <p:nvPr/>
        </p:nvSpPr>
        <p:spPr>
          <a:xfrm>
            <a:off x="7477200" y="376380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8" name="AutoShape 23"/>
          <p:cNvSpPr/>
          <p:nvPr/>
        </p:nvSpPr>
        <p:spPr>
          <a:xfrm>
            <a:off x="7391520" y="3429000"/>
            <a:ext cx="380880" cy="976320"/>
          </a:xfrm>
          <a:prstGeom prst="downArrow">
            <a:avLst>
              <a:gd name="adj1" fmla="val 50000"/>
              <a:gd name="adj2" fmla="val 6408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9" name="Text Box 24"/>
          <p:cNvSpPr/>
          <p:nvPr/>
        </p:nvSpPr>
        <p:spPr>
          <a:xfrm>
            <a:off x="4436640" y="27432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感</a:t>
            </a:r>
            <a:endParaRPr b="0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0" name="Text Box 26"/>
          <p:cNvSpPr/>
          <p:nvPr/>
        </p:nvSpPr>
        <p:spPr>
          <a:xfrm>
            <a:off x="4479840" y="489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1" name="Text Box 27"/>
          <p:cNvSpPr/>
          <p:nvPr/>
        </p:nvSpPr>
        <p:spPr>
          <a:xfrm>
            <a:off x="4436640" y="44956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情</a:t>
            </a:r>
            <a:endParaRPr b="0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2450160" y="251460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二、我两年学习生活中的感受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2232000" y="6858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一、对北大的向往与自信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2948040" y="434340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三、抒发对北大的感激之情：渴望飞翔、创造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-13680" y="168336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感情线索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756720" y="862200"/>
            <a:ext cx="60696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向往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7" name="Line 8"/>
          <p:cNvSpPr/>
          <p:nvPr/>
        </p:nvSpPr>
        <p:spPr>
          <a:xfrm>
            <a:off x="990720" y="17524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766080" y="2005200"/>
            <a:ext cx="60696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热爱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766080" y="3376800"/>
            <a:ext cx="60696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感激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766080" y="4748400"/>
            <a:ext cx="60696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依恋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1" name="Line 12"/>
          <p:cNvSpPr/>
          <p:nvPr/>
        </p:nvSpPr>
        <p:spPr>
          <a:xfrm>
            <a:off x="990720" y="29718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2" name="Line 13"/>
          <p:cNvSpPr/>
          <p:nvPr/>
        </p:nvSpPr>
        <p:spPr>
          <a:xfrm>
            <a:off x="990720" y="4343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2850840" y="13399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（时间顺序）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4" name="AutoShape 16"/>
          <p:cNvSpPr/>
          <p:nvPr/>
        </p:nvSpPr>
        <p:spPr>
          <a:xfrm>
            <a:off x="5562720" y="380880"/>
            <a:ext cx="75960" cy="1524240"/>
          </a:xfrm>
          <a:custGeom>
            <a:avLst/>
            <a:gdLst>
              <a:gd name="textAreaLeft" fmla="*/ 48600 w 75960"/>
              <a:gd name="textAreaRight" fmla="*/ 76320 w 7596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5" name="AutoShape 17"/>
          <p:cNvSpPr/>
          <p:nvPr/>
        </p:nvSpPr>
        <p:spPr>
          <a:xfrm>
            <a:off x="6400800" y="2133720"/>
            <a:ext cx="76320" cy="1523880"/>
          </a:xfrm>
          <a:custGeom>
            <a:avLst/>
            <a:gdLst>
              <a:gd name="textAreaLeft" fmla="*/ 48960 w 76320"/>
              <a:gd name="textAreaRight" fmla="*/ 76320 w 763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6" name="Text Box 21"/>
          <p:cNvSpPr/>
          <p:nvPr/>
        </p:nvSpPr>
        <p:spPr>
          <a:xfrm>
            <a:off x="6432480" y="730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四个年龄阶段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7" name="Text Box 22"/>
          <p:cNvSpPr/>
          <p:nvPr/>
        </p:nvSpPr>
        <p:spPr>
          <a:xfrm>
            <a:off x="7002000" y="213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读书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8" name="Text Box 23"/>
          <p:cNvSpPr/>
          <p:nvPr/>
        </p:nvSpPr>
        <p:spPr>
          <a:xfrm>
            <a:off x="7002000" y="3124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读人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9" name="Rectangle 24"/>
          <p:cNvSpPr/>
          <p:nvPr/>
        </p:nvSpPr>
        <p:spPr>
          <a:xfrm>
            <a:off x="3715200" y="6338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时间线索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60" name="Text Box 25"/>
          <p:cNvSpPr/>
          <p:nvPr/>
        </p:nvSpPr>
        <p:spPr>
          <a:xfrm>
            <a:off x="1828800" y="563868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过去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61" name="Text Box 26"/>
          <p:cNvSpPr/>
          <p:nvPr/>
        </p:nvSpPr>
        <p:spPr>
          <a:xfrm>
            <a:off x="4639680" y="5638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现在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62" name="Text Box 27"/>
          <p:cNvSpPr/>
          <p:nvPr/>
        </p:nvSpPr>
        <p:spPr>
          <a:xfrm>
            <a:off x="7002000" y="5638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未来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63" name="Line 28"/>
          <p:cNvSpPr/>
          <p:nvPr/>
        </p:nvSpPr>
        <p:spPr>
          <a:xfrm>
            <a:off x="3352680" y="59436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64" name="Line 29"/>
          <p:cNvSpPr/>
          <p:nvPr/>
        </p:nvSpPr>
        <p:spPr>
          <a:xfrm>
            <a:off x="5791320" y="59436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本文贯穿全文的线索是“我”的惊奇、喜悦、感动之。文章开头段，写作者在七岁时看到那张“湖光塔影”的照片，心中就悄悄升起一种莫名的惊奇、喜悦和感动之情，这种感情贯穿于文章的始终。其中有才进校门，参观北大图书馆引起的惊奇、感动之情；有走进图书馆时的激动不安和惊喜之情；有对北大的同学、北大的气氛和北大的老师的喜爱、赞赏与感激之情；有在即将离开母校时的无限眷恋、惆怅之情；也有驶向知识海洋深处，为北大增光添彩，让北大为“我”感到自豪的壮志豪情；还有梦幻中暮年归来，再次轻依在“湖光塔影”的胸前的眷眷深情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正是这条感情线索穿起了“我”从七岁到十六岁这段生活的回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button781"/>
          <p:cNvPicPr/>
          <p:nvPr/>
        </p:nvPicPr>
        <p:blipFill>
          <a:blip r:embed="rId1"/>
          <a:stretch/>
        </p:blipFill>
        <p:spPr>
          <a:xfrm>
            <a:off x="457200" y="5335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3"/>
          <p:cNvSpPr/>
          <p:nvPr/>
        </p:nvSpPr>
        <p:spPr>
          <a:xfrm>
            <a:off x="2607840" y="48096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思考：找出本文画龙点晴的议论的句子？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2667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拓展延伸：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9" name="Picture 3" descr="button781"/>
          <p:cNvPicPr/>
          <p:nvPr/>
        </p:nvPicPr>
        <p:blipFill>
          <a:blip r:embed="rId1"/>
          <a:stretch/>
        </p:blipFill>
        <p:spPr>
          <a:xfrm>
            <a:off x="457200" y="5335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2091600" y="2362320"/>
            <a:ext cx="47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作者为什么多次把自己比喻为“</a:t>
            </a:r>
            <a:r>
              <a:rPr b="0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不系之舟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1279440" y="375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2" name="AutoShape 7"/>
          <p:cNvSpPr/>
          <p:nvPr/>
        </p:nvSpPr>
        <p:spPr>
          <a:xfrm>
            <a:off x="228600" y="3886200"/>
            <a:ext cx="304920" cy="304920"/>
          </a:xfrm>
          <a:custGeom>
            <a:avLst/>
            <a:gdLst>
              <a:gd name="textAreaLeft" fmla="*/ 30240 w 304920"/>
              <a:gd name="textAreaRight" fmla="*/ 274680 w 304920"/>
              <a:gd name="textAreaTop" fmla="*/ 122040 h 304920"/>
              <a:gd name="textAreaBottom" fmla="*/ 182880 h 3049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sp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1022760" y="3809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表达作者依偎北大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6172200" y="2971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050"/>
                </a:solidFill>
                <a:latin typeface="Times New Roman"/>
              </a:rPr>
              <a:t>自由行驶的小船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5" name="Line 10"/>
          <p:cNvSpPr/>
          <p:nvPr/>
        </p:nvSpPr>
        <p:spPr>
          <a:xfrm>
            <a:off x="3124080" y="40384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6" name="Line 11"/>
          <p:cNvSpPr/>
          <p:nvPr/>
        </p:nvSpPr>
        <p:spPr>
          <a:xfrm>
            <a:off x="5257800" y="40384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7" name="Line 12"/>
          <p:cNvSpPr/>
          <p:nvPr/>
        </p:nvSpPr>
        <p:spPr>
          <a:xfrm>
            <a:off x="7238880" y="40384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4131720" y="3809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热爱北大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6112800" y="3809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离开北大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8033040" y="4343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新大陆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8108640" y="3754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发现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2925000" y="990720"/>
            <a:ext cx="475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怎么理解： 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“我不仅为北大感到骄傲，也要让北大为我感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                     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到自豪”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这句话？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762120" y="19810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两句相辅相成。上句是作者对北大在学术界、思想界、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教育界地位的高度肯定，下句则表达了要为北大创造更辉煌的业绩的雄心壮志。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457200" y="327672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参观北大图书馆时，这句誓言“骤然显得苍白无力”，作者“心头涌起一种近乎绝望的感觉”      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5" name="AutoShape 5"/>
          <p:cNvSpPr/>
          <p:nvPr/>
        </p:nvSpPr>
        <p:spPr>
          <a:xfrm>
            <a:off x="5257800" y="38098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5867280" y="3505320"/>
            <a:ext cx="163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8752"/>
                </a:solidFill>
                <a:latin typeface="Times New Roman"/>
                <a:ea typeface="隶书"/>
              </a:rPr>
              <a:t>没有自信，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8752"/>
                </a:solidFill>
                <a:latin typeface="Times New Roman"/>
                <a:ea typeface="隶书"/>
              </a:rPr>
              <a:t>觉得渺小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457200" y="4724280"/>
            <a:ext cx="51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两年学习后，作者变得“沉静、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愉悦、安详”，并在第三部分中重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提誓言。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8" name="AutoShape 8"/>
          <p:cNvSpPr/>
          <p:nvPr/>
        </p:nvSpPr>
        <p:spPr>
          <a:xfrm>
            <a:off x="5181480" y="49528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6239880" y="4800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8752"/>
                </a:solidFill>
                <a:latin typeface="Times New Roman"/>
                <a:ea typeface="隶书"/>
              </a:rPr>
              <a:t>自信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90" name="AutoShape 10"/>
          <p:cNvSpPr/>
          <p:nvPr/>
        </p:nvSpPr>
        <p:spPr>
          <a:xfrm>
            <a:off x="7467480" y="3429000"/>
            <a:ext cx="228600" cy="2286000"/>
          </a:xfrm>
          <a:custGeom>
            <a:avLst/>
            <a:gdLst>
              <a:gd name="textAreaLeft" fmla="*/ 0 w 228600"/>
              <a:gd name="textAreaRight" fmla="*/ 8244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91" name="Text Box 11"/>
          <p:cNvSpPr/>
          <p:nvPr/>
        </p:nvSpPr>
        <p:spPr>
          <a:xfrm>
            <a:off x="7863840" y="3048120"/>
            <a:ext cx="1022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  <a:ea typeface="方正姚体"/>
              </a:rPr>
              <a:t>北大为她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  <a:ea typeface="方正姚体"/>
              </a:rPr>
              <a:t>“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  <a:ea typeface="方正姚体"/>
              </a:rPr>
              <a:t>展示了一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  <a:ea typeface="方正姚体"/>
              </a:rPr>
              <a:t>个动人的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  <a:ea typeface="方正姚体"/>
              </a:rPr>
              <a:t>新世界”；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  <a:ea typeface="方正姚体"/>
              </a:rPr>
              <a:t>因浸透了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  <a:ea typeface="方正姚体"/>
              </a:rPr>
              <a:t>汗水、泪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  <a:ea typeface="方正姚体"/>
              </a:rPr>
              <a:t>水与欢笑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  <a:ea typeface="方正姚体"/>
              </a:rPr>
              <a:t>而格外充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  <a:ea typeface="方正姚体"/>
              </a:rPr>
              <a:t>实。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292" name="Picture 12" descr="问号"/>
          <p:cNvPicPr/>
          <p:nvPr/>
        </p:nvPicPr>
        <p:blipFill>
          <a:blip r:embed="rId1"/>
          <a:stretch/>
        </p:blipFill>
        <p:spPr>
          <a:xfrm>
            <a:off x="685800" y="609480"/>
            <a:ext cx="1346040" cy="1300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7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7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8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9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9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北大就是一条生命饱满的河流，它从九十年前的源头出发，向那充满希望的未来流淌。不管两岸风景变换，河上却始终有着渴望渡向美丽彼岸的船客，也有着代代相传的辛勤的舵手与船工。”这句话中“船客”、“舵手与船工”、“两岸风景变换”各指什幺？为什幺是从“九十年前的源头”出发？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比喻各指求知的学子，执教的教师，世事的变迁。北大建校于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前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button781"/>
          <p:cNvPicPr/>
          <p:nvPr/>
        </p:nvPicPr>
        <p:blipFill>
          <a:blip r:embed="rId1"/>
          <a:stretch/>
        </p:blipFill>
        <p:spPr>
          <a:xfrm>
            <a:off x="304920" y="2286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3"/>
          <p:cNvSpPr/>
          <p:nvPr/>
        </p:nvSpPr>
        <p:spPr>
          <a:xfrm>
            <a:off x="1535760" y="228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主题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2480760" y="137160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作者回顾了自己与北大的渊源，特别是在北大两年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4415760" y="22096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学习生活与生活的感受，表达了作者热爱北、感激北大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1937160" y="3200400"/>
            <a:ext cx="530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以及为了北大而必将离开北大的复杂感情和渴望自由飞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1992240" y="403848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翔、渴望创造的精神。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85800" y="836280"/>
            <a:ext cx="77724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本文作者是个早慧型的人才。她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岁就上大学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岁就写下了这样一篇情感饱满、思想丰富、文采动人的好文章。我们应该从她的成才故事中吸取一点什么呢？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明确：我们虽然难以跟她比肩，但我们从她的成才故事中吸取到的最宝贵的东西就是自信，执著，大量地阅读、思索，渴望创造等等。希望大家能学习作者的这些精神，在生活和学习中不断地提高自己，使自己早日成为有思想、有觉悟、有知识、有智慧的人才。  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226520" y="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北大简介</a:t>
            </a:r>
            <a:endParaRPr b="0" lang="en-US" sz="5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04920" y="91764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1917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年，著名教育和民主主义革命家蔡元培出任北京大学校长，他“循思想自由原则、取兼容并包之义“，对北京大学进行了思想解放和学术繁荣，北京大学从此日新月异。陈独秀、李大钊、毛泽东以及鲁迅、胡适等一批杰出人才都曾在北京大学任职或任教。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1937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年卢沟桥事变后，北京大学与清华大学、南开大学南迁长沙，共同组成长沙临时大学 。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1938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年初，临时大学迁往昆明，改称国立西南联合大学。西南联大汇聚三校菁华，以刚毅坚卓精神，维系中华教育命脉。抗战胜利后，北京大学返回故园，于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1946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月正式复学。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584360" y="-27000"/>
            <a:ext cx="1839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997920" y="3049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北大简介</a:t>
            </a:r>
            <a:endParaRPr b="0" lang="en-US" sz="5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676520" y="15238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857160" y="1600200"/>
            <a:ext cx="742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中华人民共和国成立后，全国高校于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95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年进行院系调整，北京大学成为一所以文理基础教学和研究为主的综合性大学，为国家培养了大批人才。据不完全统计，北京大学的校友和教师有近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0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位两院院士，中国人文社科界有影响的人士相当多也出自北京大学，并且产生了一批重大研究成果。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309680" y="22392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ffffff"/>
                </a:solidFill>
                <a:uFillTx/>
                <a:latin typeface="Times New Roman"/>
                <a:ea typeface="隶书"/>
              </a:rPr>
              <a:t>北大老照片</a:t>
            </a:r>
            <a:endParaRPr b="0" lang="en-US" sz="60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57" name="Picture 3" descr="pic2"/>
          <p:cNvPicPr/>
          <p:nvPr/>
        </p:nvPicPr>
        <p:blipFill>
          <a:blip r:embed="rId1"/>
          <a:stretch/>
        </p:blipFill>
        <p:spPr>
          <a:xfrm>
            <a:off x="0" y="2133720"/>
            <a:ext cx="4572000" cy="3579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pic1"/>
          <p:cNvPicPr/>
          <p:nvPr/>
        </p:nvPicPr>
        <p:blipFill>
          <a:blip r:embed="rId2"/>
          <a:stretch/>
        </p:blipFill>
        <p:spPr>
          <a:xfrm>
            <a:off x="4572000" y="1066680"/>
            <a:ext cx="4343400" cy="3886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pic3"/>
          <p:cNvPicPr/>
          <p:nvPr/>
        </p:nvPicPr>
        <p:blipFill>
          <a:blip r:embed="rId3"/>
          <a:stretch/>
        </p:blipFill>
        <p:spPr>
          <a:xfrm>
            <a:off x="4572000" y="1066680"/>
            <a:ext cx="4191120" cy="3657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pic5"/>
          <p:cNvPicPr/>
          <p:nvPr/>
        </p:nvPicPr>
        <p:blipFill>
          <a:blip r:embed="rId4"/>
          <a:stretch/>
        </p:blipFill>
        <p:spPr>
          <a:xfrm>
            <a:off x="533520" y="1752480"/>
            <a:ext cx="4647960" cy="4297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pic9"/>
          <p:cNvPicPr/>
          <p:nvPr/>
        </p:nvPicPr>
        <p:blipFill>
          <a:blip r:embed="rId5"/>
          <a:stretch/>
        </p:blipFill>
        <p:spPr>
          <a:xfrm>
            <a:off x="4572000" y="1828800"/>
            <a:ext cx="4443480" cy="3983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xh"/>
          <p:cNvPicPr/>
          <p:nvPr/>
        </p:nvPicPr>
        <p:blipFill>
          <a:blip r:embed="rId6"/>
          <a:stretch/>
        </p:blipFill>
        <p:spPr>
          <a:xfrm>
            <a:off x="1066680" y="1828800"/>
            <a:ext cx="5105520" cy="3998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50"/>
          <p:cNvPicPr/>
          <p:nvPr/>
        </p:nvPicPr>
        <p:blipFill>
          <a:blip r:embed="rId1"/>
          <a:stretch/>
        </p:blipFill>
        <p:spPr>
          <a:xfrm>
            <a:off x="228600" y="762120"/>
            <a:ext cx="7696080" cy="53895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7501320" y="1371600"/>
            <a:ext cx="1642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湖   光    塔    影</a:t>
            </a:r>
            <a:endParaRPr b="0" lang="en-US" sz="4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2"/>
          <p:cNvSpPr/>
          <p:nvPr/>
        </p:nvSpPr>
        <p:spPr>
          <a:xfrm>
            <a:off x="5181480" y="228600"/>
            <a:ext cx="3733920" cy="3048120"/>
          </a:xfrm>
          <a:prstGeom prst="octagon">
            <a:avLst>
              <a:gd name="adj" fmla="val 29287"/>
            </a:avLst>
          </a:prstGeom>
          <a:blipFill rotWithShape="0">
            <a:blip r:embed="rId1"/>
            <a:srcRect/>
            <a:stretch/>
          </a:blip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304920" y="228600"/>
            <a:ext cx="3733560" cy="304812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stretch/>
          </a:blip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304920" y="3581280"/>
            <a:ext cx="3733560" cy="3048120"/>
          </a:xfrm>
          <a:prstGeom prst="octagon">
            <a:avLst>
              <a:gd name="adj" fmla="val 29287"/>
            </a:avLst>
          </a:prstGeom>
          <a:blipFill rotWithShape="0">
            <a:blip r:embed="rId3"/>
            <a:srcRect/>
            <a:stretch/>
          </a:blip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5181480" y="3581280"/>
            <a:ext cx="3733920" cy="304812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3851280" y="2997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湖光塔影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70" name="Picture 8" descr="button103"/>
          <p:cNvPicPr/>
          <p:nvPr/>
        </p:nvPicPr>
        <p:blipFill>
          <a:blip r:embed="rId5"/>
          <a:stretch/>
        </p:blipFill>
        <p:spPr>
          <a:xfrm>
            <a:off x="3809880" y="618336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button106"/>
          <p:cNvPicPr/>
          <p:nvPr/>
        </p:nvPicPr>
        <p:blipFill>
          <a:blip r:embed="rId6"/>
          <a:stretch/>
        </p:blipFill>
        <p:spPr>
          <a:xfrm>
            <a:off x="4952880" y="6183360"/>
            <a:ext cx="674640" cy="674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"/>
          <p:cNvSpPr/>
          <p:nvPr/>
        </p:nvSpPr>
        <p:spPr>
          <a:xfrm>
            <a:off x="5181480" y="228600"/>
            <a:ext cx="3733920" cy="3048120"/>
          </a:xfrm>
          <a:prstGeom prst="octagon">
            <a:avLst>
              <a:gd name="adj" fmla="val 29287"/>
            </a:avLst>
          </a:prstGeom>
          <a:blipFill rotWithShape="0">
            <a:blip r:embed="rId1"/>
            <a:srcRect/>
            <a:stretch/>
          </a:blip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304920" y="228600"/>
            <a:ext cx="3733560" cy="304812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stretch/>
          </a:blip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304920" y="3581280"/>
            <a:ext cx="3733560" cy="3048120"/>
          </a:xfrm>
          <a:prstGeom prst="octagon">
            <a:avLst>
              <a:gd name="adj" fmla="val 29287"/>
            </a:avLst>
          </a:prstGeom>
          <a:blipFill rotWithShape="0">
            <a:blip r:embed="rId3"/>
            <a:srcRect/>
            <a:stretch/>
          </a:blip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5181480" y="3581280"/>
            <a:ext cx="3733920" cy="304812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3657600" y="2565360"/>
            <a:ext cx="1752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图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书馆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77" name="Picture 8" descr="button104"/>
          <p:cNvPicPr/>
          <p:nvPr/>
        </p:nvPicPr>
        <p:blipFill>
          <a:blip r:embed="rId5"/>
          <a:stretch/>
        </p:blipFill>
        <p:spPr>
          <a:xfrm>
            <a:off x="3657600" y="6183360"/>
            <a:ext cx="533520" cy="674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button103"/>
          <p:cNvPicPr/>
          <p:nvPr/>
        </p:nvPicPr>
        <p:blipFill>
          <a:blip r:embed="rId6"/>
          <a:stretch/>
        </p:blipFill>
        <p:spPr>
          <a:xfrm>
            <a:off x="4800600" y="6183360"/>
            <a:ext cx="533520" cy="674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10:43:59Z</dcterms:created>
  <dc:creator>Administrator</dc:creator>
  <dc:description/>
  <dc:language>en-US</dc:language>
  <cp:lastModifiedBy>hpppygoa</cp:lastModifiedBy>
  <dcterms:modified xsi:type="dcterms:W3CDTF">2016-04-08T13:10:21Z</dcterms:modified>
  <cp:revision>21</cp:revision>
  <dc:subject/>
  <dc:title>演示文稿</dc:title>
</cp:coreProperties>
</file>