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52E2-BAA4-4A40-9515-4C1858B4D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E1E9-C212-481E-AE43-02BB52FA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4DFB34-D245-4A40-AF77-4847047E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6530ED-0C0A-4F1A-8E32-C9AE642C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05EB6-53AD-41A7-BBB8-AE6C3457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06767-724B-409E-897A-9393457F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4377E6-3909-4EC4-8C5F-772380C2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01F85E-55A2-4D7D-9087-B721E8E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12EAC-EABB-4ED3-8417-AB22DAB0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34907-6A7E-4A42-98C5-0934BD08C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423141-D308-477B-A3B3-13FE977D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1DE18-F6FA-4C2F-A1C6-AEA397BF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713-653A-4012-9FF7-76CA09A5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677E3-85CB-4ED1-B205-6A00ACD78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C6CC0-6DB3-496A-8DF9-F3830889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60DE2C-CEED-487F-91F7-E0FC66D8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AEC321-70A2-4A85-8005-24A4D99B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BF522-E295-49CF-878A-CD75E0ED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CD102-D8B4-485D-83DC-FB7BADF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ACB86B-5149-4C25-A749-5C70B9CE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E9FE22-53E9-45B8-9763-4D6BDA14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C40E5-9E6E-4604-8068-FD492770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F0B4D8-F2DA-4E29-BFBB-175FBC26E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03B7-6DDE-478D-81B1-D5F377F7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F9117-F2A0-4F3C-A8E3-3156A1A8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EE5C8-302A-4D2A-A384-144CA4D3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E443-171F-412C-B309-2080A543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09FA-DE51-43D6-B3FD-7795609A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E870-146C-48B5-938F-13417FE9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F1365-4AD7-410F-9FF2-5455DCAE5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F422A-5120-47AA-8E65-7959DB1DD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A6C4-F159-4659-B6C9-658ACB28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4ECF-0253-4AFF-87EA-0E3464B1B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B593-3B10-4A40-84AE-C5891FD3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8C2ED-248F-464D-8E41-880E86F8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9709-C09E-489B-8B2B-580B67F5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D1E3-B214-4EA5-9776-A64DB0958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8740-8727-4ED9-BF66-E16E9E9E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7696-33B6-4A83-AD76-24481287E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0230-C177-40B8-928B-0036A45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4F627-0497-4D00-A132-466F44395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A43C-B78F-4784-99A5-D22BC2D5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0A591-25D7-4891-8F46-C7CBBFF78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E1FD-370A-4477-9C07-F1B535AC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77EFD-FE78-4DE6-91F8-F6D66CBD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C006F5-7ECF-4C1B-BE0A-2A92FAC3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17F05-19B9-4AD2-A3B1-40450E3E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8C2CF-E89F-4342-9335-B07B0F54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5A993-D8F1-4A98-8145-74738D1A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3D6B7-A5AF-4345-B4AF-2087BEBB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F590A-A117-4265-8C09-19F2784D9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523B0-3020-43FF-99FA-8316AD00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A7B7A5-D13A-400A-83BF-7DA2FB66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82AF1-646D-4072-BD25-CF360620A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9047-CB35-4167-A145-1A61626E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61FE0-17C6-403C-A62B-AA176631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A4DAC-9080-46D3-97D1-D2A301E5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CB0B5-5A16-4CCA-8B26-EF7EAEFB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D0E0F-9D22-44D0-A5CB-4F5333F4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6DD8C-915C-450A-B267-FD13A51F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E7456-C27F-4550-B4BA-7005E19E5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700690-6A8F-4BF0-BF45-8800A72A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2A05-A7A6-42B7-BC2E-48B9C5A8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E2632-A36C-455C-A822-ACD298AA6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0566E-0E2B-42F5-8183-79B8F633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AB68-0308-450E-9569-0C230D84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F13CA-1A45-45A0-8AC7-EE031AB2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C5839-1968-4538-93EA-C921B681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0C9C-18C5-4B82-93E7-1C3C6A90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F20BF-5E0B-468F-9104-CCAD473D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6C1FF-A18C-4A6B-B360-FEE23ED5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80E12-952C-4746-8BB8-5BB51F1B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1461A-4BAB-4273-9EB3-C335C69E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1636F-CA37-42AB-82FD-4964A16D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DDF98-71B4-4496-9BB5-C877720C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9037B-553E-4D45-A9DA-9CE790448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D6F-92B9-4376-AF8D-A7414BDD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68209-27CC-434E-9D74-8546F595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19D6E-A64D-4D72-90EC-ACCE3705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C5B267-633A-47DD-8610-1B355FD5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32B9C-68B3-45A9-ABC0-65197DD7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D72C3-B14A-4429-823A-42DE3AFF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B357A-E042-4AED-ACB1-C553224E3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AC11A-05A5-4F9B-B2E5-37673DA9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77C793-395D-432B-8F15-ECB37001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6EB4C-B5C2-454F-B2DF-2DF33107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FAC35-F1AA-45D0-87F5-294FC453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874-B1F2-46D8-ADAA-A28885C2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ED069-EBB6-4CE6-8EDC-E875E596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0A2F3-C9B4-44BF-B476-48B19FB2C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779C5-F7DE-49E5-939D-68534142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16A152-270E-4110-8B63-F0C24B8B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692A18-17C1-4FE2-BF3E-F04B60F61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B5A5B-2B51-4255-BBC7-29A8D28DC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DFF7C-3188-49E5-B91D-6A0357382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70C1B-876D-4BC5-BB91-6610E274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02774-60F9-4C4D-88B3-1A69A7290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343B8-B010-4A8D-84FD-59BD44C3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CE4E-F228-4716-A6D3-C7DC74C6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68ADF-190B-4D9E-9C0A-973A2AC5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27AFF-1BD1-42F0-BD2F-1C7468D3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81995-830A-4663-8C34-06B5AE24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75C27-4FA8-4ACF-A902-BF2DFE31A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8DDC3-74C1-4FE1-B224-B956CE44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72F025-5BAC-44F8-AAB9-30AF53F6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24D99-2123-4424-A9DC-5B688E34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0E03F-7FBD-4EA0-BC03-5FECD0485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CD00E-F3B8-4A7F-8F8A-620D1696F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21181B-A832-4BC8-9F6C-17402752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6400-E546-4E8C-9681-17DE32D7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DDA18B-B0EB-4715-9108-2E0B9AB9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654F3-301B-4EF5-8D65-794DF570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95387F-09F5-47B3-ACF2-04FBF352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B5481-CCB7-45E6-93C4-152F2035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D2AA86-70B2-4EDC-844E-847E9A17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9CD84-A157-4354-8452-4FCDC0EB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73378-D6D5-49F7-BACD-A9BA2946F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1EBB2-A5A0-4409-893C-089E2DE0A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EE6F06-9746-42A0-BC6A-E4C46CAD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B2536-D360-40AA-BEB6-46DB384B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0DDA-0275-498E-BD9F-72AA6F1C6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6338-2FC9-4FFC-8C27-D1E307406F5E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E5E8-7E6F-43E8-B501-AA73AFBEE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5F67-350A-483C-8F9B-36C9ACE83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F58D-6A8A-4F6C-802C-B26040DC0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1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F77E-AFF6-433D-B5DB-CECBF79D0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04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48BA-C1F0-47E4-B6E7-A92D7DED3D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64" name="未知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未知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未知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未知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未知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未知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未知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未知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未知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未知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1647F-2D13-4A55-A176-0777B5CD4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802D1-631A-4E4D-BE6D-FBEF754BC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FB2A-9253-4BA4-8E5B-0EC39B6B0D87}" type="slidenum">
              <a:rPr b="0" lang="en-US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914400" y="1600200"/>
            <a:ext cx="70866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99"/>
                </a:solidFill>
                <a:latin typeface="Arial"/>
                <a:ea typeface="楷体_GB2312"/>
              </a:rPr>
              <a:t>古诗二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001000" y="5715000"/>
            <a:ext cx="309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0" y="533520"/>
            <a:ext cx="5791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梅子金黃杏子</a:t>
            </a:r>
            <a:r>
              <a:rPr b="1" lang="zh-CN" sz="5400" spc="-1" strike="noStrike">
                <a:solidFill>
                  <a:srgbClr val="dc5900"/>
                </a:solidFill>
                <a:latin typeface="DFKai-SB"/>
                <a:ea typeface="宋体"/>
              </a:rPr>
              <a:t>肥</a:t>
            </a: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麦花雪白菜花</a:t>
            </a:r>
            <a:r>
              <a:rPr b="1" lang="zh-CN" sz="5400" spc="-1" strike="noStrike">
                <a:solidFill>
                  <a:srgbClr val="dc5900"/>
                </a:solidFill>
                <a:latin typeface="DFKai-SB"/>
                <a:ea typeface="宋体"/>
              </a:rPr>
              <a:t>稀</a:t>
            </a: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73080" y="2708280"/>
            <a:ext cx="8842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初夏时节，梅子已经变成金黄色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杏子的果实硕大而饱满。麦田里，麦子抽出一片雪白的麦花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与稀疏的菜花相映成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382680" y="382680"/>
            <a:ext cx="7305480" cy="487512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7209360" y="579132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梅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838080" y="533520"/>
            <a:ext cx="6747120" cy="460512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6422040" y="5850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杏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422040" y="5850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麦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rcRect l="6770" t="0" r="0" b="14631"/>
          <a:stretch/>
        </p:blipFill>
        <p:spPr>
          <a:xfrm>
            <a:off x="762120" y="380880"/>
            <a:ext cx="724680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54388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7056720" y="5867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菜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286000" y="533520"/>
            <a:ext cx="57913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梅子金黃杏子</a:t>
            </a:r>
            <a:r>
              <a:rPr b="1" lang="zh-CN" sz="5400" spc="-1" strike="noStrike">
                <a:solidFill>
                  <a:srgbClr val="dc5900"/>
                </a:solidFill>
                <a:latin typeface="DFKai-SB"/>
                <a:ea typeface="宋体"/>
              </a:rPr>
              <a:t>肥</a:t>
            </a: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麦花雪白菜花</a:t>
            </a:r>
            <a:r>
              <a:rPr b="1" lang="zh-CN" sz="5400" spc="-1" strike="noStrike">
                <a:solidFill>
                  <a:srgbClr val="dc5900"/>
                </a:solidFill>
                <a:latin typeface="DFKai-SB"/>
                <a:ea typeface="宋体"/>
              </a:rPr>
              <a:t>稀</a:t>
            </a: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080" y="2708280"/>
            <a:ext cx="8842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初夏时节，梅子已经变成金黄色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杏子的果实硕大而饱满。麦田里，麦子抽出一片雪白的麦花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3366ff"/>
                </a:solidFill>
                <a:latin typeface="黑体"/>
                <a:ea typeface="黑体"/>
              </a:rPr>
              <a:t>与稀疏的菜花相映成趣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1066680"/>
            <a:ext cx="320400" cy="914400"/>
          </a:xfrm>
          <a:custGeom>
            <a:avLst/>
            <a:gdLst>
              <a:gd name="textAreaLeft" fmla="*/ 204840 w 320400"/>
              <a:gd name="textAreaRight" fmla="*/ 320760 w 3204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543800" y="914400"/>
            <a:ext cx="304920" cy="1219320"/>
          </a:xfrm>
          <a:custGeom>
            <a:avLst/>
            <a:gdLst>
              <a:gd name="textAreaLeft" fmla="*/ 0 w 304920"/>
              <a:gd name="textAreaRight" fmla="*/ 11016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83480" y="8380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花有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色有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8052840" y="114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景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2120" y="838080"/>
            <a:ext cx="76960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DFKai-SB"/>
                <a:ea typeface="宋体"/>
              </a:rPr>
              <a:t>梅子金黃杏子</a:t>
            </a:r>
            <a:r>
              <a:rPr b="1" lang="zh-CN" sz="6600" spc="-1" strike="noStrike">
                <a:solidFill>
                  <a:srgbClr val="ff0000"/>
                </a:solidFill>
                <a:latin typeface="DFKai-SB"/>
                <a:ea typeface="宋体"/>
              </a:rPr>
              <a:t>肥</a:t>
            </a:r>
            <a:r>
              <a:rPr b="1" lang="zh-CN" sz="6600" spc="-1" strike="noStrike">
                <a:solidFill>
                  <a:srgbClr val="000000"/>
                </a:solidFill>
                <a:latin typeface="DFKai-SB"/>
                <a:ea typeface="宋体"/>
              </a:rPr>
              <a:t>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DFKai-SB"/>
                <a:ea typeface="宋体"/>
              </a:rPr>
              <a:t>麦花雪白菜花</a:t>
            </a:r>
            <a:r>
              <a:rPr b="1" lang="zh-CN" sz="6600" spc="-1" strike="noStrike">
                <a:solidFill>
                  <a:srgbClr val="ff0000"/>
                </a:solidFill>
                <a:latin typeface="DFKai-SB"/>
                <a:ea typeface="宋体"/>
              </a:rPr>
              <a:t>稀</a:t>
            </a:r>
            <a:r>
              <a:rPr b="1" lang="zh-CN" sz="6600" spc="-1" strike="noStrike">
                <a:solidFill>
                  <a:srgbClr val="000000"/>
                </a:solidFill>
                <a:latin typeface="DFKai-SB"/>
                <a:ea typeface="宋体"/>
              </a:rPr>
              <a:t>。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5800" y="388620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DFKai-SB"/>
                <a:ea typeface="宋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DFKai-SB"/>
                <a:ea typeface="宋体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DFKai-SB"/>
                <a:ea typeface="宋体"/>
              </a:rPr>
              <a:t>肥”和“稀”字用得好吗？好在哪里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76320" y="9907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肥”字突出了杏子果实硕大、饱满，“稀”字写出了初夏油菜花花落结籽。这样的“肥”和“稀”，皆因植物的丰收，在静态的对比中，让我们仿佛看到初夏丰收在望的景象。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133720" y="60948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日长篱落无人过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唯有蜻蜓蛱蝶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7200" y="2971800"/>
            <a:ext cx="8534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宋体"/>
                <a:ea typeface="宋体"/>
              </a:rPr>
              <a:t>    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夏天昼长夜短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,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篱落前无人过往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,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大家都在田间忙碌，只有蜻蜓和蛱蝶在篱笆下穿插飞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476280"/>
            <a:ext cx="7696080" cy="528804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6422040" y="5850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篱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133720" y="2209680"/>
            <a:ext cx="56880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昼出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耘田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夜绩麻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村庄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儿女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各当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童孙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未解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供耕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也傍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桑阴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隶书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学种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42600" y="6094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四时田园杂兴（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14479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南宋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.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范成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229600" cy="54388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6422040" y="5850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蜻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6422040" y="5850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蛱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rcRect l="0" t="0" r="1477" b="15739"/>
          <a:stretch/>
        </p:blipFill>
        <p:spPr>
          <a:xfrm>
            <a:off x="917640" y="536400"/>
            <a:ext cx="712944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133720" y="609480"/>
            <a:ext cx="64008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日长篱落无人过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DFKai-SB"/>
                <a:ea typeface="宋体"/>
              </a:rPr>
              <a:t>唯有蜻蜓蛱蝶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57200" y="2971800"/>
            <a:ext cx="8534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宋体"/>
                <a:ea typeface="宋体"/>
              </a:rPr>
              <a:t>    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夏天昼长夜短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,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篱落前无人过往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,</a:t>
            </a:r>
            <a:r>
              <a:rPr b="1" lang="zh-CN" sz="5400" spc="-1" strike="noStrike">
                <a:solidFill>
                  <a:srgbClr val="3366ff"/>
                </a:solidFill>
                <a:latin typeface="宋体"/>
                <a:ea typeface="宋体"/>
              </a:rPr>
              <a:t>大家都在田间忙碌，只有蜻蜓和蛱蝶在篱笆下穿插飞舞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286000" y="1066680"/>
            <a:ext cx="244440" cy="1143000"/>
          </a:xfrm>
          <a:custGeom>
            <a:avLst/>
            <a:gdLst>
              <a:gd name="textAreaLeft" fmla="*/ 156240 w 244440"/>
              <a:gd name="textAreaRight" fmla="*/ 244440 w 24444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696080" y="990720"/>
            <a:ext cx="228600" cy="1218960"/>
          </a:xfrm>
          <a:custGeom>
            <a:avLst/>
            <a:gdLst>
              <a:gd name="textAreaLeft" fmla="*/ 0 w 228600"/>
              <a:gd name="textAreaRight" fmla="*/ 8244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83480" y="9907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以动衬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有景有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052840" y="12193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人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304920" y="129492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）的梅子   （       ）的杏子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）的麦花   （       ）的菜花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（     ）的 蜻蜓   （      ）的蛱蝶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342900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四时田园杂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124080" y="1905120"/>
            <a:ext cx="142920" cy="3809880"/>
          </a:xfrm>
          <a:custGeom>
            <a:avLst/>
            <a:gdLst>
              <a:gd name="textAreaLeft" fmla="*/ 91440 w 142920"/>
              <a:gd name="textAreaRight" fmla="*/ 143280 w 14292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24080" y="1219320"/>
            <a:ext cx="24512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梅黄杏黄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麦白菜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276720" y="4267080"/>
            <a:ext cx="2668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篱落无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蜓飞蝶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943600" y="2133720"/>
            <a:ext cx="216000" cy="3200400"/>
          </a:xfrm>
          <a:custGeom>
            <a:avLst/>
            <a:gdLst>
              <a:gd name="textAreaLeft" fmla="*/ 0 w 216000"/>
              <a:gd name="textAreaRight" fmla="*/ 78120 w 2160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400800" y="2819520"/>
            <a:ext cx="27766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夏日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园美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52280" y="228600"/>
            <a:ext cx="87631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 algn="just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DFKai-SB"/>
                <a:ea typeface="黑体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DFKai-SB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DFKai-SB"/>
                <a:ea typeface="黑体"/>
              </a:rPr>
              <a:t>主题思想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DFKai-SB"/>
                <a:ea typeface="黑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DFKai-SB"/>
                <a:ea typeface="黑体"/>
              </a:rPr>
              <a:t>本诗描写农村初夏的恬静祥和，体现了诗人对初夏田园风光，对大自然的热爱和赞美之情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00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四时田园杂兴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　　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【宋】范成大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梅子金黄杏子肥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麦花雪白菜花稀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　  日长篱落无人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唯有蜻蜓蛱蝶飞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山水田园诗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6248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4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它是一种中国古代诗歌流派。以反映田园生活、描绘山水为作品的主要内容。代表人物有陶渊明、王维、孟浩然。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152280" y="1143000"/>
            <a:ext cx="3600720" cy="41940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3809880" y="838080"/>
            <a:ext cx="52578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范成大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126-1193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南宋诗人，字致能，号石湖居士，平江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都（今江苏苏州）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他的诗与陆游、杨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里、尤袤齐名，为南宋四大家之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1000"/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49600" y="533520"/>
            <a:ext cx="5680800" cy="73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范成大的诗，以反映农村社会生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图景的作品成就最高。他晚年所作的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绝组诗《四时田园杂兴》共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60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首，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了田园生活之乐，是他田园诗的代表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品，分为“春日”、 “晚春”、 “夏日”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秋日”、“冬日”五组，每组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首。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首诗选自《夏日》中的一首，描写了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村恬淡祥和的自然风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"/>
          <p:cNvGrpSpPr/>
          <p:nvPr/>
        </p:nvGrpSpPr>
        <p:grpSpPr>
          <a:xfrm>
            <a:off x="1476360" y="260280"/>
            <a:ext cx="6048360" cy="1081080"/>
            <a:chOff x="1476360" y="260280"/>
            <a:chExt cx="6048360" cy="1081080"/>
          </a:xfrm>
        </p:grpSpPr>
        <p:sp>
          <p:nvSpPr>
            <p:cNvPr id="457" name=""/>
            <p:cNvSpPr/>
            <p:nvPr/>
          </p:nvSpPr>
          <p:spPr>
            <a:xfrm>
              <a:off x="1476360" y="260280"/>
              <a:ext cx="6048360" cy="1081080"/>
            </a:xfrm>
            <a:custGeom>
              <a:avLst/>
              <a:gdLst>
                <a:gd name="textAreaLeft" fmla="*/ 127440 w 6048360"/>
                <a:gd name="textAreaRight" fmla="*/ 5920920 w 6048360"/>
                <a:gd name="textAreaTop" fmla="*/ 127440 h 1081080"/>
                <a:gd name="textAreaBottom" fmla="*/ 953640 h 1081080"/>
              </a:gdLst>
              <a:ahLst/>
              <a:rect l="textAreaLeft" t="textAreaTop" r="textAreaRight" b="textAreaBottom"/>
              <a:pathLst>
                <a:path w="120813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17213" y="21600"/>
                  </a:lnTo>
                  <a:arcTo wR="3600" hR="3600" stAng="10800000" swAng="5400000"/>
                  <a:lnTo>
                    <a:pt x="120813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00ff00">
                <a:alpha val="47000"/>
              </a:srgbClr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908000" y="404640"/>
              <a:ext cx="525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四时田园杂兴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 rot="20275800">
            <a:off x="4284360" y="1052280"/>
            <a:ext cx="64764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140360" y="1628640"/>
            <a:ext cx="5308200" cy="961920"/>
            <a:chOff x="4140360" y="1628640"/>
            <a:chExt cx="5308200" cy="961920"/>
          </a:xfrm>
        </p:grpSpPr>
        <p:sp>
          <p:nvSpPr>
            <p:cNvPr id="461" name=""/>
            <p:cNvSpPr/>
            <p:nvPr/>
          </p:nvSpPr>
          <p:spPr>
            <a:xfrm>
              <a:off x="4140360" y="1628640"/>
              <a:ext cx="4966560" cy="96192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37000"/>
              </a:srgbClr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397040" y="1715040"/>
              <a:ext cx="5051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各种兴致。随兴写来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195640" y="1052640"/>
            <a:ext cx="64764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447920" y="1676520"/>
            <a:ext cx="2160360" cy="792000"/>
            <a:chOff x="1447920" y="1676520"/>
            <a:chExt cx="2160360" cy="792000"/>
          </a:xfrm>
        </p:grpSpPr>
        <p:sp>
          <p:nvSpPr>
            <p:cNvPr id="465" name=""/>
            <p:cNvSpPr/>
            <p:nvPr/>
          </p:nvSpPr>
          <p:spPr>
            <a:xfrm>
              <a:off x="1447920" y="1676520"/>
              <a:ext cx="2021400" cy="792000"/>
            </a:xfrm>
            <a:prstGeom prst="roundRect">
              <a:avLst>
                <a:gd name="adj" fmla="val 16667"/>
              </a:avLst>
            </a:prstGeom>
            <a:solidFill>
              <a:srgbClr val="ff00ff">
                <a:alpha val="37000"/>
              </a:srgbClr>
            </a:solidFill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52320" y="1747800"/>
              <a:ext cx="20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年四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762120" y="2666880"/>
            <a:ext cx="7993080" cy="1511280"/>
            <a:chOff x="762120" y="2666880"/>
            <a:chExt cx="7993080" cy="1511280"/>
          </a:xfrm>
        </p:grpSpPr>
        <p:sp>
          <p:nvSpPr>
            <p:cNvPr id="468" name=""/>
            <p:cNvSpPr/>
            <p:nvPr/>
          </p:nvSpPr>
          <p:spPr>
            <a:xfrm>
              <a:off x="762120" y="2666880"/>
              <a:ext cx="7921800" cy="1511280"/>
            </a:xfrm>
            <a:prstGeom prst="horizontalScroll">
              <a:avLst>
                <a:gd name="adj" fmla="val 12500"/>
              </a:avLst>
            </a:prstGeom>
            <a:solidFill>
              <a:srgbClr val="00ff00">
                <a:alpha val="34000"/>
              </a:srgbClr>
            </a:solidFill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78120" y="3098520"/>
              <a:ext cx="777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年四季田园生活的引发的各种即兴作品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457200" y="4573440"/>
            <a:ext cx="838188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ff"/>
                </a:solidFill>
                <a:latin typeface="宋体"/>
              </a:rPr>
              <a:t>诗人看到一年四季不同的田园景色而产生了很多的感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0088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四时田园杂兴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　　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【宋】范成大</a:t>
            </a: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梅子金黄杏子肥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麦花雪白菜花稀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　  日长篱落无人过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1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唯有蜻蜓蛱蝶飞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54080" y="533520"/>
            <a:ext cx="411300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组合作提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447920"/>
            <a:ext cx="8686800" cy="32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结合注释，理解诗句的意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用自己的语言描述古诗所描绘的画面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说说这首古诗中，诗人都描写了哪些景物，它们各有什么特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10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10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1T01:35:05Z</dcterms:created>
  <dc:creator>Administrator</dc:creator>
  <dc:description/>
  <dc:language>en-US</dc:language>
  <cp:lastModifiedBy/>
  <dcterms:modified xsi:type="dcterms:W3CDTF">2015-07-21T01:43:0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