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3AF-2336-4674-9545-1608B5AB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ADC-98B2-414D-A4D7-3741469D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281-7062-4D01-8D8A-58F386ED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5B2-4FA8-4D54-B38D-794E9BEA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BD1-E1F2-4835-B764-C0CDDB4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AF0-AE69-4920-9F77-12138804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20D-C93F-4670-A87B-CC0E736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335-23E3-444E-8066-7EA2E16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646-A345-4131-95B1-B0CDDA47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856-7568-4D66-94AF-0358A90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0C4-1B20-4E92-BA36-FB28F14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5F1-4D6C-4819-B971-6CDA622B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296-23A9-4EB3-A045-A09A91B6E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21337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天游峰的扫路人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5029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角店镇联校：郑 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010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457200"/>
            <a:ext cx="50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教版六年级下册语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97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7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1752480" y="20574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2004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我们乐观， 阳光在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26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28600"/>
            <a:ext cx="4190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教师寄语：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4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152280" y="914400"/>
            <a:ext cx="8991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后请大家阅读《挑山工》这篇文章，体会挑山工的那种豁达、开朗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 txBox="1"/>
          <p:nvPr/>
        </p:nvSpPr>
        <p:spPr>
          <a:xfrm>
            <a:off x="2209680" y="2362320"/>
            <a:ext cx="472464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谢谢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4200480" cy="548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52480" y="6019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6019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14300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放声朗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游峰的扫路人是怎样的一个人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明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5867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571500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3756"/>
                </a:moveTo>
                <a:lnTo>
                  <a:pt x="21438" y="10800"/>
                </a:lnTo>
                <a:lnTo>
                  <a:pt x="735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715000"/>
            <a:ext cx="609840" cy="457200"/>
          </a:xfrm>
          <a:custGeom>
            <a:avLst/>
            <a:gdLst>
              <a:gd name="textAreaLeft" fmla="*/ 28440 w 609840"/>
              <a:gd name="textAreaRight" fmla="*/ 581400 w 6098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56" y="1350"/>
                </a:lnTo>
                <a:lnTo>
                  <a:pt x="1350" y="135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56" y="20250"/>
                </a:lnTo>
                <a:lnTo>
                  <a:pt x="27456" y="135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6" y="2025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6" h="21600">
                <a:moveTo>
                  <a:pt x="7359" y="3756"/>
                </a:moveTo>
                <a:lnTo>
                  <a:pt x="21447" y="10800"/>
                </a:lnTo>
                <a:lnTo>
                  <a:pt x="735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5715000"/>
            <a:ext cx="609840" cy="457200"/>
          </a:xfrm>
          <a:custGeom>
            <a:avLst/>
            <a:gdLst>
              <a:gd name="textAreaLeft" fmla="*/ 28440 w 609840"/>
              <a:gd name="textAreaRight" fmla="*/ 581400 w 6098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56" y="1350"/>
                </a:lnTo>
                <a:lnTo>
                  <a:pt x="1350" y="135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56" y="20250"/>
                </a:lnTo>
                <a:lnTo>
                  <a:pt x="27456" y="135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6" y="2025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6" h="21600">
                <a:moveTo>
                  <a:pt x="7359" y="3756"/>
                </a:moveTo>
                <a:lnTo>
                  <a:pt x="21447" y="10800"/>
                </a:lnTo>
                <a:lnTo>
                  <a:pt x="735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571500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3756"/>
                </a:moveTo>
                <a:lnTo>
                  <a:pt x="21438" y="10800"/>
                </a:lnTo>
                <a:lnTo>
                  <a:pt x="735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990720" y="571500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3756"/>
                </a:moveTo>
                <a:lnTo>
                  <a:pt x="21438" y="10800"/>
                </a:lnTo>
                <a:lnTo>
                  <a:pt x="735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64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28600" y="45720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身穿一套褪色的衣服，足蹬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双棕色的运动鞋，正用一把竹扫帚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扫着路面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褪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276720"/>
            <a:ext cx="8610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着淡淡的星光，我仔细打量了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瘦削的脸，面色黝黑，淡淡的眉毛下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双慈善的眼睛炯炯有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4114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瘦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114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黝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876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慈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3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533520" y="160020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人引我进了他的小屋，为我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杯浓茶。茶，很热，很香，仿佛一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暖流，很快沟通了我们俩的心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7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457200" y="1066680"/>
            <a:ext cx="8305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累，不累，我每天早晨扫上山，傍晚扫下山，扫一程，歇一程，再把好山好水看一程。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他说得轻轻松松，自在悠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304920" y="91440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按说，我早该退休了。可我实在离不开这里：喝的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雪花泉的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吃的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自己种的大米和青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呼吸的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清爽的空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而且还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花鸟作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我能舍得走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96080" y="594360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80880" y="380880"/>
            <a:ext cx="861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年后，我照样请您喝茶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充满自信、豁达开朗的笑声，一直伴随我回到住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15天游峰的扫路人02 拷贝"/>
            <p:cNvPicPr/>
            <p:nvPr/>
          </p:nvPicPr>
          <p:blipFill>
            <a:blip r:embed="rId1"/>
            <a:srcRect l="10152" t="50527" r="0" b="0"/>
            <a:stretch/>
          </p:blipFill>
          <p:spPr>
            <a:xfrm>
              <a:off x="5655600" y="3758760"/>
              <a:ext cx="3488040" cy="309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2209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收获着   感动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20574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02:28:42Z</dcterms:created>
  <dc:creator/>
  <dc:description/>
  <dc:language>en-US</dc:language>
  <cp:lastModifiedBy>USER</cp:lastModifiedBy>
  <dcterms:modified xsi:type="dcterms:W3CDTF">2015-05-26T02:29:55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87</vt:lpwstr>
  </property>
  <property fmtid="{D5CDD505-2E9C-101B-9397-08002B2CF9AE}" pid="3" name="Version">
    <vt:r8>1</vt:r8>
  </property>
</Properties>
</file>