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8A7-9FD8-4BF5-918C-EEA11C2F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E8C-DA56-4A14-B7AC-D975532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09259-849E-4AAE-9B09-F546A66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FC5ED-1FA9-44FE-AE1F-4B2AAF5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FC7C6-7C6F-4214-8CA6-DFC518F6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18D3-C658-4B98-B2F3-DFF1F68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0B1D1-74B1-4C1A-940F-159E44D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7693C-143C-4F72-B563-453B956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87B2A-5369-4E48-946C-6071EE68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7CEAE-B136-4C09-8627-62328A43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B70FA-18C8-461A-87B0-10C6831B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05F9D-5C26-43C9-BE7B-2CE4743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A83-4253-4F1F-AEF4-7DE0623B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23CC2-2AB8-497F-AA29-8A4671F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A599C-6062-4506-8AC0-79CCA00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A86B-0C88-4602-87DE-7E75C1F3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AC9D1-34A5-4ECC-B51B-621A52B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7FBA2-3BC6-4981-B029-5B0D7F1B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78CBC-CE86-4084-8093-D135D74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94B8D-C510-4223-B88C-22BF9D7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EF24-1A8E-4CDB-B4B7-0532DFE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CC34E-39B9-4D95-A90E-2702DFD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D67B7-6526-45E4-A2D7-BED67A2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158-4E34-4467-B4ED-81105986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714D0-068F-4A7E-8625-FC32F2D9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BB2E-008F-4F69-9BC0-975ABD2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F9701-59FD-4874-8599-565DAA4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53E0-20B7-494A-88D8-95011BD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004D6-3BA5-470A-9010-CC9FC96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D296-4F3F-45F6-BD67-5A29BA1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CBAA0-5A8D-4223-AE64-3D0E1A1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3D2B6-865C-4B52-93C7-AB61418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C638-EDAE-4AF1-9856-0F62DAAB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140B-F6CC-40C1-9073-4674933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A23C-3940-453A-BC74-F083A211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9C51-BC30-4C9B-B57F-58DBB58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E661-0252-4D05-85C3-A65D1534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59798-6FC7-4E3B-ABB6-7BD09ED7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07984-5D80-48BC-BF2D-862A80F7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C6472-B9F4-44F1-8D18-D21A579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05568-672D-4967-B529-02183841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4895-ABF1-4598-94E2-A1D9F1B6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A8B30-D07B-4937-98EB-2E3C0B0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F14C6-2636-47E6-A5D9-E9FA51F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D6186-384D-4200-B981-56A368E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E01D-6F03-4EF5-AD56-EF846C72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BACE-872B-42FD-8DBB-4DC10B4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F584F-501E-420B-A010-90F75EF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1A0D-9A43-40B4-88D9-74F6DE41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A35B4-E9E3-4566-82C5-77435631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D552A-5D54-44EA-AE9C-1FA869B1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FC2B-263E-49F0-9A1A-67391A4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DEFA-14AE-4C68-BEBF-F0E8B10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7A4E-D0E2-4E89-9C21-AE259D4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AD7-564D-414F-8C36-4809CAF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69B3-E82C-4D8A-B2BA-49E98A8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819-E469-4691-9DB7-2D6D1498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525-A8A0-43CC-B3A7-F848063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AC33-8136-4A7A-8067-1B21D47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489-5594-4541-924E-31EDF98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1175-27CB-4606-B519-D5BBED7B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A5EF-0135-4D0D-98F6-5CD1A68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8E63-FD2E-4F02-A9ED-1D704127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AC01-884C-441F-8B38-5E66456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7EC7-7A26-4D21-AC4C-E488E8AF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951E-CE9D-428C-8108-6C44179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2A14-3ABF-4047-96E6-7BD170A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7FD-D64C-4D64-A0C3-D937CF3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DF87-8F94-4E7B-8DB7-227CC6F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4599-3335-4B24-BD33-7C4A34A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04BD-E704-4377-AC0F-D188486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38D1-67F4-4B1D-8FF1-4DD3D71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68C4-7281-4588-B45B-37491FA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C9F7-14A7-4FD0-8F42-B2BEC99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40AE-39FE-41A1-96C7-0DFAA881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D3C5-B02C-45DB-8F73-E4329BE9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52B4-7640-4752-AF61-16A4ADD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BA9A-3714-4843-B214-6DE36C2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4A8-5943-455F-9CBA-D3D94311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778C-9D7C-4159-AD50-EE62CE47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02A0-BBB6-40DC-BA45-5D926B1C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D1AD-EF8D-4AF2-AB1E-61C8B582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040B-21A9-43F4-A82E-3DBF6FE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E6A7-0E94-4B9C-A8C2-5C4A654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219A-C4A0-4772-9D2D-EA2E4DF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959C-B4F0-4829-8B41-837B7D4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6734-0BAC-429B-8575-3586C26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8B07-8DA9-4FD4-88B0-F1EE0436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4619-DE17-4C8F-85FF-73CFCA5F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CA2-0A7C-44DC-AD3E-756601B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2EA4-5365-4E4F-91F6-840B7F64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34D5-6BD1-4A56-BFFF-9667C7F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412F-6046-4A3F-B195-D279A37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8224-AB36-47F5-8197-2EB66D28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F9FC-3717-4E8E-BC7D-24A667B1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E7E5-7785-47B5-9E47-165F13F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D49C-BA69-4DB8-8460-FF6B39A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DC0F-A89B-4D3D-99DD-485B177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9BB0-A36D-4162-BE76-7F2C6F1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F3E7-376A-4D50-A125-172A7447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167-7B02-4007-8104-ABE4AC4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B435-A34E-4F4D-BF12-B2172BE0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F5C2-661C-4CE5-B02E-571EB4F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D2ABF-0434-40F5-94DC-1FC6658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FBA2F-AD9B-4112-9423-C8261832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000EB-AD46-4C2B-A1A4-397759B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7787D-CF48-4EEA-B0ED-0AE1649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F0BC-A97A-4A62-B7B0-8BE5962D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A403A-D823-4AD0-A449-D2B71783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A1FC-BBDD-4B95-AFE0-F6950FEA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3C007-6919-4AF5-863F-4878E9A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4BE-8081-4561-B547-2BBDAD82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8B91-7F3D-47B5-BA19-BD166D3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8619-9045-4F22-958E-12DFE914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7170-AC81-4E6A-AA33-BDE06124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8ADF5-1159-4367-931F-6B4586DB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82F8-D754-4C71-B333-FB89F6E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15D7-F8FE-4FD1-9507-BAC3BFE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5E59-D1C5-4676-BF86-E6A08972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DE59-86EB-4FC7-801A-4C4661F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963A-735C-4A8B-9077-8853089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635E0-FEA4-45D1-BE62-A55ECBB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45F-9DD3-4CC2-AB6B-1DAAFCB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2301E-94CD-449D-A10A-03BC0E8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ECF2-55CC-47DD-B323-8904900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4825-8226-42D5-89CC-7889C61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5718-0C4B-4A32-849D-4F8091F2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8F6C-C62A-428B-9A85-E424329D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0406-FD42-4997-87CA-F5D6D40F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4E3E-CE0E-406B-AC45-4C102A8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4E9C-7BEA-4990-BC4D-025D299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B0B52-B63A-4D6B-90D1-72FCB344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0E5BF-20A3-4A20-A65A-955AA8FA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688-335C-40D4-B3DE-2A6B59B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97B14-71E3-4360-BB7B-ECD5447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1B58-F300-4B2E-9DB9-630D4F9A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2F70-D1D0-456E-99FA-540FBD9A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079F-A87C-4191-9BEE-420FEB0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A67C2-720A-4B0E-906A-E5B446D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6A357-CE73-4F9A-988C-B343C72C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1669-D0E9-499C-A301-6808C955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B58D5-9CBC-4310-92D2-273C65B1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3EB3A-560C-4499-B5E6-BB8E4E2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2BC5B-BFBB-424C-AEFC-91A3D31F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2D0-F9A5-492F-9F98-58ECC2B76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7E2E-73E1-4781-A484-8AEC2DC889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C741-0594-44EC-96F3-9FE4CD5B80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598-A019-4579-BAEF-22D7EAD55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FC6-B857-492F-A774-190212468D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4DF-F55C-41B9-A882-44628F033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7A0-4DB0-4607-A44D-C8AC6615F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8A3-BF44-4294-A5EA-39BD57B58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19E3-10A0-4987-8E4F-9E3B77D21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5DB-4375-4A2D-9B4C-6E258B555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626A-95F7-47E4-85E6-62A04A618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A93-C2C8-4E28-8CFE-978B279B0E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0" y="1341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土地的誓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作者</a:t>
            </a: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:  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端木蕻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6372360" y="407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zp4007"/>
          <p:cNvPicPr/>
          <p:nvPr/>
        </p:nvPicPr>
        <p:blipFill>
          <a:blip r:embed="rId1"/>
          <a:stretch/>
        </p:blipFill>
        <p:spPr>
          <a:xfrm>
            <a:off x="468360" y="765000"/>
            <a:ext cx="806292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828720" y="907920"/>
            <a:ext cx="7775640" cy="58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301040" y="1486080"/>
            <a:ext cx="6407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人啊，就被鬼子用机枪打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德胜口述　潘国良整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年我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岁。为报复义勇军的反抗，日本兵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全村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多百姓驱赶到一起，像疯狗一样用机枪向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群扫射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 泊中，紧紧搂着死去的妹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92628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血泪的控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gdls-1"/>
          <p:cNvPicPr/>
          <p:nvPr/>
        </p:nvPicPr>
        <p:blipFill>
          <a:blip r:embed="rId1"/>
          <a:stretch/>
        </p:blipFill>
        <p:spPr>
          <a:xfrm>
            <a:off x="828720" y="126828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24000" y="4046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鬼子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6924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gdls-2"/>
          <p:cNvPicPr/>
          <p:nvPr/>
        </p:nvPicPr>
        <p:blipFill>
          <a:blip r:embed="rId1"/>
          <a:stretch/>
        </p:blipFill>
        <p:spPr>
          <a:xfrm>
            <a:off x="468360" y="907920"/>
            <a:ext cx="7846920" cy="588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rijun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684360" y="1125360"/>
            <a:ext cx="7524720" cy="562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0035"/>
          <p:cNvPicPr/>
          <p:nvPr/>
        </p:nvPicPr>
        <p:blipFill>
          <a:blip r:embed="rId1"/>
          <a:stretch/>
        </p:blipFill>
        <p:spPr>
          <a:xfrm>
            <a:off x="396720" y="1052640"/>
            <a:ext cx="7667640" cy="57798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2328480" y="333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日伪军屠杀东北抗日义勇军士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003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1052640"/>
            <a:ext cx="7740720" cy="58258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3715200" y="3333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战后成为一片废墟的东北军驻地北大营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taonan"/>
          <p:cNvPicPr/>
          <p:nvPr/>
        </p:nvPicPr>
        <p:blipFill>
          <a:blip r:embed="rId1"/>
          <a:stretch/>
        </p:blipFill>
        <p:spPr>
          <a:xfrm>
            <a:off x="684360" y="1125360"/>
            <a:ext cx="7561080" cy="56707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4068720" y="5877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逃难  流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H{J75O)MIER_$5]S_~BPC6O"/>
          <p:cNvPicPr/>
          <p:nvPr/>
        </p:nvPicPr>
        <p:blipFill>
          <a:blip r:embed="rId1"/>
          <a:stretch/>
        </p:blipFill>
        <p:spPr>
          <a:xfrm>
            <a:off x="684360" y="1628640"/>
            <a:ext cx="77184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woyaomama"/>
          <p:cNvPicPr/>
          <p:nvPr/>
        </p:nvPicPr>
        <p:blipFill>
          <a:blip r:embed="rId1"/>
          <a:stretch/>
        </p:blipFill>
        <p:spPr>
          <a:xfrm>
            <a:off x="396720" y="134136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7743240" y="1917720"/>
            <a:ext cx="60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要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684360" y="177336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段：我常常想起关东原野上    的一切，我时时听见故乡的呼  唤，我的心为此而热血沸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段：故乡美好的生活令我梦萦魂牵，我发誓要为故乡母亲而战斗而牺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97920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教材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907200" y="69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2755080" y="234936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作者在这两段分别抒发了什么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作者的誓言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2406600" y="213372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呼告的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排比的修辞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18840" y="620640"/>
            <a:ext cx="127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写作特点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18840" y="620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质疑探究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044720" y="2276640"/>
            <a:ext cx="691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在小组内讨论你的疑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有意见分歧的句子，并提出小组内没解决的疑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集体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赏析并仿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布似的高粱，金黄的豆粒，黑色的土地，红玉的脸庞，黑玉的眼睛，斑斓的山雕，奔驰的鹿群，带着松香气味的煤块，带着赤色的足金；我想起悠远的车铃，晴天里马儿带着串铃在溜直的大道上跑着，狐仙姑深夜的谰语，原野上怪诞的狂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24000" y="907920"/>
            <a:ext cx="8153280" cy="20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课外延伸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自编自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一首你喜欢的歌曲，进行改编填词，要求词的内容为描写家乡，赞美家乡，表达自己对家乡的热爱之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3583080" cy="43214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108000" y="476280"/>
            <a:ext cx="52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木蕻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1912—199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原名曹汉文，辽宁昌图人，现代作家。 “九．一八”事变后，从东北流亡到上海，他用诗情的笔法写出难以想象的人民贫穷，悲愤郁怒之情回荡在平静的叙述中，传达出遭受压抑的凄厉感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憎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还善于在抗日的题材下表现东北特殊的风情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遥远的风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浑河的急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有磅礴的气势，民族意识通过地方的粗犷性格表露出来。他注重方言的运用，又自觉地吸收电影剪接手法来结构小说，叙述带跳跃性，用笔举重若轻，讲究力度，在小说体式上有新的创造。抗战时期他先后出版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科尔沁旗草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地的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长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长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364000" y="5373720"/>
            <a:ext cx="3708720" cy="368280"/>
          </a:xfrm>
          <a:prstGeom prst="rect">
            <a:avLst/>
          </a:prstGeom>
          <a:solidFill>
            <a:srgbClr val="ffffff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端木蕻良于长陵旁圆明园布景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-177840" y="1628640"/>
            <a:ext cx="845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宋体"/>
              </a:rPr>
              <a:t>12.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762120" y="5181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2700360" y="3502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京大屠杀纪念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logo918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5846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1476360" y="476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黑体"/>
                <a:ea typeface="黑体"/>
              </a:rPr>
              <a:t>1931.9.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2000" y="475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历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8040" y="1607760"/>
            <a:ext cx="7245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八事变已过去了整整十年，抗日战争正处于十分艰苦的阶段，流亡在关内的东北人依然无家可归。作者怀着难以遏制的思乡之情写下了这篇文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468360" y="1917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你有疑问的字词和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你喜欢和深受感动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1080" y="693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由读课文，需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39640" y="765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欣赏体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116000" y="2276640"/>
            <a:ext cx="698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尝试有感情地朗诵你喜欢的句子，并谈谈你的理解和体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zp5-13"/>
          <p:cNvPicPr/>
          <p:nvPr/>
        </p:nvPicPr>
        <p:blipFill>
          <a:blip r:embed="rId1"/>
          <a:stretch/>
        </p:blipFill>
        <p:spPr>
          <a:xfrm>
            <a:off x="900000" y="1270080"/>
            <a:ext cx="7129440" cy="54896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181080" y="40464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松花江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8:40:30Z</dcterms:created>
  <dc:creator> </dc:creator>
  <dc:description/>
  <cp:keywords/>
  <dc:language>en-US</dc:language>
  <cp:lastModifiedBy>bonny</cp:lastModifiedBy>
  <dcterms:modified xsi:type="dcterms:W3CDTF">2015-07-25T20:02:0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40</vt:lpwstr>
  </property>
</Properties>
</file>