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D78-C5CB-4C23-A113-C4F6F7A8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F78-2BE6-41CE-873F-E1AF0090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027-69A5-4F0C-89CC-D3B7DCA4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3E8-C2C2-4E3B-8842-AAFF811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48A-EBE7-4E2C-9536-CFC273F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708-B4AB-46A3-AC17-C360171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2C1-64DA-421B-A1B9-AC5E27B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909-04DE-4828-9831-9639634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DC2-7FA4-4DAD-BC8A-47A0AB56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354-C559-4279-AF17-9B325620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B8B-0C33-4505-8899-C9D6A9B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0DC-CD81-4983-BD4C-C773B27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0D0-48B7-4766-BE19-6F2D1E62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133720"/>
            <a:ext cx="5243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万岁，母校</a:t>
            </a:r>
            <a:endParaRPr b="1" lang="en-US" sz="6600" spc="-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320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2880" y="762120"/>
            <a:ext cx="441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收发室的老爷爷拉响电铃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所有学生一齐拥进礼堂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请全体老师到台上就座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下是老老小小高高矮矮的学生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校长宣布校庆大会开始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全体学生一齐向台上敬礼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上的老师湿润了眼睛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下的学生流出了热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3320" y="838080"/>
            <a:ext cx="4661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谁第一个道出大伙的心声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“母校万岁！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这声音似松涛像海浪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响彻礼堂冲出校园久久回荡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这时学校仿佛变得又宽又大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没有了校门没有了围墙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间间教室连着祖国四面八方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条条小路通向高山平原蓝天海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80880"/>
            <a:ext cx="5143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文中都有的人物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466560" y="17524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白发苍苍的爷爷奶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3680" y="2819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戴着金边眼镜的作家伯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886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高大魁梧的空军军官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80060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胸前挂着金牌的体操冠军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960" y="57150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一群能歌善舞的大哥大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22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本文是一首现代诗，诗歌叙述了一所小学五十周年校庆时学生纷纷回母校的场景，歌颂了小学的教育在育人方面的伟大贡献，表达了作者对母校的赞美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66680" y="1295280"/>
            <a:ext cx="3086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主要内容</a:t>
            </a:r>
            <a:endParaRPr b="1" lang="en-US" sz="6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73760" y="1066680"/>
            <a:ext cx="4548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校园还是这样的校园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围墙还是这样的围墙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可今天在我们眼里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它一下子变了模样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一条五十周年校庆的横幅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引来好多好多陌生人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他们都说自己不是来宾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而是前来上学的学生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00760" y="-122760"/>
            <a:ext cx="9115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重返母校万分感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2880" y="152280"/>
            <a:ext cx="178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—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28600" y="98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0880" y="0"/>
            <a:ext cx="3934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些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白发苍苍的爷爷奶奶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硬要挤进一年级的教室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坐在又矮又小的凳子上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说自己曾经是这儿的主人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戴着金边眼镜的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作家伯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对大队墙报特别感兴趣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他说他的第一篇作品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就发表在这儿的习作园地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有位高大魁梧的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空军军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带来一架发黄的航模飞机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说他万里蓝天的飞行历程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应该从这儿算起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69560" y="1020600"/>
            <a:ext cx="164268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回忆往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9440" y="36576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—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61920" y="685800"/>
            <a:ext cx="466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胸前挂着金牌的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体操冠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一定要倚着矮小的单双杠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拉着我的老体育教师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留下一张合影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一群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能歌善舞的大哥大姐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变得比我还活泼天真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他们跳的不是迪斯科霹雳舞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是队会上获奖的《月亮和星星》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29320" y="10350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回忆往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8040" y="40384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—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320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2880" y="762120"/>
            <a:ext cx="441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收发室的老爷爷拉响电铃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所有学生一齐拥进礼堂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请全体老师到台上就座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下是老老小小高高矮矮的学生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校长宣布校庆大会开始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全体学生一齐向台上敬礼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上的老师湿润了眼睛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台下的学生流出了热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43560" y="-427680"/>
            <a:ext cx="9115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参加校庆共同祝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3480" y="541008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—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3320" y="838080"/>
            <a:ext cx="4661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谁第一个道出大伙的心声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“母校万岁！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这声音似松涛像海浪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响彻礼堂冲出校园久久回荡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这时学校仿佛变得又宽又大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没有了校门没有了围墙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间间教室连着祖国四面八方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条条小路通向高山平原蓝天海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4440" y="-351360"/>
            <a:ext cx="164268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参加校庆共同祝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556272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—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154680" y="0"/>
            <a:ext cx="2923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—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节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到了白发苍苍的爷爷奶奶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家伯伯、空军军官、体操冠军、能歌善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哥大姐。他们的共同点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204840" y="41911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" y="1828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、他们都是从这所小学毕业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4560" y="241452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长大后，他们走上了不同的岗位，都为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做出了贡献。小学教育为他们的发展打下了良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基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320" y="403704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、他们都很快乐。比如：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—7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节毕业生与小学弟、学妹们亲切地交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600" y="5181480"/>
            <a:ext cx="918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他们都怀念童年的时光。如；坐在矮小的凳子上对大队墙报特别感兴趣、发黄的航模飞机、矮小的单双杠、跳曾经在队会上获奖的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352680" y="1066680"/>
            <a:ext cx="5943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900" spc="-1" strike="noStrike">
                <a:solidFill>
                  <a:srgbClr val="ff3300"/>
                </a:solidFill>
                <a:latin typeface="Arial"/>
              </a:rPr>
              <a:t>蓝星 ，汉族，原名蓝昌鑫。四川宜宾人。中共党员。毕业于重庆市第一师范学校。</a:t>
            </a: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1955</a:t>
            </a:r>
            <a:r>
              <a:rPr b="1" lang="zh-CN" sz="2900" spc="-1" strike="noStrike">
                <a:solidFill>
                  <a:srgbClr val="ff3300"/>
                </a:solidFill>
                <a:latin typeface="Arial"/>
              </a:rPr>
              <a:t>年参加工作，任小学教师，</a:t>
            </a: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1980</a:t>
            </a:r>
            <a:r>
              <a:rPr b="1" lang="zh-CN" sz="2900" spc="-1" strike="noStrike">
                <a:solidFill>
                  <a:srgbClr val="ff3300"/>
                </a:solidFill>
                <a:latin typeface="Arial"/>
              </a:rPr>
              <a:t>年后历任《红领巾》杂志编辑、记者、副总编辑，四川少年儿童出版社副总编辑、副社长，副编审、编审，《红领巾》杂志、《中学生读写》杂志主编。中国少年儿童报刊工作者协会第一、二届常务理事，四川省期刊协会首届常务理事。</a:t>
            </a: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1956</a:t>
            </a:r>
            <a:r>
              <a:rPr b="1" lang="zh-CN" sz="2900" spc="-1" strike="noStrike">
                <a:solidFill>
                  <a:srgbClr val="ff3300"/>
                </a:solidFill>
                <a:latin typeface="Arial"/>
              </a:rPr>
              <a:t>年开始发表作品。</a:t>
            </a: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1997</a:t>
            </a:r>
            <a:r>
              <a:rPr b="1" lang="zh-CN" sz="2900" spc="-1" strike="noStrike">
                <a:solidFill>
                  <a:srgbClr val="ff3300"/>
                </a:solidFill>
                <a:latin typeface="Arial"/>
              </a:rPr>
              <a:t>年加入中国作家协会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0"/>
            <a:ext cx="3200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作者简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5983" b="10653"/>
          <a:stretch/>
        </p:blipFill>
        <p:spPr>
          <a:xfrm>
            <a:off x="152280" y="1447920"/>
            <a:ext cx="3295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57360" y="609480"/>
            <a:ext cx="634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诗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—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感受校庆的欢庆场景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3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台上、台下的表现还有整个校园的呼喊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3020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cc0000"/>
                </a:solidFill>
                <a:uFillTx/>
                <a:latin typeface="Arial"/>
              </a:rPr>
              <a:t>提醒：最后一节，照应开头，点明诗歌主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971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通过校庆，“我们”体会到小学的学习生活都是为走向未来的广阔世界做准备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457200" y="1600200"/>
            <a:ext cx="2314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？？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题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57600" y="2209680"/>
            <a:ext cx="449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同学们，一起思考一下“  ‘母校万岁！’ 这句话包含着什么样的情感？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课后一题：“母校万岁！”这句话包含着什么样的情感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001000" cy="4038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Arial"/>
              </a:rPr>
              <a:t>         </a:t>
            </a:r>
            <a:r>
              <a:rPr b="1" i="1" lang="zh-CN" sz="5400" spc="-1" strike="noStrike">
                <a:solidFill>
                  <a:srgbClr val="cc00cc"/>
                </a:solidFill>
                <a:latin typeface="Arial"/>
              </a:rPr>
              <a:t>参考答案：“母校万岁！”这句话包含着学生们对母校的依恋、怀念、感激、祝愿等诸多情感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zh-CN" sz="6000" spc="-1" strike="noStrike">
                <a:solidFill>
                  <a:srgbClr val="ff3300"/>
                </a:solidFill>
                <a:latin typeface="Arial"/>
              </a:rPr>
              <a:t>大家说一下对这篇文章的感受，想一想，在多年以后，当你回到母校时，你会做什么，请和同桌或邻桌交流一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5400000">
            <a:off x="5295240" y="24764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爸爸的老师</a:t>
            </a:r>
            <a:endParaRPr b="1" i="1" lang="en-US" sz="4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5447880" y="407664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任溶溶</a:t>
            </a:r>
            <a:endParaRPr b="1" i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741240"/>
            <a:ext cx="53341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的爸爸一天到晚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跟数学打交道，再难的题他也会算，嗨，他的学问真好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这有学问的爸爸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今天一副严肃样子。他有什么要紧事情？原来去看老师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的爸爸还有老师？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你说多么新鲜！这老师是怎么个人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倒真想见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一个劲求我爸爸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带我去看看他。我的爸爸眼睛一眨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对我说道：“晤，好吧！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课外拓展</a:t>
            </a:r>
            <a:endParaRPr b="1" i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62320" y="0"/>
            <a:ext cx="586728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可是爸爸临走以前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把我反复叮咛，要我注意这个那个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当然，我都答应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一路想这位老师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该是怎么个人。他一定是胡子很长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满肚子的学问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他当然是比爸爸强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是位老数学家。他要不是老数学家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怎能教我爸爸？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可是结果你倒猜猜：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爸爸给谁鞠躬？就算你猜三天三夜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也没法子猜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鞠躬的人如果是我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那还不算希奇，因为爸爸这位老师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就是我的老师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30492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课外拓展</a:t>
            </a:r>
            <a:endParaRPr b="1" i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106668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不过我念三年级了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她还教一年级。她是我爸爸的老师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你说多有意思！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这老老师看着爸爸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就像看个娃娃，“你这些年在数学上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成绩倒也很大……”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你想爸爸怎么回答：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“老师也有功劳，我懂得那二二得四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是老师您教导……”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我才知道我的爸爸，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虽然学问很大，却有一年级的老师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Arial"/>
              </a:rPr>
              <a:t>曾经教导过他。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15228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课外拓展</a:t>
            </a:r>
            <a:endParaRPr b="1" i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9320" y="1371600"/>
            <a:ext cx="64008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谢谢指导！</a:t>
            </a:r>
            <a:endParaRPr b="1" lang="en-US" sz="54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      </a:t>
            </a:r>
            <a:endParaRPr b="1" lang="en-US" sz="54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    </a:t>
            </a:r>
            <a:r>
              <a:rPr b="1" lang="zh-CN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再见！</a:t>
            </a:r>
            <a:endParaRPr b="1" lang="en-US" sz="54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1523880"/>
            <a:ext cx="861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正确认读“魁梧、霹雳”等词语，读准字音，理解并积累词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i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、有感情地朗读这首诗歌，体会毕业生对母校的情感；（重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cc"/>
                </a:solidFill>
                <a:uFillTx/>
                <a:latin typeface="Arial"/>
              </a:rPr>
              <a:t>3</a:t>
            </a:r>
            <a:r>
              <a:rPr b="1" i="1" lang="zh-CN" sz="4800" spc="-1" strike="noStrike" u="sng">
                <a:solidFill>
                  <a:srgbClr val="0000cc"/>
                </a:solidFill>
                <a:uFillTx/>
                <a:latin typeface="Arial"/>
              </a:rPr>
              <a:t>、欣赏诗句，理解诗句的意义。（难点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4572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学习目标</a:t>
            </a:r>
            <a:endParaRPr b="1" lang="en-US" sz="4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90720" y="380880"/>
            <a:ext cx="2209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读一读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0968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横幅     魁梧     航模     活泼     心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松涛     回荡     陌生     白发苍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能歌善舞       迪斯科       霹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宣布     敬礼      湿润      回荡    海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面八方         响彻        高山平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08760" y="76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词语解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横幅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横的字画、标语、锦旗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魁梧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身体）强壮高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航模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船只和飞机的模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泼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生动自然，不呆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声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自内心的声音，心里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涛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松树被风吹动时所发出的像波涛一样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荡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来回地飘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685800"/>
            <a:ext cx="8991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请大家自由朗读课文，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想一想“文中都有哪些人物呢”？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再想一想本文主要讲了什么？与课文可以怎样分成几部分？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3760" y="1066680"/>
            <a:ext cx="4548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校园还是这样的校园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围墙还是这样的围墙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可今天在我们眼里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它一下子变了模样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一条五十周年校庆的横幅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引来好多好多陌生人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他们都说自己不是来宾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而是前来上学的学生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28600" y="98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80880" y="0"/>
            <a:ext cx="3934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些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白发苍苍的爷爷奶奶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硬要挤进一年级的教室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坐在又矮又小的凳子上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说自己曾经是这儿的主人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戴着金边眼镜的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作家伯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对大队墙报特别感兴趣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他说他的第一篇作品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就发表在这儿的习作园地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有位高大魁梧的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空军军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带来一架发黄的航模飞机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说他万里蓝天的飞行历程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应该从这儿算起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61920" y="685800"/>
            <a:ext cx="466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胸前挂着金牌的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体操冠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一定要倚着矮小的单双杠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拉着我的老体育教师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留下一张合影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一群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能歌善舞的大哥大姐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变得比我还活泼天真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他们跳的不是迪斯科霹雳舞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是队会上获奖的《月亮和星星》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01:26:48Z</dcterms:created>
  <dc:creator>Administrator</dc:creator>
  <dc:description/>
  <dc:language>en-US</dc:language>
  <cp:lastModifiedBy/>
  <dcterms:modified xsi:type="dcterms:W3CDTF">2015-07-21T03:43:2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