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TYP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00A-048E-4048-AA41-DB0412B3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F94-8618-40BB-B90F-B60C54C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6AF4D-47E0-4051-ABFB-E6D5D987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0F2F9-18F5-4CD2-A701-65BDEFE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F009F-9F68-4DC7-9E20-407CBA27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CE7FF-D65B-40DE-A248-4BB69E7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5E5A2-4ADD-42B7-A8A2-AAB6884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18A08-44C9-407D-B673-A5AF8FC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9960F-89C4-4CF1-9269-F6DDAAD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45D42-C9E4-4562-8E47-EFA9146F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32560-72F6-4FE3-9F7D-9A1A0675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88C8B-0F19-417F-8B0F-12D7765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AD2-CAEA-4C42-99D2-108AFD0A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D4B9-EF64-4037-946D-345518A5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09096-AA8E-4C64-9844-2940C85B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086A3-1950-4C0B-BF8D-6D302170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3C2FB-1D8D-4F17-BBBA-D8F59A18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22DC5-4062-4B6D-BE4C-C380549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13B11-D90C-4113-804E-BD01AAF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AC435-28AA-49B3-AE87-79200EFD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84EC-0901-40C2-B66D-C0C8BA2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B3C1D-5B83-4FD9-8D36-534924A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0B4A-6C7A-4C76-B767-E62A3DCA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F64-9CA3-4AA7-B2DD-6DDD8323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779D1-C2EE-491B-B23A-64A6179F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DB24-35AA-469B-B3BE-84AFF681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9FFA-1095-4B8A-AC75-022BD488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198F-B4EE-496A-B554-647FD3E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41C4-9E1F-411A-959B-BC8CE8C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94D5-5A67-463C-9A01-7C1D21F4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6207-4FF4-4C40-9913-CFCEF9E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EEEF-01F4-4857-844D-443D77A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831-AB9A-431D-85D7-D89E7716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372A-8541-4591-A32D-333F919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3A4-C75D-4525-81E2-9C1E566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877-33AB-4F43-AD7C-1190A0FD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D52-BA34-4791-AF31-DD1CC0ED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DAD7-C8C7-464C-B6EC-B3E5A3E4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00AD-5CCE-4F92-9372-CCA75E10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B1D2-3978-4D44-AEC5-440D860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D17E-7FDF-4B03-B7D1-66D457C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3FA8-475E-4B40-9BA8-092D5FC2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71FB-C6C8-4946-A4A0-094BC9A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003-5B76-463B-B7CD-3CCD14D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49A3-1022-4EE7-9FA6-568C219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FCA9-A747-4671-BA35-6C224B1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33EF-DABA-4887-83EC-82B113E7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37AC-881E-4521-88AA-EB858EF8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E45E-0F0E-4733-9FB9-FF79E11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719C-6B59-4192-AADE-2ADE3CE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7C3D-2099-4AB0-976C-272E13C7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E36F-0267-4274-8931-0C8FB626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CDC2-98C2-478D-BCE5-BFAB913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4781-76B2-4284-8B68-D5040375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C40-592C-47DC-94AD-C9C4A4C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2D9E6-67A0-48AA-B298-AF8F19AF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31C0-50AA-49DD-B6AF-2D69397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AC1E-53B2-44B5-BC4B-EB5E13FF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22E8-A68F-4E80-9CEB-27465CCE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34DD-E309-40D4-981E-21FDE34A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1A96-9F39-40E6-AD47-ED920DC3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6418-9133-4BC9-859B-36BFE87E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EE07-7BBB-449C-A525-F97A8AFC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674D-6790-435E-82C5-358C5CE7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A54A-4122-42D0-B619-4674A947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7FC-B692-4B3C-82E6-06DD532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0C544-8EEB-487F-941C-A91D36D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D1C9-F978-467D-A802-C501FA9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C124-BC10-43EC-9308-0CC9FD4B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A33D-8D31-4029-AFD0-36D0519E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A92E-01E8-4A3F-9DA7-60D906F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4005-DC73-4948-A5E0-8740B11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B1A0-86B4-4878-95B5-7EA6115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F74A-EC60-4BED-A9D6-8C279EC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D19E-A7EA-4269-B89B-CF7DDF36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4DAC-8A31-486C-8B75-BD34233E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7DA-4E3F-4D80-A20E-8A4BA26B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F949-1890-4B2C-A2F4-133D5381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BD69-43BE-44D4-B5AA-5E2791DB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3AE0-094D-4AAA-8010-32375BDC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9804-BDAC-4643-800D-581ECC7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0F45-9637-45A9-9641-BB09FF5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1FA0-3802-4B24-876C-75D8437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D10B-13FF-488B-B75D-4E0BC56A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3B85-45AB-47B0-BFEA-4819BFA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4F52-F999-4725-B30A-341DB15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50E3-4D9E-4684-ADDA-559C0E76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EAF-86FA-4A06-A0F4-DFF0BF0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BAD4-24AD-44D7-A879-4FB2F2B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3518-7690-4BFB-B14A-4BDD4B85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E37E-C9F0-492B-8682-4E5CE54D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A8EB-D933-4436-909B-946A0132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57E40-1EBB-4F2B-A609-D93BA05E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72F51-87E2-4839-8093-A30DCD1D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6A69-491E-4A89-B13F-B52211D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BF8F-4A76-415D-BFF2-C47D4AF7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DD64C-9BAA-4A99-BCB1-9AE5BC1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3D80-A5E3-4566-A588-9F5A667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CF9-023F-4EE1-B881-F9CCE4E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59DE-DAB2-42A5-BABD-F9C49BF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99BD-DCAE-4424-B3C8-7ADD62D8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4A042-AA8C-404C-A134-F12148E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50D6-744E-4649-9DDA-9531AA10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E4CC9-8D7F-4598-9705-812FDA02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55337-A948-4616-A9EA-257C1388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037D-D715-4CFC-9A03-FAE15C5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5356B-A15D-48E0-8A05-02634FE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4E5B-97EE-4C8D-96F8-30A42F4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D84DF-1A39-4022-A546-544E38DA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4A2-B6B0-4045-9B9A-D6FACE2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7FD9D-7A04-47A0-B539-8D7232F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BFE3-B866-44F7-908C-AE22655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0BCA-92AF-47CB-BB27-DFBF443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1579-C43B-4960-9DEF-3961B11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173B-6F73-4970-943D-FD5E8F14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B1A1-9C3C-4F65-A9CC-0BD4DC62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4E61-38CC-4610-90D0-66FD5C9F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6762B-736D-4C49-8B7D-BAA5F42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EC39D-E82B-4308-AF3B-CB0F103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9F80C-B26B-4A4A-8C26-9E84DA99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5A3-EABF-4F6D-84C8-519D61EA3F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296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298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9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300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1357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1369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84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dt" idx="28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29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0219-3D3A-4A69-ACF2-8BDBDFF334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95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41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55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69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83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97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11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25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27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FD6-87A2-4EB0-9226-FF9596623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0680-DA27-4E7E-9B0C-D76B8270B3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9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73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42E-DF0F-4D2D-891F-6A821BF28E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F49-15C8-4541-8DE5-C211433067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35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36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638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639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5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96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8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739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761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86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824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826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828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885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897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912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1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17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331-AD36-41A0-B3D7-66507B075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56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70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116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219-3105-496B-8008-A4426A4309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8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8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E36-BA66-4775-A0B4-7F176083EC0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3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4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4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3096-ACAB-4014-8EC6-E25A312893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B52P002"/>
          <p:cNvPicPr/>
          <p:nvPr/>
        </p:nvPicPr>
        <p:blipFill>
          <a:blip r:embed="rId1"/>
          <a:stretch/>
        </p:blipFill>
        <p:spPr>
          <a:xfrm>
            <a:off x="2124000" y="1844640"/>
            <a:ext cx="4419720" cy="2924280"/>
          </a:xfrm>
          <a:prstGeom prst="rect">
            <a:avLst/>
          </a:prstGeom>
          <a:ln w="0">
            <a:noFill/>
          </a:ln>
        </p:spPr>
      </p:pic>
      <p:sp>
        <p:nvSpPr>
          <p:cNvPr id="1427" name="AutoShape 3"/>
          <p:cNvSpPr/>
          <p:nvPr/>
        </p:nvSpPr>
        <p:spPr>
          <a:xfrm>
            <a:off x="3708360" y="765000"/>
            <a:ext cx="3600360" cy="1047960"/>
          </a:xfrm>
          <a:prstGeom prst="wedgeRoundRectCallout">
            <a:avLst>
              <a:gd name="adj1" fmla="val -38138"/>
              <a:gd name="adj2" fmla="val 92120"/>
              <a:gd name="adj3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Times New Roman"/>
                <a:ea typeface="標楷體"/>
              </a:rPr>
              <a:t>我要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飞</a:t>
            </a:r>
            <a:r>
              <a:rPr b="1" lang="zh-TW" sz="32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上天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838080" y="44197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在没有飞机的时候，莱特兄弟常常希望能像鸟一样飞到天上，人们都笑他们在做梦。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4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65" name="Text Box 4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蜀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之鄙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，有二僧：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其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贫，其一富，贫者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语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于富者曰：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吾欲之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南海，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何如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？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6"/>
          <p:cNvSpPr/>
          <p:nvPr/>
        </p:nvSpPr>
        <p:spPr>
          <a:xfrm>
            <a:off x="468360" y="227664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鄙：边远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其：代词，译为“其中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语：告诉，对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吾：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欲：想要，将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到，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何如：即“如何”，怎么样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8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4"/>
          <p:cNvSpPr/>
          <p:nvPr/>
        </p:nvSpPr>
        <p:spPr>
          <a:xfrm>
            <a:off x="755640" y="105264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富者曰：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子何侍而往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？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1187280" y="191628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子：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何：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侍：凭借，倚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2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73" name="Rectangle 4"/>
          <p:cNvSpPr/>
          <p:nvPr/>
        </p:nvSpPr>
        <p:spPr>
          <a:xfrm>
            <a:off x="2595600" y="1268280"/>
            <a:ext cx="27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曰：“吾一瓶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钵足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矣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6"/>
          <p:cNvSpPr/>
          <p:nvPr/>
        </p:nvSpPr>
        <p:spPr>
          <a:xfrm>
            <a:off x="1332000" y="2421000"/>
            <a:ext cx="66056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钵：佛教徒盛饭的用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足：足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6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77" name="Rectangle 4"/>
          <p:cNvSpPr/>
          <p:nvPr/>
        </p:nvSpPr>
        <p:spPr>
          <a:xfrm>
            <a:off x="468360" y="836640"/>
            <a:ext cx="8515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富者曰：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吾数年来欲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买舟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而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下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犹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未能也。子何恃而往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！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5"/>
          <p:cNvSpPr/>
          <p:nvPr/>
        </p:nvSpPr>
        <p:spPr>
          <a:xfrm>
            <a:off x="1403280" y="2565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买舟：雇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犹：尚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0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81" name="Rectangle 4"/>
          <p:cNvSpPr/>
          <p:nvPr/>
        </p:nvSpPr>
        <p:spPr>
          <a:xfrm>
            <a:off x="250920" y="987480"/>
            <a:ext cx="85150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越明年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，贫者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自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南海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还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以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告富者。富者面有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惭色</a:t>
            </a: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1116000" y="2492280"/>
            <a:ext cx="67690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越明年：到了第二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自：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还：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以：相当于“把”“拿”“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惭色：惭愧的神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4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85" name="Text Box 4"/>
          <p:cNvSpPr/>
          <p:nvPr/>
        </p:nvSpPr>
        <p:spPr>
          <a:xfrm>
            <a:off x="755640" y="76500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西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之去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南海，不知几千里也，僧富者不能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至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，而贫者至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焉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。人之立志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顾不如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蜀鄙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之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僧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哉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116000" y="23796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结构助词，无意义，主谓之间取消句子的独立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去：距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至：到，到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焉：加强语气的助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顾：还，反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不如：比不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哉：表示反问语气，相当于“吗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/>
          </p:nvPr>
        </p:nvSpPr>
        <p:spPr>
          <a:xfrm>
            <a:off x="7308360" y="259920"/>
            <a:ext cx="1366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8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4"/>
          <p:cNvSpPr/>
          <p:nvPr/>
        </p:nvSpPr>
        <p:spPr>
          <a:xfrm>
            <a:off x="1836720" y="1108080"/>
            <a:ext cx="367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文章翻译原则（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16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字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2556000" y="184464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字字落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补出省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调整语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检查通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6"/>
          <p:cNvSpPr/>
          <p:nvPr/>
        </p:nvSpPr>
        <p:spPr>
          <a:xfrm>
            <a:off x="2103480" y="4365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本文翻译注意事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Rectangle 7"/>
          <p:cNvSpPr/>
          <p:nvPr/>
        </p:nvSpPr>
        <p:spPr>
          <a:xfrm>
            <a:off x="3348000" y="4941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勿忘语气词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7308360" y="259920"/>
            <a:ext cx="1366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4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95" name="Text Box 4"/>
          <p:cNvSpPr/>
          <p:nvPr/>
        </p:nvSpPr>
        <p:spPr>
          <a:xfrm>
            <a:off x="181116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文章翻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Rectangle 8"/>
          <p:cNvSpPr/>
          <p:nvPr/>
        </p:nvSpPr>
        <p:spPr>
          <a:xfrm>
            <a:off x="250920" y="90792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天下的事情有困难和容易的区别吗？做这件事，那么困难的事情也容易的了；不做，那么容易的事情也困难了。人们做学问有困难和容易的区别吗？学习它，那么困难的也容易了；不学习，那么容易的也困难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四川的边境上有两个和尚，其中一个贫穷，其中一个富有。穷和尚对富和尚说：“我想要到南海去，怎么样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富和尚说：“您凭借什么去呢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穷和尚说：“我一个水瓶一个饭碗就足够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富和尚说：“我几年来都想要雇船到南海去，尚且没能去成。您凭借什么去！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到了第二年，穷和尚从南海回来了，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这件事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告诉了富和尚。富和尚脸上显出了惭愧的神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四川距离南海，不知道有几千里路，富和尚不能到达但是穷和尚到达了。一个人立志求学，难道还不如四川边境的那个穷和尚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7093080" y="259920"/>
            <a:ext cx="162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8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99" name="Text Box 4"/>
          <p:cNvSpPr/>
          <p:nvPr/>
        </p:nvSpPr>
        <p:spPr>
          <a:xfrm>
            <a:off x="1806840" y="907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一词多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1187280" y="155736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自己归纳“之”“顾”“为”“去”“以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个词的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8"/>
          <p:cNvSpPr/>
          <p:nvPr/>
        </p:nvSpPr>
        <p:spPr>
          <a:xfrm>
            <a:off x="179280" y="393372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AutoShape 9"/>
          <p:cNvSpPr/>
          <p:nvPr/>
        </p:nvSpPr>
        <p:spPr>
          <a:xfrm>
            <a:off x="826920" y="314172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0"/>
          <p:cNvSpPr/>
          <p:nvPr/>
        </p:nvSpPr>
        <p:spPr>
          <a:xfrm>
            <a:off x="-879480" y="2924280"/>
            <a:ext cx="1173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，则难者亦易矣 （代词，它，指事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人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为学有难易乎 （主谓之间，取消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楷体_GB2312"/>
              </a:rPr>
              <a:t>独立性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蜀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鄙，有二僧    （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海            （到，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1"/>
          <p:cNvSpPr/>
          <p:nvPr/>
        </p:nvSpPr>
        <p:spPr>
          <a:xfrm>
            <a:off x="179280" y="2421000"/>
            <a:ext cx="9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示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7380000" y="259920"/>
            <a:ext cx="1366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6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4"/>
          <p:cNvSpPr/>
          <p:nvPr/>
        </p:nvSpPr>
        <p:spPr>
          <a:xfrm>
            <a:off x="1349280" y="112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5"/>
          <p:cNvSpPr/>
          <p:nvPr/>
        </p:nvSpPr>
        <p:spPr>
          <a:xfrm>
            <a:off x="1042920" y="20606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归纳“之”“顾”“为”“去”“以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个词的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整理字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抄写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2" descr="B52P004"/>
          <p:cNvPicPr/>
          <p:nvPr/>
        </p:nvPicPr>
        <p:blipFill>
          <a:blip r:embed="rId1"/>
          <a:stretch/>
        </p:blipFill>
        <p:spPr>
          <a:xfrm>
            <a:off x="533520" y="1828800"/>
            <a:ext cx="4647960" cy="3005280"/>
          </a:xfrm>
          <a:prstGeom prst="rect">
            <a:avLst/>
          </a:prstGeom>
          <a:ln w="0">
            <a:noFill/>
          </a:ln>
        </p:spPr>
      </p:pic>
      <p:sp>
        <p:nvSpPr>
          <p:cNvPr id="1430" name="Text Box 3"/>
          <p:cNvSpPr/>
          <p:nvPr/>
        </p:nvSpPr>
        <p:spPr>
          <a:xfrm>
            <a:off x="2087640" y="836640"/>
            <a:ext cx="54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903</a:t>
            </a:r>
            <a:r>
              <a:rPr b="1" lang="zh-TW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年，大家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认为</a:t>
            </a:r>
            <a:r>
              <a:rPr b="1" lang="zh-TW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不可能的事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终于发</a:t>
            </a:r>
            <a:r>
              <a:rPr b="1" lang="zh-TW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生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"/>
          <p:cNvSpPr/>
          <p:nvPr/>
        </p:nvSpPr>
        <p:spPr>
          <a:xfrm>
            <a:off x="5651640" y="2276640"/>
            <a:ext cx="31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为什么莱特兄弟能成功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这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5"/>
          <p:cNvSpPr/>
          <p:nvPr/>
        </p:nvSpPr>
        <p:spPr>
          <a:xfrm>
            <a:off x="250920" y="5013360"/>
            <a:ext cx="844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因为他们不怕困难，坚持不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只要不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艰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辛，勇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于尝试实践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，很多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难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都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解决，事在人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Text Box 5"/>
          <p:cNvSpPr/>
          <p:nvPr/>
        </p:nvSpPr>
        <p:spPr>
          <a:xfrm>
            <a:off x="1809000" y="620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理解中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468360" y="1916280"/>
            <a:ext cx="837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本文作者想告诉他的子侄辈一个什么道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Picture 8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Text Box 3"/>
          <p:cNvSpPr/>
          <p:nvPr/>
        </p:nvSpPr>
        <p:spPr>
          <a:xfrm>
            <a:off x="1417680" y="1989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天下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没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难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AutoShape 5"/>
          <p:cNvSpPr/>
          <p:nvPr/>
        </p:nvSpPr>
        <p:spPr>
          <a:xfrm rot="18786600">
            <a:off x="4533840" y="20188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AutoShape 8"/>
          <p:cNvSpPr/>
          <p:nvPr/>
        </p:nvSpPr>
        <p:spPr>
          <a:xfrm rot="2403000">
            <a:off x="4495680" y="274320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9"/>
          <p:cNvSpPr/>
          <p:nvPr/>
        </p:nvSpPr>
        <p:spPr>
          <a:xfrm>
            <a:off x="4879800" y="1671480"/>
            <a:ext cx="4264200" cy="73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做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难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事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会变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10"/>
          <p:cNvSpPr/>
          <p:nvPr/>
        </p:nvSpPr>
        <p:spPr>
          <a:xfrm>
            <a:off x="4879800" y="2814480"/>
            <a:ext cx="4264200" cy="735840"/>
          </a:xfrm>
          <a:prstGeom prst="ellipse">
            <a:avLst/>
          </a:prstGeom>
          <a:solidFill>
            <a:srgbClr val="80008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做，易事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变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AutoShape 11"/>
          <p:cNvSpPr/>
          <p:nvPr/>
        </p:nvSpPr>
        <p:spPr>
          <a:xfrm>
            <a:off x="533520" y="2971800"/>
            <a:ext cx="380880" cy="1828800"/>
          </a:xfrm>
          <a:custGeom>
            <a:avLst/>
            <a:gdLst>
              <a:gd name="textAreaLeft" fmla="*/ 50760 w 380880"/>
              <a:gd name="textAreaRight" fmla="*/ 330120 w 38088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12"/>
          <p:cNvSpPr/>
          <p:nvPr/>
        </p:nvSpPr>
        <p:spPr>
          <a:xfrm>
            <a:off x="1050840" y="451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13"/>
          <p:cNvSpPr/>
          <p:nvPr/>
        </p:nvSpPr>
        <p:spPr>
          <a:xfrm>
            <a:off x="611280" y="495288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学习没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有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难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AutoShape 14"/>
          <p:cNvSpPr/>
          <p:nvPr/>
        </p:nvSpPr>
        <p:spPr>
          <a:xfrm rot="18786600">
            <a:off x="4457520" y="491436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AutoShape 15"/>
          <p:cNvSpPr/>
          <p:nvPr/>
        </p:nvSpPr>
        <p:spPr>
          <a:xfrm rot="2403000">
            <a:off x="4419720" y="556272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Oval 16"/>
          <p:cNvSpPr/>
          <p:nvPr/>
        </p:nvSpPr>
        <p:spPr>
          <a:xfrm>
            <a:off x="4879800" y="4490640"/>
            <a:ext cx="4264200" cy="73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学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难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也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会变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Oval 17"/>
          <p:cNvSpPr/>
          <p:nvPr/>
        </p:nvSpPr>
        <p:spPr>
          <a:xfrm>
            <a:off x="4879800" y="5557680"/>
            <a:ext cx="4264200" cy="735840"/>
          </a:xfrm>
          <a:prstGeom prst="ellipse">
            <a:avLst/>
          </a:prstGeom>
          <a:solidFill>
            <a:srgbClr val="80008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，易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会变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18"/>
          <p:cNvSpPr/>
          <p:nvPr/>
        </p:nvSpPr>
        <p:spPr>
          <a:xfrm>
            <a:off x="295596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19"/>
          <p:cNvSpPr/>
          <p:nvPr/>
        </p:nvSpPr>
        <p:spPr>
          <a:xfrm>
            <a:off x="3070800" y="212760"/>
            <a:ext cx="39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、难易转化关键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20"/>
          <p:cNvSpPr/>
          <p:nvPr/>
        </p:nvSpPr>
        <p:spPr>
          <a:xfrm>
            <a:off x="2212200" y="2687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总说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Line 21"/>
          <p:cNvSpPr/>
          <p:nvPr/>
        </p:nvSpPr>
        <p:spPr>
          <a:xfrm>
            <a:off x="23623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2136240" y="436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分说</a:t>
            </a:r>
            <a:r>
              <a:rPr b="0" lang="zh-CN" sz="2400" spc="-1" strike="noStrike">
                <a:solidFill>
                  <a:srgbClr val="cc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1981080" y="2209680"/>
            <a:ext cx="4952880" cy="4647960"/>
            <a:chOff x="1981080" y="2209680"/>
            <a:chExt cx="4952880" cy="4647960"/>
          </a:xfrm>
        </p:grpSpPr>
        <p:pic>
          <p:nvPicPr>
            <p:cNvPr id="1530" name="Picture 3" descr="A48P001_"/>
            <p:cNvPicPr/>
            <p:nvPr/>
          </p:nvPicPr>
          <p:blipFill>
            <a:blip r:embed="rId1"/>
            <a:stretch/>
          </p:blipFill>
          <p:spPr>
            <a:xfrm>
              <a:off x="1981080" y="2209680"/>
              <a:ext cx="495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Text Box 4"/>
            <p:cNvSpPr/>
            <p:nvPr/>
          </p:nvSpPr>
          <p:spPr>
            <a:xfrm>
              <a:off x="2037240" y="4482720"/>
              <a:ext cx="606960" cy="15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贫</a:t>
              </a: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Text Box 5"/>
            <p:cNvSpPr/>
            <p:nvPr/>
          </p:nvSpPr>
          <p:spPr>
            <a:xfrm>
              <a:off x="6152760" y="4832280"/>
              <a:ext cx="606960" cy="15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富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AutoShape 6"/>
          <p:cNvSpPr/>
          <p:nvPr/>
        </p:nvSpPr>
        <p:spPr>
          <a:xfrm>
            <a:off x="0" y="3048120"/>
            <a:ext cx="2514600" cy="609480"/>
          </a:xfrm>
          <a:prstGeom prst="wedgeRoundRectCallout">
            <a:avLst>
              <a:gd name="adj1" fmla="val 73356"/>
              <a:gd name="adj2" fmla="val 103907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吾欲之南海</a:t>
            </a:r>
            <a:r>
              <a:rPr b="0" lang="zh-TW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AutoShape 7"/>
          <p:cNvSpPr/>
          <p:nvPr/>
        </p:nvSpPr>
        <p:spPr>
          <a:xfrm>
            <a:off x="4788000" y="1628640"/>
            <a:ext cx="4038480" cy="1143000"/>
          </a:xfrm>
          <a:prstGeom prst="wedgeRoundRectCallout">
            <a:avLst>
              <a:gd name="adj1" fmla="val -41430"/>
              <a:gd name="adj2" fmla="val 89861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南海那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么远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去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很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难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子何恃而往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？</a:t>
            </a:r>
            <a:r>
              <a:rPr b="1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9"/>
          <p:cNvSpPr/>
          <p:nvPr/>
        </p:nvSpPr>
        <p:spPr>
          <a:xfrm>
            <a:off x="4558320" y="1890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二、贫富和尚去南海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Line 11"/>
          <p:cNvSpPr/>
          <p:nvPr/>
        </p:nvSpPr>
        <p:spPr>
          <a:xfrm flipH="1">
            <a:off x="7812000" y="3200400"/>
            <a:ext cx="36720" cy="8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12"/>
          <p:cNvSpPr/>
          <p:nvPr/>
        </p:nvSpPr>
        <p:spPr>
          <a:xfrm>
            <a:off x="6659640" y="4221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对贫僧能否去表示怀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Group 17"/>
          <p:cNvGrpSpPr/>
          <p:nvPr/>
        </p:nvGrpSpPr>
        <p:grpSpPr>
          <a:xfrm>
            <a:off x="2413800" y="2421000"/>
            <a:ext cx="4705200" cy="4089240"/>
            <a:chOff x="2413800" y="2421000"/>
            <a:chExt cx="4705200" cy="4089240"/>
          </a:xfrm>
        </p:grpSpPr>
        <p:pic>
          <p:nvPicPr>
            <p:cNvPr id="1539" name="Picture 15" descr="为学图片"/>
            <p:cNvPicPr/>
            <p:nvPr/>
          </p:nvPicPr>
          <p:blipFill>
            <a:blip r:embed="rId1"/>
            <a:stretch/>
          </p:blipFill>
          <p:spPr>
            <a:xfrm>
              <a:off x="3058920" y="2421000"/>
              <a:ext cx="3438720" cy="40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0" name="Text Box 14"/>
            <p:cNvSpPr/>
            <p:nvPr/>
          </p:nvSpPr>
          <p:spPr>
            <a:xfrm>
              <a:off x="2413800" y="3933720"/>
              <a:ext cx="10335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富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Text Box 16"/>
            <p:cNvSpPr/>
            <p:nvPr/>
          </p:nvSpPr>
          <p:spPr>
            <a:xfrm>
              <a:off x="6085440" y="4076640"/>
              <a:ext cx="10335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穷</a:t>
              </a: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Text Box 8"/>
          <p:cNvSpPr/>
          <p:nvPr/>
        </p:nvSpPr>
        <p:spPr>
          <a:xfrm>
            <a:off x="7213680" y="242100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足</a:t>
            </a:r>
            <a:r>
              <a:rPr b="0" lang="zh-CN" sz="32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字表现出贫和尚面对困难知难而进的勇气和敢于实践的坚定信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9"/>
          <p:cNvSpPr/>
          <p:nvPr/>
        </p:nvSpPr>
        <p:spPr>
          <a:xfrm>
            <a:off x="0" y="24210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认为对方不自量力，因而轻蔑。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表现出他在困难面前强调客观条件，没有坚定的志向，更没有为实现志向而大胆实践的勇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13"/>
          <p:cNvSpPr/>
          <p:nvPr/>
        </p:nvSpPr>
        <p:spPr>
          <a:xfrm>
            <a:off x="-2453400" y="3668760"/>
            <a:ext cx="10335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贫</a:t>
            </a: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AutoShape 6"/>
          <p:cNvSpPr/>
          <p:nvPr/>
        </p:nvSpPr>
        <p:spPr>
          <a:xfrm>
            <a:off x="5719680" y="981000"/>
            <a:ext cx="3029040" cy="1041480"/>
          </a:xfrm>
          <a:prstGeom prst="wedgeRoundRectCallout">
            <a:avLst>
              <a:gd name="adj1" fmla="val -40620"/>
              <a:gd name="adj2" fmla="val 114634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吾</a:t>
            </a:r>
            <a:r>
              <a:rPr b="1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一瓶一</a:t>
            </a:r>
            <a:r>
              <a:rPr b="1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钵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华文新魏"/>
              </a:rPr>
              <a:t>足</a:t>
            </a:r>
            <a:r>
              <a:rPr b="1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AutoShape 7"/>
          <p:cNvSpPr/>
          <p:nvPr/>
        </p:nvSpPr>
        <p:spPr>
          <a:xfrm>
            <a:off x="324000" y="907920"/>
            <a:ext cx="4824360" cy="1441440"/>
          </a:xfrm>
          <a:prstGeom prst="wedgeRoundRectCallout">
            <a:avLst>
              <a:gd name="adj1" fmla="val 9527"/>
              <a:gd name="adj2" fmla="val 133921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我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这几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来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想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雇船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到南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海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尚且没有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成功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子何恃而往</a:t>
            </a:r>
            <a:r>
              <a:rPr b="1" lang="zh-TW" sz="2800" spc="-1" strike="noStrike">
                <a:solidFill>
                  <a:srgbClr val="ff3300"/>
                </a:solidFill>
                <a:latin typeface="宋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6" descr="A48P002_"/>
          <p:cNvPicPr/>
          <p:nvPr/>
        </p:nvPicPr>
        <p:blipFill>
          <a:blip r:embed="rId1"/>
          <a:stretch/>
        </p:blipFill>
        <p:spPr>
          <a:xfrm>
            <a:off x="2195640" y="1484280"/>
            <a:ext cx="4089240" cy="372276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7"/>
          <p:cNvSpPr/>
          <p:nvPr/>
        </p:nvSpPr>
        <p:spPr>
          <a:xfrm>
            <a:off x="3203640" y="620640"/>
            <a:ext cx="2286000" cy="838440"/>
          </a:xfrm>
          <a:prstGeom prst="wedgeRoundRectCallout">
            <a:avLst>
              <a:gd name="adj1" fmla="val 23819"/>
              <a:gd name="adj2" fmla="val 271023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我已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经从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南海回</a:t>
            </a:r>
            <a:r>
              <a:rPr b="0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来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了</a:t>
            </a:r>
            <a:r>
              <a:rPr b="0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AutoShape 8"/>
          <p:cNvSpPr/>
          <p:nvPr/>
        </p:nvSpPr>
        <p:spPr>
          <a:xfrm>
            <a:off x="6804000" y="2133720"/>
            <a:ext cx="1835280" cy="914400"/>
          </a:xfrm>
          <a:prstGeom prst="wedgeRoundRectCallout">
            <a:avLst>
              <a:gd name="adj1" fmla="val -91870"/>
              <a:gd name="adj2" fmla="val 124481"/>
              <a:gd name="adj3" fmla="val 16667"/>
            </a:avLst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我真是</a:t>
            </a:r>
            <a:r>
              <a:rPr b="1" lang="zh-CN" sz="2800" spc="-1" strike="noStrike">
                <a:solidFill>
                  <a:srgbClr val="003300"/>
                </a:solidFill>
                <a:latin typeface="標楷體"/>
                <a:ea typeface="华文新魏"/>
              </a:rPr>
              <a:t>惭愧</a:t>
            </a:r>
            <a:r>
              <a:rPr b="1" lang="zh-TW" sz="2800" spc="-1" strike="noStrike">
                <a:solidFill>
                  <a:srgbClr val="003300"/>
                </a:solidFill>
                <a:latin typeface="標楷體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755640" y="479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穷和尚为什么能到达南海，而富和尚没有去成？穷和尚又是靠什么去成了南海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3" descr="A48P002_"/>
          <p:cNvPicPr/>
          <p:nvPr/>
        </p:nvPicPr>
        <p:blipFill>
          <a:blip r:embed="rId1"/>
          <a:stretch/>
        </p:blipFill>
        <p:spPr>
          <a:xfrm>
            <a:off x="5796000" y="3645000"/>
            <a:ext cx="2916360" cy="2654280"/>
          </a:xfrm>
          <a:prstGeom prst="rect">
            <a:avLst/>
          </a:prstGeom>
          <a:ln w="0">
            <a:noFill/>
          </a:ln>
        </p:spPr>
      </p:pic>
      <p:sp>
        <p:nvSpPr>
          <p:cNvPr id="1552" name="Text Box 4"/>
          <p:cNvSpPr/>
          <p:nvPr/>
        </p:nvSpPr>
        <p:spPr>
          <a:xfrm>
            <a:off x="5176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1116000" y="1916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这个故事给我们什么启示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2" descr="A48P002_"/>
          <p:cNvPicPr/>
          <p:nvPr/>
        </p:nvPicPr>
        <p:blipFill>
          <a:blip r:embed="rId1"/>
          <a:stretch/>
        </p:blipFill>
        <p:spPr>
          <a:xfrm>
            <a:off x="3886200" y="1295280"/>
            <a:ext cx="4622760" cy="4208760"/>
          </a:xfrm>
          <a:prstGeom prst="rect">
            <a:avLst/>
          </a:prstGeom>
          <a:ln w="0">
            <a:noFill/>
          </a:ln>
        </p:spPr>
      </p:pic>
      <p:sp>
        <p:nvSpPr>
          <p:cNvPr id="1555" name="Text Box 5"/>
          <p:cNvSpPr/>
          <p:nvPr/>
        </p:nvSpPr>
        <p:spPr>
          <a:xfrm>
            <a:off x="380880" y="1600200"/>
            <a:ext cx="365760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標楷體"/>
                <a:ea typeface="华文新魏"/>
              </a:rPr>
              <a:t>这个故事也证明</a:t>
            </a: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华文新魏"/>
              </a:rPr>
              <a:t>了</a:t>
            </a:r>
            <a:r>
              <a:rPr b="1" lang="zh-CN" sz="3600" spc="-1" strike="noStrike">
                <a:solidFill>
                  <a:srgbClr val="000066"/>
                </a:solidFill>
                <a:latin typeface="標楷體"/>
                <a:ea typeface="华文新魏"/>
              </a:rPr>
              <a:t>什么</a:t>
            </a:r>
            <a:r>
              <a:rPr b="1" lang="zh-TW" sz="3600" spc="-1" strike="noStrike">
                <a:solidFill>
                  <a:srgbClr val="000066"/>
                </a:solidFill>
                <a:latin typeface="標楷體"/>
                <a:ea typeface="华文新魏"/>
              </a:rPr>
              <a:t>？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6"/>
          <p:cNvSpPr/>
          <p:nvPr/>
        </p:nvSpPr>
        <p:spPr>
          <a:xfrm>
            <a:off x="304920" y="4724280"/>
            <a:ext cx="664344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为之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则难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者亦易矣；不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为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则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易者亦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难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难易可以转化，</a:t>
            </a:r>
            <a:r>
              <a:rPr b="1" lang="zh-CN" sz="3200" spc="-1" strike="noStrike">
                <a:solidFill>
                  <a:srgbClr val="cc0000"/>
                </a:solidFill>
                <a:latin typeface="標楷體"/>
                <a:ea typeface="华文新魏"/>
              </a:rPr>
              <a:t>事在人为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，也证明</a:t>
            </a:r>
            <a:r>
              <a:rPr b="1" lang="zh-CN" sz="3200" spc="-1" strike="noStrike">
                <a:solidFill>
                  <a:srgbClr val="cc0000"/>
                </a:solidFill>
                <a:latin typeface="標楷體"/>
                <a:ea typeface="华文新魏"/>
              </a:rPr>
              <a:t>人贵立志。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標楷體"/>
                <a:ea typeface="华文新魏"/>
              </a:rPr>
              <a:t>观点</a:t>
            </a:r>
            <a:r>
              <a:rPr b="1" lang="zh-CN" sz="3200" spc="-1" strike="noStrike">
                <a:solidFill>
                  <a:srgbClr val="000066"/>
                </a:solidFill>
                <a:latin typeface="標楷體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2683080" y="838080"/>
            <a:ext cx="3495960" cy="3581640"/>
            <a:chOff x="2683080" y="838080"/>
            <a:chExt cx="3495960" cy="3581640"/>
          </a:xfrm>
        </p:grpSpPr>
        <p:pic>
          <p:nvPicPr>
            <p:cNvPr id="1558" name="Picture 3" descr="A48P001_"/>
            <p:cNvPicPr/>
            <p:nvPr/>
          </p:nvPicPr>
          <p:blipFill>
            <a:blip r:embed="rId1"/>
            <a:stretch/>
          </p:blipFill>
          <p:spPr>
            <a:xfrm>
              <a:off x="2985840" y="838080"/>
              <a:ext cx="2959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Text Box 4"/>
            <p:cNvSpPr/>
            <p:nvPr/>
          </p:nvSpPr>
          <p:spPr>
            <a:xfrm>
              <a:off x="2683080" y="2590920"/>
              <a:ext cx="10335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贫</a:t>
              </a: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Text Box 5"/>
            <p:cNvSpPr/>
            <p:nvPr/>
          </p:nvSpPr>
          <p:spPr>
            <a:xfrm>
              <a:off x="5145480" y="2858760"/>
              <a:ext cx="1033560" cy="12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富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Text Box 6"/>
          <p:cNvSpPr/>
          <p:nvPr/>
        </p:nvSpPr>
        <p:spPr>
          <a:xfrm>
            <a:off x="822240" y="425592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为学贵在立志，勇于实践，奋发努力，就能变难为易，实现预期目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7"/>
          <p:cNvSpPr/>
          <p:nvPr/>
        </p:nvSpPr>
        <p:spPr>
          <a:xfrm>
            <a:off x="3695760" y="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三、引出结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Picture 8" descr="A48P002_"/>
          <p:cNvPicPr/>
          <p:nvPr/>
        </p:nvPicPr>
        <p:blipFill>
          <a:blip r:embed="rId2"/>
          <a:stretch/>
        </p:blipFill>
        <p:spPr>
          <a:xfrm>
            <a:off x="7236000" y="5121360"/>
            <a:ext cx="1908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1476360" y="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中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3"/>
          <p:cNvSpPr/>
          <p:nvPr/>
        </p:nvSpPr>
        <p:spPr>
          <a:xfrm>
            <a:off x="1042920" y="14130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本文用蜀鄙二僧去南海的故事，告诉我们人贵立志，事在人为的道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6" name="Picture 4" descr="A48P002_"/>
          <p:cNvPicPr/>
          <p:nvPr/>
        </p:nvPicPr>
        <p:blipFill>
          <a:blip r:embed="rId1"/>
          <a:stretch/>
        </p:blipFill>
        <p:spPr>
          <a:xfrm>
            <a:off x="5724360" y="3811680"/>
            <a:ext cx="28861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1476360" y="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拓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3"/>
          <p:cNvSpPr/>
          <p:nvPr/>
        </p:nvSpPr>
        <p:spPr>
          <a:xfrm>
            <a:off x="250920" y="836640"/>
            <a:ext cx="848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用一个成语或者一句名言来概括我们这节课所学的知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9" name="Picture 4" descr="A48P002_"/>
          <p:cNvPicPr/>
          <p:nvPr/>
        </p:nvPicPr>
        <p:blipFill>
          <a:blip r:embed="rId1"/>
          <a:stretch/>
        </p:blipFill>
        <p:spPr>
          <a:xfrm>
            <a:off x="7192800" y="5081760"/>
            <a:ext cx="1951200" cy="1776240"/>
          </a:xfrm>
          <a:prstGeom prst="rect">
            <a:avLst/>
          </a:prstGeom>
          <a:ln w="0">
            <a:noFill/>
          </a:ln>
        </p:spPr>
      </p:pic>
      <p:sp>
        <p:nvSpPr>
          <p:cNvPr id="1570" name="Text Box 5"/>
          <p:cNvSpPr/>
          <p:nvPr/>
        </p:nvSpPr>
        <p:spPr>
          <a:xfrm>
            <a:off x="2556000" y="220500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    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事在人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有志者事竟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6"/>
          <p:cNvSpPr/>
          <p:nvPr/>
        </p:nvSpPr>
        <p:spPr>
          <a:xfrm>
            <a:off x="684360" y="357336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  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其他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世上无难事只怕有心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成功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=1%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天才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+99%</a:t>
            </a: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的汗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一分耕耘一分收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Text Box 4"/>
          <p:cNvSpPr/>
          <p:nvPr/>
        </p:nvSpPr>
        <p:spPr>
          <a:xfrm>
            <a:off x="7671240" y="3213000"/>
            <a:ext cx="667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华文行楷"/>
                <a:ea typeface="华文行楷"/>
              </a:rPr>
              <a:t>清 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•</a:t>
            </a:r>
            <a:r>
              <a:rPr b="1" lang="en-US" sz="3200" spc="-1" strike="noStrike">
                <a:solidFill>
                  <a:srgbClr val="0066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6600"/>
                </a:solidFill>
                <a:latin typeface="华文行楷"/>
                <a:ea typeface="华文行楷"/>
              </a:rPr>
              <a:t>彭端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15"/>
          <p:cNvSpPr/>
          <p:nvPr/>
        </p:nvSpPr>
        <p:spPr>
          <a:xfrm>
            <a:off x="6912000" y="1628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为   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Picture 16" descr="A48P002_"/>
          <p:cNvPicPr/>
          <p:nvPr/>
        </p:nvPicPr>
        <p:blipFill>
          <a:blip r:embed="rId2"/>
          <a:stretch/>
        </p:blipFill>
        <p:spPr>
          <a:xfrm>
            <a:off x="0" y="469800"/>
            <a:ext cx="702000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  <a:ea typeface="华文新魏"/>
              </a:rPr>
              <a:t>实践体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3909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小品表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贫富二僧去南海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4" name="Picture 4" descr="A48P002_"/>
          <p:cNvPicPr/>
          <p:nvPr/>
        </p:nvPicPr>
        <p:blipFill>
          <a:blip r:embed="rId1"/>
          <a:stretch/>
        </p:blipFill>
        <p:spPr>
          <a:xfrm>
            <a:off x="5148360" y="1844640"/>
            <a:ext cx="3456000" cy="314640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13" descr="YY183-6-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3348000" cy="2041560"/>
          </a:xfrm>
          <a:prstGeom prst="rect">
            <a:avLst/>
          </a:prstGeom>
          <a:ln w="0">
            <a:noFill/>
          </a:ln>
        </p:spPr>
      </p:pic>
      <p:grpSp>
        <p:nvGrpSpPr>
          <p:cNvPr id="1576" name="Group 10"/>
          <p:cNvGrpSpPr/>
          <p:nvPr/>
        </p:nvGrpSpPr>
        <p:grpSpPr>
          <a:xfrm>
            <a:off x="903240" y="3068640"/>
            <a:ext cx="4324320" cy="3502080"/>
            <a:chOff x="903240" y="3068640"/>
            <a:chExt cx="4324320" cy="3502080"/>
          </a:xfrm>
        </p:grpSpPr>
        <p:pic>
          <p:nvPicPr>
            <p:cNvPr id="1577" name="Picture 11" descr="A48P001_"/>
            <p:cNvPicPr/>
            <p:nvPr/>
          </p:nvPicPr>
          <p:blipFill>
            <a:blip r:embed="rId3"/>
            <a:stretch/>
          </p:blipFill>
          <p:spPr>
            <a:xfrm>
              <a:off x="1132560" y="3068640"/>
              <a:ext cx="3958560" cy="35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Text Box 12"/>
            <p:cNvSpPr/>
            <p:nvPr/>
          </p:nvSpPr>
          <p:spPr>
            <a:xfrm>
              <a:off x="903240" y="4781160"/>
              <a:ext cx="1033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贫</a:t>
              </a: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Text Box 13"/>
            <p:cNvSpPr/>
            <p:nvPr/>
          </p:nvSpPr>
          <p:spPr>
            <a:xfrm>
              <a:off x="4194000" y="5044680"/>
              <a:ext cx="1033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660066"/>
                  </a:solidFill>
                  <a:latin typeface="Times New Roman"/>
                  <a:ea typeface="標楷體"/>
                </a:rPr>
                <a:t>富和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582" name="Text Box 4"/>
          <p:cNvSpPr/>
          <p:nvPr/>
        </p:nvSpPr>
        <p:spPr>
          <a:xfrm>
            <a:off x="1042920" y="11080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作业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6"/>
          <p:cNvSpPr/>
          <p:nvPr/>
        </p:nvSpPr>
        <p:spPr>
          <a:xfrm>
            <a:off x="539640" y="206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0000cc"/>
                </a:solidFill>
                <a:latin typeface="Comic Sans MS"/>
                <a:ea typeface="华文新魏"/>
              </a:rPr>
              <a:t>扩写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cc"/>
                </a:solidFill>
                <a:latin typeface="Comic Sans MS"/>
                <a:ea typeface="华文新魏"/>
              </a:rPr>
              <a:t>二僧去南海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cc"/>
                </a:solidFill>
                <a:latin typeface="Comic Sans MS"/>
                <a:ea typeface="华文新魏"/>
              </a:rPr>
              <a:t>的故事，刻画出贫者去南海过程的艰难，并补充结尾，注意突出二僧的语言、动作、神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完成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学习建议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及</a:t>
            </a:r>
            <a:r>
              <a:rPr b="0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新同步课课精练</a:t>
            </a:r>
            <a:r>
              <a:rPr b="0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积累相关名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Text Box 2"/>
          <p:cNvSpPr/>
          <p:nvPr/>
        </p:nvSpPr>
        <p:spPr>
          <a:xfrm>
            <a:off x="1654200" y="836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作者介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"/>
          <p:cNvSpPr/>
          <p:nvPr/>
        </p:nvSpPr>
        <p:spPr>
          <a:xfrm>
            <a:off x="179280" y="1700280"/>
            <a:ext cx="885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彭端淑，字乐斋，四川丹棱人，清代文学家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本文选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2916360" y="2637000"/>
            <a:ext cx="26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白鹤堂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Picture 9" descr="A48P002_"/>
          <p:cNvPicPr/>
          <p:nvPr/>
        </p:nvPicPr>
        <p:blipFill>
          <a:blip r:embed="rId1"/>
          <a:stretch/>
        </p:blipFill>
        <p:spPr>
          <a:xfrm>
            <a:off x="7308720" y="5187960"/>
            <a:ext cx="1835280" cy="1670040"/>
          </a:xfrm>
          <a:prstGeom prst="rect">
            <a:avLst/>
          </a:prstGeom>
          <a:ln w="0">
            <a:noFill/>
          </a:ln>
        </p:spPr>
      </p:pic>
      <p:sp>
        <p:nvSpPr>
          <p:cNvPr id="1440" name="Rectangle 10"/>
          <p:cNvSpPr/>
          <p:nvPr/>
        </p:nvSpPr>
        <p:spPr>
          <a:xfrm>
            <a:off x="7308720" y="26028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11"/>
          <p:cNvSpPr/>
          <p:nvPr/>
        </p:nvSpPr>
        <p:spPr>
          <a:xfrm>
            <a:off x="539640" y="3500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为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即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求学、做学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原题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为学一首示子侄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，作者写此文目的是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勉励他的子侄们努力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示：给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7380000" y="259920"/>
            <a:ext cx="1366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3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468360" y="1766880"/>
            <a:ext cx="7797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朗读课文，读准下列字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为</a:t>
            </a:r>
            <a:r>
              <a:rPr b="1" lang="en-US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蜀   鄙 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语             恃   钵   焉   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13"/>
          <p:cNvSpPr/>
          <p:nvPr/>
        </p:nvSpPr>
        <p:spPr>
          <a:xfrm>
            <a:off x="826920" y="1268280"/>
            <a:ext cx="53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ahoma"/>
                <a:ea typeface="华文新魏"/>
              </a:rPr>
              <a:t>一读准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14"/>
          <p:cNvSpPr/>
          <p:nvPr/>
        </p:nvSpPr>
        <p:spPr>
          <a:xfrm>
            <a:off x="1796040" y="189000"/>
            <a:ext cx="26496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初步感知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468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二读准停顿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48" name="Rectangle 6"/>
          <p:cNvSpPr/>
          <p:nvPr/>
        </p:nvSpPr>
        <p:spPr>
          <a:xfrm>
            <a:off x="7020000" y="26028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下事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难易乎？为之，则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难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亦易矣；不为，则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易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亦难矣。人之为学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难易乎？学之，则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难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亦易矣；不学，则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易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亦难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西蜀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之去南海，不知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几千里也，僧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富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能至而贫者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至焉。人之立志，顾不如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蜀鄙之僧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0" name="Picture 9" descr="A48P002_"/>
          <p:cNvPicPr/>
          <p:nvPr/>
        </p:nvPicPr>
        <p:blipFill>
          <a:blip r:embed="rId1"/>
          <a:stretch/>
        </p:blipFill>
        <p:spPr>
          <a:xfrm>
            <a:off x="7380360" y="5253120"/>
            <a:ext cx="176364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71280" y="929880"/>
            <a:ext cx="7047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三读准语气、语调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846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下事有难易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为之，则难者亦易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；不为，则易者亦难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人之为学有难易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？学之，则难者亦易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；不学，则易者亦难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富者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子何恃而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富者曰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吾数年来欲买舟而下，犹未能也。子何恃而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西蜀之去南海，不知几千里也，僧富者不能至，而贫者至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人之立志，顾不如蜀鄙之僧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9"/>
          <p:cNvSpPr/>
          <p:nvPr/>
        </p:nvSpPr>
        <p:spPr>
          <a:xfrm>
            <a:off x="7020000" y="26028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Picture 10" descr="A48P002_"/>
          <p:cNvPicPr/>
          <p:nvPr/>
        </p:nvPicPr>
        <p:blipFill>
          <a:blip r:embed="rId1"/>
          <a:stretch/>
        </p:blipFill>
        <p:spPr>
          <a:xfrm>
            <a:off x="7740720" y="5580000"/>
            <a:ext cx="14032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6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57" name="Text Box 4"/>
          <p:cNvSpPr/>
          <p:nvPr/>
        </p:nvSpPr>
        <p:spPr>
          <a:xfrm>
            <a:off x="250920" y="692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天下事有难易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乎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？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之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则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难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者亦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易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矣</a:t>
            </a: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；不为，则易者亦难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5"/>
          <p:cNvSpPr/>
          <p:nvPr/>
        </p:nvSpPr>
        <p:spPr>
          <a:xfrm>
            <a:off x="755640" y="213372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乎：表示疑问语气，“吗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为：做。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代词，指“天下事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则：那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者：代词，指人、物、事、时间、地点等，   可译为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人”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事情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亦：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矣：表示肯定语气，“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/>
          </p:nvPr>
        </p:nvSpPr>
        <p:spPr>
          <a:xfrm>
            <a:off x="2700000" y="189000"/>
            <a:ext cx="237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  <a:ea typeface="华文新魏"/>
              </a:rPr>
              <a:t>为  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0" name="Picture 3" descr="A48P002_"/>
          <p:cNvPicPr/>
          <p:nvPr/>
        </p:nvPicPr>
        <p:blipFill>
          <a:blip r:embed="rId1"/>
          <a:stretch/>
        </p:blipFill>
        <p:spPr>
          <a:xfrm>
            <a:off x="7499520" y="5361120"/>
            <a:ext cx="1644480" cy="149688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4"/>
          <p:cNvSpPr/>
          <p:nvPr/>
        </p:nvSpPr>
        <p:spPr>
          <a:xfrm>
            <a:off x="250920" y="1341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人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之</a:t>
            </a:r>
            <a:r>
              <a:rPr b="0" lang="zh-CN" sz="40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为学有难易乎？学之，则难者亦易矣；不学，则易者亦难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5"/>
          <p:cNvSpPr/>
          <p:nvPr/>
        </p:nvSpPr>
        <p:spPr>
          <a:xfrm>
            <a:off x="395280" y="2924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之：结构助词，无意义，主谓之间取消句子的独立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3:53:59Z</dcterms:created>
  <dc:creator>Administrator</dc:creator>
  <dc:description/>
  <dc:language>en-US</dc:language>
  <cp:lastModifiedBy>hpppygoa</cp:lastModifiedBy>
  <dcterms:modified xsi:type="dcterms:W3CDTF">2016-04-08T12:57:26Z</dcterms:modified>
  <cp:revision>35</cp:revision>
  <dc:subject/>
  <dc:title>PowerPoint 演示文稿</dc:title>
</cp:coreProperties>
</file>