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15.png" ContentType="image/png"/>
  <Override PartName="/ppt/media/image24.jpeg" ContentType="image/jpeg"/>
  <Override PartName="/ppt/media/image2.jpeg" ContentType="image/jpeg"/>
  <Override PartName="/ppt/media/image23.png" ContentType="image/png"/>
  <Override PartName="/ppt/media/image21.png" ContentType="image/png"/>
  <Override PartName="/ppt/media/image18.jpeg" ContentType="image/jpeg"/>
  <Override PartName="/ppt/media/click.wav" ContentType="audio/x-wav"/>
  <Override PartName="/ppt/media/image17.png" ContentType="image/png"/>
  <Override PartName="/ppt/media/image16.png" ContentType="image/png"/>
  <Override PartName="/ppt/media/image14.png" ContentType="image/png"/>
  <Override PartName="/ppt/media/image13.png" ContentType="image/png"/>
  <Override PartName="/ppt/media/image7.png" ContentType="image/png"/>
  <Override PartName="/ppt/media/image22.jpeg" ContentType="image/jpeg"/>
  <Override PartName="/ppt/media/image1.jpeg" ContentType="image/jpeg"/>
  <Override PartName="/ppt/media/image12.png" ContentType="image/png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C3B9-E9A0-4FD7-B39E-D3F90E4A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FD5-7219-4E68-887C-ACCC98CF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45D4-4674-45F1-8046-17F873E6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0BA0-B4F4-4A85-952E-2C1ED452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42DA-3E7B-42F5-B857-0147502F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DF48-561B-49A6-AE0A-1AFB9C21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939-0DB2-46DD-BD0E-8F97E193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108F-E131-47C4-91F1-1CFC0CEF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D4B8-978F-4344-B101-6F8C77F36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7E05-8113-48C2-A211-A43537A7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ED25-B4EB-461B-B2E8-6D00A4B9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6957-2CC4-413A-BB83-F82E17CC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7166-C6F4-46A7-99F4-ED3A7A89D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2844720" y="1125360"/>
            <a:ext cx="46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我站在铁索桥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线连接符 21"/>
          <p:cNvSpPr/>
          <p:nvPr/>
        </p:nvSpPr>
        <p:spPr>
          <a:xfrm>
            <a:off x="2700360" y="1989000"/>
            <a:ext cx="3816360" cy="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fdldq24"/>
          <p:cNvPicPr/>
          <p:nvPr/>
        </p:nvPicPr>
        <p:blipFill>
          <a:blip r:embed="rId1"/>
          <a:stretch/>
        </p:blipFill>
        <p:spPr>
          <a:xfrm>
            <a:off x="2268360" y="2421000"/>
            <a:ext cx="4969080" cy="3725640"/>
          </a:xfrm>
          <a:prstGeom prst="rect">
            <a:avLst/>
          </a:prstGeom>
          <a:ln w="0">
            <a:noFill/>
          </a:ln>
        </p:spPr>
      </p:pic>
    </p:spTree>
  </p:cSld>
  <p:transition>
    <p:strips dir="ld"/>
    <p:sndAc>
      <p:stSnd>
        <p:snd r:embed="rId2" name="click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900000" y="2708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线连接符 21"/>
          <p:cNvSpPr/>
          <p:nvPr/>
        </p:nvSpPr>
        <p:spPr>
          <a:xfrm flipV="1">
            <a:off x="611280" y="1917360"/>
            <a:ext cx="2257200" cy="46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1"/>
          <p:cNvSpPr/>
          <p:nvPr/>
        </p:nvSpPr>
        <p:spPr>
          <a:xfrm>
            <a:off x="1042920" y="285264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835280" y="2781360"/>
            <a:ext cx="7130880" cy="22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宋体"/>
              </a:rPr>
              <a:t>两岸桥头堡为木结构古建筑，风貌独特系国内独有。自清以来，此桥为四川入藏的重要通道和军事要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同侧圆角矩形 6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900000" y="2708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线连接符 21"/>
          <p:cNvSpPr/>
          <p:nvPr/>
        </p:nvSpPr>
        <p:spPr>
          <a:xfrm flipV="1">
            <a:off x="611280" y="1917360"/>
            <a:ext cx="2257200" cy="46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1"/>
          <p:cNvSpPr/>
          <p:nvPr/>
        </p:nvSpPr>
        <p:spPr>
          <a:xfrm>
            <a:off x="1042920" y="285264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3135240" y="1638360"/>
            <a:ext cx="410076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飞夺泸定桥的故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-3419640" y="321300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1835280" y="2565360"/>
            <a:ext cx="6913440" cy="3743280"/>
            <a:chOff x="1835280" y="2565360"/>
            <a:chExt cx="6913440" cy="3743280"/>
          </a:xfrm>
        </p:grpSpPr>
        <p:sp>
          <p:nvSpPr>
            <p:cNvPr id="115" name="AutoShape 11"/>
            <p:cNvSpPr/>
            <p:nvPr/>
          </p:nvSpPr>
          <p:spPr>
            <a:xfrm>
              <a:off x="1835280" y="2565360"/>
              <a:ext cx="6913440" cy="3743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7f9ff"/>
                </a:gs>
                <a:gs pos="100000">
                  <a:srgbClr val="33cc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12"/>
            <p:cNvSpPr/>
            <p:nvPr/>
          </p:nvSpPr>
          <p:spPr>
            <a:xfrm>
              <a:off x="1979280" y="2708640"/>
              <a:ext cx="6697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1935</a:t>
              </a:r>
              <a:r>
                <a:rPr b="1" lang="zh-CN" sz="36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年</a:t>
              </a:r>
              <a:r>
                <a:rPr b="1" lang="en-US" sz="36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5</a:t>
              </a:r>
              <a:r>
                <a:rPr b="1" lang="zh-CN" sz="36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月</a:t>
              </a:r>
              <a:r>
                <a:rPr b="1" lang="en-US" sz="36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29</a:t>
              </a:r>
              <a:r>
                <a:rPr b="1" lang="zh-CN" sz="36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日，中国工农红军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长征到这里时，</a:t>
              </a:r>
              <a:r>
                <a:rPr b="1" lang="en-US" sz="36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22</a:t>
              </a:r>
              <a:r>
                <a:rPr b="1" lang="zh-CN" sz="36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位红一军团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勇士，面对敌军两个营对江面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严密火力封锁，在这里“飞夺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定桥”，为红军北上开辟了道路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在中国革命史上写下了光辉篇章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同侧圆角矩形 10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sp>
          <p:nvSpPr>
            <p:cNvPr id="120" name="直线连接符 21"/>
            <p:cNvSpPr/>
            <p:nvPr/>
          </p:nvSpPr>
          <p:spPr>
            <a:xfrm flipV="1">
              <a:off x="466560" y="1267920"/>
              <a:ext cx="2073600" cy="66204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755640" y="227664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29"/>
          <p:cNvGrpSpPr/>
          <p:nvPr/>
        </p:nvGrpSpPr>
        <p:grpSpPr>
          <a:xfrm>
            <a:off x="1692360" y="2276640"/>
            <a:ext cx="3384360" cy="792000"/>
            <a:chOff x="1692360" y="2276640"/>
            <a:chExt cx="3384360" cy="792000"/>
          </a:xfrm>
        </p:grpSpPr>
        <p:grpSp>
          <p:nvGrpSpPr>
            <p:cNvPr id="124" name="组合 17"/>
            <p:cNvGrpSpPr/>
            <p:nvPr/>
          </p:nvGrpSpPr>
          <p:grpSpPr>
            <a:xfrm>
              <a:off x="1692360" y="2276640"/>
              <a:ext cx="792000" cy="792000"/>
              <a:chOff x="1692360" y="2276640"/>
              <a:chExt cx="792000" cy="792000"/>
            </a:xfrm>
          </p:grpSpPr>
          <p:sp>
            <p:nvSpPr>
              <p:cNvPr id="125" name="二十四角星 10"/>
              <p:cNvSpPr/>
              <p:nvPr/>
            </p:nvSpPr>
            <p:spPr>
              <a:xfrm>
                <a:off x="1692360" y="2276640"/>
                <a:ext cx="792000" cy="79200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16360 h 792000"/>
                  <a:gd name="textAreaBottom" fmla="*/ 57564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95373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Box 14"/>
              <p:cNvSpPr/>
              <p:nvPr/>
            </p:nvSpPr>
            <p:spPr>
              <a:xfrm>
                <a:off x="1836360" y="2408400"/>
                <a:ext cx="432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词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" name="组合 22"/>
            <p:cNvGrpSpPr/>
            <p:nvPr/>
          </p:nvGrpSpPr>
          <p:grpSpPr>
            <a:xfrm>
              <a:off x="2628360" y="2276640"/>
              <a:ext cx="792000" cy="792000"/>
              <a:chOff x="2628360" y="2276640"/>
              <a:chExt cx="792000" cy="792000"/>
            </a:xfrm>
          </p:grpSpPr>
          <p:sp>
            <p:nvSpPr>
              <p:cNvPr id="128" name="二十四角星 18"/>
              <p:cNvSpPr/>
              <p:nvPr/>
            </p:nvSpPr>
            <p:spPr>
              <a:xfrm>
                <a:off x="2628360" y="2276640"/>
                <a:ext cx="792000" cy="79200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16360 h 792000"/>
                  <a:gd name="textAreaBottom" fmla="*/ 57564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TextBox 21"/>
              <p:cNvSpPr/>
              <p:nvPr/>
            </p:nvSpPr>
            <p:spPr>
              <a:xfrm>
                <a:off x="2700360" y="24084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组合 25"/>
            <p:cNvGrpSpPr/>
            <p:nvPr/>
          </p:nvGrpSpPr>
          <p:grpSpPr>
            <a:xfrm>
              <a:off x="3492720" y="2276640"/>
              <a:ext cx="792000" cy="792000"/>
              <a:chOff x="3492720" y="2276640"/>
              <a:chExt cx="792000" cy="792000"/>
            </a:xfrm>
          </p:grpSpPr>
          <p:sp>
            <p:nvSpPr>
              <p:cNvPr id="131" name="二十四角星 19"/>
              <p:cNvSpPr/>
              <p:nvPr/>
            </p:nvSpPr>
            <p:spPr>
              <a:xfrm>
                <a:off x="3492720" y="2276640"/>
                <a:ext cx="792000" cy="79200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16360 h 792000"/>
                  <a:gd name="textAreaBottom" fmla="*/ 57564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Box 23"/>
              <p:cNvSpPr/>
              <p:nvPr/>
            </p:nvSpPr>
            <p:spPr>
              <a:xfrm>
                <a:off x="3564720" y="24084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语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" name="组合 28"/>
            <p:cNvGrpSpPr/>
            <p:nvPr/>
          </p:nvGrpSpPr>
          <p:grpSpPr>
            <a:xfrm>
              <a:off x="4284720" y="2276640"/>
              <a:ext cx="792000" cy="792000"/>
              <a:chOff x="4284720" y="2276640"/>
              <a:chExt cx="792000" cy="792000"/>
            </a:xfrm>
          </p:grpSpPr>
          <p:sp>
            <p:nvSpPr>
              <p:cNvPr id="134" name="二十四角星 20"/>
              <p:cNvSpPr/>
              <p:nvPr/>
            </p:nvSpPr>
            <p:spPr>
              <a:xfrm>
                <a:off x="4284720" y="2276640"/>
                <a:ext cx="792000" cy="792000"/>
              </a:xfrm>
              <a:custGeom>
                <a:avLst/>
                <a:gdLst>
                  <a:gd name="textAreaLeft" fmla="*/ 216360 w 792000"/>
                  <a:gd name="textAreaRight" fmla="*/ 575640 w 792000"/>
                  <a:gd name="textAreaTop" fmla="*/ 216360 h 792000"/>
                  <a:gd name="textAreaBottom" fmla="*/ 57564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3923" y="11644"/>
                    </a:lnTo>
                    <a:lnTo>
                      <a:pt x="368" y="13595"/>
                    </a:lnTo>
                    <a:lnTo>
                      <a:pt x="4376" y="13396"/>
                    </a:lnTo>
                    <a:lnTo>
                      <a:pt x="1447" y="16200"/>
                    </a:lnTo>
                    <a:lnTo>
                      <a:pt x="5266" y="14970"/>
                    </a:lnTo>
                    <a:lnTo>
                      <a:pt x="3163" y="18437"/>
                    </a:lnTo>
                    <a:lnTo>
                      <a:pt x="6534" y="16260"/>
                    </a:lnTo>
                    <a:lnTo>
                      <a:pt x="5400" y="20153"/>
                    </a:lnTo>
                    <a:lnTo>
                      <a:pt x="8093" y="17178"/>
                    </a:lnTo>
                    <a:lnTo>
                      <a:pt x="8005" y="21232"/>
                    </a:lnTo>
                    <a:lnTo>
                      <a:pt x="9836" y="17662"/>
                    </a:lnTo>
                    <a:lnTo>
                      <a:pt x="10800" y="21600"/>
                    </a:lnTo>
                    <a:lnTo>
                      <a:pt x="11644" y="17677"/>
                    </a:lnTo>
                    <a:lnTo>
                      <a:pt x="13595" y="21232"/>
                    </a:lnTo>
                    <a:lnTo>
                      <a:pt x="13396" y="17224"/>
                    </a:lnTo>
                    <a:lnTo>
                      <a:pt x="16200" y="20153"/>
                    </a:lnTo>
                    <a:lnTo>
                      <a:pt x="14970" y="16334"/>
                    </a:lnTo>
                    <a:lnTo>
                      <a:pt x="18437" y="18437"/>
                    </a:lnTo>
                    <a:lnTo>
                      <a:pt x="16260" y="15066"/>
                    </a:lnTo>
                    <a:lnTo>
                      <a:pt x="20153" y="16200"/>
                    </a:lnTo>
                    <a:lnTo>
                      <a:pt x="17178" y="13507"/>
                    </a:lnTo>
                    <a:lnTo>
                      <a:pt x="21232" y="13595"/>
                    </a:lnTo>
                    <a:lnTo>
                      <a:pt x="17662" y="11764"/>
                    </a:lnTo>
                    <a:lnTo>
                      <a:pt x="21600" y="10800"/>
                    </a:lnTo>
                    <a:lnTo>
                      <a:pt x="17677" y="9956"/>
                    </a:lnTo>
                    <a:lnTo>
                      <a:pt x="21232" y="8005"/>
                    </a:lnTo>
                    <a:lnTo>
                      <a:pt x="17224" y="8204"/>
                    </a:lnTo>
                    <a:lnTo>
                      <a:pt x="20153" y="5400"/>
                    </a:lnTo>
                    <a:lnTo>
                      <a:pt x="16334" y="6630"/>
                    </a:lnTo>
                    <a:lnTo>
                      <a:pt x="18437" y="3163"/>
                    </a:lnTo>
                    <a:lnTo>
                      <a:pt x="15066" y="5340"/>
                    </a:lnTo>
                    <a:lnTo>
                      <a:pt x="16200" y="1447"/>
                    </a:lnTo>
                    <a:lnTo>
                      <a:pt x="13507" y="4422"/>
                    </a:lnTo>
                    <a:lnTo>
                      <a:pt x="13595" y="368"/>
                    </a:lnTo>
                    <a:lnTo>
                      <a:pt x="11764" y="3938"/>
                    </a:lnTo>
                    <a:lnTo>
                      <a:pt x="10800" y="0"/>
                    </a:lnTo>
                    <a:lnTo>
                      <a:pt x="9956" y="3923"/>
                    </a:lnTo>
                    <a:lnTo>
                      <a:pt x="8005" y="368"/>
                    </a:lnTo>
                    <a:lnTo>
                      <a:pt x="8204" y="4376"/>
                    </a:lnTo>
                    <a:lnTo>
                      <a:pt x="5400" y="1447"/>
                    </a:lnTo>
                    <a:lnTo>
                      <a:pt x="6630" y="5266"/>
                    </a:lnTo>
                    <a:lnTo>
                      <a:pt x="3163" y="3163"/>
                    </a:lnTo>
                    <a:lnTo>
                      <a:pt x="5340" y="6534"/>
                    </a:lnTo>
                    <a:lnTo>
                      <a:pt x="1447" y="5400"/>
                    </a:lnTo>
                    <a:lnTo>
                      <a:pt x="4422" y="8093"/>
                    </a:lnTo>
                    <a:lnTo>
                      <a:pt x="368" y="8005"/>
                    </a:lnTo>
                    <a:lnTo>
                      <a:pt x="3938" y="9836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92ccdc"/>
              </a:solidFill>
              <a:ln w="2556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Box 24"/>
              <p:cNvSpPr/>
              <p:nvPr/>
            </p:nvSpPr>
            <p:spPr>
              <a:xfrm>
                <a:off x="4428720" y="2408400"/>
                <a:ext cx="57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华文楷体"/>
                    <a:ea typeface="华文楷体"/>
                  </a:rPr>
                  <a:t>累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竖卷形 26"/>
          <p:cNvSpPr/>
          <p:nvPr/>
        </p:nvSpPr>
        <p:spPr>
          <a:xfrm>
            <a:off x="395280" y="3357720"/>
            <a:ext cx="3600360" cy="2592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黑体"/>
                <a:ea typeface="黑体"/>
              </a:rPr>
              <a:t>强渡   高举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030a0"/>
                </a:solidFill>
                <a:latin typeface="黑体"/>
                <a:ea typeface="黑体"/>
              </a:rPr>
              <a:t>激烈   英雄   汹涌   激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 30"/>
          <p:cNvSpPr/>
          <p:nvPr/>
        </p:nvSpPr>
        <p:spPr>
          <a:xfrm>
            <a:off x="3997440" y="3575160"/>
            <a:ext cx="4822560" cy="2447640"/>
          </a:xfrm>
          <a:prstGeom prst="roundRect">
            <a:avLst>
              <a:gd name="adj" fmla="val 16667"/>
            </a:avLst>
          </a:prstGeom>
          <a:solidFill>
            <a:srgbClr val="fde9d8"/>
          </a:solidFill>
          <a:ln w="25560">
            <a:solidFill>
              <a:srgbClr val="395e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宋体"/>
              </a:rPr>
              <a:t>轻轻地摇晃 心潮澎湃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宋体"/>
              </a:rPr>
              <a:t>密密的弹雨 高声歌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宋体"/>
              </a:rPr>
              <a:t>美丽的鲜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ff"/>
                </a:solidFill>
                <a:latin typeface="宋体"/>
              </a:rPr>
              <a:t>英雄的土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同侧圆角矩形 21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词乐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线连接符 21"/>
          <p:cNvSpPr/>
          <p:nvPr/>
        </p:nvSpPr>
        <p:spPr>
          <a:xfrm flipV="1">
            <a:off x="466560" y="1923840"/>
            <a:ext cx="2073600" cy="612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3060720" y="825480"/>
            <a:ext cx="2006640" cy="140328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/>
          <p:cNvSpPr/>
          <p:nvPr/>
        </p:nvSpPr>
        <p:spPr>
          <a:xfrm>
            <a:off x="819000" y="2492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5"/>
          <p:cNvSpPr/>
          <p:nvPr/>
        </p:nvSpPr>
        <p:spPr>
          <a:xfrm>
            <a:off x="1692360" y="2946240"/>
            <a:ext cx="6840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楷体"/>
                <a:ea typeface="楷体"/>
              </a:rPr>
              <a:t>    </a:t>
            </a:r>
            <a:r>
              <a:rPr b="1" lang="en-US" sz="3600" spc="-1" strike="noStrike">
                <a:solidFill>
                  <a:srgbClr val="9900ff"/>
                </a:solidFill>
                <a:latin typeface="楷体"/>
                <a:ea typeface="楷体"/>
              </a:rPr>
              <a:t>1.</a:t>
            </a:r>
            <a:r>
              <a:rPr b="1" lang="zh-CN" sz="3600" spc="-1" strike="noStrike">
                <a:solidFill>
                  <a:srgbClr val="9900ff"/>
                </a:solidFill>
                <a:latin typeface="楷体"/>
                <a:ea typeface="楷体"/>
              </a:rPr>
              <a:t>这篇课文是什么文体？</a:t>
            </a:r>
            <a:r>
              <a:rPr b="1" lang="en-US" sz="3600" spc="-1" strike="noStrike">
                <a:solidFill>
                  <a:srgbClr val="33cc33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2484360" y="465300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ff"/>
                </a:solidFill>
                <a:latin typeface="楷体"/>
                <a:ea typeface="楷体"/>
              </a:rPr>
              <a:t>2</a:t>
            </a:r>
            <a:r>
              <a:rPr b="1" lang="en-US" sz="3600" spc="-1" strike="noStrike">
                <a:solidFill>
                  <a:srgbClr val="9900ff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9900ff"/>
                </a:solidFill>
                <a:latin typeface="楷体"/>
                <a:ea typeface="楷体"/>
              </a:rPr>
              <a:t>作者按什么顺序写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同侧圆角矩形 7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预习检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8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图片2"/>
          <p:cNvPicPr/>
          <p:nvPr/>
        </p:nvPicPr>
        <p:blipFill>
          <a:blip r:embed="rId1"/>
          <a:stretch/>
        </p:blipFill>
        <p:spPr>
          <a:xfrm>
            <a:off x="2484360" y="836640"/>
            <a:ext cx="6193080" cy="52340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132000" y="162864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楷体_GB2312"/>
              </a:rPr>
              <a:t>我站在铁索桥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6229440" y="2276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  <a:ea typeface="仿宋_GB2312"/>
              </a:rPr>
              <a:t>顾  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2629080" y="2925720"/>
            <a:ext cx="62640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华文隶书"/>
              </a:rPr>
              <a:t>我站在铁索桥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华文隶书"/>
              </a:rPr>
              <a:t>桥身在轻轻地摇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华文隶书"/>
              </a:rPr>
              <a:t>头上飘过二郎山的云雾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华文隶书"/>
              </a:rPr>
              <a:t>脚下滚着大渡河的白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>
            <a:off x="252360" y="2060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7"/>
          <p:cNvGrpSpPr/>
          <p:nvPr/>
        </p:nvGrpSpPr>
        <p:grpSpPr>
          <a:xfrm>
            <a:off x="2846520" y="765000"/>
            <a:ext cx="6191280" cy="5551560"/>
            <a:chOff x="2846520" y="765000"/>
            <a:chExt cx="6191280" cy="5551560"/>
          </a:xfrm>
        </p:grpSpPr>
        <p:pic>
          <p:nvPicPr>
            <p:cNvPr id="158" name="Picture 8" descr="图片1"/>
            <p:cNvPicPr/>
            <p:nvPr/>
          </p:nvPicPr>
          <p:blipFill>
            <a:blip r:embed="rId1"/>
            <a:stretch/>
          </p:blipFill>
          <p:spPr>
            <a:xfrm>
              <a:off x="2846520" y="765000"/>
              <a:ext cx="5755680" cy="555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9"/>
            <p:cNvSpPr/>
            <p:nvPr/>
          </p:nvSpPr>
          <p:spPr>
            <a:xfrm>
              <a:off x="3062160" y="1831320"/>
              <a:ext cx="597564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Arial"/>
                </a:rPr>
                <a:t>英雄的红军，                曾在这里强渡，               高举着红旗，迎着火光。勇士们哪，                    攀着一根根铁索，          冒着密密的弹雨，         冲破了敌人的火网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同侧圆角矩形 8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3"/>
          <p:cNvGrpSpPr/>
          <p:nvPr/>
        </p:nvGrpSpPr>
        <p:grpSpPr>
          <a:xfrm>
            <a:off x="2340000" y="765000"/>
            <a:ext cx="6581880" cy="5472360"/>
            <a:chOff x="2340000" y="765000"/>
            <a:chExt cx="6581880" cy="5472360"/>
          </a:xfrm>
        </p:grpSpPr>
        <p:pic>
          <p:nvPicPr>
            <p:cNvPr id="162" name="Picture 4" descr="图片3"/>
            <p:cNvPicPr/>
            <p:nvPr/>
          </p:nvPicPr>
          <p:blipFill>
            <a:blip r:embed="rId1"/>
            <a:stretch/>
          </p:blipFill>
          <p:spPr>
            <a:xfrm>
              <a:off x="2340000" y="765000"/>
              <a:ext cx="6581880" cy="547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5"/>
            <p:cNvSpPr/>
            <p:nvPr/>
          </p:nvSpPr>
          <p:spPr>
            <a:xfrm>
              <a:off x="2411640" y="849600"/>
              <a:ext cx="1512000" cy="398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9999"/>
                  </a:solidFill>
                  <a:latin typeface="Arial"/>
                  <a:ea typeface="华文隶书"/>
                </a:rPr>
                <a:t>飞夺泸定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2629080" y="1701720"/>
            <a:ext cx="532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啊！                                  当年激烈战斗的楼房，        如今成了孩子们的课堂；勇士们洒过鲜血的地方，满树的梨花正在开放。  人民捧着美丽的鲜花，  轻轻地，轻轻地撒在这英雄的土地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lick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911320" y="3639960"/>
            <a:ext cx="518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8"/>
          <p:cNvGrpSpPr/>
          <p:nvPr/>
        </p:nvGrpSpPr>
        <p:grpSpPr>
          <a:xfrm>
            <a:off x="2629080" y="765000"/>
            <a:ext cx="6333840" cy="5527800"/>
            <a:chOff x="2629080" y="765000"/>
            <a:chExt cx="6333840" cy="5527800"/>
          </a:xfrm>
        </p:grpSpPr>
        <p:pic>
          <p:nvPicPr>
            <p:cNvPr id="174" name="Picture 9" descr="图片4"/>
            <p:cNvPicPr/>
            <p:nvPr/>
          </p:nvPicPr>
          <p:blipFill>
            <a:blip r:embed="rId1"/>
            <a:stretch/>
          </p:blipFill>
          <p:spPr>
            <a:xfrm>
              <a:off x="2629080" y="765000"/>
              <a:ext cx="6311160" cy="552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Text Box 10"/>
            <p:cNvSpPr/>
            <p:nvPr/>
          </p:nvSpPr>
          <p:spPr>
            <a:xfrm>
              <a:off x="2987640" y="1557000"/>
              <a:ext cx="597528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9999"/>
                  </a:solidFill>
                  <a:latin typeface="Arial"/>
                </a:rPr>
                <a:t>我站在铁索桥上，           心潮汹涌激荡。              头上飘过二郎山的云雾，    脚下滚着大渡河的白浪。啊！                                    在这英雄的土地上，        我要高声歌唱！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2052720" y="1917720"/>
            <a:ext cx="6624720" cy="764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b6e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隶书"/>
              </a:rPr>
              <a:t>这篇课文是什么文体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132000" y="4005360"/>
            <a:ext cx="216072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诗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同侧圆角矩形 7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8"/>
          <p:cNvSpPr/>
          <p:nvPr/>
        </p:nvSpPr>
        <p:spPr>
          <a:xfrm>
            <a:off x="2629080" y="1197000"/>
            <a:ext cx="651816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8b049"/>
              </a:gs>
              <a:gs pos="100000">
                <a:srgbClr val="fc9fcb"/>
              </a:gs>
            </a:gsLst>
            <a:lin ang="135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整体感知每段诗歌的主要内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2413080" y="2637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第一小节：作者站在铁索桥上所看的到的景物。</a:t>
            </a:r>
            <a:r>
              <a:rPr b="1" lang="zh-CN" sz="3600" spc="-1" strike="noStrike">
                <a:solidFill>
                  <a:srgbClr val="80808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2413080" y="4076640"/>
            <a:ext cx="6767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第二小节：追忆红军当年飞夺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楷体_GB2312"/>
              </a:rPr>
              <a:t>定桥的激烈场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同侧圆角矩形 8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900000" y="2708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直线连接符 21"/>
          <p:cNvSpPr/>
          <p:nvPr/>
        </p:nvSpPr>
        <p:spPr>
          <a:xfrm flipV="1">
            <a:off x="611280" y="1917360"/>
            <a:ext cx="2257200" cy="46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1"/>
          <p:cNvSpPr/>
          <p:nvPr/>
        </p:nvSpPr>
        <p:spPr>
          <a:xfrm>
            <a:off x="1042920" y="285264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2268360" y="2565360"/>
            <a:ext cx="6335640" cy="3933000"/>
            <a:chOff x="2268360" y="2565360"/>
            <a:chExt cx="6335640" cy="3933000"/>
          </a:xfrm>
        </p:grpSpPr>
        <p:pic>
          <p:nvPicPr>
            <p:cNvPr id="50" name="Picture 9" descr="20080613_a15baab2527899b83464aFYLXf3x2eTS"/>
            <p:cNvPicPr/>
            <p:nvPr/>
          </p:nvPicPr>
          <p:blipFill>
            <a:blip r:embed="rId1"/>
            <a:stretch/>
          </p:blipFill>
          <p:spPr>
            <a:xfrm>
              <a:off x="2268360" y="2565360"/>
              <a:ext cx="5831280" cy="381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0"/>
            <p:cNvSpPr/>
            <p:nvPr/>
          </p:nvSpPr>
          <p:spPr>
            <a:xfrm>
              <a:off x="6516000" y="5734080"/>
              <a:ext cx="20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00cc"/>
                  </a:solidFill>
                  <a:latin typeface="Arial"/>
                  <a:ea typeface="华文隶书"/>
                </a:rPr>
                <a:t>泸定桥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同侧圆角矩形 8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771640" y="14860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ccff"/>
                </a:solidFill>
                <a:latin typeface="Arial"/>
                <a:ea typeface="楷体_GB2312"/>
              </a:rPr>
              <a:t>第三小节：抚看今朝，烈士们当年激 战过的地方成为今天鲜花盛开的地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556000" y="3718080"/>
            <a:ext cx="63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第四小节：直抒胸臆，高歌英雄的土地，英雄的人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同侧圆角矩形 7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771640" y="1628640"/>
            <a:ext cx="5904000" cy="14770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100000">
                <a:srgbClr val="b6e7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隶书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比较第一节和第四节，看看有什么发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隶书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隶书"/>
              </a:rPr>
              <a:t>作者站在铁索桥上，看到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同侧圆角矩形 6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108000" y="206064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700360" y="148608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229440" y="1486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260360" y="2205000"/>
            <a:ext cx="3814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站在铁索桥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桥身在轻轻地摇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头上飘过二郎山的云雾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脚下滚着大渡河的白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0"/>
          <p:cNvSpPr/>
          <p:nvPr/>
        </p:nvSpPr>
        <p:spPr>
          <a:xfrm>
            <a:off x="5076720" y="2205000"/>
            <a:ext cx="388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站在铁索桥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心潮汹涌激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头上飘过二郎山的云雾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脚下滚着大渡河的白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1"/>
          <p:cNvSpPr/>
          <p:nvPr/>
        </p:nvSpPr>
        <p:spPr>
          <a:xfrm>
            <a:off x="1332000" y="3502080"/>
            <a:ext cx="734364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V="1">
            <a:off x="1476360" y="4005360"/>
            <a:ext cx="7272360" cy="1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5148360" y="4149720"/>
            <a:ext cx="360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这英雄的土地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  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要高声歌唱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同侧圆角矩形 12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8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8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2700360" y="1844640"/>
            <a:ext cx="619272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1.</a:t>
            </a:r>
            <a:r>
              <a:rPr b="1" lang="en-US" sz="2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两节诗有相同的句子，也有不同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556000" y="3500280"/>
            <a:ext cx="6192720" cy="119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2.</a:t>
            </a:r>
            <a:r>
              <a:rPr b="1" lang="en-US" sz="24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站在铁索桥上看到了二郎山的云雾，大渡河的白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同侧圆角矩形 7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lick.wav"/>
      </p:stSnd>
    </p:sndAc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2629080" y="765000"/>
            <a:ext cx="5975280" cy="1191240"/>
          </a:xfrm>
          <a:prstGeom prst="rect">
            <a:avLst/>
          </a:prstGeom>
          <a:gradFill rotWithShape="0">
            <a:gsLst>
              <a:gs pos="0">
                <a:srgbClr val="fff3f9"/>
              </a:gs>
              <a:gs pos="100000">
                <a:srgbClr val="ff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楷体_GB2312"/>
                <a:ea typeface="楷体_GB2312"/>
              </a:rPr>
              <a:t>作者按照由上到下的顺序写了二郎山飘来的云雾和大渡河水，这两种景物分别具有什么特点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8"/>
          <p:cNvGrpSpPr/>
          <p:nvPr/>
        </p:nvGrpSpPr>
        <p:grpSpPr>
          <a:xfrm>
            <a:off x="2771640" y="4292640"/>
            <a:ext cx="6251760" cy="642600"/>
            <a:chOff x="2771640" y="4292640"/>
            <a:chExt cx="6251760" cy="642600"/>
          </a:xfrm>
        </p:grpSpPr>
        <p:sp>
          <p:nvSpPr>
            <p:cNvPr id="223" name="Text Box 9"/>
            <p:cNvSpPr/>
            <p:nvPr/>
          </p:nvSpPr>
          <p:spPr>
            <a:xfrm>
              <a:off x="2771640" y="4292640"/>
              <a:ext cx="6251760" cy="641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10"/>
            <p:cNvSpPr/>
            <p:nvPr/>
          </p:nvSpPr>
          <p:spPr>
            <a:xfrm>
              <a:off x="3419640" y="4292640"/>
              <a:ext cx="46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朦胧    波浪翻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20070714165720624"/>
          <p:cNvPicPr/>
          <p:nvPr/>
        </p:nvPicPr>
        <p:blipFill>
          <a:blip r:embed="rId1"/>
          <a:stretch/>
        </p:blipFill>
        <p:spPr>
          <a:xfrm>
            <a:off x="2052720" y="1917720"/>
            <a:ext cx="3124080" cy="25686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8" descr="飞夺泸定桥"/>
          <p:cNvPicPr/>
          <p:nvPr/>
        </p:nvPicPr>
        <p:blipFill>
          <a:blip r:embed="rId2"/>
          <a:srcRect l="0" t="0" r="2764" b="8323"/>
          <a:stretch/>
        </p:blipFill>
        <p:spPr>
          <a:xfrm>
            <a:off x="5292720" y="1917720"/>
            <a:ext cx="3600360" cy="250488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9"/>
          <p:cNvSpPr/>
          <p:nvPr/>
        </p:nvSpPr>
        <p:spPr>
          <a:xfrm>
            <a:off x="3773880" y="4797360"/>
            <a:ext cx="110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朦胧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6227640" y="4797360"/>
            <a:ext cx="253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波浪翻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同侧圆角矩形 9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lick.wav"/>
      </p:stSnd>
    </p:sndAc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2844720" y="4365720"/>
            <a:ext cx="5689800" cy="11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仿宋"/>
                <a:ea typeface="仿宋"/>
              </a:rPr>
              <a:t>作者心中充满了愤慨和激动之情。是铁索桥的摇晃掀起了作者的心海之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2916360" y="90792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站在么掀起了作者心海之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同侧圆角矩形 7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786560" y="21826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8000"/>
                </a:solidFill>
                <a:latin typeface="Arial"/>
              </a:rPr>
              <a:t>这样摇晃的索桥上，作者的心中似大渡河里的滚滚波浪，汹涌激荡，这是一种怎样的心情呢？是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4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4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2844720" y="1484280"/>
            <a:ext cx="551340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33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小节，看着脚下的大渡河水，作者想到了红军，想到了他们怎样？让我们也再次回顾一下吧。第三小节与第二小节形成了对比，画出相应的句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同侧圆角矩形 6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2987640" y="11239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6877080" y="11239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1908000" y="2060640"/>
            <a:ext cx="360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英雄的红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曾在这里强渡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高举着红旗，迎着火光。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勇士们哪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攀着一根根铁索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冒着秘密的弹雨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冲破了敌人的火网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5435640" y="1844640"/>
            <a:ext cx="367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当年激烈战斗的楼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如今成了孩子们的课堂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勇士们洒过鲜血的地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满树的梨花正在开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人民捧着美丽的鲜花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轻轻地，轻轻地撒在这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雄的土地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"/>
          <p:cNvSpPr/>
          <p:nvPr/>
        </p:nvSpPr>
        <p:spPr>
          <a:xfrm>
            <a:off x="5435640" y="2637000"/>
            <a:ext cx="28828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2"/>
          <p:cNvSpPr/>
          <p:nvPr/>
        </p:nvSpPr>
        <p:spPr>
          <a:xfrm>
            <a:off x="5580000" y="2997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3"/>
          <p:cNvSpPr/>
          <p:nvPr/>
        </p:nvSpPr>
        <p:spPr>
          <a:xfrm>
            <a:off x="5508720" y="335772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4"/>
          <p:cNvSpPr/>
          <p:nvPr/>
        </p:nvSpPr>
        <p:spPr>
          <a:xfrm>
            <a:off x="5508720" y="371808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同侧圆角矩形 13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0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855720" y="22050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2916360" y="693720"/>
            <a:ext cx="5976720" cy="11912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楷体_GB2312"/>
              </a:rPr>
              <a:t>作者想到了英勇顽强、勇往直前、大无畏的红军。是从下面的词句中感受出来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8"/>
          <p:cNvSpPr/>
          <p:nvPr/>
        </p:nvSpPr>
        <p:spPr>
          <a:xfrm>
            <a:off x="3276720" y="2422440"/>
            <a:ext cx="57625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英雄的红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曾在这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强渡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高举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着红旗，迎着火光。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勇士们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攀着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一根根铁索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冒着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秘密的弹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冲破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了敌人的火网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同侧圆角矩形 7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1" name="click.wav"/>
      </p:stSnd>
    </p:sndAc>
  </p:transition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1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3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5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900000" y="2708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611280" y="1917360"/>
            <a:ext cx="2257200" cy="46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1"/>
          <p:cNvSpPr/>
          <p:nvPr/>
        </p:nvSpPr>
        <p:spPr>
          <a:xfrm>
            <a:off x="1042920" y="285264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浪花1"/>
          <p:cNvPicPr/>
          <p:nvPr/>
        </p:nvPicPr>
        <p:blipFill>
          <a:blip r:embed="rId1"/>
          <a:stretch/>
        </p:blipFill>
        <p:spPr>
          <a:xfrm>
            <a:off x="2771640" y="2060640"/>
            <a:ext cx="6039000" cy="4248000"/>
          </a:xfrm>
          <a:prstGeom prst="rect">
            <a:avLst/>
          </a:prstGeom>
          <a:ln w="0">
            <a:noFill/>
          </a:ln>
        </p:spPr>
      </p:pic>
      <p:sp>
        <p:nvSpPr>
          <p:cNvPr id="58" name="同侧圆角矩形 6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/>
          <p:cNvSpPr/>
          <p:nvPr/>
        </p:nvSpPr>
        <p:spPr>
          <a:xfrm>
            <a:off x="6445080" y="2997360"/>
            <a:ext cx="152640" cy="609480"/>
          </a:xfrm>
          <a:prstGeom prst="downArrow">
            <a:avLst>
              <a:gd name="adj1" fmla="val 50000"/>
              <a:gd name="adj2" fmla="val 998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"/>
          <p:cNvSpPr/>
          <p:nvPr/>
        </p:nvSpPr>
        <p:spPr>
          <a:xfrm flipH="1">
            <a:off x="5364000" y="299736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2844720" y="2997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1476360" y="285444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F:\七彩课堂插图板式封面\排版用图标、页眉页脚\标题图（终-排版用）共29个\图解结构.jpg"/>
          <p:cNvPicPr/>
          <p:nvPr/>
        </p:nvPicPr>
        <p:blipFill>
          <a:blip r:embed="rId1"/>
          <a:stretch/>
        </p:blipFill>
        <p:spPr>
          <a:xfrm>
            <a:off x="5796000" y="981000"/>
            <a:ext cx="2779560" cy="1943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0"/>
          <p:cNvSpPr/>
          <p:nvPr/>
        </p:nvSpPr>
        <p:spPr>
          <a:xfrm>
            <a:off x="2268360" y="14130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黑体"/>
              </a:rPr>
              <a:t>我站在铁索桥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 flipH="1">
            <a:off x="2123640" y="2133720"/>
            <a:ext cx="1955880" cy="865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4068720" y="2133720"/>
            <a:ext cx="1943280" cy="79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13"/>
          <p:cNvSpPr/>
          <p:nvPr/>
        </p:nvSpPr>
        <p:spPr>
          <a:xfrm>
            <a:off x="1476360" y="2421000"/>
            <a:ext cx="2286000" cy="685800"/>
          </a:xfrm>
          <a:prstGeom prst="ellipse">
            <a:avLst/>
          </a:prstGeom>
          <a:gradFill rotWithShape="0">
            <a:gsLst>
              <a:gs pos="0">
                <a:srgbClr val="bfea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看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4"/>
          <p:cNvSpPr/>
          <p:nvPr/>
        </p:nvSpPr>
        <p:spPr>
          <a:xfrm>
            <a:off x="4716360" y="2494080"/>
            <a:ext cx="2210040" cy="685800"/>
          </a:xfrm>
          <a:prstGeom prst="ellipse">
            <a:avLst/>
          </a:prstGeom>
          <a:gradFill rotWithShape="0">
            <a:gsLst>
              <a:gs pos="0">
                <a:srgbClr val="e0f5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想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5"/>
          <p:cNvSpPr/>
          <p:nvPr/>
        </p:nvSpPr>
        <p:spPr>
          <a:xfrm>
            <a:off x="1116000" y="3357720"/>
            <a:ext cx="685800" cy="14396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6"/>
          <p:cNvSpPr/>
          <p:nvPr/>
        </p:nvSpPr>
        <p:spPr>
          <a:xfrm>
            <a:off x="1191240" y="3573360"/>
            <a:ext cx="667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云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7"/>
          <p:cNvSpPr/>
          <p:nvPr/>
        </p:nvSpPr>
        <p:spPr>
          <a:xfrm>
            <a:off x="2629080" y="3286080"/>
            <a:ext cx="685800" cy="158436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2630880" y="3573360"/>
            <a:ext cx="667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浪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9"/>
          <p:cNvSpPr/>
          <p:nvPr/>
        </p:nvSpPr>
        <p:spPr>
          <a:xfrm flipH="1">
            <a:off x="4931640" y="3357720"/>
            <a:ext cx="865080" cy="1800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20"/>
          <p:cNvSpPr/>
          <p:nvPr/>
        </p:nvSpPr>
        <p:spPr>
          <a:xfrm>
            <a:off x="4439160" y="3502080"/>
            <a:ext cx="14601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红军飞夺泸定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21"/>
          <p:cNvSpPr/>
          <p:nvPr/>
        </p:nvSpPr>
        <p:spPr>
          <a:xfrm>
            <a:off x="6013440" y="3359160"/>
            <a:ext cx="990720" cy="17272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22"/>
          <p:cNvSpPr/>
          <p:nvPr/>
        </p:nvSpPr>
        <p:spPr>
          <a:xfrm>
            <a:off x="5591520" y="3502080"/>
            <a:ext cx="1460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今天的幸福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23"/>
          <p:cNvSpPr/>
          <p:nvPr/>
        </p:nvSpPr>
        <p:spPr>
          <a:xfrm>
            <a:off x="181080" y="4510080"/>
            <a:ext cx="8076960" cy="1239840"/>
          </a:xfrm>
          <a:custGeom>
            <a:avLst/>
            <a:gdLst>
              <a:gd name="textAreaLeft" fmla="*/ 474480 w 8076960"/>
              <a:gd name="textAreaRight" fmla="*/ 7602480 w 8076960"/>
              <a:gd name="textAreaTop" fmla="*/ 1018080 h 1239840"/>
              <a:gd name="textAreaBottom" fmla="*/ 1116360 h 12398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9052" y="7685"/>
                </a:lnTo>
                <a:lnTo>
                  <a:pt x="10303" y="7685"/>
                </a:lnTo>
                <a:lnTo>
                  <a:pt x="10303" y="17735"/>
                </a:lnTo>
                <a:lnTo>
                  <a:pt x="4464" y="17735"/>
                </a:lnTo>
                <a:lnTo>
                  <a:pt x="4464" y="15582"/>
                </a:lnTo>
                <a:lnTo>
                  <a:pt x="0" y="18591"/>
                </a:lnTo>
                <a:lnTo>
                  <a:pt x="4464" y="21600"/>
                </a:lnTo>
                <a:lnTo>
                  <a:pt x="4464" y="19447"/>
                </a:lnTo>
                <a:lnTo>
                  <a:pt x="17136" y="19447"/>
                </a:lnTo>
                <a:lnTo>
                  <a:pt x="17136" y="21600"/>
                </a:lnTo>
                <a:lnTo>
                  <a:pt x="21600" y="18591"/>
                </a:lnTo>
                <a:lnTo>
                  <a:pt x="17136" y="15582"/>
                </a:lnTo>
                <a:lnTo>
                  <a:pt x="17136" y="17735"/>
                </a:lnTo>
                <a:lnTo>
                  <a:pt x="11297" y="17735"/>
                </a:lnTo>
                <a:lnTo>
                  <a:pt x="11297" y="7685"/>
                </a:lnTo>
                <a:lnTo>
                  <a:pt x="12548" y="7685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24"/>
          <p:cNvSpPr/>
          <p:nvPr/>
        </p:nvSpPr>
        <p:spPr>
          <a:xfrm>
            <a:off x="3492360" y="3070080"/>
            <a:ext cx="1368720" cy="1447920"/>
          </a:xfrm>
          <a:custGeom>
            <a:avLst/>
            <a:gdLst>
              <a:gd name="textAreaLeft" fmla="*/ 66600 w 1368720"/>
              <a:gd name="textAreaRight" fmla="*/ 1302120 w 1368720"/>
              <a:gd name="textAreaTop" fmla="*/ 66600 h 1447920"/>
              <a:gd name="textAreaBottom" fmla="*/ 1381320 h 1447920"/>
            </a:gdLst>
            <a:ahLst/>
            <a:rect l="textAreaLeft" t="textAreaTop" r="textAreaRight" b="textAreaBottom"/>
            <a:pathLst>
              <a:path w="21600" h="22850">
                <a:moveTo>
                  <a:pt x="3600" y="0"/>
                </a:moveTo>
                <a:arcTo wR="3600" hR="3600" stAng="16200000" swAng="-5400000"/>
                <a:lnTo>
                  <a:pt x="0" y="19250"/>
                </a:lnTo>
                <a:arcTo wR="3600" hR="3600" stAng="10800000" swAng="-5400000"/>
                <a:lnTo>
                  <a:pt x="18000" y="228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楷体_GB2312"/>
              </a:rPr>
              <a:t>借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Arial"/>
                <a:ea typeface="楷体_GB2312"/>
              </a:rPr>
              <a:t>抒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5"/>
          <p:cNvSpPr/>
          <p:nvPr/>
        </p:nvSpPr>
        <p:spPr>
          <a:xfrm>
            <a:off x="304920" y="586728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追昔惜今，表达对先烈的缅怀和对今天幸福生活的热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同侧圆角矩形 24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解结构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2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82224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6"/>
          <p:cNvSpPr/>
          <p:nvPr/>
        </p:nvSpPr>
        <p:spPr>
          <a:xfrm>
            <a:off x="1763640" y="1844640"/>
            <a:ext cx="698508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仿宋"/>
              </a:rPr>
              <a:t>《我站在铁索桥上》的写作特点有哪些我们可以借鉴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5"/>
          <p:cNvSpPr/>
          <p:nvPr/>
        </p:nvSpPr>
        <p:spPr>
          <a:xfrm>
            <a:off x="396720" y="213372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圆角矩形 7"/>
          <p:cNvSpPr/>
          <p:nvPr/>
        </p:nvSpPr>
        <p:spPr>
          <a:xfrm>
            <a:off x="1405080" y="3357720"/>
            <a:ext cx="7345080" cy="28098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00"/>
                </a:solidFill>
                <a:latin typeface="华文新魏"/>
                <a:ea typeface="仿宋"/>
              </a:rPr>
              <a:t>这是一篇诗歌，作者采用了忆古惜今的写法，很好地再现了红军飞夺泸定桥的故事，警示我们现在的美好生活离不开英雄们的牺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同侧圆角矩形 7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法点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  <p:sndAc>
      <p:stSnd>
        <p:snd r:embed="rId3" name="click.wav"/>
      </p:stSnd>
    </p:sndAc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8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8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2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396720" y="1989000"/>
            <a:ext cx="12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" descr="F:\七彩课堂插图板式封面\排版用图标、页眉页脚\标题图（终-排版用）共29个\拓展延伸.jpg"/>
          <p:cNvPicPr/>
          <p:nvPr/>
        </p:nvPicPr>
        <p:blipFill>
          <a:blip r:embed="rId1"/>
          <a:stretch/>
        </p:blipFill>
        <p:spPr>
          <a:xfrm>
            <a:off x="6588000" y="4654440"/>
            <a:ext cx="2368800" cy="16542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7"/>
          <p:cNvSpPr/>
          <p:nvPr/>
        </p:nvSpPr>
        <p:spPr>
          <a:xfrm>
            <a:off x="1116000" y="1917720"/>
            <a:ext cx="7201080" cy="3660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1333440" y="2781360"/>
            <a:ext cx="698364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红军不怕远征难，  万水千山只等闲。     五岭逶迤腾细浪，  乌蒙磅礴走泥丸。     金沙水拍云崖暖，  大渡桥横铁索寒。 </a:t>
            </a:r>
            <a:br>
              <a:rPr sz="3200"/>
            </a:b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更喜岷山千里雪，  三军过后尽开颜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2484360" y="206208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七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长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同侧圆角矩形 8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拓展提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3" name="click.wav"/>
      </p:stSnd>
    </p:sndAc>
  </p:transition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0" y="472428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306" name="TextBox 5"/>
          <p:cNvSpPr/>
          <p:nvPr/>
        </p:nvSpPr>
        <p:spPr>
          <a:xfrm>
            <a:off x="819000" y="2492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圆角矩形 6"/>
          <p:cNvSpPr/>
          <p:nvPr/>
        </p:nvSpPr>
        <p:spPr>
          <a:xfrm>
            <a:off x="2987640" y="838080"/>
            <a:ext cx="5257800" cy="1152720"/>
          </a:xfrm>
          <a:prstGeom prst="roundRect">
            <a:avLst>
              <a:gd name="adj" fmla="val 16667"/>
            </a:avLst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365d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17365d"/>
                </a:solidFill>
                <a:latin typeface="宋体"/>
              </a:rPr>
              <a:t>诗人的心情为什么会久久不能平静了？</a:t>
            </a:r>
            <a:r>
              <a:rPr b="1" lang="en-US" sz="3600" spc="-1" strike="noStrike">
                <a:solidFill>
                  <a:srgbClr val="17365d"/>
                </a:solidFill>
                <a:latin typeface="宋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2806560" y="2711520"/>
            <a:ext cx="630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"/>
              </a:rPr>
              <a:t>因为想起了当年的勇士们想起了他们的牺牲、他们的爱国精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同侧圆角矩形 7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0" y="472428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312" name="圆角矩形 6"/>
          <p:cNvSpPr/>
          <p:nvPr/>
        </p:nvSpPr>
        <p:spPr>
          <a:xfrm>
            <a:off x="1598760" y="1954080"/>
            <a:ext cx="5830920" cy="1511280"/>
          </a:xfrm>
          <a:prstGeom prst="roundRect">
            <a:avLst>
              <a:gd name="adj" fmla="val 16667"/>
            </a:avLst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7365d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17365d"/>
                </a:solidFill>
                <a:latin typeface="宋体"/>
              </a:rPr>
              <a:t>第二节和第三节相比有什么不同。</a:t>
            </a:r>
            <a:r>
              <a:rPr b="0" lang="zh-CN" sz="3600" spc="-1" strike="noStrike">
                <a:solidFill>
                  <a:srgbClr val="17365d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2484360" y="2709720"/>
            <a:ext cx="655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9"/>
          <p:cNvSpPr/>
          <p:nvPr/>
        </p:nvSpPr>
        <p:spPr>
          <a:xfrm>
            <a:off x="2920320" y="3933720"/>
            <a:ext cx="42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第二节写的红军战士奋勇杀敌人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情形，第三节写了现在的泸定桥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美好生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同侧圆角矩形 8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5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2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3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8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线连接符 21"/>
          <p:cNvSpPr/>
          <p:nvPr/>
        </p:nvSpPr>
        <p:spPr>
          <a:xfrm flipV="1">
            <a:off x="466560" y="1844640"/>
            <a:ext cx="2073600" cy="64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F:\七彩课堂插图板式封面\排版用图标、页眉页脚\标题图（终-排版用）共29个\作业要完成.jpg"/>
          <p:cNvPicPr/>
          <p:nvPr/>
        </p:nvPicPr>
        <p:blipFill>
          <a:blip r:embed="rId1"/>
          <a:stretch/>
        </p:blipFill>
        <p:spPr>
          <a:xfrm>
            <a:off x="0" y="472428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320" name="TextBox 5"/>
          <p:cNvSpPr/>
          <p:nvPr/>
        </p:nvSpPr>
        <p:spPr>
          <a:xfrm>
            <a:off x="819000" y="2492280"/>
            <a:ext cx="12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7"/>
          <p:cNvSpPr/>
          <p:nvPr/>
        </p:nvSpPr>
        <p:spPr>
          <a:xfrm>
            <a:off x="1676520" y="2252520"/>
            <a:ext cx="6567480" cy="1656000"/>
          </a:xfrm>
          <a:prstGeom prst="flowChartProcess">
            <a:avLst/>
          </a:prstGeom>
          <a:solidFill>
            <a:srgbClr val="ffff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497a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5f497a"/>
                </a:solidFill>
                <a:latin typeface="宋体"/>
              </a:rPr>
              <a:t>想想课文是按什么顺序写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497a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3 796"/>
          <p:cNvSpPr/>
          <p:nvPr/>
        </p:nvSpPr>
        <p:spPr>
          <a:xfrm>
            <a:off x="2629080" y="3718080"/>
            <a:ext cx="5975280" cy="2232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按作者的所见、所思、所想的顺序写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同侧圆角矩形 7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随堂练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3" name="click.wav"/>
      </p:stSnd>
    </p:sndAc>
  </p:transition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"/>
          <p:cNvSpPr/>
          <p:nvPr/>
        </p:nvSpPr>
        <p:spPr>
          <a:xfrm>
            <a:off x="900000" y="2708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线连接符 21"/>
          <p:cNvSpPr/>
          <p:nvPr/>
        </p:nvSpPr>
        <p:spPr>
          <a:xfrm flipV="1">
            <a:off x="611280" y="1917360"/>
            <a:ext cx="2257200" cy="46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1"/>
          <p:cNvSpPr/>
          <p:nvPr/>
        </p:nvSpPr>
        <p:spPr>
          <a:xfrm>
            <a:off x="1042920" y="285264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8"/>
          <p:cNvGrpSpPr/>
          <p:nvPr/>
        </p:nvGrpSpPr>
        <p:grpSpPr>
          <a:xfrm>
            <a:off x="2484360" y="1846440"/>
            <a:ext cx="6389640" cy="4392360"/>
            <a:chOff x="2484360" y="1846440"/>
            <a:chExt cx="6389640" cy="4392360"/>
          </a:xfrm>
        </p:grpSpPr>
        <p:pic>
          <p:nvPicPr>
            <p:cNvPr id="64" name="Picture 9" descr="nfdldq01"/>
            <p:cNvPicPr/>
            <p:nvPr/>
          </p:nvPicPr>
          <p:blipFill>
            <a:blip r:embed="rId1"/>
            <a:stretch/>
          </p:blipFill>
          <p:spPr>
            <a:xfrm>
              <a:off x="2484360" y="1846440"/>
              <a:ext cx="6389640" cy="43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10"/>
            <p:cNvSpPr/>
            <p:nvPr/>
          </p:nvSpPr>
          <p:spPr>
            <a:xfrm>
              <a:off x="4428720" y="4862160"/>
              <a:ext cx="2604240" cy="6426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Arial"/>
                </a:rPr>
                <a:t>飞夺泸定桥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同侧圆角矩形 8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"/>
          <p:cNvSpPr/>
          <p:nvPr/>
        </p:nvSpPr>
        <p:spPr>
          <a:xfrm>
            <a:off x="900000" y="2708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线连接符 21"/>
          <p:cNvSpPr/>
          <p:nvPr/>
        </p:nvSpPr>
        <p:spPr>
          <a:xfrm flipV="1">
            <a:off x="611280" y="1917360"/>
            <a:ext cx="2257200" cy="46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1"/>
          <p:cNvSpPr/>
          <p:nvPr/>
        </p:nvSpPr>
        <p:spPr>
          <a:xfrm>
            <a:off x="1042920" y="285264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2920672"/>
          <p:cNvPicPr/>
          <p:nvPr/>
        </p:nvPicPr>
        <p:blipFill>
          <a:blip r:embed="rId1"/>
          <a:stretch/>
        </p:blipFill>
        <p:spPr>
          <a:xfrm>
            <a:off x="2743200" y="1917720"/>
            <a:ext cx="6041880" cy="4321080"/>
          </a:xfrm>
          <a:prstGeom prst="rect">
            <a:avLst/>
          </a:prstGeom>
          <a:ln w="0">
            <a:noFill/>
          </a:ln>
        </p:spPr>
      </p:pic>
      <p:sp>
        <p:nvSpPr>
          <p:cNvPr id="72" name="同侧圆角矩形 6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组合 10"/>
          <p:cNvGrpSpPr/>
          <p:nvPr/>
        </p:nvGrpSpPr>
        <p:grpSpPr>
          <a:xfrm>
            <a:off x="268200" y="1123920"/>
            <a:ext cx="2255760" cy="571680"/>
            <a:chOff x="268200" y="1123920"/>
            <a:chExt cx="2255760" cy="571680"/>
          </a:xfrm>
        </p:grpSpPr>
        <p:sp>
          <p:nvSpPr>
            <p:cNvPr id="75" name="直线连接符 21"/>
            <p:cNvSpPr/>
            <p:nvPr/>
          </p:nvSpPr>
          <p:spPr>
            <a:xfrm flipV="1">
              <a:off x="268200" y="1123920"/>
              <a:ext cx="2255760" cy="5716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948360" y="4797360"/>
            <a:ext cx="2121120" cy="148284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324000" y="1844640"/>
            <a:ext cx="123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960" y="-3204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10"/>
          <p:cNvGrpSpPr/>
          <p:nvPr/>
        </p:nvGrpSpPr>
        <p:grpSpPr>
          <a:xfrm>
            <a:off x="2700360" y="1197000"/>
            <a:ext cx="2736720" cy="1368360"/>
            <a:chOff x="2700360" y="1197000"/>
            <a:chExt cx="2736720" cy="1368360"/>
          </a:xfrm>
        </p:grpSpPr>
        <p:sp>
          <p:nvSpPr>
            <p:cNvPr id="81" name="椭圆 22"/>
            <p:cNvSpPr/>
            <p:nvPr/>
          </p:nvSpPr>
          <p:spPr>
            <a:xfrm>
              <a:off x="2700360" y="1197000"/>
              <a:ext cx="2736720" cy="1368360"/>
            </a:xfrm>
            <a:prstGeom prst="ellipse">
              <a:avLst/>
            </a:prstGeom>
            <a:solidFill>
              <a:srgbClr val="f79646"/>
            </a:solidFill>
            <a:ln w="25560">
              <a:solidFill>
                <a:srgbClr val="b46d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24"/>
            <p:cNvSpPr/>
            <p:nvPr/>
          </p:nvSpPr>
          <p:spPr>
            <a:xfrm>
              <a:off x="2916720" y="1557000"/>
              <a:ext cx="216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作者介绍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圆角矩形 14"/>
          <p:cNvSpPr/>
          <p:nvPr/>
        </p:nvSpPr>
        <p:spPr>
          <a:xfrm>
            <a:off x="38160" y="2639880"/>
            <a:ext cx="7054920" cy="374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25560">
            <a:solidFill>
              <a:srgbClr val="395e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顾工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2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生，诗人，上海市人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4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参加新四军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年加入中国共产党。历任西南军区政治部文工团创作员八一电影制片厂编剧、《解放军报》记者、总后勤政治部文化部创作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同侧圆角矩形 12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灯片编号占位符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0347-61CB-4347-8299-AF9D5F49378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线连接符 21"/>
          <p:cNvSpPr/>
          <p:nvPr/>
        </p:nvSpPr>
        <p:spPr>
          <a:xfrm flipV="1">
            <a:off x="611280" y="1917360"/>
            <a:ext cx="2257200" cy="46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877360" y="1773360"/>
            <a:ext cx="1277640" cy="4395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</a:rPr>
              <a:t>著有诗集《喜玛拉雅山下》、《火光中的歌》、长篇小说《红军的后代》、电影文学剧本《冰山雪莲》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同侧圆角矩形 7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"/>
          <p:cNvSpPr/>
          <p:nvPr/>
        </p:nvSpPr>
        <p:spPr>
          <a:xfrm>
            <a:off x="900000" y="2708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线连接符 21"/>
          <p:cNvSpPr/>
          <p:nvPr/>
        </p:nvSpPr>
        <p:spPr>
          <a:xfrm flipV="1">
            <a:off x="611280" y="1917360"/>
            <a:ext cx="2257200" cy="46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1042920" y="285264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981080" y="2278080"/>
            <a:ext cx="6767640" cy="3313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仿宋"/>
                <a:ea typeface="仿宋"/>
              </a:rPr>
              <a:t>   </a:t>
            </a:r>
            <a:r>
              <a:rPr b="1" lang="zh-CN" sz="3600" spc="-1" strike="noStrike">
                <a:solidFill>
                  <a:srgbClr val="0066ff"/>
                </a:solidFill>
                <a:latin typeface="仿宋"/>
                <a:ea typeface="仿宋"/>
              </a:rPr>
              <a:t>泸定桥也叫铁索桥。泸定桥在四川省甘孜藏族自治州泸定县城西，人们常称之为大渡河铁索桥，是甘孜州的门户，康藏交通的咽喉，是四川内地通往康藏高原的重要通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同侧圆角矩形 6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6"/>
          <p:cNvSpPr/>
          <p:nvPr/>
        </p:nvSpPr>
        <p:spPr>
          <a:xfrm>
            <a:off x="7429680" y="357120"/>
            <a:ext cx="1214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"/>
          <p:cNvSpPr/>
          <p:nvPr/>
        </p:nvSpPr>
        <p:spPr>
          <a:xfrm>
            <a:off x="900000" y="2708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线连接符 21"/>
          <p:cNvSpPr/>
          <p:nvPr/>
        </p:nvSpPr>
        <p:spPr>
          <a:xfrm flipV="1">
            <a:off x="611280" y="1917360"/>
            <a:ext cx="2257200" cy="4680"/>
          </a:xfrm>
          <a:prstGeom prst="line">
            <a:avLst/>
          </a:prstGeom>
          <a:ln w="38160">
            <a:solidFill>
              <a:srgbClr val="93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1"/>
          <p:cNvSpPr/>
          <p:nvPr/>
        </p:nvSpPr>
        <p:spPr>
          <a:xfrm>
            <a:off x="1042920" y="285264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908000" y="2060640"/>
            <a:ext cx="6840720" cy="417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该桥始建于清康熙</a:t>
            </a:r>
            <a:r>
              <a:rPr b="0" lang="en-US" sz="3200" spc="-1" strike="noStrike">
                <a:solidFill>
                  <a:srgbClr val="0066ff"/>
                </a:solidFill>
                <a:latin typeface="宋体"/>
              </a:rPr>
              <a:t>44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年</a:t>
            </a:r>
            <a:r>
              <a:rPr b="0" lang="en-US" sz="3200" spc="-1" strike="noStrike">
                <a:solidFill>
                  <a:srgbClr val="0066ff"/>
                </a:solidFill>
                <a:latin typeface="宋体"/>
              </a:rPr>
              <a:t>(1705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年</a:t>
            </a:r>
            <a:r>
              <a:rPr b="0" lang="en-US" sz="3200" spc="-1" strike="noStrike">
                <a:solidFill>
                  <a:srgbClr val="0066ff"/>
                </a:solidFill>
                <a:latin typeface="宋体"/>
              </a:rPr>
              <a:t>)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，建成于康熙</a:t>
            </a:r>
            <a:r>
              <a:rPr b="0" lang="en-US" sz="3200" spc="-1" strike="noStrike">
                <a:solidFill>
                  <a:srgbClr val="0066ff"/>
                </a:solidFill>
                <a:latin typeface="宋体"/>
              </a:rPr>
              <a:t>45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年</a:t>
            </a:r>
            <a:r>
              <a:rPr b="0" lang="en-US" sz="3200" spc="-1" strike="noStrike">
                <a:solidFill>
                  <a:srgbClr val="0066ff"/>
                </a:solidFill>
                <a:latin typeface="宋体"/>
              </a:rPr>
              <a:t>(1706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年</a:t>
            </a:r>
            <a:r>
              <a:rPr b="0" lang="en-US" sz="3200" spc="-1" strike="noStrike">
                <a:solidFill>
                  <a:srgbClr val="0066ff"/>
                </a:solidFill>
                <a:latin typeface="宋体"/>
              </a:rPr>
              <a:t>)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。康熙御笔题写“泸定桥”，并立御碑于桥头，桥长</a:t>
            </a:r>
            <a:r>
              <a:rPr b="0" lang="en-US" sz="3200" spc="-1" strike="noStrike">
                <a:solidFill>
                  <a:srgbClr val="0066ff"/>
                </a:solidFill>
                <a:latin typeface="宋体"/>
              </a:rPr>
              <a:t>103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米，宽</a:t>
            </a:r>
            <a:r>
              <a:rPr b="0" lang="en-US" sz="3200" spc="-1" strike="noStrike">
                <a:solidFill>
                  <a:srgbClr val="0066ff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米，</a:t>
            </a:r>
            <a:r>
              <a:rPr b="0" lang="en-US" sz="3200" spc="-1" strike="noStrike">
                <a:solidFill>
                  <a:srgbClr val="0066ff"/>
                </a:solidFill>
                <a:latin typeface="宋体"/>
              </a:rPr>
              <a:t>13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根铁链固定在两岸桥台落井里，</a:t>
            </a:r>
            <a:r>
              <a:rPr b="0" lang="en-US" sz="3200" spc="-1" strike="noStrike">
                <a:solidFill>
                  <a:srgbClr val="0066ff"/>
                </a:solidFill>
                <a:latin typeface="宋体"/>
              </a:rPr>
              <a:t>9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根作底链，</a:t>
            </a:r>
            <a:r>
              <a:rPr b="0" lang="en-US" sz="3200" spc="-1" strike="noStrike">
                <a:solidFill>
                  <a:srgbClr val="0066ff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根分两侧作扶手，共有</a:t>
            </a:r>
            <a:r>
              <a:rPr b="0" lang="en-US" sz="3200" spc="-1" strike="noStrike">
                <a:solidFill>
                  <a:srgbClr val="0066ff"/>
                </a:solidFill>
                <a:latin typeface="宋体"/>
              </a:rPr>
              <a:t>12164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个铁环相扣，全桥铁件重</a:t>
            </a:r>
            <a:r>
              <a:rPr b="0" lang="en-US" sz="3200" spc="-1" strike="noStrike">
                <a:solidFill>
                  <a:srgbClr val="0066ff"/>
                </a:solidFill>
                <a:latin typeface="宋体"/>
              </a:rPr>
              <a:t>40</a:t>
            </a:r>
            <a:r>
              <a:rPr b="0" lang="zh-CN" sz="3200" spc="-1" strike="noStrike">
                <a:solidFill>
                  <a:srgbClr val="0066ff"/>
                </a:solidFill>
                <a:latin typeface="宋体"/>
              </a:rPr>
              <a:t>余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侧圆角矩形 6"/>
          <p:cNvSpPr/>
          <p:nvPr/>
        </p:nvSpPr>
        <p:spPr>
          <a:xfrm>
            <a:off x="444600" y="1255680"/>
            <a:ext cx="2000160" cy="517680"/>
          </a:xfrm>
          <a:prstGeom prst="pie">
            <a:avLst/>
          </a:prstGeom>
          <a:gradFill rotWithShape="0">
            <a:gsLst>
              <a:gs pos="0">
                <a:srgbClr val="dfe5f0"/>
              </a:gs>
              <a:gs pos="100000">
                <a:srgbClr val="ccd7e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资料宝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  <p:sndAc>
      <p:stSnd>
        <p:snd r:embed="rId2" name="click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9T09:12:16Z</dcterms:created>
  <dc:creator>Administrator</dc:creator>
  <dc:description/>
  <dc:language>en-US</dc:language>
  <cp:lastModifiedBy/>
  <dcterms:modified xsi:type="dcterms:W3CDTF">2016-04-19T09:12:3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