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B85-3559-44CB-AD05-20D7F44C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9C8-3AED-4817-B606-696C3B52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230-70AB-4D2C-93F3-177F2745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031-0955-411A-98AE-71C5AF42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E80-4541-42D6-A352-1344212C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BA9-48F5-44F8-82A4-12F55BF8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0DC-AFDA-4E51-8E60-0BC1262E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C23-0367-4A47-B01A-F47AFF6A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CF8-B998-4135-840C-8D9F111D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966-BA25-4977-BEFB-75C967BA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AE8-5049-4E30-A1A6-EAF632A3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3C8-39B3-4139-B64E-3FEF07B7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0E24-4ACF-47FC-BB84-41B801D9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836640"/>
            <a:ext cx="7166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在学校的最后一天 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2276640"/>
            <a:ext cx="61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ZAIXUEXIAODEZUIHOUYITIAN</a:t>
            </a:r>
            <a:endParaRPr b="0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3284640"/>
            <a:ext cx="7777080" cy="5205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尺讲台， 三千桃李；一日恩师 ，一世情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4292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「意大利」乔万尼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莫斯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132000" y="2421000"/>
            <a:ext cx="36576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楷体_GB2312"/>
              </a:rPr>
              <a:t>理解课文</a:t>
            </a:r>
            <a:endParaRPr b="1" i="1" lang="en-US" sz="72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1413000"/>
            <a:ext cx="828036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事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155736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在学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初读课文，想一想这篇文章主要讲了什么事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234936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最后一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3213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老师和学生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4005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互相告别的情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0022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文章回忆了“我”在小学教学生涯的最后一天与学生依依话别的感人场面，表达了“我”对学生的爱，对学校生活的眷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907920"/>
            <a:ext cx="792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文中找出所有的人名并划出来，要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852640"/>
            <a:ext cx="79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：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乔万尼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莫斯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：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马蒂尼里  克利帕    安东尼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马尼利    斯巴多尼  奇奥蒂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达尼埃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69228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天”的含义是双重的，你知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2276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老师要离开学校，离开教育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789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学生要告别童年，告别母校升入中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620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”的学生是一群怎样的孩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700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爱老师、顽皮而又天真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8526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本文在人物描写上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4292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采用了语言、动作和心理活动的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读文勾画老师对学生的爱的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680840"/>
            <a:ext cx="84628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中学的老师要严格得多，你们要继续努力学习，做个好学生。我一定不会忘记你们的！我对你们说的都是心里话，记住我的话吧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吹得不错呀，斯巴多尼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4005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揉了揉他的头发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46530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等我回到家里，如果我做了什么后悔的事，那就是不得不洗去脸上的唾沫印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读文勾画学生对老师的爱的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803240"/>
            <a:ext cx="8462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“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噙着泪水、团团围住、热泪盈眶、挤、抽噎、拥抱、吻、抓、拉、塞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333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，给课文分段并概括每段的段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628640"/>
            <a:ext cx="2800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一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三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640" y="2131920"/>
            <a:ext cx="20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1—8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9—23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24—30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7000" y="1628640"/>
            <a:ext cx="3838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主要介绍了学生们的进步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主要写老师向学生还没收的东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学生向老师承认以前搞的恶作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主要写师生离别的场面及离别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作者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92560" y="1989000"/>
            <a:ext cx="594144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文章第一部分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—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（        ）的写作形式，分别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几名学生的（     ）和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6200" y="44604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填一填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02440" y="378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先总后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612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进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8684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成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04360" y="3333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习文章第二部分，回答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5360" y="1373040"/>
            <a:ext cx="582804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噙着泪水”“团团围住”等词语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解热泪盈眶的意思，想一想本文中的热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泪盈眶说明了奇奥蒂尼是个怎样的学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120" y="3706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989000"/>
            <a:ext cx="8137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写出学生对老师的依依不舍，表达了学生对老师的爱戴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4724280"/>
            <a:ext cx="828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他是个重感情的学生。从他的话中（“没什么，老师，现在我这儿都长了个茧子了。”）也说明他是个憨厚可爱的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课题讲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557360"/>
            <a:ext cx="820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篇回忆性的叙事散文，作者回忆了自己教学生涯的最后一天与学生依依话别的感人场面，表达了他对学生的爱和对学校生活的眷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0820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3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257480"/>
            <a:ext cx="84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第三部分中最后一段话是文章的最精彩的点题之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43657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      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我”想留些学生的什么东西作为永久的纪念，含蓄地表达了老师对学生的不舍，对学生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33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习文章第三部分，感悟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637000"/>
            <a:ext cx="8424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我回到家里，如果我做了什么后悔的事，那就是不得不洗去脸上的唾沫印儿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99440" y="692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中心：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916280"/>
            <a:ext cx="8569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文章回忆了“我”在小学教学生涯的最后一天与学生依依话别的感人场面，表达了“我”对学生的爱，对学校生活的眷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488880"/>
            <a:ext cx="8569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本文是回忆性叙事散文，以时间为顺序组织全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行文上富于变换，顺叙和插叙相结合的行文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020840" y="665280"/>
            <a:ext cx="119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顺叙就是按事情发生、发展、结果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序记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插叙就是在记叙事情的过程中，暂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断原来的叙述，而插入一些与之有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节，然后再接着叙述原来的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8400" y="333360"/>
            <a:ext cx="792216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关友谊的诗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内存知己，天涯若比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唐）王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美老师的诗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蚕到死丝方尽，蜡炬成灰泪始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李商隐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413000"/>
            <a:ext cx="842472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乔万尼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斯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生于罗马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逝于米兰。是位意大利作家，记者，杂志编辑和插画家，同时他还是一名优秀的教师。他有两篇作品被世人传诵：《在学校的最后一天》与《顽童与绿头蝇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3938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人物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32000" y="404640"/>
            <a:ext cx="280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 词 学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ZI CI XUE X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557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s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45200" y="155736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sā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1557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155736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m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1557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797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5968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9712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9968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932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3968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8400" y="544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2997360"/>
            <a:ext cx="115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害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臊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2997360"/>
            <a:ext cx="115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唾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2997360"/>
            <a:ext cx="115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泡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唾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3068640"/>
            <a:ext cx="23036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簇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花团锦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55897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同“呢”，用于非疑问句的语气词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2997360"/>
            <a:ext cx="115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腮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两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32000" y="404640"/>
            <a:ext cx="280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音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DUOYIN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2708280"/>
            <a:ext cx="144720" cy="1511280"/>
          </a:xfrm>
          <a:custGeom>
            <a:avLst/>
            <a:gdLst>
              <a:gd name="textAreaLeft" fmla="*/ 92520 w 144720"/>
              <a:gd name="textAreaRight" fmla="*/ 145080 w 1447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4720" y="30672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249228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2492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364500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37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系鞋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263700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32360" y="29955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2421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2421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3645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36450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淹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773360"/>
            <a:ext cx="856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臊（         ）唾（         ）沫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澡（         ）锤（         ）抹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17715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害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2492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洗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17715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唾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锤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17715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泡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2492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抹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348000" y="549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楷体_GB2312"/>
              </a:rPr>
              <a:t>比一比组词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10526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  YI  BI  ZU  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1773360"/>
            <a:ext cx="248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簇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族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1773360"/>
            <a:ext cx="19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簇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2492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民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92360" y="3284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楷体_GB2312"/>
              </a:rPr>
              <a:t>词语辨别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楷体_GB2312"/>
              <a:ea typeface="楷体_GB2312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3789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 YU BIAN B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508640"/>
            <a:ext cx="8424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簇拥”和“蜂拥”都有围集在一起的意思。“簇拥”一般是指以一点为中心紧紧围着，但不混乱。“蜂拥”一般指像蜂群似的拥挤着，多而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56400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楷体_GB2312"/>
              </a:rPr>
              <a:t>词语积累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楷体_GB2312"/>
              <a:ea typeface="楷体_GB2312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620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 YU JI  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268280"/>
            <a:ext cx="84247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害臊 壮实 严格 噙着 茧子 脸颊 唾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簇拥 陌生 借口 抽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消云散 衣冠不整 聊以自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搬弄是非 热泪盈眶 一本正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56400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楷体_GB2312"/>
              </a:rPr>
              <a:t>词语理解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楷体_GB2312"/>
              <a:ea typeface="楷体_GB2312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620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 YU JI  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015920"/>
            <a:ext cx="871380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搬弄是非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别人背后说的话传来传去，蓄意挑拨，或在别人背后乱加议论，引起纠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热泪盈眶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因非常高兴、感激或悲伤而流的眼泪充满了眼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本正经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形容很庄重，很认真。有时含有讽刺意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烟消云散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比喻事物消失净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聊以自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姑且用来安慰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衣冠不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衣服和帽子不整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56400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楷体_GB2312"/>
              </a:rPr>
              <a:t>词语理解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楷体_GB2312"/>
              <a:ea typeface="楷体_GB2312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620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 YU JI  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197000"/>
            <a:ext cx="8820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害臊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害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簇拥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很多人紧紧围绕着或护卫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抱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心中不安，觉得对不住别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古怪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跟一般情况很不相同，使人觉得诧异的；稀奇罕见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9:49:31Z</dcterms:created>
  <dc:creator>Administrator</dc:creator>
  <dc:description/>
  <dc:language>en-US</dc:language>
  <cp:lastModifiedBy/>
  <dcterms:modified xsi:type="dcterms:W3CDTF">2015-07-21T03:42:10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