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A5F-BAAF-4751-8DB1-77C56A8F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FA3-20D7-4878-84D8-6A27A7A9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052-A004-4326-9B87-8672C754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487-CA37-4076-964E-64FCCDC7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3AB-5732-4943-9B72-D6B237D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CE0-405C-43C8-857D-78AE5965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751-4389-4510-81DB-1868562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E6A-9A64-478E-8C20-34E8D528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24F-7B6F-48F1-ABCE-D623B867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ED1-B664-4E78-BBEE-921F861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73E-4A74-4F8A-8C49-1577B58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CE9-B4CB-40D0-A6A6-EDC0AD8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D2C-4774-4E20-8D22-7FB1E422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989000"/>
            <a:ext cx="6292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11* </a:t>
            </a: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指尖的世界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6400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品读课文，走近“指尖的世界”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971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默读课文，找到文中最打动你的段落，做上记号，有感情地读一读，在脑中想象出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仔细读课文的最后一个自然段，思考：盲孩子生活在黑暗里，为什么说，他们会“看到曾经想过或未曾想过的世界与光影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默读第二部分，想一想：失明的孩子怎样才会“看到曾经想过或未曾想过的世界与光影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虽然孩子们看不见阳光，看不见绿树，看不见露珠的舞蹈，看不见日日进出的朱红色校门和里面一片多彩的天地……但是，他们体会到了，身上那暖暖的感觉是太阳给的；走进那些小树，能闻到叶子的清香；靠近花园，能闻见花的香甜；他们知道，操场的尽头有一个音乐喷泉，那里有美妙的音乐和欢快的水滴一起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22100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话用一系列的排比，用看不见与能闻、能听的对比，表现出盲孩子们在学校生活的快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6725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20574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虽然孩子们看不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 但是，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2492280"/>
            <a:ext cx="223380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048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476280"/>
            <a:ext cx="64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44280">
                  <a:solidFill>
                    <a:srgbClr val="0033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楷体_GB2312"/>
              </a:rPr>
              <a:t>奇思妙想</a:t>
            </a:r>
            <a:endParaRPr b="0" lang="en-US" sz="1800" spc="1" strike="noStrike">
              <a:ln w="44280">
                <a:solidFill>
                  <a:srgbClr val="0033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476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校里有琴房，琴声悦耳，一个孩子正陶醉在音乐里。他的指尖轻快地在黑白键上移动，演奏心中一十分熟悉的曲谱。对喜欢音乐的盲孩子而言，音乐是另一个世界，一个自己创造的完美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2360" y="4581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楷体"/>
              </a:rPr>
              <a:t>他可能在想些什么？如果此刻你在他旁边，你有什么问题想问问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84720" y="1123920"/>
            <a:ext cx="28576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时，孩子们还玩儿足球。足球是特制的，里面装着铃铛，滚动时发出清脆的声音。孩子们跑几步，停下来听听，再跑几步，咿咿呀呀地交换意见。比赛时，他们在球门上挂上风铃，叮叮当当的声音，指引着他们投入地奔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91520" y="5181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6725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74880" y="33336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厚厚的盲文课本，由许许多多凹凸的小点组成。孩子们静静地读着，指尖灵巧地移动，仿佛走在通向光明世界的长廊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32080" y="2349360"/>
            <a:ext cx="64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长廊指什么？为什么这样比喻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005360"/>
            <a:ext cx="744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课题为“指尖的世界”，现在你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306864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校就是教育孩子认识世界，走向生活的长廊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01336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盲孩子失去眼睛，他们看不见，他们最直接地感知事物、生活的方式就是触摸。对于常人来说，世界在我们的眼里，而对于他们来说，世界在他们的指尖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3276720" cy="3343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162864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美国盲聋女作家、教育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幼时患病，两耳失聪，双目失明。七岁时，安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沙利文担任她的家庭教师，从此成了她的良师益友，相处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。在沙利文帮助之下，进入大学学习，以优异成绩毕业。在大学期间，写了《我生命的故事》，讲述她如何战胜病残，给成千上万的残疾　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933720"/>
            <a:ext cx="914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人和正常人带来鼓舞。这本书被译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文字，在世界各国流传。以后又写了许多文字和几部自传性小说，表明黑暗与寂静并不存在。后来凯勒成了卓越的社会改革家，到美国各地，到欧洲、亚洲发表演说，为盲人、聋哑人筹集资金。二战期间，又访问多所医院，慰问失明士兵，她的精神受人们崇敬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被授于美国公民最高荣誉–总统自由勋章，次年又被推选为世界十名杰出妇女之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0"/>
            <a:ext cx="83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但若是每一日，他们的快乐与信心都多一点儿，那么，他们便会在都市的转角、在树梢送来的微风中、在生命的一站与另一站之间，看到曾经想过或未曾想过的世界与光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21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市的转角”“树梢送来的微风”“生命的一站与另一站”指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285264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指的是生活的每一个角落，每一个细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 他们“曾经想过”什么呢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他们“未曾想过的世界与光影”又指什么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149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指他们心灵里美好的愿望、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97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指他生活们从来没有看到过真实的世界，有太多的是他们不敢奢望的，但是只要对生活充满信心，每天都能乐观、努力地去对待，他们就可能得到这些期待之外的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299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生活中（　　　　　　）多么重要，只要拥有它们便能（　　　　　　　），甚至（　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2997360"/>
            <a:ext cx="280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观与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364500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实现我们的愿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4149720"/>
            <a:ext cx="31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收获更多的惊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836640"/>
            <a:ext cx="68468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475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楷体_GB2312"/>
              </a:rPr>
              <a:t>这句话对你们的生活或学习有启示吗</a:t>
            </a:r>
            <a:endParaRPr b="0" lang="en-US" sz="1800" spc="1" strike="noStrike">
              <a:ln w="4752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8720" y="76212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底，《南方周末》报登出报道《带给藏族盲童的彩色世界》，首次详细介绍了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西藏盲童学校和她的创办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失明德籍女校长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萨布瑞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传奇经历。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经过近半年的精心策划与筹备，《电视诗歌散文》栏目赴西藏盲童学校拍摄了电视散文《光明》系列之《太阳花》。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《电视诗歌散文》栏目在北京盲人学校拍摄电视散文《光明》系列之《指尖的世界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2205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所幸的是，总有善良的人们愿意给他们营造一个美好的环境；他们相信，无法驱走黑暗的时候，美好的心灵更是可贵的明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49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深入理解，走进“指尖的世界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005360"/>
            <a:ext cx="81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善良的人们”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美好的心灵”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4508640"/>
            <a:ext cx="4032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22936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8606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那些关爱盲人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8136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盲人教育工作奔走奉献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9280" y="5950080"/>
            <a:ext cx="8785440" cy="71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44500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对生活充满自信、乐观、积极向上的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2286000"/>
            <a:ext cx="870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现在社会上是如何关心和帮助盲人等残疾人的？如果你在生活中遇见了他们，你会怎么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00200" y="1523880"/>
            <a:ext cx="6019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推荐阅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国盲人作家海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凯勒的《假如给我三天光明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838080"/>
            <a:ext cx="3733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按要求初读课文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8195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自由读课文，将生字读准确，句子读通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初读了课文，你知道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试着给课文分分段，说说先写了什么，然后写了什么，最后写了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56908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厚厚的盲文课本由许许多多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宋体"/>
              </a:rPr>
              <a:t>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小点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9080" y="-1713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宋体"/>
              </a:rPr>
              <a:t>t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3141720"/>
            <a:ext cx="4033800" cy="155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宋体"/>
              </a:rPr>
              <a:t>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14972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213000"/>
            <a:ext cx="287964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Arial"/>
                <a:ea typeface="宋体"/>
              </a:rPr>
              <a:t>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29200" y="609480"/>
            <a:ext cx="380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它是由法国盲人路易路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布莱尔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创造的，故国际上通称盲文为“布莱尔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盲文或称点字、凸字，是专为盲人设计、靠触觉感知的文字。透过点字板、点字机、点字打印机等在纸张上制作出不同组合的凸点而组成，一般每一个方块的点字是由六点组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246320"/>
            <a:ext cx="83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Cōnglóng  zhàng              láng      xuānx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30760" y="198432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葱茏　障碍　走廊　喧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2280" y="4508640"/>
            <a:ext cx="84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色彩斑斓　咿咿呀呀　凹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005360"/>
            <a:ext cx="59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lán         yī                         āo t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葱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2997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阻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3068640"/>
            <a:ext cx="1873080" cy="642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宋体"/>
              </a:rPr>
              <a:t>喧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18900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边的绿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葱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草坪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细的草尖上，露珠欢快地跳着舞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916280"/>
            <a:ext cx="8064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日子久了，敏感的孩子们，总能从老师走路的脚步声，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宋体"/>
              </a:rPr>
              <a:t>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断是谁来到了教室。小一些的孩子，喜欢拉着老师的手，在黑暗的世界里一小步一小步地摸索；大一点儿的孩子，能沿着无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宋体"/>
              </a:rPr>
              <a:t>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碍楼梯灵活地上楼下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364360" cy="40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这是北京大大小小众多学校中的一个﹕校园不大，在一个不怎么起眼的角落里，一个宽敞的操场，几座普通的教学楼…然而，对许多孩子而言，这里却是他们世界里最鲜亮的一部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1197000"/>
            <a:ext cx="82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闹市喧嚣，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一片偏僻普通的角落，却在不断地温暖一个又一个失去光明的世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孩子们温柔地睡去，他们醒来时，或许眼前仍是一片黑暗。但若是每一日，他们的快乐与信心都会多一点，那么，他们便会在都市的转角、在树梢的微风、在生命的一站与另一站里，看到曾经想过，或未曾想过的世界与光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13:24Z</dcterms:created>
  <dc:creator>Administrator</dc:creator>
  <dc:description/>
  <dc:language>en-US</dc:language>
  <cp:lastModifiedBy/>
  <dcterms:modified xsi:type="dcterms:W3CDTF">2016-04-19T09:13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