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9.png" ContentType="image/png"/>
  <Override PartName="/ppt/media/image20.png" ContentType="image/png"/>
  <Override PartName="/ppt/media/image9.png" ContentType="image/png"/>
  <Override PartName="/ppt/media/image7.gif" ContentType="image/gif"/>
  <Override PartName="/ppt/media/image5.gif" ContentType="image/gif"/>
  <Override PartName="/ppt/media/image28.png" ContentType="image/png"/>
  <Override PartName="/ppt/media/image30.png" ContentType="image/png"/>
  <Override PartName="/ppt/media/image4.png" ContentType="image/png"/>
  <Override PartName="/ppt/media/laser.wav" ContentType="audio/x-wav"/>
  <Override PartName="/ppt/media/image8.png" ContentType="image/png"/>
  <Override PartName="/ppt/media/wait0.wav" ContentType="audio/x-wav"/>
  <Override PartName="/ppt/media/image13.png" ContentType="image/png"/>
  <Override PartName="/ppt/media/image11.png" ContentType="image/png"/>
  <Override PartName="/ppt/media/image12.png" ContentType="image/png"/>
  <Override PartName="/ppt/media/image27.gif" ContentType="image/gif"/>
  <Override PartName="/ppt/media/image31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6.gif" ContentType="image/gif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18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6D3-651D-4C34-8B2C-8892ACDE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933-4EBF-4319-85BD-7E2B0C02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3DC-D380-49FE-A479-BE9D2375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3E9-40B7-45F5-ABE0-46B5B605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197-B5A6-4283-9D85-AF868049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FF8-89C5-4085-9573-3D7A0E1A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4C3-B047-44D5-8B4F-C709AC5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CCF-3AE5-4151-97EF-6261ECE7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CE-CC10-4FB1-A437-F115FEE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893-0189-4E3B-8E8B-3621563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941-9F80-4569-9E92-8905C4C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95B-1C45-4D1B-9FF1-7C99932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3DF5-758A-48F7-B7D6-954179ED0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699160"/>
            <a:ext cx="2411280" cy="11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7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audio" Target="../media/wait0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7.gif"/><Relationship Id="rId16" Type="http://schemas.openxmlformats.org/officeDocument/2006/relationships/image" Target="../media/image31.png"/><Relationship Id="rId17" Type="http://schemas.openxmlformats.org/officeDocument/2006/relationships/image" Target="../media/image32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image" Target="../media/image5.gif"/><Relationship Id="rId16" Type="http://schemas.openxmlformats.org/officeDocument/2006/relationships/image" Target="../media/image6.gif"/><Relationship Id="rId17" Type="http://schemas.openxmlformats.org/officeDocument/2006/relationships/image" Target="../media/image7.gif"/><Relationship Id="rId18" Type="http://schemas.openxmlformats.org/officeDocument/2006/relationships/image" Target="../media/image31.png"/><Relationship Id="rId19" Type="http://schemas.openxmlformats.org/officeDocument/2006/relationships/image" Target="../media/image32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6.gif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15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20.png"/><Relationship Id="rId28" Type="http://schemas.openxmlformats.org/officeDocument/2006/relationships/image" Target="../media/image18.png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260280"/>
            <a:ext cx="67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北京版四年级数学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3314880" cy="34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93960" y="1903320"/>
            <a:ext cx="429912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ff66"/>
                  </a:solidFill>
                  <a:miter/>
                </a:ln>
                <a:solidFill>
                  <a:srgbClr val="ff0000">
                    <a:alpha val="70000"/>
                  </a:srgbClr>
                </a:solidFill>
                <a:latin typeface="华文新魏"/>
              </a:rPr>
              <a:t>可 能 性</a:t>
            </a:r>
            <a:endParaRPr b="0" lang="en-US" sz="1800" spc="1" strike="noStrike">
              <a:ln cap="rnd" w="9360">
                <a:solidFill>
                  <a:srgbClr val="ffff66"/>
                </a:solidFill>
                <a:miter/>
              </a:ln>
              <a:solidFill>
                <a:srgbClr val="ff0000">
                  <a:alpha val="70000"/>
                </a:srgbClr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835280" y="1785960"/>
            <a:ext cx="7203600" cy="2508480"/>
            <a:chOff x="1835280" y="1785960"/>
            <a:chExt cx="7203600" cy="2508480"/>
          </a:xfrm>
        </p:grpSpPr>
        <p:sp>
          <p:nvSpPr>
            <p:cNvPr id="176" name=""/>
            <p:cNvSpPr/>
            <p:nvPr/>
          </p:nvSpPr>
          <p:spPr>
            <a:xfrm>
              <a:off x="1835280" y="2664000"/>
              <a:ext cx="7201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（   ） （   ）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（    ）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7440" y="3514680"/>
              <a:ext cx="7201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（   ） （   ）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</a:rPr>
                <a:t>（    ）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46400" y="3657600"/>
              <a:ext cx="46152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6400" y="2765520"/>
              <a:ext cx="46152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3400" y="1785960"/>
              <a:ext cx="5487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次得分有哪几种可能</a:t>
              </a:r>
              <a:r>
                <a:rPr b="1" lang="zh-CN" sz="4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343160" y="403200"/>
            <a:ext cx="7800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是第二名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次套环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绩（   ）是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376360" y="2620800"/>
            <a:ext cx="5364000" cy="880920"/>
            <a:chOff x="2376360" y="2620800"/>
            <a:chExt cx="5364000" cy="880920"/>
          </a:xfrm>
        </p:grpSpPr>
        <p:sp>
          <p:nvSpPr>
            <p:cNvPr id="183" name=""/>
            <p:cNvSpPr/>
            <p:nvPr/>
          </p:nvSpPr>
          <p:spPr>
            <a:xfrm>
              <a:off x="3419280" y="2620800"/>
              <a:ext cx="1582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+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76360" y="2646000"/>
              <a:ext cx="1582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 </a:t>
              </a: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1440" y="2620800"/>
              <a:ext cx="1582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10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7800" y="2620800"/>
              <a:ext cx="1582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1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11280" y="3486240"/>
            <a:ext cx="5364000" cy="880920"/>
            <a:chOff x="2411280" y="3486240"/>
            <a:chExt cx="5364000" cy="880920"/>
          </a:xfrm>
        </p:grpSpPr>
        <p:sp>
          <p:nvSpPr>
            <p:cNvPr id="188" name=""/>
            <p:cNvSpPr/>
            <p:nvPr/>
          </p:nvSpPr>
          <p:spPr>
            <a:xfrm>
              <a:off x="3454200" y="3486240"/>
              <a:ext cx="1582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+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1280" y="3511440"/>
              <a:ext cx="1582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 </a:t>
              </a: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9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6360" y="3486240"/>
              <a:ext cx="1582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 </a:t>
              </a: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9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2720" y="3486240"/>
              <a:ext cx="1582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5050"/>
                  </a:solidFill>
                  <a:latin typeface="Arial"/>
                </a:rPr>
                <a:t>1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84360" y="4365720"/>
            <a:ext cx="511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可能是多少分</a:t>
            </a: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187800" y="5062680"/>
            <a:ext cx="5344560" cy="1824120"/>
            <a:chOff x="3187800" y="5062680"/>
            <a:chExt cx="5344560" cy="1824120"/>
          </a:xfrm>
        </p:grpSpPr>
        <p:sp>
          <p:nvSpPr>
            <p:cNvPr id="194" name=""/>
            <p:cNvSpPr/>
            <p:nvPr/>
          </p:nvSpPr>
          <p:spPr>
            <a:xfrm>
              <a:off x="3660480" y="5577840"/>
              <a:ext cx="0" cy="4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49440" y="5547600"/>
              <a:ext cx="0" cy="6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3760" y="5062680"/>
              <a:ext cx="0" cy="6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20920" y="5608440"/>
              <a:ext cx="0" cy="6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7800" y="6000840"/>
              <a:ext cx="115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7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1920" y="6153120"/>
              <a:ext cx="115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8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2320" y="5699520"/>
              <a:ext cx="114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9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48080" y="6183360"/>
              <a:ext cx="148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10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7440" y="6002280"/>
              <a:ext cx="4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46400" y="6184080"/>
              <a:ext cx="4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00720" y="5699520"/>
              <a:ext cx="4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17880" y="6244560"/>
              <a:ext cx="4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042920" y="6021360"/>
            <a:ext cx="1224000" cy="503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5877000"/>
            <a:ext cx="1224000" cy="503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152280" y="2590920"/>
            <a:ext cx="2438280" cy="300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爸爸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:19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妈妈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:17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(3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人总分不同</a:t>
            </a:r>
            <a:r>
              <a:rPr b="1" lang="zh-CN" sz="3000" spc="-1" strike="noStrike">
                <a:solidFill>
                  <a:srgbClr val="ff33c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228600" y="3352680"/>
            <a:ext cx="2514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老师：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？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828800"/>
            <a:ext cx="22096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Arial"/>
                <a:ea typeface="华文琥珀"/>
              </a:rPr>
              <a:t>成绩排名</a:t>
            </a:r>
            <a:r>
              <a:rPr b="0" lang="zh-CN" sz="3000" spc="-1" strike="noStrike">
                <a:solidFill>
                  <a:srgbClr val="ff33cc"/>
                </a:solidFill>
                <a:latin typeface="Arial"/>
                <a:ea typeface="华文琥珀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3284640"/>
            <a:ext cx="93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1052640"/>
            <a:ext cx="93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1052640"/>
            <a:ext cx="17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  <a:ea typeface="楷体_GB2312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0920" y="19080"/>
            <a:ext cx="7866720" cy="6735240"/>
            <a:chOff x="160920" y="19080"/>
            <a:chExt cx="7866720" cy="6735240"/>
          </a:xfrm>
        </p:grpSpPr>
        <p:sp>
          <p:nvSpPr>
            <p:cNvPr id="216" name=""/>
            <p:cNvSpPr txBox="1"/>
            <p:nvPr/>
          </p:nvSpPr>
          <p:spPr>
            <a:xfrm rot="1788000">
              <a:off x="893520" y="260280"/>
              <a:ext cx="1296360" cy="12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66"/>
                      </a:gs>
                      <a:gs pos="50000">
                        <a:srgbClr val="ffffcc"/>
                      </a:gs>
                      <a:gs pos="100000">
                        <a:srgbClr val="ffff66"/>
                      </a:gs>
                    </a:gsLst>
                    <a:lin ang="3612000"/>
                  </a:gradFill>
                  <a:latin typeface="华文琥珀"/>
                </a:rPr>
                <a:t>硬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  <a:ea typeface="华文琥珀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20380800">
              <a:off x="323640" y="1628280"/>
              <a:ext cx="1170360" cy="11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华文琥珀"/>
                </a:rPr>
                <a:t>币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589800">
              <a:off x="800280" y="5516640"/>
              <a:ext cx="1170360" cy="11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华文琥珀"/>
                </a:rPr>
                <a:t>来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20952000">
              <a:off x="392400" y="4076280"/>
              <a:ext cx="1172160" cy="11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华文琥珀"/>
                </a:rPr>
                <a:t>起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00800">
              <a:off x="799920" y="2852640"/>
              <a:ext cx="1170360" cy="11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华文琥珀"/>
                </a:rPr>
                <a:t>转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0"/>
            <a:stretch/>
          </p:blipFill>
          <p:spPr>
            <a:xfrm>
              <a:off x="2919240" y="692280"/>
              <a:ext cx="5108400" cy="18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2050920" y="2708280"/>
            <a:ext cx="6626520" cy="2071800"/>
            <a:chOff x="2050920" y="2708280"/>
            <a:chExt cx="6626520" cy="2071800"/>
          </a:xfrm>
        </p:grpSpPr>
        <p:sp>
          <p:nvSpPr>
            <p:cNvPr id="223" name=""/>
            <p:cNvSpPr/>
            <p:nvPr/>
          </p:nvSpPr>
          <p:spPr>
            <a:xfrm>
              <a:off x="2124000" y="2708280"/>
              <a:ext cx="65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同桌一起转动硬币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次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并把转动后的结果记录下来</a:t>
              </a:r>
              <a:r>
                <a:rPr b="1" lang="zh-CN" sz="1800" spc="-1" strike="noStrike">
                  <a:solidFill>
                    <a:srgbClr val="ff00ff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4000" y="4076640"/>
              <a:ext cx="65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也可以和好朋友发明其他“玩硬币”的新游戏。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1"/>
            <a:stretch/>
          </p:blipFill>
          <p:spPr>
            <a:xfrm>
              <a:off x="2050920" y="2779920"/>
              <a:ext cx="57492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2"/>
            <a:stretch/>
          </p:blipFill>
          <p:spPr>
            <a:xfrm>
              <a:off x="2050920" y="4148280"/>
              <a:ext cx="574920" cy="57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651672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370836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7885080" y="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ait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4" name=""/>
          <p:cNvSpPr txBox="1"/>
          <p:nvPr/>
        </p:nvSpPr>
        <p:spPr>
          <a:xfrm rot="1788000">
            <a:off x="636120" y="260280"/>
            <a:ext cx="134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</a:rPr>
              <a:t>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ffcc"/>
                  </a:gs>
                  <a:gs pos="100000">
                    <a:srgbClr val="ffff66"/>
                  </a:gs>
                </a:gsLst>
                <a:lin ang="3612000"/>
              </a:gradFill>
              <a:latin typeface="华文琥珀"/>
              <a:ea typeface="华文琥珀"/>
            </a:endParaRPr>
          </a:p>
        </p:txBody>
      </p:sp>
      <p:sp>
        <p:nvSpPr>
          <p:cNvPr id="235" name=""/>
          <p:cNvSpPr txBox="1"/>
          <p:nvPr/>
        </p:nvSpPr>
        <p:spPr>
          <a:xfrm rot="20380800">
            <a:off x="394920" y="1699920"/>
            <a:ext cx="121284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琥珀"/>
              </a:rPr>
              <a:t>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36" name=""/>
          <p:cNvSpPr txBox="1"/>
          <p:nvPr/>
        </p:nvSpPr>
        <p:spPr>
          <a:xfrm rot="589800">
            <a:off x="826920" y="544500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来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37" name=""/>
          <p:cNvSpPr txBox="1"/>
          <p:nvPr/>
        </p:nvSpPr>
        <p:spPr>
          <a:xfrm rot="20952000">
            <a:off x="468000" y="4076280"/>
            <a:ext cx="12142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华文琥珀"/>
              </a:rPr>
              <a:t>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38" name=""/>
          <p:cNvSpPr txBox="1"/>
          <p:nvPr/>
        </p:nvSpPr>
        <p:spPr>
          <a:xfrm rot="1000800">
            <a:off x="684360" y="292428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华文琥珀"/>
              </a:rPr>
              <a:t>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华文琥珀"/>
              <a:ea typeface="华文琥珀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687708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7380360" y="83664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8101080" y="0"/>
            <a:ext cx="514440" cy="5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979640" y="1844640"/>
          <a:ext cx="6696000" cy="3672000"/>
        </p:xfrm>
        <a:graphic>
          <a:graphicData uri="http://schemas.openxmlformats.org/drawingml/2006/table">
            <a:tbl>
              <a:tblPr/>
              <a:tblGrid>
                <a:gridCol w="1371240"/>
                <a:gridCol w="676440"/>
                <a:gridCol w="665280"/>
                <a:gridCol w="663480"/>
                <a:gridCol w="663480"/>
                <a:gridCol w="663480"/>
                <a:gridCol w="665280"/>
                <a:gridCol w="662040"/>
                <a:gridCol w="665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6" name="1角花" descr=""/>
          <p:cNvPicPr/>
          <p:nvPr/>
        </p:nvPicPr>
        <p:blipFill>
          <a:blip r:embed="rId16"/>
          <a:stretch/>
        </p:blipFill>
        <p:spPr>
          <a:xfrm>
            <a:off x="2197080" y="450864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1角字" descr=""/>
          <p:cNvPicPr/>
          <p:nvPr/>
        </p:nvPicPr>
        <p:blipFill>
          <a:blip r:embed="rId17"/>
          <a:stretch/>
        </p:blipFill>
        <p:spPr>
          <a:xfrm>
            <a:off x="2268360" y="3429000"/>
            <a:ext cx="989280" cy="100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7640" y="83664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转硬币情况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52" name=""/>
          <p:cNvSpPr txBox="1"/>
          <p:nvPr/>
        </p:nvSpPr>
        <p:spPr>
          <a:xfrm rot="1788000">
            <a:off x="636120" y="260280"/>
            <a:ext cx="134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</a:rPr>
              <a:t>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ffcc"/>
                  </a:gs>
                  <a:gs pos="100000">
                    <a:srgbClr val="ffff66"/>
                  </a:gs>
                </a:gsLst>
                <a:lin ang="3612000"/>
              </a:gradFill>
              <a:latin typeface="华文琥珀"/>
              <a:ea typeface="华文琥珀"/>
            </a:endParaRPr>
          </a:p>
        </p:txBody>
      </p:sp>
      <p:sp>
        <p:nvSpPr>
          <p:cNvPr id="253" name=""/>
          <p:cNvSpPr txBox="1"/>
          <p:nvPr/>
        </p:nvSpPr>
        <p:spPr>
          <a:xfrm rot="20380800">
            <a:off x="394920" y="1699920"/>
            <a:ext cx="121284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琥珀"/>
              </a:rPr>
              <a:t>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54" name=""/>
          <p:cNvSpPr txBox="1"/>
          <p:nvPr/>
        </p:nvSpPr>
        <p:spPr>
          <a:xfrm rot="589800">
            <a:off x="826920" y="544500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来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55" name=""/>
          <p:cNvSpPr txBox="1"/>
          <p:nvPr/>
        </p:nvSpPr>
        <p:spPr>
          <a:xfrm rot="20952000">
            <a:off x="468000" y="4076280"/>
            <a:ext cx="12142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华文琥珀"/>
              </a:rPr>
              <a:t>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256" name=""/>
          <p:cNvSpPr txBox="1"/>
          <p:nvPr/>
        </p:nvSpPr>
        <p:spPr>
          <a:xfrm rot="1000800">
            <a:off x="684360" y="292428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华文琥珀"/>
              </a:rPr>
              <a:t>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华文琥珀"/>
              <a:ea typeface="华文琥珀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 rot="5400000">
            <a:off x="-3539160" y="3539160"/>
            <a:ext cx="7389720" cy="311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 rot="5400000">
            <a:off x="5418360" y="3436200"/>
            <a:ext cx="7174080" cy="30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687708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7380360" y="83664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7"/>
          <a:stretch/>
        </p:blipFill>
        <p:spPr>
          <a:xfrm>
            <a:off x="8101080" y="0"/>
            <a:ext cx="514440" cy="5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1979640" y="1844640"/>
          <a:ext cx="6696000" cy="3672000"/>
        </p:xfrm>
        <a:graphic>
          <a:graphicData uri="http://schemas.openxmlformats.org/drawingml/2006/table">
            <a:tbl>
              <a:tblPr/>
              <a:tblGrid>
                <a:gridCol w="1371240"/>
                <a:gridCol w="676440"/>
                <a:gridCol w="665280"/>
                <a:gridCol w="663480"/>
                <a:gridCol w="663480"/>
                <a:gridCol w="663480"/>
                <a:gridCol w="665280"/>
                <a:gridCol w="662040"/>
                <a:gridCol w="665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6" name="1角花" descr=""/>
          <p:cNvPicPr/>
          <p:nvPr/>
        </p:nvPicPr>
        <p:blipFill>
          <a:blip r:embed="rId18"/>
          <a:stretch/>
        </p:blipFill>
        <p:spPr>
          <a:xfrm>
            <a:off x="2197080" y="450864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1角字" descr=""/>
          <p:cNvPicPr/>
          <p:nvPr/>
        </p:nvPicPr>
        <p:blipFill>
          <a:blip r:embed="rId19"/>
          <a:stretch/>
        </p:blipFill>
        <p:spPr>
          <a:xfrm>
            <a:off x="2268360" y="3429000"/>
            <a:ext cx="98928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83664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转硬币情况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79640" y="256536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说一说本节课我们都学习了哪些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2276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本节课我们主要来学习可能性，同学们要掌握可能性的概念，能够判别一些常见事物的可能性大小，知道哪些游戏是公平的，哪些是公平的。并且可以用“一定”、“可能”、“不可能”等词来描述一些事物的发生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27280" y="83664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68360" y="6021360"/>
            <a:ext cx="47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333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63640" y="24210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101080" y="90792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227640" y="62064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9640" y="-36720"/>
            <a:ext cx="7968960" cy="6143400"/>
            <a:chOff x="539640" y="-36720"/>
            <a:chExt cx="7968960" cy="6143400"/>
          </a:xfrm>
        </p:grpSpPr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539640" y="1844640"/>
              <a:ext cx="51444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 rot="20380800">
              <a:off x="1618920" y="1269720"/>
              <a:ext cx="1213200" cy="11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华文琥珀"/>
                </a:rPr>
                <a:t>来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 rot="1790400">
              <a:off x="7090920" y="189000"/>
              <a:ext cx="1212840" cy="11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stretch/>
                  </a:blipFill>
                  <a:latin typeface="华文琥珀"/>
                </a:rPr>
                <a:t>蟹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 rot="1039800">
              <a:off x="4930200" y="189000"/>
              <a:ext cx="1214640" cy="11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12"/>
                    <a:srcRect/>
                    <a:stretch/>
                  </a:blipFill>
                  <a:latin typeface="华文琥珀"/>
                </a:rPr>
                <a:t>螃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274920" y="693360"/>
              <a:ext cx="1212840" cy="11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14"/>
                    <a:srcRect/>
                    <a:stretch/>
                  </a:blipFill>
                  <a:latin typeface="华文琥珀"/>
                </a:rPr>
                <a:t>抓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6"/>
            <a:stretch/>
          </p:blipFill>
          <p:spPr>
            <a:xfrm>
              <a:off x="3743280" y="1584000"/>
              <a:ext cx="4146480" cy="45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7"/>
            <a:stretch/>
          </p:blipFill>
          <p:spPr>
            <a:xfrm>
              <a:off x="3382920" y="3313080"/>
              <a:ext cx="169992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8"/>
            <a:stretch/>
          </p:blipFill>
          <p:spPr>
            <a:xfrm>
              <a:off x="2087280" y="4538520"/>
              <a:ext cx="1927440" cy="149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2260080" y="4970160"/>
              <a:ext cx="1687320" cy="1036080"/>
              <a:chOff x="2260080" y="4970160"/>
              <a:chExt cx="1687320" cy="1036080"/>
            </a:xfrm>
          </p:grpSpPr>
          <p:pic>
            <p:nvPicPr>
              <p:cNvPr id="63" name="" descr=""/>
              <p:cNvPicPr/>
              <p:nvPr/>
            </p:nvPicPr>
            <p:blipFill>
              <a:blip r:embed="rId19"/>
              <a:stretch/>
            </p:blipFill>
            <p:spPr>
              <a:xfrm rot="2488800">
                <a:off x="2304360" y="5421240"/>
                <a:ext cx="608400" cy="3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20"/>
              <a:stretch/>
            </p:blipFill>
            <p:spPr>
              <a:xfrm rot="19955400">
                <a:off x="3152520" y="5421240"/>
                <a:ext cx="734400" cy="4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21"/>
              <a:stretch/>
            </p:blipFill>
            <p:spPr>
              <a:xfrm rot="1362000">
                <a:off x="2643480" y="5251320"/>
                <a:ext cx="540000" cy="3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22"/>
              <a:stretch/>
            </p:blipFill>
            <p:spPr>
              <a:xfrm rot="1063200">
                <a:off x="2417760" y="5040000"/>
                <a:ext cx="502560" cy="27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23"/>
              <a:stretch/>
            </p:blipFill>
            <p:spPr>
              <a:xfrm rot="20536200">
                <a:off x="3152880" y="5166720"/>
                <a:ext cx="502560" cy="273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 txBox="1"/>
            <p:nvPr/>
          </p:nvSpPr>
          <p:spPr>
            <a:xfrm rot="20380800">
              <a:off x="826560" y="2852280"/>
              <a:ext cx="1212840" cy="11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24"/>
                    <a:srcRect/>
                    <a:stretch/>
                  </a:blipFill>
                  <a:latin typeface="华文琥珀"/>
                </a:rPr>
                <a:t>我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859280" y="2376360"/>
            <a:ext cx="2590920" cy="2205000"/>
            <a:chOff x="4859280" y="2376360"/>
            <a:chExt cx="2590920" cy="22050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859280" y="2376360"/>
              <a:ext cx="2590920" cy="22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6388200" y="3492720"/>
              <a:ext cx="69084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6133320" y="3840840"/>
              <a:ext cx="69084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5878440" y="3449160"/>
              <a:ext cx="69084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6515640" y="3797280"/>
              <a:ext cx="690840" cy="5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7"/>
            <a:stretch/>
          </p:blipFill>
          <p:spPr>
            <a:xfrm>
              <a:off x="6643080" y="3144960"/>
              <a:ext cx="690840" cy="5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8"/>
            <a:stretch/>
          </p:blipFill>
          <p:spPr>
            <a:xfrm>
              <a:off x="5708520" y="3971160"/>
              <a:ext cx="69084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5156640" y="3797280"/>
              <a:ext cx="690840" cy="5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0"/>
            <a:stretch/>
          </p:blipFill>
          <p:spPr>
            <a:xfrm>
              <a:off x="5198760" y="3449160"/>
              <a:ext cx="690840" cy="55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65040" y="304812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20" y="1523880"/>
            <a:ext cx="91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任意抓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90512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2743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一定是螃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3962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可能是螃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5238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不可能是螃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859280" y="46080"/>
            <a:ext cx="2630520" cy="2292480"/>
            <a:chOff x="4859280" y="46080"/>
            <a:chExt cx="2630520" cy="229248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4859280" y="46080"/>
              <a:ext cx="2630520" cy="22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2"/>
            <a:stretch/>
          </p:blipFill>
          <p:spPr>
            <a:xfrm rot="1049400">
              <a:off x="5028840" y="1085040"/>
              <a:ext cx="40032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3"/>
            <a:stretch/>
          </p:blipFill>
          <p:spPr>
            <a:xfrm rot="1049400">
              <a:off x="6301800" y="1431360"/>
              <a:ext cx="40032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4"/>
            <a:stretch/>
          </p:blipFill>
          <p:spPr>
            <a:xfrm rot="1049400">
              <a:off x="6683400" y="1474920"/>
              <a:ext cx="40032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5"/>
            <a:stretch/>
          </p:blipFill>
          <p:spPr>
            <a:xfrm rot="1049400">
              <a:off x="5707800" y="262080"/>
              <a:ext cx="40032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6"/>
            <a:stretch/>
          </p:blipFill>
          <p:spPr>
            <a:xfrm rot="2167800">
              <a:off x="6683400" y="1128960"/>
              <a:ext cx="64188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7"/>
            <a:stretch/>
          </p:blipFill>
          <p:spPr>
            <a:xfrm rot="2167800">
              <a:off x="5792400" y="1691640"/>
              <a:ext cx="64188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8"/>
            <a:stretch/>
          </p:blipFill>
          <p:spPr>
            <a:xfrm rot="2167800">
              <a:off x="5537880" y="1085400"/>
              <a:ext cx="641880" cy="50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932360" y="4724280"/>
            <a:ext cx="2662200" cy="2191320"/>
            <a:chOff x="4932360" y="4724280"/>
            <a:chExt cx="2662200" cy="2191320"/>
          </a:xfrm>
        </p:grpSpPr>
        <p:pic>
          <p:nvPicPr>
            <p:cNvPr id="95" name="" descr=""/>
            <p:cNvPicPr/>
            <p:nvPr/>
          </p:nvPicPr>
          <p:blipFill>
            <a:blip r:embed="rId19"/>
            <a:stretch/>
          </p:blipFill>
          <p:spPr>
            <a:xfrm>
              <a:off x="4932360" y="4724280"/>
              <a:ext cx="26622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0"/>
            <a:stretch/>
          </p:blipFill>
          <p:spPr>
            <a:xfrm>
              <a:off x="5759280" y="5941800"/>
              <a:ext cx="708120" cy="53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1"/>
            <a:stretch/>
          </p:blipFill>
          <p:spPr>
            <a:xfrm rot="1049400">
              <a:off x="5105880" y="5479920"/>
              <a:ext cx="41076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2"/>
            <a:stretch/>
          </p:blipFill>
          <p:spPr>
            <a:xfrm rot="2167800">
              <a:off x="6760080" y="5774040"/>
              <a:ext cx="65844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3"/>
            <a:stretch/>
          </p:blipFill>
          <p:spPr>
            <a:xfrm>
              <a:off x="6411960" y="6152040"/>
              <a:ext cx="70812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4"/>
            <a:stretch/>
          </p:blipFill>
          <p:spPr>
            <a:xfrm>
              <a:off x="4975920" y="5900040"/>
              <a:ext cx="70812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5"/>
            <a:stretch/>
          </p:blipFill>
          <p:spPr>
            <a:xfrm rot="2167800">
              <a:off x="6107040" y="6278040"/>
              <a:ext cx="65844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6"/>
            <a:stretch/>
          </p:blipFill>
          <p:spPr>
            <a:xfrm rot="2167800">
              <a:off x="5846040" y="5563800"/>
              <a:ext cx="65844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7"/>
            <a:stretch/>
          </p:blipFill>
          <p:spPr>
            <a:xfrm rot="1049400">
              <a:off x="6977520" y="4975920"/>
              <a:ext cx="410400" cy="54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28"/>
          <a:stretch/>
        </p:blipFill>
        <p:spPr>
          <a:xfrm>
            <a:off x="1770120" y="4657680"/>
            <a:ext cx="2649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9280" y="549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下面各题的（   ）里，你认为填“一定”、“可能”、还是“不可能”呢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360" y="213372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几加二十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四十几，（     ）等于一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2133720"/>
            <a:ext cx="151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可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97360"/>
            <a:ext cx="25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不可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013360"/>
            <a:ext cx="10045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5÷3</a:t>
            </a:r>
            <a:r>
              <a:rPr b="1" lang="zh-CN" sz="5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等于</a:t>
            </a:r>
            <a:r>
              <a:rPr b="1" lang="zh-CN" sz="5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5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5084640"/>
            <a:ext cx="151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1640" y="2997360"/>
            <a:ext cx="925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的年龄（   ）比我大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280" y="549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下面各题的（   ）里，你认为填“一定”、“可能”、还是“不可能”呢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0" y="1844640"/>
            <a:ext cx="100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西边升起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924280"/>
            <a:ext cx="151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080" y="1844640"/>
            <a:ext cx="25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不可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4004640"/>
            <a:ext cx="918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老师今天没来上课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   是生病了。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4005360"/>
            <a:ext cx="151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可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6920" y="2691720"/>
            <a:ext cx="79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还能用“</a:t>
            </a:r>
            <a:r>
              <a:rPr b="1" lang="zh-CN" sz="5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一定</a:t>
            </a:r>
            <a:r>
              <a:rPr b="1" lang="zh-CN" sz="5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”、“</a:t>
            </a:r>
            <a:r>
              <a:rPr b="1" lang="zh-CN" sz="5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可能</a:t>
            </a:r>
            <a:r>
              <a:rPr b="1" lang="zh-CN" sz="5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”、“</a:t>
            </a:r>
            <a:r>
              <a:rPr b="1" lang="zh-CN" sz="5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不可能</a:t>
            </a:r>
            <a:r>
              <a:rPr b="1" lang="zh-CN" sz="5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” 说说生活中发生的事情吗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620640"/>
            <a:ext cx="316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黑体"/>
              </a:rPr>
              <a:t>说一说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811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4869000"/>
            <a:ext cx="831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妈妈：（   ） （   ）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）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005360"/>
            <a:ext cx="831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爸爸：（   ） （   ）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）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393372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484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141300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3080" y="26028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8360" y="1557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249228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5050"/>
                </a:solidFill>
                <a:latin typeface="Arial"/>
              </a:rPr>
              <a:t>7</a:t>
            </a:r>
            <a:r>
              <a:rPr b="0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85264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5050"/>
                </a:solidFill>
                <a:latin typeface="Arial"/>
              </a:rPr>
              <a:t>8</a:t>
            </a:r>
            <a:r>
              <a:rPr b="0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1773360"/>
            <a:ext cx="12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5050"/>
                </a:solidFill>
                <a:latin typeface="Arial"/>
              </a:rPr>
              <a:t>9</a:t>
            </a:r>
            <a:r>
              <a:rPr b="0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9080" y="2924280"/>
            <a:ext cx="158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5050"/>
                </a:solidFill>
                <a:latin typeface="Arial"/>
              </a:rPr>
              <a:t>10</a:t>
            </a:r>
            <a:r>
              <a:rPr b="0" lang="zh-CN" sz="5000" spc="-1" strike="noStrike">
                <a:solidFill>
                  <a:srgbClr val="ff5050"/>
                </a:solidFill>
                <a:latin typeface="Arial"/>
                <a:ea typeface="楷体_GB2312"/>
              </a:rPr>
              <a:t>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3141720"/>
            <a:ext cx="1224000" cy="5032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18400">
            <a:off x="1044360" y="3141720"/>
            <a:ext cx="1223640" cy="5032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492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17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72360" y="306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349360"/>
            <a:ext cx="122400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670200">
            <a:off x="1331640" y="2276640"/>
            <a:ext cx="1224000" cy="502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149720"/>
            <a:ext cx="5760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9440" y="393372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5440" y="393372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5440" y="3933720"/>
            <a:ext cx="158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79736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79736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4869000"/>
            <a:ext cx="158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4797360"/>
            <a:ext cx="158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5011560"/>
            <a:ext cx="5760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Motion origin="layout" path="M 1.11111E-006 3.9251E-006 C 0.04635 -0.09524 0.09288 -0.19048 0.1533 -0.26052 C 0.21371 -0.33056 0.28663 -0.39506 0.36215 -0.42025 C 0.43767 -0.44545 0.54965 -0.43042 0.6066 -0.41124 C 0.66354 -0.39205 0.68698 -0.36316 0.70434 -0.3049 C 0.7217 -0.24665 0.71632 -0.15442 0.71111 -0.06219 E">
                                      <p:cBhvr>
                                        <p:cTn id="8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Motion origin="layout" path="M -6.94444E-006 3.27785E-006 C 0.02239 -0.05849 0.04479 -0.11697 0.07777 -0.18354 C 0.11076 -0.25012 0.15989 -0.35645 0.19774 -0.39945 C 0.23558 -0.44244 0.26979 -0.4325 0.30451 -0.44083 C 0.33923 -0.44915 0.37031 -0.44892 0.40659 -0.44984 C 0.44288 -0.45077 0.49808 -0.45377 0.52222 -0.44684 C 0.54635 -0.4399 0.54513 -0.4369 0.55104 -0.40823 C 0.55694 -0.37957 0.55676 -0.29728 0.55781 -0.27508 E">
                                      <p:cBhvr>
                                        <p:cTn id="8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Motion origin="layout" path="M -0.01493 -0.02014 C 0.00295 -0.1044 0.02101 -0.18773 0.04688 -0.22639 C 0.07309 -0.26273 0.11875 -0.25139 0.14132 -0.25 C 0.16406 -0.24977 0.17344 -0.24028 0.18264 -0.2206 C 0.19167 -0.20185 0.1941 -0.16273 0.19705 -0.13333 C 0.19965 -0.10278 0.19809 -0.07338 0.19688 -0.04213 E">
                                      <p:cBhvr>
                                        <p:cTn id="9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Motion origin="layout" path="M 1.38889E-006 0.01087 C 0.06198 -0.11327 0.1243 -0.23694 0.20226 -0.28826 C 0.28038 -0.33957 0.39792 -0.30999 0.46805 -0.2975 C 0.53802 -0.28479 0.58489 -0.23856 0.62257 -0.21197 C 0.66042 -0.18539 0.67812 -0.17822 0.69444 -0.1387 C 0.71076 -0.09917 0.71614 -0.00116 0.72048 0.02635 E">
                                      <p:cBhvr>
                                        <p:cTn id="9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108000" y="1628640"/>
            <a:ext cx="270036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爸爸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:19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妈妈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:17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(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人总分不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708360" y="127080"/>
            <a:ext cx="5435280" cy="2430360"/>
            <a:chOff x="3708360" y="127080"/>
            <a:chExt cx="5435280" cy="2430360"/>
          </a:xfrm>
        </p:grpSpPr>
        <p:sp>
          <p:nvSpPr>
            <p:cNvPr id="151" name=""/>
            <p:cNvSpPr/>
            <p:nvPr/>
          </p:nvSpPr>
          <p:spPr>
            <a:xfrm>
              <a:off x="4188960" y="920520"/>
              <a:ext cx="0" cy="65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03120" y="87444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0840" y="12708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18520" y="967680"/>
              <a:ext cx="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1571760"/>
              <a:ext cx="116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7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0200" y="1807560"/>
              <a:ext cx="117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8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30040" y="1108080"/>
              <a:ext cx="116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9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2720" y="1854000"/>
              <a:ext cx="151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Arial"/>
                </a:rPr>
                <a:t>10</a:t>
              </a:r>
              <a:r>
                <a:rPr b="0" lang="zh-CN" sz="4000" spc="-1" strike="noStrike">
                  <a:solidFill>
                    <a:srgbClr val="ff5050"/>
                  </a:solidFill>
                  <a:latin typeface="Arial"/>
                  <a:ea typeface="楷体_GB2312"/>
                </a:rPr>
                <a:t>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82680" y="1573920"/>
              <a:ext cx="4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96840" y="1854000"/>
              <a:ext cx="4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4200" y="1108080"/>
              <a:ext cx="4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12240" y="1947600"/>
              <a:ext cx="4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03280" y="3573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3440" y="3205080"/>
            <a:ext cx="7452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要怎样套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一定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名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4956120"/>
            <a:ext cx="831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） （   ）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）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5084640"/>
            <a:ext cx="57636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3840" y="492588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94172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4925880"/>
            <a:ext cx="158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4925880"/>
            <a:ext cx="158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5050"/>
                </a:solidFill>
                <a:latin typeface="Arial"/>
              </a:rPr>
              <a:t>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1628640"/>
            <a:ext cx="1224000" cy="503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1700280"/>
            <a:ext cx="1224000" cy="503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08000" y="249228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老师：？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836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华文琥珀"/>
              </a:rPr>
              <a:t>成绩排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6:13:31Z</dcterms:created>
  <dc:creator> </dc:creator>
  <dc:description> </dc:description>
  <dc:language>en-US</dc:language>
  <cp:lastModifiedBy>微软用户</cp:lastModifiedBy>
  <dcterms:modified xsi:type="dcterms:W3CDTF">2013-08-27T00:44:03Z</dcterms:modified>
  <cp:revision>0</cp:revision>
  <dc:subject> </dc:subject>
  <dc:title> </dc:title>
</cp:coreProperties>
</file>