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85A-0F6B-4C7D-8586-57834577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200-83C6-4AD3-9DCB-8C48A28B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06C01-8332-4B76-B291-FDBF5794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9ABF0-B6E7-441A-ADAE-A06136E9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A2EF5-9379-49C6-A577-C87ED34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68DA1-F7CF-419B-912E-62B5A29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ED5A7-103E-4780-BB76-F65C3F2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4E6C4-2815-4004-9F32-DFF034D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A0805-645A-4938-83F4-B399B38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52FCB-A9CC-4D07-946B-37E621CE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A5027-2137-4E33-B919-42201878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948A5-D393-435A-8851-272FE74C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812-39C4-4FF9-BCBC-782D9BE4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C97AE-0984-47D9-ACFE-5AF63EA9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11AD-3CE8-4172-97AD-C220D4D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9FF49-5DCF-4D32-81D4-1748E066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71545-CD21-4C07-8286-6BF5F5C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26B6C-1A3C-408B-85A0-AC30543A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6C721-3F57-493C-AF7F-FCDE775A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1194B-99B3-4BE1-8C67-6AD6C1B4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9E53C-6C77-4E19-ACE4-63B14D8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F3B45-72E2-48A0-95FC-B5815313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FDC9C-BCDB-4CE1-B266-E66E7D07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8B3-BA80-4721-A950-14DB7AEA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96544-9BB4-40F9-A978-00AD480B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E2425-451F-459B-9AF0-D48B3735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8A1C8-1B71-40DE-ACE2-6BF0E91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CE423-385F-4A4C-BE71-97A8B2C6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1D5A1-4399-4A9D-B54C-37819C18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A2C36-ABF4-4A9E-9658-4A75FCA5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3863-B435-4530-AC51-3CF71564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D499C-F8A1-4DCD-A531-9BC69A6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CC4CF-7351-4B23-9743-BF56F3DB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7F3CF-1C97-42D2-A620-3EFD52C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5652-A08A-4DFB-A91F-D5BB0F9C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987CD-74E6-4CA6-A384-3A826F8D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AEE3F-22C7-46AF-9677-E52D809F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2BC14-0687-401A-93F5-07250FFB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04DD0-1F60-4D71-BD68-E9B31DE5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A750A-3539-430F-B8FC-3A7AF293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5072A-90AF-4F83-9BBB-693C2AE4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9B13A-15AE-4355-A2AD-744D92FA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2374D-0D90-4E58-B8D2-E32BEE97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A6F8A-F9F9-4844-8624-80B78BB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1562E-49DE-4AAB-BAC8-6F916CC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7C3-4DE5-48FB-8E73-FA4890E6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C8ED3-2EE7-4B77-A6B4-282100DA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E8085-A144-4818-8007-7778B81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EFD8D-620B-416B-BDB2-A3C810E9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18262-8258-49A4-B4E7-EF84633C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55C5-B201-4BFB-8D08-32B07457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F11-02F2-4819-9A29-BD65DF41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381-E94D-4A07-B856-4BA30E09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3E69-D170-4345-9BBA-1A10375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5F64-83CA-47B8-AA96-B294DAF0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689-54A2-4C78-8356-0A5A381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3BF-6A57-4A88-B1D4-FA5C729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DFB9-9798-427C-8BEF-757450F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B397-5818-4B6D-984F-F4B2CD4E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702D-162E-43A9-9531-77BF8F5A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3DF4-D615-454A-AA58-1EE0BEEF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0544-F7C2-4104-8155-DE438F91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4305-AA84-4166-8D99-618EC4D4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3AAE-9E24-45DC-9E5C-49C0475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6F29-1DA4-482E-85F0-C996036E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B5D9-90CC-44C2-A0AC-A98A052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9754-AEC5-44BD-8F58-CDD4573C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BA9-BB5F-4D3C-9242-55D1BF31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32CA-AD62-491D-A20F-7042B441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E7D3-5B2E-4E59-8656-D2AB38A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067C-F550-4DD5-B4D6-10FB0E91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077C-0E9D-4AAE-824A-97F5D2E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DD1C-12FC-4FD6-8C78-727DE15E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F80B-4CBE-416A-89FE-478ADFC9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4BF2-E5B9-425E-9C30-81366E6B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23B3-8BCF-4F51-93AA-D1DDCBCE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9642-4CB1-43DD-AE52-326A1596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5CFD-2FD9-4BB2-A7D7-FB12EC52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CB6-4857-44C8-A086-DD8FFD0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D517-CBEE-4523-B3F1-138ABD86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DCF15-71CD-4947-BB30-0CE13F73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2EE2-0C46-426E-8DE9-52C8642F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7624-03D1-44A1-9927-022A52F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7458-3777-4DBC-BB47-F6AC38A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AEA2-B88E-4965-8435-DA61C26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EEB6-AA3E-4D39-85DD-DB833248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297B-32D6-4B50-B85C-B64EB9BF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7D9B-D49A-4301-A4C8-9C35A71E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BC46-1B39-4867-AA82-5D45498F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73E-E345-4EA5-AC81-FCAA9527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B983-F494-436B-8E46-A74552A6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3E16C-4EE9-41B3-9BCA-87F7898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8ED17-2875-4350-A64B-F5AC00E6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068C4-04A8-4563-9B26-63AB0EFB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380C-F160-4239-A5D0-7BD67A18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5E71-A364-4397-83F6-3674E60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FF0B-EA64-40E9-88BA-89EED74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3052-28A6-4B3A-BD76-3D484FC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172D-7337-478C-976F-FC78756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F9D4F-14A4-424C-BF8D-9233027A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9C1-BCCB-4B48-8ACF-3B03429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1623-A384-4167-B28D-8165C8AA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6A0D8-1C97-4971-9AB0-D16012C2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DEB5-254A-47CE-AE04-BE985A08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6EAD6-5A8A-4F04-A71E-3619F56E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0D49-45CF-4C89-BC3D-CFB4FADB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A3F19-7F6F-49A4-93F3-A110CED7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8AA9-D7B9-42F5-B802-FAD918A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8E23F-B267-498B-A718-C2F62F7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7CA5-26B5-4973-A2BD-797FE10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2D48C-EC2B-415E-9024-5EA5B8B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E9F-4619-43BE-8266-AD4C740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957C3-4526-4566-AF8F-69F7788A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BC34-09EE-449F-98E2-DFA92297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A6B5-EB2A-4369-89DB-8E21BF20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7C5BA-86CC-474D-8CB5-0737CC3E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0965-D5AB-4AD8-BCFE-CA6C547D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E21C-C338-4609-A25F-75085777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6C24-C166-4BFB-929E-C0FE8309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C87E-46C8-459D-B000-332C519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9541D-FF1B-419B-8118-DE1504C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5B18-0409-4B65-9F2C-F12A710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602-F1BD-4234-8DD5-3D285CD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BD04-8C77-4AAA-9DF2-6E6CCAC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84C2-E984-4AAB-90AF-00AFB98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3E87-EBE3-45FA-878A-56B6B0FD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FDAB4-FF4E-46AF-9E43-22808E24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D7C61-0790-44C5-B985-0665EBD2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2FA72-0B12-4579-88DD-251C13E6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D112-A61D-4A88-BEC9-818E229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3622-F6DB-4BDC-80F9-7332A677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C54E-97F9-44A1-AC89-F12D8B43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512D-7BE1-49B8-A1F3-65BB563F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E7C-5EC9-4FAC-8FE0-D1DEFCA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BCD5B-8958-4F25-B1C5-0CAD00B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FF06D-7DCB-4C7D-8A1C-61AA03A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60761-A899-425A-9BC2-BBD6E12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8C29-3583-4C20-B048-804D062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F4FF-3264-4A93-A49C-A13ABC08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903E3-0089-4677-B9EE-B84E28EF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EAF3B-ADAB-47AF-8E69-61570BC1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06B31-157C-400F-BB05-7A230FFC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6ED37-D82F-403A-BDD6-2D6892D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108E6-49FD-483C-AF5F-1D1230E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06D-B3C0-4A92-840C-22B491FB1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85FE-2921-408D-983F-2236DB26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D327-3CB6-4836-B965-F39804BA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D97-B3C5-486E-AB99-AE6BF4368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0D83-FECC-4C1F-8154-42F48921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73D-36AC-47B2-BB03-C3FF1876D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789A-AF43-4BE6-B8D5-5BD0A1316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5074-B6ED-4944-BB8D-8C04F1CCE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B9AC-B419-4B39-A04B-84EDF11D9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410-2B48-4758-800F-63CDBC0F7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C9FB-34A8-4710-8C80-D6FF92134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0FDC-3690-4140-8E12-26062505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5" descr="C:\Users\Haonan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"/>
          <p:cNvSpPr/>
          <p:nvPr/>
        </p:nvSpPr>
        <p:spPr>
          <a:xfrm>
            <a:off x="2694240" y="4648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一共有多少笑脸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1066680" y="52578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+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 5                        5X5+3X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C:\Users\Haonan\Desktop\图片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6"/>
          <p:cNvSpPr/>
          <p:nvPr/>
        </p:nvSpPr>
        <p:spPr>
          <a:xfrm>
            <a:off x="1981080" y="3581280"/>
            <a:ext cx="4800600" cy="2743200"/>
          </a:xfrm>
          <a:prstGeom prst="cloudCallout">
            <a:avLst>
              <a:gd name="adj1" fmla="val -53009"/>
              <a:gd name="adj2" fmla="val 53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3369600" y="426708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利用生活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一件事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4952880" y="3657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4+4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1066680" y="3657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4X2 + 46X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434340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5720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每件上衣</a:t>
            </a:r>
            <a:r>
              <a:rPr b="1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54</a:t>
            </a:r>
            <a:r>
              <a:rPr b="1" lang="zh-CN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元，每条裤子</a:t>
            </a:r>
            <a:r>
              <a:rPr b="1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46</a:t>
            </a:r>
            <a:r>
              <a:rPr b="1" lang="zh-CN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元，买</a:t>
            </a:r>
            <a:r>
              <a:rPr b="1" lang="en-US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套衣服一共多少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457200" y="27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4X2 + 46X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4114800" y="28195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4+4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42900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ulim"/>
                <a:ea typeface="Gulim"/>
              </a:rPr>
              <a:t>每个花坛由</a:t>
            </a:r>
            <a:r>
              <a:rPr b="1" lang="en-US" sz="4400" spc="-1" strike="noStrike">
                <a:solidFill>
                  <a:srgbClr val="ffff00"/>
                </a:solidFill>
                <a:latin typeface="Gulim"/>
                <a:ea typeface="Gulim"/>
              </a:rPr>
              <a:t>54</a:t>
            </a:r>
            <a:r>
              <a:rPr b="1" lang="zh-CN" sz="4400" spc="-1" strike="noStrike">
                <a:solidFill>
                  <a:srgbClr val="ffff00"/>
                </a:solidFill>
                <a:latin typeface="Gulim"/>
                <a:ea typeface="Gulim"/>
              </a:rPr>
              <a:t>盆串红，</a:t>
            </a:r>
            <a:r>
              <a:rPr b="1" lang="en-US" sz="4400" spc="-1" strike="noStrike">
                <a:solidFill>
                  <a:srgbClr val="ffff00"/>
                </a:solidFill>
                <a:latin typeface="Gulim"/>
                <a:ea typeface="Gulim"/>
              </a:rPr>
              <a:t>46</a:t>
            </a:r>
            <a:r>
              <a:rPr b="1" lang="zh-CN" sz="4400" spc="-1" strike="noStrike">
                <a:solidFill>
                  <a:srgbClr val="ffff00"/>
                </a:solidFill>
                <a:latin typeface="Gulim"/>
                <a:ea typeface="Gulim"/>
              </a:rPr>
              <a:t>盆菊花组成，</a:t>
            </a:r>
            <a:r>
              <a:rPr b="1" lang="en-US" sz="4400" spc="-1" strike="noStrike">
                <a:solidFill>
                  <a:srgbClr val="ffff00"/>
                </a:solidFill>
                <a:latin typeface="Gulim"/>
                <a:ea typeface="Gulim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Gulim"/>
                <a:ea typeface="Gulim"/>
              </a:rPr>
              <a:t>个花坛一共要用多少盆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0" descr="C:\Users\Haonan\Desktop\图片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5"/>
          <p:cNvSpPr/>
          <p:nvPr/>
        </p:nvSpPr>
        <p:spPr>
          <a:xfrm>
            <a:off x="53352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4X2 + 46X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006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54+4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886200" y="5334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5" descr="C:\Users\Haonan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082880" y="464832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+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1315080" y="5181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8 X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40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609480" y="838080"/>
          <a:ext cx="7696440" cy="76212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66"/>
                      </a:solidFill>
                    </a:lnL>
                    <a:lnR w="18720">
                      <a:solidFill>
                        <a:srgbClr val="ff0066"/>
                      </a:solidFill>
                    </a:lnR>
                    <a:lnT w="18720">
                      <a:solidFill>
                        <a:srgbClr val="ff0066"/>
                      </a:solidFill>
                    </a:lnT>
                    <a:lnB w="1872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5" descr="C:\Users\Haonan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5"/>
          <p:cNvSpPr/>
          <p:nvPr/>
        </p:nvSpPr>
        <p:spPr>
          <a:xfrm>
            <a:off x="1066680" y="46990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X5+3X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1315080" y="518148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25X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40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838080" y="838080"/>
          <a:ext cx="4343400" cy="350532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5410080" y="838080"/>
          <a:ext cx="2667240" cy="350532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C:\Users\Haonan\Desktop\图片2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493560" y="4484520"/>
            <a:ext cx="75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5+9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 4                      205X4 + 95 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964320" y="4419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0" descr="C:\Users\Haonan\Desktop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Line 18"/>
          <p:cNvSpPr/>
          <p:nvPr/>
        </p:nvSpPr>
        <p:spPr>
          <a:xfrm>
            <a:off x="762120" y="3429000"/>
            <a:ext cx="62481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743040" y="5665680"/>
            <a:ext cx="69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5+2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 8      =     25X8 + 20X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C:\Users\Haonan\Desktop\图片4.jpg"/>
          <p:cNvPicPr/>
          <p:nvPr/>
        </p:nvPicPr>
        <p:blipFill>
          <a:blip r:embed="rId1"/>
          <a:stretch/>
        </p:blipFill>
        <p:spPr>
          <a:xfrm>
            <a:off x="0" y="0"/>
            <a:ext cx="926136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>
            <a:off x="4345560" y="3124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C:\Users\Haonan\Desktop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1" descr="C:\Users\Haonan\Desktop\图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4806000" y="259092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7         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4423320" y="3505320"/>
            <a:ext cx="27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5          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191120" y="4343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6    64         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1371600" y="6216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4+45+7               54+  45+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4661640" y="51814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4    45 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5"/>
          <p:cNvSpPr/>
          <p:nvPr/>
        </p:nvSpPr>
        <p:spPr>
          <a:xfrm>
            <a:off x="5258880" y="38098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—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6X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5258520" y="434340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—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6X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64280" y="4952880"/>
            <a:ext cx="38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—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6X3+46X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" descr="C:\Users\Haonan\Desktop\图片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6-17T06:40:19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