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12.xml" ContentType="application/vnd.openxmlformats-officedocument.theme+xml"/>
  <Override PartName="/ppt/theme/theme36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chimes.wav" ContentType="audio/x-wav"/>
  <Override PartName="/ppt/media/image8.png" ContentType="image/png"/>
  <Override PartName="/ppt/media/image5.jpeg" ContentType="image/jpeg"/>
  <Override PartName="/ppt/media/image6.gif" ContentType="image/gif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sldIdLst>
    <p:sldId id="256" r:id="rId38"/>
    <p:sldId id="257" r:id="rId39"/>
    <p:sldId id="258" r:id="rId40"/>
    <p:sldId id="259" r:id="rId41"/>
    <p:sldId id="260" r:id="rId42"/>
    <p:sldId id="261" r:id="rId43"/>
    <p:sldId id="262" r:id="rId44"/>
    <p:sldId id="263" r:id="rId45"/>
    <p:sldId id="264" r:id="rId46"/>
    <p:sldId id="265" r:id="rId47"/>
    <p:sldId id="266" r:id="rId48"/>
    <p:sldId id="267" r:id="rId49"/>
    <p:sldId id="268" r:id="rId50"/>
    <p:sldId id="269" r:id="rId51"/>
    <p:sldId id="270" r:id="rId52"/>
    <p:sldId id="271" r:id="rId53"/>
    <p:sldId id="272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" Target="slides/slide1.xml"/><Relationship Id="rId39" Type="http://schemas.openxmlformats.org/officeDocument/2006/relationships/slide" Target="slides/slide2.xml"/><Relationship Id="rId40" Type="http://schemas.openxmlformats.org/officeDocument/2006/relationships/slide" Target="slides/slide3.xml"/><Relationship Id="rId41" Type="http://schemas.openxmlformats.org/officeDocument/2006/relationships/slide" Target="slides/slide4.xml"/><Relationship Id="rId42" Type="http://schemas.openxmlformats.org/officeDocument/2006/relationships/slide" Target="slides/slide5.xml"/><Relationship Id="rId43" Type="http://schemas.openxmlformats.org/officeDocument/2006/relationships/slide" Target="slides/slide6.xml"/><Relationship Id="rId44" Type="http://schemas.openxmlformats.org/officeDocument/2006/relationships/slide" Target="slides/slide7.xml"/><Relationship Id="rId45" Type="http://schemas.openxmlformats.org/officeDocument/2006/relationships/slide" Target="slides/slide8.xml"/><Relationship Id="rId46" Type="http://schemas.openxmlformats.org/officeDocument/2006/relationships/slide" Target="slides/slide9.xml"/><Relationship Id="rId47" Type="http://schemas.openxmlformats.org/officeDocument/2006/relationships/slide" Target="slides/slide10.xml"/><Relationship Id="rId48" Type="http://schemas.openxmlformats.org/officeDocument/2006/relationships/slide" Target="slides/slide11.xml"/><Relationship Id="rId49" Type="http://schemas.openxmlformats.org/officeDocument/2006/relationships/slide" Target="slides/slide12.xml"/><Relationship Id="rId50" Type="http://schemas.openxmlformats.org/officeDocument/2006/relationships/slide" Target="slides/slide13.xml"/><Relationship Id="rId51" Type="http://schemas.openxmlformats.org/officeDocument/2006/relationships/slide" Target="slides/slide14.xml"/><Relationship Id="rId52" Type="http://schemas.openxmlformats.org/officeDocument/2006/relationships/slide" Target="slides/slide15.xml"/><Relationship Id="rId53" Type="http://schemas.openxmlformats.org/officeDocument/2006/relationships/slide" Target="slides/slide16.xml"/><Relationship Id="rId54" Type="http://schemas.openxmlformats.org/officeDocument/2006/relationships/slide" Target="slides/slide17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D3E6-7519-4FE9-AF26-2354B1D03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D32C-97E3-411B-B37F-DAF1E8154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BDD55B-B0B9-4DA0-BEAF-EB937DFEF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ACC2C5-1289-4FD7-BA7B-5AAFA3828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2795C7-9AF0-44E9-A112-189D68F7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2CE7BC-E17F-428A-837F-CD318149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EC5EC0-D9E3-434D-B84A-375A9ABA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0B83B3-E4A5-4F77-A93D-6383228E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ED09A3-03DA-4495-8C66-330B5C8CC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E403BE-D653-426E-A6DB-35B6040C1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CB0962-FD29-4D2F-BA9F-3C0537460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186A45-FC63-470C-99CD-B8C7417CC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731F-4EDF-47A2-88FE-BE587F522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79E9CD-2E11-4561-A6D0-6D7ED6396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FDDF36-A047-4D11-BA14-8947395AB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B6A5A4-8A1D-4426-B309-505CA8AD2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A11D80-19C5-414C-9F30-87D8E3613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D61E82-E137-41E8-84DE-A302BF6F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5794B8-7E90-400B-9107-C38B8289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F26430-82E0-454E-99FA-A54FDAA4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02D1B5-0F68-441B-A556-C889EEDB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750302-F70D-406D-8450-938FCC92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B1A869-B1DB-4C65-A0B0-95D6FD03A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A55C-6485-4DB6-8247-696AF57DF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F4EEE8-5ED4-49FF-8D84-6C5282281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78C21E-A7B2-457C-814A-AF53D492C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FEF2CA-6A8B-48E9-A8EA-34F2282FA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E4190B-973B-4D70-A48E-A2595C8C4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65C21F-1EFB-4376-A039-6E6D841D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F5F063-C3C2-4821-AA2A-3236F560E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911344-1D5A-4C70-ABDB-D764F60BA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CD18F2-913E-4C35-B47F-E1BE4807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5DA628-8FEF-4A5A-8304-BA3E065B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7D7CA1-7753-4C0A-BB26-84532252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7779C-FFDB-454C-BAA9-7AD32958B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4CBB1A-091F-4EC2-B21B-39DD3D88C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DF64A7-F606-4FCA-8A22-8D8A85E39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CBC28A-3B52-4643-880B-E77393E27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BF1A07-F62C-4F6B-A3F9-2A77AFDFE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7E9F93-DBA3-4E4B-99DE-916716902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02DE73-030E-420E-B2BD-E9BA42DDC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B464B5-BEBC-4A61-B381-AB0B322EC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74CE2E-A408-490E-B57F-8F0436AEC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393CD5-9FE8-45BE-BD77-AC8AB8738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31E4D8-A14B-4309-A20A-6A79BB88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6841A-0919-44B2-A601-41B53A34E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2DAC7B-E01A-4D63-8E75-9545F47C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D56388-66A7-4D4F-AD84-AA58B183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5CC394-96DF-462B-AD28-D648069CD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DDDAF9-4529-4140-AAD4-397A89224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1E64AB-8380-4786-B705-4CB0CA263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CE117C-B6A1-4FFD-B727-C5F64F232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96E65A-14B5-41E1-A5A3-89A99DEC6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CE9809-E6D1-45EB-8B89-09EEA92EC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1B5951-0BDD-4C3F-B1C2-AE8B611BB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5EEB60-3229-4465-896A-AC219D847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6C25E-0403-4808-BC66-0D9A76D20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40685D-227D-4D12-A735-1E4AD4824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32C560-98ED-48BC-BA1C-765C0DFF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002D0B-845C-4DDB-9014-47452E84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8AC444-0FAD-45CE-9DDF-AED14503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371DA3-9009-4355-8319-4E21D120E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FADEA6-786B-4DC6-B3CA-673F948CA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77D3EE-A3D0-4BEA-9F9F-61BCFD480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E6E8E9-740E-4AF7-AC6A-B78AE3C33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42C8F2-EF15-4123-AE14-641D5BF6B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55F8F3-A548-46AC-93D8-DD356A11B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B8DB3-5331-49C1-8B7A-D0D01C918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9D21E2-7154-41FB-9F62-F0F75FFBF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177825-9A8E-4C66-96F9-818802D4A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1F12BE-BA58-4CEA-93AC-0976597B7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AD4116-5601-406B-8E30-17815B63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E24A0A-529B-41AE-AD20-67C03DCC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9020D1-10F3-48D9-8B1B-D8D2C223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169DF1-0C67-4722-97E8-D12F73CD5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E5AB8B-CF24-46F2-B627-D018E05B9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F05BE3-B878-43FC-94A3-638052C6E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83710E-6C08-4C80-840C-4B8E1D501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C0CEE-25EB-4393-AD64-728AF5C6A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505C83-2B3A-4E50-A487-A4330549C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74F3A7-8C5B-4A62-8805-C342A0010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BD5D4D-18A7-4586-B71B-59567317D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D9A41F-5144-4802-AA74-24C3BB93D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FD2457-1CF4-4D3E-A787-61F30F3B6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D8DE63-D8A8-4C5A-A127-8BAB0705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194823-2E2D-47A1-BC05-83C67D3A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22275A-F0F5-4391-8E73-C8331CE4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4C244A-52BF-43A4-A28A-8270280A4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A8253B-DD04-4AD0-9B72-AB38E9228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4AEAC-CCE4-4810-978F-7EB977689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45B53F-ECF8-491B-AB75-B168C56F4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426E44-E2E0-4847-8DC3-16A07109C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C72BA7-27B5-4C98-B362-2DF7FA07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D4B560-D1EC-41BE-ADAC-2138FCDEA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9C53B7-1EC4-4A1A-B40F-9176BC048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DADE49-FE12-4812-BA5B-972B1B809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1F760A-FE19-4130-8E41-6F4B306CC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119953-A493-4DE2-B02E-109D6E99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4A99C8-9A81-4404-ABAB-FDC668CE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084335-3884-4869-8454-FB05C06F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89B1F-DBE0-436C-959E-7CBC040B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9ED63C-5F0E-443E-87D7-C4CC44070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BAAF86-0356-4DEA-9E66-C27C74854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1491F4-D611-4667-A1E2-E79D2CB08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98BA10-B77B-4E24-919C-E456AD0AB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EE16D8-2F2A-4EFA-B05D-3948E267C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54C5CB-C283-449F-93FC-F09908F6E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72B37D-BA2A-42F3-83E2-83874B275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F9FE95-581B-40C3-90A1-0387B51A3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EB00C0-742B-4B06-9404-FDE300E86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2A445A-6F89-46BC-B496-46917304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9787-83B7-4608-B045-6529B541A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AC3B7-B4D0-40FC-A578-27E7A4FC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A07CC2-8C69-4A47-806A-6B9CCEC9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B15FAD-A33D-41CA-90D5-8EE41ED1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866C28-4654-4503-A536-002C4F707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BE3769-C5E2-4AFA-B2EB-E434D4C74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396BD7-959F-489C-8985-789A4F325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C15079-3157-48E5-9353-222143766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CEEF01-924A-4D70-9BF3-55C2DBF8C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478F9B-C64D-46D5-9CD8-805A8EA14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42C7CE-3908-4932-96CF-FF60E8E45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CB9E73-8210-4AAB-BA3D-00048EFA6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F2F1F-6FB2-4E46-A8B9-6A297681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C9EFA4-EB6B-4EB7-AD88-F0E948E3C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030DF3-10F4-4114-A351-7D8B75BD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C7E2C4-F35F-488D-908B-F4DC551B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EE4426-8CF1-45F4-8270-1497B9FF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CC1D3C-4897-489A-A4E7-4DE863FA5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47D4D6-8F4F-49C6-86EA-AA05668A1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04AE0F-74E3-4C05-BC5D-E92167185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18CB2D-615E-43FA-BA5E-F1586FA15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63E502-548A-4EAB-8974-946796CD0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A30091-99A6-4902-86EB-4AF62263F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3C3D0-D082-4198-BB68-016DC6AB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26F08E-6574-4320-8091-577EAC6AD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D4B1B5-4AED-4C2C-879D-10B9608BA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7C9F2C-DB18-41DB-8BD6-1814D7828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C3C8C2-D5C3-47F9-A08B-C3DBE781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44D9D1-7BB1-470C-9612-88B67AA7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7B0949-25C8-4577-A430-F5A6A717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C81B3B-236B-485C-B9C2-EA7F0D4CC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BE03C5-F3D1-4B5C-879C-77FDD47F0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2EA5F9-FA5B-4BB4-A8E4-7B198773C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48CEFD-27EC-40D6-9BF3-4D115D908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AD284-51B5-4679-ABF6-62C04AF04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491D20-B93A-45E1-817C-53CF5DE87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490C83-0FD7-471A-A05D-61DAED287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0E214F-0B77-4EDE-A17D-770FC0510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2DFCDA-D3AC-4C77-9E2D-7044638DE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54B2B1-00E4-43CD-81D2-202F04C14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0BB2F8-8612-421A-8A2B-65625D43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FAE4BB-F88F-4115-9091-5071A365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5BD884-81D6-4B3C-92A4-3FCCAC66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554232-4E43-4C98-A7B2-A33319E0D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BEB5E6-B49E-456B-92BE-9FAE4EC0A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D52B7-76B5-4D32-8442-3B7A1FB33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AE618B-FF90-44C2-8F8F-B6BE04E74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B62C56-84F8-4911-88E7-28EF26EF2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747587-FB2B-488D-808E-FD642BF02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57D702-CD5B-4021-9E4C-D2DAB6236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5E25A7-7B81-4829-98E7-3281DAF0C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F8A413-F349-4C29-B398-9ED263F4E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8A6967-425C-4AA0-B5AE-DEED6DCE6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C64A6E-FF39-4ECD-A7A7-E035C747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695D00-9180-46D0-AEC8-0A4B4449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974343-75CB-42C9-A84D-3FDF9AE1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2605F-A2BC-44C4-9CE7-1A688CD63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9EE433-985D-4F6E-94CB-7E1E2FB31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327524-027A-4DE9-8E94-5E2050173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1E0908-6CD4-4340-A8BF-A368AB1DD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A48F963-FF30-4913-8168-C0FA5822D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5D38B7-3EDE-47FB-831F-3C36EE2BF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AF758C2-7747-4E80-9EA9-7E3541DA3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644035F-1631-43E2-91F5-52F91FB58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884E695-6C0D-496C-9DB9-D9DA5C6E7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7171B8-0C64-4997-9942-A91C23CDF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8CAC55B-773B-4A17-AA72-626A7A3A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46FB9-E868-4D20-AF28-25B32E467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2BA1901-4DB3-4B19-842F-9B854A07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0FC43F6-389C-43DE-936A-C83D74B2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E4CA811-EEF0-4469-8F0B-C598631B5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FBCEB5A-E8B0-4934-A663-37D2779BE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0403E4-C271-4CFC-B6D7-CE8A96B47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C1FA203-0BB2-4A48-8D52-A9DF43B1B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0A534D6-46DD-481E-8EBD-87C900716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995AE2C-48DF-45BB-A216-8C9770FE4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FCDC281-1048-403A-A4AE-1E18EAB8F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11DFAC5-DFE7-48EC-8EA7-7D67245FF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29875-84AA-42B9-9E1E-538563955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C9B7956-D72B-4B99-9875-13BB411D7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F6C3C93-7BF7-4F01-8380-72AF9D2F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C6B8B3A-E090-49A9-93D4-19948BF3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DDF9EE2-4AAB-4E03-8EDB-69FD0EFB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FE6C1E0-4678-41CE-A9C5-E97645B37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AF24F9F-B7C0-47E9-8301-E2923AB0A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3911367-203F-4B9E-BEE8-4B628A70D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2DCD1E5-18C6-43AD-962B-A89E93C09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E1F7902-E352-4A3E-8526-E1C80BDB4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925458F-F087-4784-AB92-A853EC8FB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E287F-9A21-43AE-88A3-F3621B619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0B782E5-2806-409B-8E1C-5CB5F36AC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8F8083C-7D32-47E2-AAC9-EF95A25C8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D2E0A1C-B1DF-4528-B468-00C31F217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3A9411B-C46E-4209-8A57-13A75548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EF7E53F-75B2-4A09-BC89-6F241206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07A63F9-20E3-481E-B010-1B5D7502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BC2588C-B766-4FC9-ABF5-E6698511B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244E737-D82F-47D7-A0CD-3369117F9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C8753B7-69AE-4A3F-BFAE-45A05DDCD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3E2A37D-2564-4EA6-B318-5C6443428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BEF75-059C-4E75-871A-4C5E4954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9459ACF-8BD6-4C3D-BCA5-4650B08D9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911A19C-CB6F-4DF7-9E83-B5711AE26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2953B2D-A543-4F17-808E-DC935E9A0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20FC55F-F6D1-4610-9473-20AF17E67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C99620A-2968-4226-8C46-8B0FC1467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A879A8A-5DCC-48F4-8C0C-95F4D9C8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2336A83-C1A8-4D5F-8ABD-06F3668C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4F06CD2-D9A3-4666-A1CB-2B8A572C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CC7764E-7508-4A1B-B507-F863DE985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F711DA5-1A44-4678-875E-23E399596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823C-8F63-4288-A6BB-B0C9A5FD8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66E77-F1E0-4636-BB16-1193A420B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207A316-5339-4660-96F5-77A395EAA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791090F-62A2-4992-8F5C-5B1B56F51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3584A40-AD0C-42F8-89B1-2D8770CC3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AE1A739-04A5-4EE5-B062-728C81454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ED2CBC1-1957-46AD-AAE7-70FCDAF9E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E877D1F-4743-4D4C-BF95-C9C052FE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4C2D70A-B894-4DA1-BA7A-E26A80608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A9742A2-E8C8-405D-8E09-9F713E3C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AEDD688-FF68-4465-BC73-5979325B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3254E11-CAF7-453B-A8EA-A81B2429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C98E9-D7FB-4D74-AFF7-38EB6636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6840FDB-BF1C-4497-9A63-E41854CCD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372C40E-BDDC-4BCE-AF81-8FC2854AF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0CA0A3E-CE65-4AA4-B1CE-5232A5C6A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7511072-607A-4226-8AFE-F989FB4B8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9B312EB-1586-41CB-BC69-FD99E0922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CEDF587-A9D3-4C91-97DF-00C306923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0115EE6-7338-4C94-9CE8-9D81B9F49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100109A-C530-4099-B00B-D214ABCEF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EC77938-528B-4135-A254-737229A2A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105999E-4AFD-4B88-8E8C-AD1DF825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65B28-C377-4ED8-82DC-C88C565D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9997EA8-7665-4A97-98FD-6F62B370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4E8392E-50EA-4063-8759-A08BFEAA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01E8177-B9DE-4DA9-842B-4FCD28998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32419F0-D244-4AF4-9987-286500945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CEEF0D1-58DA-4B57-8631-5C189757E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1464236-9124-404D-B8EC-271814C63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3272C7A-9F84-4D10-AC81-5818447AE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28909BB-A6E2-4982-9790-224756C7C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FAF0728-ED59-4F67-980E-661CB5054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C69A70F-0A27-4272-AA5E-4B6DA27FE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A76AD-DBD8-4AF1-A0D8-FEA0A508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C5EAD5A-2857-4A5C-A738-B335F8C59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94581D4-A4A8-463C-90F8-075E16F0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4A5855F-E589-4235-8FB1-662368B7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53770DD-CBCA-4B96-8C92-1D5425A2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66A3A19-593A-465E-99DA-0ADF0471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24A424A-F559-47B7-892E-F168F3C19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76F9FAC-520D-4E9C-9F37-905667B3A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11ABB8D-A952-4F8A-8A9F-670BB0D59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296981E-F77A-4680-93D4-0874CAD02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CEB145C-C5C7-45AC-9E61-314F9314A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DF647-ACF8-411E-A291-EFAE3B344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058D104-A160-41AF-995F-89F4619FF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C251B6C-5D29-4A2F-8BF6-FD3152678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4A64EA8-1C24-46FD-8CAB-9AB447F98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F46E903-9955-4128-9D0A-A3F43B98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C5229CC-2AD2-43A1-80C3-FBADC2AD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2359C42-7AC6-46E7-88EC-593263D6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BE3F807-9E05-406E-B57F-3E1213B54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A74812D-0C12-44E8-B370-0C9872D8A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B628874-3E95-4DCA-8C5D-C71E1695C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6BA33E6-8CCB-49D9-A836-BEA087802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919FB-A5F4-4E04-B1D6-1BFD57597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31A8BF5-1E0B-4CAA-9E6C-69C953CAA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37D26E7-082F-489D-90AD-6F8566369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FD4FC36-8AD6-4B9D-BF1D-BB15B40B1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025875C-F68F-4EB8-91A6-2CCE4A75B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FAC7773-A85B-405F-97DF-BFBDB7C04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04A4840-E119-48B7-B1A6-A684862D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0DB6CEC-A2E1-4FC3-9D69-34A56165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5CCB9F0-3EE7-4622-8598-59769932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DA28944-F4CA-4C1A-B915-9184C1878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E6173C8-FA65-4052-94A2-90EBBFD71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A51FA-7EC2-4C49-994E-A03125523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5DC9102-9777-4B3D-AAB9-F17756EDB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E5FC48B-3B9B-4886-BA17-F656060B8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95E9508-65EE-4B3D-A920-312EEA2D9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3670903-C19D-488F-BE64-5849F8E97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8A74666-97AC-4E44-A422-5D1BE4890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AFD1D41-62AA-4513-8B4F-3C72EFEE6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5942FEE-1412-47C9-91AE-04AD1EDF7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F8A2D72-785D-4EEA-98D5-6CD30892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0234A53-53B0-476E-992B-A8DC26E43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3473C75-627B-425C-BE04-49406B0D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EAA08-8ACB-4B44-96BA-56C8ADD32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C893633-321C-480C-8A01-62A4578F2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142ECE5-A221-4802-8953-F1164A2D6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482D8B6-C13D-4564-AB49-782F342DD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13CE94E-2F36-4AB2-9E89-0D840A59D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8607439-977B-4E2A-96AF-9FE75D9B6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9DA05EF-E35C-4F40-961B-F39DBAF4D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F5DB606-CB6A-417C-B0AA-699C0B5AD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B5C4283-9E4A-49BE-A05E-4CF12D109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554B86F-D94C-4786-9200-3DC4231CA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8196F57-217A-4038-9B28-3EC5B6FB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76665-0ABC-4433-99D3-8AC01D534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6D4EB00-CD6F-44B2-986C-08E99425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9CAAD53-6B3F-421C-A75C-CFA5107E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DA4293E-E93A-4BF4-8809-1C246AB33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2834F73-6F63-4B00-B0BA-123D8667F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75E2AC3-F22E-478F-BCDA-C6638BBBD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49D98D7-3CAD-4581-BC55-91B2F55EE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C64E2E2-0C89-4E62-A295-D56B82985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0469A75-A42F-4CC1-93D3-370DA6022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787DB75-0B86-4BA9-B175-B0274329C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31D0423-2493-46AC-8553-37E6D3847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E0C02-ACFD-48DD-B6AF-A8FBFEBB6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9C8E4A9-13CB-4BA0-9727-F39361F24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82C76EE-579A-4821-9AAF-3016A84B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E39BB10-2DFA-4F4B-944E-08DB3FCE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2B09BA8-5895-4CAB-8589-AE78179C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8749849-FDA8-4994-A74B-AB0FB6518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6AC9A1A-9B27-476A-B0B7-FAF5F4494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6AF8754-4BA9-4F6A-A49A-4CE2365AC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F497F29-F521-4B62-AD06-7E15F6011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377FF2F-E889-411D-B6E5-2678C4D5B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9E1E084-8AE2-4C66-8A0F-DA056E381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7B6E-F5C6-4E77-B98C-3437FC109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4A0E9-F2C6-4CB0-92EB-4D866965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FFF8542-6364-4DE3-96C3-9A9AA7716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D98E15F-C26D-4CC0-B18A-84BD75882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7DF718A-A240-4D20-AAF7-C77FF17D8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259041B-682E-4271-A943-6B5EC994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F65568A-7A5D-4136-81A9-7C80BFE7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E309EEB-8E57-4756-B48C-D3C8743C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0A91BF2-12A3-4A1A-81B8-CA83E3273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5C4A640-D99B-40B1-8667-320E274FC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062B147-1DE1-4ED3-A254-09DDD33E6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7CB52C5-7BC9-471C-B572-F13BBD2BF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65684-D83A-4ED7-B65E-F06BC8DA7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3C29E41-CEED-42DC-9A35-25222A342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858C04F-87B2-4396-9CAC-B1F4D461C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6F7B6D2-7DCD-4B7A-8F25-97D05A341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8563A1C-D93B-4832-A08C-C76106E22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49ABC7E-477B-4D9E-BE11-7511F1985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738FEFB-64BD-4DBE-A256-71E2E894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69F7BA4-9008-43A9-842F-E4E905BA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CA47E19-524E-4D57-9898-1EDAB195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F596EE4-86BD-4896-B8BB-2A0C8F5B4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D5774A0-9EE1-4D67-943B-87B4071C4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E343E-0907-4D51-9143-DA7E7B7DC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BFD1625-294D-4ABB-AB93-10596C0E3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992F4D0-2656-4CFB-B535-20900D9C8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0FEC1CA-2BEA-43AB-A43C-94E6A060C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C77EE83-0372-40BD-A326-A21980A90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C3A87F0-B2F1-487E-BF22-A970AF7B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6B2EE75-36CA-415E-A1DC-EE3FE1843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63C7F69-1108-4920-9A60-D19DC6A1F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BF5C722-5568-4CD9-9658-44F03EF5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C4C1C25-1CBF-4F17-8401-DCAE66EB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BA2B13F-9E79-4775-A799-D0FE7463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9B653-0914-4C78-A177-0CF2EACD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A19F1CB-D8E8-45E5-A64B-A12E1CD41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7B1776A-2B59-4A2D-A09C-84F0F8C40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2E1180F-5D2A-4057-A381-12E7E0CE7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04F56-BACA-4457-9756-312EEC86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17875-DA0D-4FD7-9307-0FDC847A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80C5E-BD15-4077-BB74-064708F68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05E4C-541C-4B1F-AC71-95CE72116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5AAC6-0159-4DEB-BE39-9B5351D38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8D1DE-0B0B-4DFB-B456-C9B3EE1F0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9735-DA33-4A1C-A78E-F82062837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0989F-4C94-405E-86EB-4D1F2917C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E30E3-6847-495E-9E02-296D34715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77E58-6B8B-4DF8-80B1-95BE9A7A5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F546D-4DA3-44A2-8DC0-3DF311109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6B0FC-CEF8-4DA3-A10F-D8B6D4AF9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6F28C-D85C-47A5-AA95-AF94BC69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13AB3-F0C8-4D4B-AFD8-841946BF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BB231-7508-408D-B4DD-04824FFC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F9935-BDDA-444F-A480-BFA7DC56E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B5D328-DBF1-4BF8-9080-54C67A092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9889-252B-4AAC-8591-C317BB6FC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DC3E1-E4E9-4F9D-BDC0-58844D340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5171A-F5EF-4A75-A7B9-6C80F890A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3DA8B6-4321-4CEA-B8CC-A687A3597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F4740-DD2E-46AA-BFBB-A3E186004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F6854-ACE8-4965-A81E-3F86CFE05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02E8E-9CE4-476F-8F20-823422AE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2F7E6-FA09-4824-A456-CE8F0A976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B5093-E456-46E3-A1F3-B656AA6A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FD345-202D-4C73-B214-F228A22F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E1C69-A1EE-4BE2-8D87-0C31E850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D910-2E21-42AB-9246-65ABD6BD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75519-D8E3-4CD5-AA7E-0EC69B588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8265F-9F38-4355-AE0E-96E5BAE91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CF7B8-640E-4A60-ADF2-A270C710E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6785CA-5608-465A-A86A-0A72443FD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F8C14-0F24-4C13-981B-0BF6AED99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8EBC83-18DE-477A-906C-1143C92A6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EE2054-42A3-4D22-A223-0F555E869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F146F-E22D-413F-AD46-0AD5C1119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88AC35-94DD-4269-9834-C95BBDA7F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8A7C16-A346-4324-BE91-F5BEE3D9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D80A-EB76-414E-83ED-7F3574EE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D4904F-E6A5-4B8C-8FBD-9BA54CC8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0D4016-9498-4487-B729-ABA04474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B7A1C4-A2C4-4653-884D-454726C8B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7B7FE-1826-433A-95F2-2E06C427E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A163FF-C6CA-4030-9D98-5CB05F3E8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095662-1B50-461F-ABFE-0960B7967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5D0F14-646E-4B32-923E-BD9CF64AF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0A77C9-7CF0-4E3D-8BB1-25D74C41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729191-23BE-43D5-AC16-FC58D210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A5C1B8-E4F7-49A1-A5CF-09D80D005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6A72-0B8B-4C72-BA69-37615BC6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D64BCE-DDFE-4653-8A12-3F41CAE28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A9966C-884A-4604-B83F-8F6EC5E0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A50B53-BCD5-48C6-8669-2A999BA3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BC9B90-40C1-463C-BBA5-38964FDA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2B2A8-03FB-4B71-8DE1-920ABBBE7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D26743-5AFF-47B0-9E70-BA8B3AA90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16515B-AEC2-45A7-A6AD-2684C8B93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EB3D4A-9C08-447F-9553-CB5D91871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1C1729-6DE0-46F9-9FD0-E2E70FE56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1DCB22-DC54-4995-AACF-E2AEF63A8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948BA-6AB3-4B3B-8B09-F6D32382A9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DE2A1-9E23-460E-B597-D3804A4FBB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2DDF1-D076-40FE-94BF-04940092C1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B49AF-BD3E-4E76-8158-241D28ADE4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BA66E-08AF-4DA0-ACE9-556693A76B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9F86E-E8E4-4615-A272-91C69B5254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4692D-141E-45D2-8059-36608EEFDF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2FD1E-F501-4287-92B4-E776B61060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89582-AFE7-4225-A4B5-03A346BADA4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BF2B2-14F4-440B-9780-1FFAE08476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B70A5-745D-4AB3-9EDB-02C46CC8A2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A278A-3C78-4AA5-A73B-F0395513E3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6BD66-E497-4ED4-B397-0BE81ADCAA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DFF6B-4DB1-49E4-BDC6-FBDC268406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4FC3D-43A1-43E1-A1FC-86A6952FCA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78B09-D152-4CC9-94AD-A6AB2CCE9D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90E8E-B5D1-478A-9361-AD2DC4DBCE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B2884-41A9-4624-AF39-9B53DCCAE75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D1C98-A3F8-4E39-9EF5-563A8CEA5F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6D313-4C8D-4444-9BDB-0D117FE0F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DA8F3-D97E-46D9-9CB7-E09783E01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A5B05-E428-418D-AB33-A27EBDBE3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704D9-BA9C-4625-A731-E109DBA70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1A74D-D421-427A-A068-64319AF7D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9AE7E-2E73-4C1E-AB96-C26A5F43A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1917F-FA55-4D33-8708-C55EF1FD9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A55BD-3F4A-4579-97AA-C5295837D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B621E-BD98-4C98-9397-4DB86DCB2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865A6-36C7-459A-ABF9-AFB06D825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4BBCC-D115-4A0E-A5BA-68BE66B4380C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AA7B0-9447-4558-A7D8-D6FDAD5D2F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95F96-2EBB-456F-8F2E-5BE2BE15E5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362DE-82E1-4D6F-8C22-71222CE027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7682A-9C6A-46C3-A697-942C88F0E1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1203D-1DCE-4214-AA8D-90149F88D8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5D4A7-7C8D-45F9-9174-0D368F46B8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0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hyperlink" Target="http://waxufe.myetang.com/vcd.htm" TargetMode="External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4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WordArt 2"/>
          <p:cNvSpPr txBox="1"/>
          <p:nvPr/>
        </p:nvSpPr>
        <p:spPr>
          <a:xfrm>
            <a:off x="914400" y="990720"/>
            <a:ext cx="70866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572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一个因数中间有零的乘法</a:t>
            </a:r>
            <a:endParaRPr b="1" lang="en-US" sz="3600" spc="1" strike="noStrike">
              <a:ln w="572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77" name="WordArt 3"/>
          <p:cNvSpPr txBox="1"/>
          <p:nvPr/>
        </p:nvSpPr>
        <p:spPr>
          <a:xfrm>
            <a:off x="3281400" y="3119400"/>
            <a:ext cx="2581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三年级 上册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478" name="WordArt 6"/>
          <p:cNvSpPr txBox="1"/>
          <p:nvPr/>
        </p:nvSpPr>
        <p:spPr>
          <a:xfrm>
            <a:off x="2916360" y="4365720"/>
            <a:ext cx="41972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0">
                  <a:noFill/>
                </a:ln>
                <a:solidFill>
                  <a:srgbClr val="00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祥池小学   夏德胜</a:t>
            </a:r>
            <a:endParaRPr b="0" lang="en-US" sz="3600" spc="1" strike="noStrike">
              <a:ln w="0">
                <a:noFill/>
              </a:ln>
              <a:solidFill>
                <a:srgbClr val="00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479" name="Picture 7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6870600"/>
          </a:xfrm>
          <a:prstGeom prst="rect">
            <a:avLst/>
          </a:prstGeom>
          <a:ln w="0">
            <a:noFill/>
          </a:ln>
        </p:spPr>
      </p:pic>
      <p:sp>
        <p:nvSpPr>
          <p:cNvPr id="1480" name="Text Box 9"/>
          <p:cNvSpPr/>
          <p:nvPr/>
        </p:nvSpPr>
        <p:spPr>
          <a:xfrm>
            <a:off x="1835280" y="1989000"/>
            <a:ext cx="59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一个因数中间有零的乘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Text Box 10"/>
          <p:cNvSpPr/>
          <p:nvPr/>
        </p:nvSpPr>
        <p:spPr>
          <a:xfrm>
            <a:off x="3924360" y="4292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Text Box 2"/>
          <p:cNvSpPr/>
          <p:nvPr/>
        </p:nvSpPr>
        <p:spPr>
          <a:xfrm>
            <a:off x="0" y="0"/>
            <a:ext cx="5318280" cy="703440"/>
          </a:xfrm>
          <a:prstGeom prst="rect">
            <a:avLst/>
          </a:prstGeom>
          <a:noFill/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Times New Roman"/>
              </a:rPr>
              <a:t>智力长跑第一关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Text Box 3"/>
          <p:cNvSpPr/>
          <p:nvPr/>
        </p:nvSpPr>
        <p:spPr>
          <a:xfrm>
            <a:off x="1258920" y="1989000"/>
            <a:ext cx="8070840" cy="2557440"/>
          </a:xfrm>
          <a:prstGeom prst="rect">
            <a:avLst/>
          </a:prstGeom>
          <a:noFill/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在   里填上合适的符号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Times New Roman"/>
              </a:rPr>
              <a:t>0     3=3    0    3=0     4     0=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Times New Roman"/>
              </a:rPr>
              <a:t>4     0=0    1    0=0     1     0=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Oval 4"/>
          <p:cNvSpPr/>
          <p:nvPr/>
        </p:nvSpPr>
        <p:spPr>
          <a:xfrm>
            <a:off x="2050920" y="2133720"/>
            <a:ext cx="4320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Oval 5"/>
          <p:cNvSpPr/>
          <p:nvPr/>
        </p:nvSpPr>
        <p:spPr>
          <a:xfrm>
            <a:off x="1763640" y="2997360"/>
            <a:ext cx="42696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Oval 6"/>
          <p:cNvSpPr/>
          <p:nvPr/>
        </p:nvSpPr>
        <p:spPr>
          <a:xfrm>
            <a:off x="3851280" y="3068640"/>
            <a:ext cx="42696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Oval 7"/>
          <p:cNvSpPr/>
          <p:nvPr/>
        </p:nvSpPr>
        <p:spPr>
          <a:xfrm>
            <a:off x="6084720" y="3068640"/>
            <a:ext cx="43344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Oval 8"/>
          <p:cNvSpPr/>
          <p:nvPr/>
        </p:nvSpPr>
        <p:spPr>
          <a:xfrm>
            <a:off x="1763640" y="4005360"/>
            <a:ext cx="42696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Oval 9"/>
          <p:cNvSpPr/>
          <p:nvPr/>
        </p:nvSpPr>
        <p:spPr>
          <a:xfrm>
            <a:off x="3851280" y="4005360"/>
            <a:ext cx="42696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Oval 10"/>
          <p:cNvSpPr/>
          <p:nvPr/>
        </p:nvSpPr>
        <p:spPr>
          <a:xfrm>
            <a:off x="6084720" y="3933720"/>
            <a:ext cx="42732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 Box 11"/>
          <p:cNvSpPr/>
          <p:nvPr/>
        </p:nvSpPr>
        <p:spPr>
          <a:xfrm>
            <a:off x="1692360" y="2924280"/>
            <a:ext cx="39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黑体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 Box 12"/>
          <p:cNvSpPr/>
          <p:nvPr/>
        </p:nvSpPr>
        <p:spPr>
          <a:xfrm>
            <a:off x="6012000" y="299736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Text Box 13"/>
          <p:cNvSpPr/>
          <p:nvPr/>
        </p:nvSpPr>
        <p:spPr>
          <a:xfrm>
            <a:off x="6012000" y="386064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Text Box 14"/>
          <p:cNvSpPr/>
          <p:nvPr/>
        </p:nvSpPr>
        <p:spPr>
          <a:xfrm>
            <a:off x="1692360" y="39337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Text Box 15"/>
          <p:cNvSpPr/>
          <p:nvPr/>
        </p:nvSpPr>
        <p:spPr>
          <a:xfrm>
            <a:off x="3780000" y="2997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Text Box 16"/>
          <p:cNvSpPr/>
          <p:nvPr/>
        </p:nvSpPr>
        <p:spPr>
          <a:xfrm>
            <a:off x="3780000" y="393372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8" name="Picture 4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4437360"/>
          </a:xfrm>
          <a:prstGeom prst="rect">
            <a:avLst/>
          </a:prstGeom>
          <a:ln w="0">
            <a:noFill/>
          </a:ln>
        </p:spPr>
      </p:pic>
      <p:sp>
        <p:nvSpPr>
          <p:cNvPr id="1549" name="AutoShape 5"/>
          <p:cNvSpPr/>
          <p:nvPr/>
        </p:nvSpPr>
        <p:spPr>
          <a:xfrm>
            <a:off x="539640" y="4797360"/>
            <a:ext cx="8101080" cy="1368360"/>
          </a:xfrm>
          <a:prstGeom prst="cloudCallout">
            <a:avLst>
              <a:gd name="adj1" fmla="val -41555"/>
              <a:gd name="adj2" fmla="val 9768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先找出错在哪里，再改正过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Text Box 2"/>
          <p:cNvSpPr/>
          <p:nvPr/>
        </p:nvSpPr>
        <p:spPr>
          <a:xfrm>
            <a:off x="0" y="0"/>
            <a:ext cx="5256360" cy="70344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智力长跑第二关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3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20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Text Box 2"/>
          <p:cNvSpPr/>
          <p:nvPr/>
        </p:nvSpPr>
        <p:spPr>
          <a:xfrm>
            <a:off x="0" y="476280"/>
            <a:ext cx="52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Times New Roman"/>
              </a:rPr>
              <a:t>智力长跑第三关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Text Box 6"/>
          <p:cNvSpPr/>
          <p:nvPr/>
        </p:nvSpPr>
        <p:spPr>
          <a:xfrm>
            <a:off x="250920" y="2708280"/>
            <a:ext cx="87138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1.0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和任何数相乘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·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相加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·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相减都得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0 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。                     （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三位数乘一位数（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除外），如果三位数中间有零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那么积的中间也一定有零。                                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（  ）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3.0+0+0+0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可以写成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0×4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或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4×0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。                        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（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4.7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个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比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个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的和大。                                           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（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5.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在计算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101×2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时，中间的零不用乘。               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（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Text Box 8"/>
          <p:cNvSpPr/>
          <p:nvPr/>
        </p:nvSpPr>
        <p:spPr>
          <a:xfrm>
            <a:off x="7985880" y="46530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Text Box 9"/>
          <p:cNvSpPr/>
          <p:nvPr/>
        </p:nvSpPr>
        <p:spPr>
          <a:xfrm>
            <a:off x="7985880" y="256536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Text Box 11"/>
          <p:cNvSpPr/>
          <p:nvPr/>
        </p:nvSpPr>
        <p:spPr>
          <a:xfrm>
            <a:off x="7985880" y="350028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Text Box 12"/>
          <p:cNvSpPr/>
          <p:nvPr/>
        </p:nvSpPr>
        <p:spPr>
          <a:xfrm>
            <a:off x="7929720" y="414324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Text Box 13"/>
          <p:cNvSpPr/>
          <p:nvPr/>
        </p:nvSpPr>
        <p:spPr>
          <a:xfrm>
            <a:off x="7985880" y="522936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Text Box 14"/>
          <p:cNvSpPr/>
          <p:nvPr/>
        </p:nvSpPr>
        <p:spPr>
          <a:xfrm>
            <a:off x="437040" y="17002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判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Text Box 2"/>
          <p:cNvSpPr/>
          <p:nvPr/>
        </p:nvSpPr>
        <p:spPr>
          <a:xfrm>
            <a:off x="0" y="0"/>
            <a:ext cx="574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智力长跑第四关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Text Box 3"/>
          <p:cNvSpPr/>
          <p:nvPr/>
        </p:nvSpPr>
        <p:spPr>
          <a:xfrm>
            <a:off x="0" y="1773360"/>
            <a:ext cx="72010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你能很快说出下面两个算式哪个得数大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＋</a:t>
            </a:r>
            <a:r>
              <a:rPr b="1" lang="en-US" sz="36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＋</a:t>
            </a:r>
            <a:r>
              <a:rPr b="1" lang="en-US" sz="36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＋</a:t>
            </a:r>
            <a:r>
              <a:rPr b="1" lang="en-US" sz="36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＋</a:t>
            </a:r>
            <a:r>
              <a:rPr b="1" lang="en-US" sz="36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＋</a:t>
            </a:r>
            <a:r>
              <a:rPr b="1" lang="en-US" sz="36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＋</a:t>
            </a:r>
            <a:r>
              <a:rPr b="1" lang="en-US" sz="36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＋</a:t>
            </a:r>
            <a:r>
              <a:rPr b="1" lang="en-US" sz="36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＋</a:t>
            </a:r>
            <a:r>
              <a:rPr b="1" lang="en-US" sz="36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9</a:t>
            </a:r>
            <a:r>
              <a:rPr b="1" lang="zh-CN" sz="36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＋</a:t>
            </a:r>
            <a:r>
              <a:rPr b="1" lang="en-US" sz="36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0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1×2×3×4×5×6×7×8×9×0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1" name="Picture 2" descr="ds知识拓展"/>
          <p:cNvPicPr/>
          <p:nvPr/>
        </p:nvPicPr>
        <p:blipFill>
          <a:blip r:embed="rId1"/>
          <a:stretch/>
        </p:blipFill>
        <p:spPr>
          <a:xfrm>
            <a:off x="990720" y="838080"/>
            <a:ext cx="2133360" cy="527040"/>
          </a:xfrm>
          <a:prstGeom prst="rect">
            <a:avLst/>
          </a:prstGeom>
          <a:ln w="0">
            <a:noFill/>
          </a:ln>
        </p:spPr>
      </p:pic>
      <p:sp>
        <p:nvSpPr>
          <p:cNvPr id="1562" name="Text Box 3"/>
          <p:cNvSpPr/>
          <p:nvPr/>
        </p:nvSpPr>
        <p:spPr>
          <a:xfrm>
            <a:off x="1403280" y="14842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看图编写应用题，并解答出来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3" name="Group 4"/>
          <p:cNvGrpSpPr/>
          <p:nvPr/>
        </p:nvGrpSpPr>
        <p:grpSpPr>
          <a:xfrm>
            <a:off x="1447920" y="2209680"/>
            <a:ext cx="5790960" cy="2438640"/>
            <a:chOff x="1447920" y="2209680"/>
            <a:chExt cx="5790960" cy="2438640"/>
          </a:xfrm>
        </p:grpSpPr>
        <p:grpSp>
          <p:nvGrpSpPr>
            <p:cNvPr id="1564" name="Group 5"/>
            <p:cNvGrpSpPr/>
            <p:nvPr/>
          </p:nvGrpSpPr>
          <p:grpSpPr>
            <a:xfrm>
              <a:off x="2971800" y="2209680"/>
              <a:ext cx="3995640" cy="2286000"/>
              <a:chOff x="2971800" y="2209680"/>
              <a:chExt cx="3995640" cy="2286000"/>
            </a:xfrm>
          </p:grpSpPr>
          <p:pic>
            <p:nvPicPr>
              <p:cNvPr id="1565" name="Picture 6" descr="new1"/>
              <p:cNvPicPr/>
              <p:nvPr/>
            </p:nvPicPr>
            <p:blipFill>
              <a:blip r:embed="rId2"/>
              <a:stretch/>
            </p:blipFill>
            <p:spPr>
              <a:xfrm>
                <a:off x="2971800" y="2247840"/>
                <a:ext cx="1023840" cy="2247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6" name="Picture 7" descr="new1"/>
              <p:cNvPicPr/>
              <p:nvPr/>
            </p:nvPicPr>
            <p:blipFill>
              <a:blip r:embed="rId3"/>
              <a:stretch/>
            </p:blipFill>
            <p:spPr>
              <a:xfrm>
                <a:off x="5943600" y="2209680"/>
                <a:ext cx="1023840" cy="2248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7" name="Picture 8" descr="new1"/>
              <p:cNvPicPr/>
              <p:nvPr/>
            </p:nvPicPr>
            <p:blipFill>
              <a:blip r:embed="rId4"/>
              <a:stretch/>
            </p:blipFill>
            <p:spPr>
              <a:xfrm>
                <a:off x="4419720" y="2247840"/>
                <a:ext cx="1023840" cy="2247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68" name="Rectangle 9"/>
            <p:cNvSpPr/>
            <p:nvPr/>
          </p:nvSpPr>
          <p:spPr>
            <a:xfrm>
              <a:off x="1447920" y="2209680"/>
              <a:ext cx="5790960" cy="2438640"/>
            </a:xfrm>
            <a:prstGeom prst="rect">
              <a:avLst/>
            </a:prstGeom>
            <a:noFill/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9" name="Group 10"/>
          <p:cNvGrpSpPr/>
          <p:nvPr/>
        </p:nvGrpSpPr>
        <p:grpSpPr>
          <a:xfrm>
            <a:off x="1447920" y="4724280"/>
            <a:ext cx="5790960" cy="1295640"/>
            <a:chOff x="1447920" y="4724280"/>
            <a:chExt cx="5790960" cy="1295640"/>
          </a:xfrm>
        </p:grpSpPr>
        <p:pic>
          <p:nvPicPr>
            <p:cNvPr id="1570" name="Picture 11" descr="6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2743200" y="4800600"/>
              <a:ext cx="441972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1" name="Rectangle 12"/>
            <p:cNvSpPr/>
            <p:nvPr/>
          </p:nvSpPr>
          <p:spPr>
            <a:xfrm>
              <a:off x="1447920" y="4724280"/>
              <a:ext cx="5790960" cy="1295640"/>
            </a:xfrm>
            <a:prstGeom prst="rect">
              <a:avLst/>
            </a:prstGeom>
            <a:noFill/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2" name="Text Box 13"/>
          <p:cNvSpPr/>
          <p:nvPr/>
        </p:nvSpPr>
        <p:spPr>
          <a:xfrm>
            <a:off x="1339560" y="2744640"/>
            <a:ext cx="161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05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元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Text Box 14"/>
          <p:cNvSpPr/>
          <p:nvPr/>
        </p:nvSpPr>
        <p:spPr>
          <a:xfrm>
            <a:off x="1263600" y="5043600"/>
            <a:ext cx="161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450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元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4" name="Group 15"/>
          <p:cNvGrpSpPr/>
          <p:nvPr/>
        </p:nvGrpSpPr>
        <p:grpSpPr>
          <a:xfrm>
            <a:off x="7315200" y="2209680"/>
            <a:ext cx="1415520" cy="3809880"/>
            <a:chOff x="7315200" y="2209680"/>
            <a:chExt cx="1415520" cy="3809880"/>
          </a:xfrm>
        </p:grpSpPr>
        <p:sp>
          <p:nvSpPr>
            <p:cNvPr id="1575" name="AutoShape 16"/>
            <p:cNvSpPr/>
            <p:nvPr/>
          </p:nvSpPr>
          <p:spPr>
            <a:xfrm>
              <a:off x="7315200" y="2209680"/>
              <a:ext cx="380880" cy="380988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99360 h 3809880"/>
                <a:gd name="textAreaBottom" fmla="*/ 3710520 h 380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8901"/>
                  </a:lnTo>
                  <a:cubicBezTo>
                    <a:pt x="10800" y="9801"/>
                    <a:pt x="16200" y="10701"/>
                    <a:pt x="21600" y="10701"/>
                  </a:cubicBezTo>
                  <a:cubicBezTo>
                    <a:pt x="16200" y="10701"/>
                    <a:pt x="10800" y="11601"/>
                    <a:pt x="10800" y="12501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Text Box 17"/>
            <p:cNvSpPr/>
            <p:nvPr/>
          </p:nvSpPr>
          <p:spPr>
            <a:xfrm>
              <a:off x="8001360" y="36525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 Black"/>
                  <a:ea typeface="楷体_GB2312"/>
                </a:rPr>
                <a:t>？元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7" name="Text Box 2"/>
          <p:cNvSpPr/>
          <p:nvPr/>
        </p:nvSpPr>
        <p:spPr>
          <a:xfrm>
            <a:off x="0" y="0"/>
            <a:ext cx="52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Times New Roman"/>
              </a:rPr>
              <a:t>智力长跑第五关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Text Box 2"/>
          <p:cNvSpPr/>
          <p:nvPr/>
        </p:nvSpPr>
        <p:spPr>
          <a:xfrm>
            <a:off x="324000" y="476280"/>
            <a:ext cx="546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6600"/>
                </a:solidFill>
                <a:latin typeface="Times New Roman"/>
              </a:rPr>
              <a:t>智力长跑第六关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Text Box 3"/>
          <p:cNvSpPr/>
          <p:nvPr/>
        </p:nvSpPr>
        <p:spPr>
          <a:xfrm>
            <a:off x="539640" y="1628640"/>
            <a:ext cx="8001000" cy="159588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游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小组合作拿出准备好的</a:t>
            </a:r>
            <a:r>
              <a:rPr b="1" lang="en-US" sz="2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0-9</a:t>
            </a:r>
            <a:r>
              <a:rPr b="1" lang="zh-CN" sz="2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的数字卡片，先由小组长拿出</a:t>
            </a:r>
            <a:r>
              <a:rPr b="1" lang="en-US" sz="2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0</a:t>
            </a:r>
            <a:r>
              <a:rPr b="1" lang="zh-CN" sz="2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，其他三位小组成员从中各任意拿出</a:t>
            </a:r>
            <a:r>
              <a:rPr b="1" lang="en-US" sz="2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张，编成三位数乘一位数的算式。（要求三位数的中间必须有</a:t>
            </a:r>
            <a:r>
              <a:rPr b="1" lang="en-US" sz="2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0</a:t>
            </a:r>
            <a:r>
              <a:rPr b="1" lang="zh-CN" sz="2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）再算出来，看那组编得题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AutoShape 9"/>
          <p:cNvSpPr/>
          <p:nvPr/>
        </p:nvSpPr>
        <p:spPr>
          <a:xfrm>
            <a:off x="0" y="1714680"/>
            <a:ext cx="8786880" cy="3571560"/>
          </a:xfrm>
          <a:prstGeom prst="cloudCallout">
            <a:avLst>
              <a:gd name="adj1" fmla="val -14194"/>
              <a:gd name="adj2" fmla="val 11409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说一说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今天你有什么收获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1" name="Picture 4" descr="2222"/>
          <p:cNvPicPr/>
          <p:nvPr/>
        </p:nvPicPr>
        <p:blipFill>
          <a:blip r:embed="rId1"/>
          <a:stretch/>
        </p:blipFill>
        <p:spPr>
          <a:xfrm>
            <a:off x="-181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2" name="Rectangle 8"/>
          <p:cNvSpPr/>
          <p:nvPr/>
        </p:nvSpPr>
        <p:spPr>
          <a:xfrm>
            <a:off x="2771280" y="1700280"/>
            <a:ext cx="388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谢 谢 大 家 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Text Box 2"/>
          <p:cNvSpPr/>
          <p:nvPr/>
        </p:nvSpPr>
        <p:spPr>
          <a:xfrm>
            <a:off x="500040" y="642960"/>
            <a:ext cx="83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0×4=       9×0=       0×0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Text Box 3"/>
          <p:cNvSpPr/>
          <p:nvPr/>
        </p:nvSpPr>
        <p:spPr>
          <a:xfrm>
            <a:off x="1857240" y="64296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Text Box 4"/>
          <p:cNvSpPr/>
          <p:nvPr/>
        </p:nvSpPr>
        <p:spPr>
          <a:xfrm>
            <a:off x="3780000" y="62064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Text Box 5"/>
          <p:cNvSpPr/>
          <p:nvPr/>
        </p:nvSpPr>
        <p:spPr>
          <a:xfrm>
            <a:off x="5867280" y="62064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Text Box 6"/>
          <p:cNvSpPr/>
          <p:nvPr/>
        </p:nvSpPr>
        <p:spPr>
          <a:xfrm>
            <a:off x="684360" y="2205000"/>
            <a:ext cx="668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ff"/>
                </a:solidFill>
                <a:latin typeface="Times New Roman"/>
                <a:ea typeface="华文楷体"/>
              </a:rPr>
              <a:t>小组讨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：</a:t>
            </a: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观察上面的算式，你发现了什么规律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Text Box 7"/>
          <p:cNvSpPr/>
          <p:nvPr/>
        </p:nvSpPr>
        <p:spPr>
          <a:xfrm>
            <a:off x="900000" y="4724280"/>
            <a:ext cx="645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0</a:t>
            </a: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和任何数相乘都得零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9" name="Picture 2" descr="RX_008"/>
          <p:cNvPicPr/>
          <p:nvPr/>
        </p:nvPicPr>
        <p:blipFill>
          <a:blip r:embed="rId1"/>
          <a:stretch/>
        </p:blipFill>
        <p:spPr>
          <a:xfrm>
            <a:off x="0" y="4221000"/>
            <a:ext cx="1224000" cy="2784600"/>
          </a:xfrm>
          <a:prstGeom prst="rect">
            <a:avLst/>
          </a:prstGeom>
          <a:ln w="0">
            <a:noFill/>
          </a:ln>
        </p:spPr>
      </p:pic>
      <p:sp>
        <p:nvSpPr>
          <p:cNvPr id="1490" name="Text Box 3"/>
          <p:cNvSpPr/>
          <p:nvPr/>
        </p:nvSpPr>
        <p:spPr>
          <a:xfrm>
            <a:off x="324000" y="692280"/>
            <a:ext cx="84978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×0=      5×0=       0×6=      0×8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+0=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       5 + 0=       6+0=       0 + 8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1" name="Group 15"/>
          <p:cNvGrpSpPr/>
          <p:nvPr/>
        </p:nvGrpSpPr>
        <p:grpSpPr>
          <a:xfrm>
            <a:off x="1763640" y="3213000"/>
            <a:ext cx="5687640" cy="2376360"/>
            <a:chOff x="1763640" y="3213000"/>
            <a:chExt cx="5687640" cy="2376360"/>
          </a:xfrm>
        </p:grpSpPr>
        <p:sp>
          <p:nvSpPr>
            <p:cNvPr id="1492" name="AutoShape 4"/>
            <p:cNvSpPr/>
            <p:nvPr/>
          </p:nvSpPr>
          <p:spPr>
            <a:xfrm>
              <a:off x="1763640" y="3213000"/>
              <a:ext cx="5687640" cy="2376360"/>
            </a:xfrm>
            <a:prstGeom prst="wedgeRoundRectCallout">
              <a:avLst>
                <a:gd name="adj1" fmla="val -46115"/>
                <a:gd name="adj2" fmla="val 59212"/>
                <a:gd name="adj3" fmla="val 16667"/>
              </a:avLst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Text Box 5"/>
            <p:cNvSpPr/>
            <p:nvPr/>
          </p:nvSpPr>
          <p:spPr>
            <a:xfrm>
              <a:off x="1994040" y="3304440"/>
              <a:ext cx="538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6600"/>
                  </a:solidFill>
                  <a:latin typeface="楷体_GB2312"/>
                  <a:ea typeface="楷体_GB2312"/>
                </a:rPr>
                <a:t>想一想：</a:t>
              </a:r>
              <a:r>
                <a:rPr b="1" lang="en-US" sz="3600" spc="-1" strike="noStrike">
                  <a:solidFill>
                    <a:srgbClr val="ff6600"/>
                  </a:solidFill>
                  <a:latin typeface="楷体_GB2312"/>
                  <a:ea typeface="楷体_GB2312"/>
                </a:rPr>
                <a:t>0</a:t>
              </a:r>
              <a:r>
                <a:rPr b="1" lang="zh-CN" sz="3600" spc="-1" strike="noStrike">
                  <a:solidFill>
                    <a:srgbClr val="ff6600"/>
                  </a:solidFill>
                  <a:latin typeface="楷体_GB2312"/>
                  <a:ea typeface="楷体_GB2312"/>
                </a:rPr>
                <a:t>和一个数相乘与</a:t>
              </a:r>
              <a:r>
                <a:rPr b="1" lang="en-US" sz="3600" spc="-1" strike="noStrike">
                  <a:solidFill>
                    <a:srgbClr val="ff6600"/>
                  </a:solidFill>
                  <a:latin typeface="楷体_GB2312"/>
                  <a:ea typeface="楷体_GB2312"/>
                </a:rPr>
                <a:t>0</a:t>
              </a:r>
              <a:r>
                <a:rPr b="1" lang="zh-CN" sz="3600" spc="-1" strike="noStrike">
                  <a:solidFill>
                    <a:srgbClr val="ff6600"/>
                  </a:solidFill>
                  <a:latin typeface="楷体_GB2312"/>
                  <a:ea typeface="楷体_GB2312"/>
                </a:rPr>
                <a:t>和一个数相加结果有什么不同？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4" name="Text Box 6"/>
          <p:cNvSpPr/>
          <p:nvPr/>
        </p:nvSpPr>
        <p:spPr>
          <a:xfrm>
            <a:off x="1763640" y="69228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Text Box 7"/>
          <p:cNvSpPr/>
          <p:nvPr/>
        </p:nvSpPr>
        <p:spPr>
          <a:xfrm>
            <a:off x="5940360" y="155736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Text Box 8"/>
          <p:cNvSpPr/>
          <p:nvPr/>
        </p:nvSpPr>
        <p:spPr>
          <a:xfrm>
            <a:off x="8101080" y="69228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Text Box 9"/>
          <p:cNvSpPr/>
          <p:nvPr/>
        </p:nvSpPr>
        <p:spPr>
          <a:xfrm>
            <a:off x="6084720" y="69228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Text Box 10"/>
          <p:cNvSpPr/>
          <p:nvPr/>
        </p:nvSpPr>
        <p:spPr>
          <a:xfrm>
            <a:off x="3924360" y="69228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Text Box 11"/>
          <p:cNvSpPr/>
          <p:nvPr/>
        </p:nvSpPr>
        <p:spPr>
          <a:xfrm>
            <a:off x="1763640" y="155736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Text Box 13"/>
          <p:cNvSpPr/>
          <p:nvPr/>
        </p:nvSpPr>
        <p:spPr>
          <a:xfrm>
            <a:off x="3924360" y="155736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Text Box 14"/>
          <p:cNvSpPr/>
          <p:nvPr/>
        </p:nvSpPr>
        <p:spPr>
          <a:xfrm>
            <a:off x="8028000" y="162864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Rectangle 2"/>
          <p:cNvSpPr/>
          <p:nvPr/>
        </p:nvSpPr>
        <p:spPr>
          <a:xfrm>
            <a:off x="755640" y="2132640"/>
            <a:ext cx="74167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有关</a:t>
            </a:r>
            <a:r>
              <a:rPr b="1" lang="en-US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0</a:t>
            </a:r>
            <a:r>
              <a:rPr b="1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的计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在加减法中，</a:t>
            </a:r>
            <a:r>
              <a:rPr b="1" lang="en-US" sz="32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是笨蛋，加他减他都没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在乘除法中，</a:t>
            </a:r>
            <a:r>
              <a:rPr b="1" lang="en-US" sz="32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是炸弹，碰到他就完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3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1504" name="Text Box 5"/>
          <p:cNvSpPr/>
          <p:nvPr/>
        </p:nvSpPr>
        <p:spPr>
          <a:xfrm>
            <a:off x="1752480" y="6095880"/>
            <a:ext cx="61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你能算出老寿星每天步行多少米吗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Rectangle 5"/>
          <p:cNvSpPr/>
          <p:nvPr/>
        </p:nvSpPr>
        <p:spPr>
          <a:xfrm>
            <a:off x="229068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20"/>
          <p:cNvSpPr/>
          <p:nvPr/>
        </p:nvSpPr>
        <p:spPr>
          <a:xfrm>
            <a:off x="684360" y="2133720"/>
            <a:ext cx="5113080" cy="30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Text Box 22"/>
          <p:cNvSpPr/>
          <p:nvPr/>
        </p:nvSpPr>
        <p:spPr>
          <a:xfrm>
            <a:off x="1763640" y="2133720"/>
            <a:ext cx="4392720" cy="23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6600ff"/>
                </a:solidFill>
                <a:latin typeface="Times New Roman"/>
              </a:rPr>
              <a:t>5    0     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ff"/>
                </a:solidFill>
                <a:latin typeface="Times New Roman"/>
              </a:rPr>
              <a:t>×           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Line 24"/>
          <p:cNvSpPr/>
          <p:nvPr/>
        </p:nvSpPr>
        <p:spPr>
          <a:xfrm>
            <a:off x="1258920" y="3789360"/>
            <a:ext cx="41036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AutoShape 25"/>
          <p:cNvSpPr/>
          <p:nvPr/>
        </p:nvSpPr>
        <p:spPr>
          <a:xfrm>
            <a:off x="4068720" y="4294080"/>
            <a:ext cx="865080" cy="717480"/>
          </a:xfrm>
          <a:prstGeom prst="pie">
            <a:avLst/>
          </a:prstGeom>
          <a:solidFill>
            <a:srgbClr val="00cc99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AutoShape 26"/>
          <p:cNvSpPr/>
          <p:nvPr/>
        </p:nvSpPr>
        <p:spPr>
          <a:xfrm>
            <a:off x="3132000" y="4294080"/>
            <a:ext cx="865440" cy="717480"/>
          </a:xfrm>
          <a:prstGeom prst="pie">
            <a:avLst/>
          </a:prstGeom>
          <a:solidFill>
            <a:srgbClr val="00cc99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AutoShape 27"/>
          <p:cNvSpPr/>
          <p:nvPr/>
        </p:nvSpPr>
        <p:spPr>
          <a:xfrm>
            <a:off x="2124000" y="4294080"/>
            <a:ext cx="865440" cy="717480"/>
          </a:xfrm>
          <a:prstGeom prst="pie">
            <a:avLst/>
          </a:prstGeom>
          <a:solidFill>
            <a:srgbClr val="00cc99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AutoShape 28"/>
          <p:cNvSpPr/>
          <p:nvPr/>
        </p:nvSpPr>
        <p:spPr>
          <a:xfrm>
            <a:off x="1187280" y="4294080"/>
            <a:ext cx="865440" cy="717480"/>
          </a:xfrm>
          <a:prstGeom prst="pie">
            <a:avLst/>
          </a:prstGeom>
          <a:solidFill>
            <a:srgbClr val="00cc99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Text Box 29"/>
          <p:cNvSpPr/>
          <p:nvPr/>
        </p:nvSpPr>
        <p:spPr>
          <a:xfrm>
            <a:off x="597600" y="1894680"/>
            <a:ext cx="66780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竖式计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Text Box 30"/>
          <p:cNvSpPr/>
          <p:nvPr/>
        </p:nvSpPr>
        <p:spPr>
          <a:xfrm>
            <a:off x="611280" y="765000"/>
            <a:ext cx="824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ff"/>
                </a:solidFill>
                <a:latin typeface="Times New Roman"/>
              </a:rPr>
              <a:t>508 ×3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5" name="Picture 31" descr="28"/>
          <p:cNvPicPr/>
          <p:nvPr/>
        </p:nvPicPr>
        <p:blipFill>
          <a:blip r:embed="rId1"/>
          <a:stretch/>
        </p:blipFill>
        <p:spPr>
          <a:xfrm>
            <a:off x="6156360" y="0"/>
            <a:ext cx="2987640" cy="2205000"/>
          </a:xfrm>
          <a:prstGeom prst="rect">
            <a:avLst/>
          </a:prstGeom>
          <a:ln w="0">
            <a:noFill/>
          </a:ln>
        </p:spPr>
      </p:pic>
      <p:sp>
        <p:nvSpPr>
          <p:cNvPr id="1516" name="AutoShape 25"/>
          <p:cNvSpPr/>
          <p:nvPr/>
        </p:nvSpPr>
        <p:spPr>
          <a:xfrm>
            <a:off x="3492360" y="3357720"/>
            <a:ext cx="503280" cy="358560"/>
          </a:xfrm>
          <a:prstGeom prst="pie">
            <a:avLst/>
          </a:prstGeom>
          <a:solidFill>
            <a:srgbClr val="00cc99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7" name="Group 2"/>
          <p:cNvGrpSpPr/>
          <p:nvPr/>
        </p:nvGrpSpPr>
        <p:grpSpPr>
          <a:xfrm>
            <a:off x="3780000" y="3860640"/>
            <a:ext cx="6192720" cy="916920"/>
            <a:chOff x="3780000" y="3860640"/>
            <a:chExt cx="6192720" cy="916920"/>
          </a:xfrm>
        </p:grpSpPr>
        <p:sp>
          <p:nvSpPr>
            <p:cNvPr id="1518" name="Text Box 3"/>
            <p:cNvSpPr/>
            <p:nvPr/>
          </p:nvSpPr>
          <p:spPr>
            <a:xfrm>
              <a:off x="3780000" y="3860640"/>
              <a:ext cx="6192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6600cc"/>
                  </a:solidFill>
                  <a:latin typeface="Arial"/>
                </a:rPr>
                <a:t>   </a:t>
              </a:r>
              <a:r>
                <a:rPr b="0" lang="en-US" sz="4800" spc="-1" strike="noStrike">
                  <a:solidFill>
                    <a:srgbClr val="6600cc"/>
                  </a:solidFill>
                  <a:latin typeface="Arial"/>
                </a:rPr>
                <a:t>305    9 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Rectangle 4"/>
            <p:cNvSpPr/>
            <p:nvPr/>
          </p:nvSpPr>
          <p:spPr>
            <a:xfrm>
              <a:off x="5508360" y="3860640"/>
              <a:ext cx="869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6600cc"/>
                  </a:solidFill>
                  <a:latin typeface="Arial"/>
                </a:rPr>
                <a:t>×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0" name="Group 5"/>
          <p:cNvGrpSpPr/>
          <p:nvPr/>
        </p:nvGrpSpPr>
        <p:grpSpPr>
          <a:xfrm>
            <a:off x="3780000" y="2781360"/>
            <a:ext cx="6192720" cy="916920"/>
            <a:chOff x="3780000" y="2781360"/>
            <a:chExt cx="6192720" cy="916920"/>
          </a:xfrm>
        </p:grpSpPr>
        <p:sp>
          <p:nvSpPr>
            <p:cNvPr id="1521" name="Text Box 6"/>
            <p:cNvSpPr/>
            <p:nvPr/>
          </p:nvSpPr>
          <p:spPr>
            <a:xfrm>
              <a:off x="3780000" y="2781360"/>
              <a:ext cx="6192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4800" spc="-1" strike="noStrike">
                  <a:solidFill>
                    <a:srgbClr val="6600cc"/>
                  </a:solidFill>
                  <a:latin typeface="Arial"/>
                </a:rPr>
                <a:t>603    4 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Rectangle 7"/>
            <p:cNvSpPr/>
            <p:nvPr/>
          </p:nvSpPr>
          <p:spPr>
            <a:xfrm>
              <a:off x="5508360" y="2781360"/>
              <a:ext cx="869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6600cc"/>
                  </a:solidFill>
                  <a:latin typeface="Arial"/>
                </a:rPr>
                <a:t>×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3" name="Group 8"/>
          <p:cNvGrpSpPr/>
          <p:nvPr/>
        </p:nvGrpSpPr>
        <p:grpSpPr>
          <a:xfrm>
            <a:off x="3780000" y="1700280"/>
            <a:ext cx="6192720" cy="916920"/>
            <a:chOff x="3780000" y="1700280"/>
            <a:chExt cx="6192720" cy="916920"/>
          </a:xfrm>
        </p:grpSpPr>
        <p:sp>
          <p:nvSpPr>
            <p:cNvPr id="1524" name="Text Box 9"/>
            <p:cNvSpPr/>
            <p:nvPr/>
          </p:nvSpPr>
          <p:spPr>
            <a:xfrm>
              <a:off x="3780000" y="1700280"/>
              <a:ext cx="6192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4800" spc="-1" strike="noStrike">
                  <a:solidFill>
                    <a:srgbClr val="6600cc"/>
                  </a:solidFill>
                  <a:latin typeface="Arial"/>
                </a:rPr>
                <a:t>201    8 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Rectangle 10"/>
            <p:cNvSpPr/>
            <p:nvPr/>
          </p:nvSpPr>
          <p:spPr>
            <a:xfrm>
              <a:off x="5508360" y="1700280"/>
              <a:ext cx="86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6600cc"/>
                  </a:solidFill>
                  <a:latin typeface="Arial"/>
                </a:rPr>
                <a:t>×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6" name="Text Box 11"/>
          <p:cNvSpPr/>
          <p:nvPr/>
        </p:nvSpPr>
        <p:spPr>
          <a:xfrm>
            <a:off x="755640" y="476280"/>
            <a:ext cx="208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cc"/>
                </a:solidFill>
                <a:latin typeface="Bookshelf Symbol 7"/>
                <a:ea typeface="Bookshelf Symbol 7"/>
              </a:rPr>
              <a:t>做一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1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1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1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1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1116000" y="1916280"/>
            <a:ext cx="763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楷体_GB2312"/>
                <a:ea typeface="楷体_GB2312"/>
              </a:rPr>
              <a:t>一个因数中间有</a:t>
            </a:r>
            <a:r>
              <a:rPr b="1" lang="en-US" sz="3200" spc="-1" strike="noStrike">
                <a:solidFill>
                  <a:srgbClr val="007572"/>
                </a:solidFill>
                <a:latin typeface="楷体_GB2312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007572"/>
                </a:solidFill>
                <a:latin typeface="楷体_GB2312"/>
                <a:ea typeface="楷体_GB2312"/>
              </a:rPr>
              <a:t>的乘法的计算方法</a:t>
            </a:r>
            <a:r>
              <a:rPr b="1" lang="zh-CN" sz="2800" spc="-1" strike="noStrike">
                <a:solidFill>
                  <a:srgbClr val="007572"/>
                </a:solidFill>
                <a:latin typeface="楷体_GB2312"/>
                <a:ea typeface="楷体_GB2312"/>
              </a:rPr>
              <a:t>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计算一个因数中间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乘法和计算一个因数中间没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乘法的方法（       ），要用一位数依次去乘多位数的（               ），与中间的零相乘时，如果没有进上来的数，这一位上的积就是（ ），要在本位上写（ ）占位，如果有进上来的数必须（   ）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Text Box 9"/>
          <p:cNvSpPr/>
          <p:nvPr/>
        </p:nvSpPr>
        <p:spPr>
          <a:xfrm>
            <a:off x="5500800" y="2852640"/>
            <a:ext cx="16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完全相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Text Box 10"/>
          <p:cNvSpPr/>
          <p:nvPr/>
        </p:nvSpPr>
        <p:spPr>
          <a:xfrm>
            <a:off x="3635280" y="4508640"/>
            <a:ext cx="3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Text Box 11"/>
          <p:cNvSpPr/>
          <p:nvPr/>
        </p:nvSpPr>
        <p:spPr>
          <a:xfrm>
            <a:off x="7358040" y="4143240"/>
            <a:ext cx="3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Text Box 12"/>
          <p:cNvSpPr/>
          <p:nvPr/>
        </p:nvSpPr>
        <p:spPr>
          <a:xfrm>
            <a:off x="1907640" y="4941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加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Text Box 15"/>
          <p:cNvSpPr/>
          <p:nvPr/>
        </p:nvSpPr>
        <p:spPr>
          <a:xfrm>
            <a:off x="2649960" y="37162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每一个数位上的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8T13:12:37Z</dcterms:created>
  <dc:creator/>
  <dc:description/>
  <dc:language>en-US</dc:language>
  <cp:lastModifiedBy/>
  <dcterms:modified xsi:type="dcterms:W3CDTF">2016-06-17T06:03:59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61e000000000001024120</vt:lpwstr>
  </property>
</Properties>
</file>