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10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2.png" ContentType="image/pn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D76B9-5EE0-4BA2-BDAB-6422982377A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7ACE6-70E0-493E-8998-A6CE2BE4D3B3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1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366C0-73CF-4B87-A325-9503886803AC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1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7ABA3-17E2-4C38-A451-1C6923CCD6AE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241C9-2DC3-490D-AE32-15224D2D55D4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7409A-992F-428D-A70C-54C12A8E151F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6C070-07C8-49FF-8870-B27047E7C0DF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56338-FDB9-4FA5-8E55-A6F172B87D14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87233-1482-4161-8408-EEFF71805D64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9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7251-9556-4BF1-80A5-878B6A2EC518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DFC37-6BE4-48F4-A343-DEAB5AA9CC42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230F4-D406-4297-9429-2E1575C34051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0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D9AAB-3B42-4CC1-861C-07612DAACC76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29E5B-DC5A-4234-81FC-2A5C8929070C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0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E181E-31E5-455B-8E16-84F9EE19989B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81160" y="57384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6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104000"/>
            <a:ext cx="826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81160" y="57384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16761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10400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93680" y="410400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81160" y="57384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52600" y="167616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48000" y="167616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10400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52600" y="410400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48000" y="410400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81160" y="57384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677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81160" y="57384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67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81160" y="57384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93680" y="1676160"/>
            <a:ext cx="40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81160" y="57384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2081160" y="620640"/>
            <a:ext cx="601992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81160" y="57384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93680" y="1676160"/>
            <a:ext cx="40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10400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81160" y="57384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677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81160" y="57384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93680" y="16761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93680" y="410400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81160" y="57384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16761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104000"/>
            <a:ext cx="826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81160" y="57384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6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4104000"/>
            <a:ext cx="826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081160" y="57384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93680" y="16761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0400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93680" y="410400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81160" y="57384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52600" y="167616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48000" y="167616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410400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52600" y="410400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48000" y="410400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81160" y="57384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67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81160" y="57384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3680" y="1676160"/>
            <a:ext cx="40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081160" y="57384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2081160" y="620640"/>
            <a:ext cx="601992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81160" y="57384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3680" y="1676160"/>
            <a:ext cx="40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10400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081160" y="57384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3680" y="16761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93680" y="410400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081160" y="57384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93680" y="16761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104000"/>
            <a:ext cx="826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val 105"/>
          <p:cNvSpPr/>
          <p:nvPr/>
        </p:nvSpPr>
        <p:spPr>
          <a:xfrm>
            <a:off x="0" y="0"/>
            <a:ext cx="6804000" cy="6858000"/>
          </a:xfrm>
          <a:prstGeom prst="ellipse">
            <a:avLst/>
          </a:prstGeom>
          <a:gradFill rotWithShape="0">
            <a:gsLst>
              <a:gs pos="0">
                <a:srgbClr val="c0c0c0">
                  <a:alpha val="44313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06"/>
          <p:cNvSpPr/>
          <p:nvPr/>
        </p:nvSpPr>
        <p:spPr>
          <a:xfrm>
            <a:off x="0" y="549360"/>
            <a:ext cx="9144000" cy="647640"/>
          </a:xfrm>
          <a:prstGeom prst="rect">
            <a:avLst/>
          </a:prstGeom>
          <a:solidFill>
            <a:srgbClr val="c60a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Oval 107"/>
          <p:cNvSpPr/>
          <p:nvPr/>
        </p:nvSpPr>
        <p:spPr>
          <a:xfrm>
            <a:off x="1116000" y="58680"/>
            <a:ext cx="865080" cy="892080"/>
          </a:xfrm>
          <a:prstGeom prst="ellipse">
            <a:avLst/>
          </a:prstGeom>
          <a:solidFill>
            <a:srgbClr val="93c052"/>
          </a:solid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Oval 108"/>
          <p:cNvSpPr/>
          <p:nvPr/>
        </p:nvSpPr>
        <p:spPr>
          <a:xfrm>
            <a:off x="8101080" y="106200"/>
            <a:ext cx="790560" cy="830520"/>
          </a:xfrm>
          <a:prstGeom prst="ellipse">
            <a:avLst/>
          </a:prstGeom>
          <a:solidFill>
            <a:srgbClr val="003399"/>
          </a:solid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67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60a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60a0a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60a0a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1"/>
          </p:nvPr>
        </p:nvSpPr>
        <p:spPr>
          <a:xfrm>
            <a:off x="3419640" y="6552720"/>
            <a:ext cx="25905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c60a0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0a0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2081160" y="62064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380880" y="653400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1127160" y="73080"/>
            <a:ext cx="841320" cy="865080"/>
            <a:chOff x="1127160" y="73080"/>
            <a:chExt cx="841320" cy="865080"/>
          </a:xfrm>
        </p:grpSpPr>
        <p:pic>
          <p:nvPicPr>
            <p:cNvPr id="9" name="Oval 111" descr=""/>
            <p:cNvPicPr/>
            <p:nvPr/>
          </p:nvPicPr>
          <p:blipFill>
            <a:blip r:embed="rId2"/>
            <a:stretch/>
          </p:blipFill>
          <p:spPr>
            <a:xfrm>
              <a:off x="1127160" y="73080"/>
              <a:ext cx="84132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Text Box 12"/>
            <p:cNvSpPr/>
            <p:nvPr/>
          </p:nvSpPr>
          <p:spPr>
            <a:xfrm>
              <a:off x="1254240" y="201600"/>
              <a:ext cx="58716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Oval 109"/>
          <p:cNvSpPr/>
          <p:nvPr/>
        </p:nvSpPr>
        <p:spPr>
          <a:xfrm>
            <a:off x="179280" y="333360"/>
            <a:ext cx="1152720" cy="1224000"/>
          </a:xfrm>
          <a:prstGeom prst="ellipse">
            <a:avLst/>
          </a:prstGeom>
          <a:solidFill>
            <a:srgbClr val="855ada"/>
          </a:solid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" name="Group 14"/>
          <p:cNvGrpSpPr/>
          <p:nvPr/>
        </p:nvGrpSpPr>
        <p:grpSpPr>
          <a:xfrm>
            <a:off x="182520" y="347760"/>
            <a:ext cx="1139760" cy="1195200"/>
            <a:chOff x="182520" y="347760"/>
            <a:chExt cx="1139760" cy="1195200"/>
          </a:xfrm>
        </p:grpSpPr>
        <p:pic>
          <p:nvPicPr>
            <p:cNvPr id="13" name="Oval 110" descr=""/>
            <p:cNvPicPr/>
            <p:nvPr/>
          </p:nvPicPr>
          <p:blipFill>
            <a:blip r:embed="rId3"/>
            <a:stretch/>
          </p:blipFill>
          <p:spPr>
            <a:xfrm>
              <a:off x="182520" y="347760"/>
              <a:ext cx="1139760" cy="11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Text Box 16"/>
            <p:cNvSpPr/>
            <p:nvPr/>
          </p:nvSpPr>
          <p:spPr>
            <a:xfrm>
              <a:off x="355680" y="525240"/>
              <a:ext cx="798480" cy="83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8113680" y="115920"/>
            <a:ext cx="768240" cy="811080"/>
            <a:chOff x="8113680" y="115920"/>
            <a:chExt cx="768240" cy="811080"/>
          </a:xfrm>
        </p:grpSpPr>
        <p:pic>
          <p:nvPicPr>
            <p:cNvPr id="16" name="Oval 112" descr=""/>
            <p:cNvPicPr/>
            <p:nvPr/>
          </p:nvPicPr>
          <p:blipFill>
            <a:blip r:embed="rId4"/>
            <a:stretch/>
          </p:blipFill>
          <p:spPr>
            <a:xfrm>
              <a:off x="8113680" y="115920"/>
              <a:ext cx="76824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" name="Text Box 19"/>
            <p:cNvSpPr/>
            <p:nvPr/>
          </p:nvSpPr>
          <p:spPr>
            <a:xfrm>
              <a:off x="8231040" y="239760"/>
              <a:ext cx="53496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Oval 38"/>
          <p:cNvSpPr/>
          <p:nvPr/>
        </p:nvSpPr>
        <p:spPr>
          <a:xfrm>
            <a:off x="684360" y="1096920"/>
            <a:ext cx="5905440" cy="5761080"/>
          </a:xfrm>
          <a:prstGeom prst="ellipse">
            <a:avLst/>
          </a:prstGeom>
          <a:gradFill rotWithShape="0">
            <a:gsLst>
              <a:gs pos="0">
                <a:srgbClr val="c0c0c0">
                  <a:alpha val="48235"/>
                </a:srgbClr>
              </a:gs>
              <a:gs pos="100000">
                <a:srgbClr val="ffffff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9"/>
          <p:cNvSpPr/>
          <p:nvPr/>
        </p:nvSpPr>
        <p:spPr>
          <a:xfrm>
            <a:off x="0" y="4437000"/>
            <a:ext cx="9144000" cy="1728720"/>
          </a:xfrm>
          <a:prstGeom prst="rect">
            <a:avLst/>
          </a:prstGeom>
          <a:solidFill>
            <a:srgbClr val="c60a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40"/>
          <p:cNvSpPr/>
          <p:nvPr/>
        </p:nvSpPr>
        <p:spPr>
          <a:xfrm>
            <a:off x="971640" y="1628640"/>
            <a:ext cx="3529080" cy="3672000"/>
          </a:xfrm>
          <a:prstGeom prst="ellipse">
            <a:avLst/>
          </a:prstGeom>
          <a:solidFill>
            <a:srgbClr val="93c052"/>
          </a:solid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42"/>
          <p:cNvSpPr/>
          <p:nvPr/>
        </p:nvSpPr>
        <p:spPr>
          <a:xfrm>
            <a:off x="1258920" y="260280"/>
            <a:ext cx="934920" cy="936720"/>
          </a:xfrm>
          <a:prstGeom prst="ellipse">
            <a:avLst/>
          </a:prstGeom>
          <a:solidFill>
            <a:srgbClr val="003399"/>
          </a:solid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43"/>
          <p:cNvSpPr/>
          <p:nvPr/>
        </p:nvSpPr>
        <p:spPr>
          <a:xfrm>
            <a:off x="4211640" y="2637000"/>
            <a:ext cx="1224000" cy="1223640"/>
          </a:xfrm>
          <a:prstGeom prst="ellipse">
            <a:avLst/>
          </a:prstGeom>
          <a:solidFill>
            <a:srgbClr val="c60a0a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7763040" y="6286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8"/>
          <p:cNvGrpSpPr/>
          <p:nvPr/>
        </p:nvGrpSpPr>
        <p:grpSpPr>
          <a:xfrm>
            <a:off x="963720" y="1620720"/>
            <a:ext cx="3504960" cy="3646440"/>
            <a:chOff x="963720" y="1620720"/>
            <a:chExt cx="3504960" cy="3646440"/>
          </a:xfrm>
        </p:grpSpPr>
        <p:pic>
          <p:nvPicPr>
            <p:cNvPr id="61" name="Oval 49" descr=""/>
            <p:cNvPicPr/>
            <p:nvPr/>
          </p:nvPicPr>
          <p:blipFill>
            <a:blip r:embed="rId2"/>
            <a:stretch/>
          </p:blipFill>
          <p:spPr>
            <a:xfrm>
              <a:off x="963720" y="1620720"/>
              <a:ext cx="3504960" cy="364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 Box 10"/>
            <p:cNvSpPr/>
            <p:nvPr/>
          </p:nvSpPr>
          <p:spPr>
            <a:xfrm>
              <a:off x="1482480" y="2160360"/>
              <a:ext cx="2468160" cy="256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11"/>
          <p:cNvGrpSpPr/>
          <p:nvPr/>
        </p:nvGrpSpPr>
        <p:grpSpPr>
          <a:xfrm>
            <a:off x="1268280" y="274680"/>
            <a:ext cx="914400" cy="907920"/>
            <a:chOff x="1268280" y="274680"/>
            <a:chExt cx="914400" cy="907920"/>
          </a:xfrm>
        </p:grpSpPr>
        <p:pic>
          <p:nvPicPr>
            <p:cNvPr id="64" name="Oval 50" descr=""/>
            <p:cNvPicPr/>
            <p:nvPr/>
          </p:nvPicPr>
          <p:blipFill>
            <a:blip r:embed="rId3"/>
            <a:stretch/>
          </p:blipFill>
          <p:spPr>
            <a:xfrm>
              <a:off x="1268280" y="274680"/>
              <a:ext cx="91440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13"/>
            <p:cNvSpPr/>
            <p:nvPr/>
          </p:nvSpPr>
          <p:spPr>
            <a:xfrm>
              <a:off x="1407960" y="409680"/>
              <a:ext cx="63648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Oval 44"/>
          <p:cNvSpPr/>
          <p:nvPr/>
        </p:nvSpPr>
        <p:spPr>
          <a:xfrm>
            <a:off x="3855960" y="3500280"/>
            <a:ext cx="1582920" cy="1582920"/>
          </a:xfrm>
          <a:prstGeom prst="ellipse">
            <a:avLst/>
          </a:prstGeom>
          <a:solidFill>
            <a:srgbClr val="855ada"/>
          </a:solid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15"/>
          <p:cNvGrpSpPr/>
          <p:nvPr/>
        </p:nvGrpSpPr>
        <p:grpSpPr>
          <a:xfrm>
            <a:off x="3876840" y="3517920"/>
            <a:ext cx="1542960" cy="1554120"/>
            <a:chOff x="3876840" y="3517920"/>
            <a:chExt cx="1542960" cy="1554120"/>
          </a:xfrm>
        </p:grpSpPr>
        <p:pic>
          <p:nvPicPr>
            <p:cNvPr id="68" name="Oval 51" descr=""/>
            <p:cNvPicPr/>
            <p:nvPr/>
          </p:nvPicPr>
          <p:blipFill>
            <a:blip r:embed="rId4"/>
            <a:stretch/>
          </p:blipFill>
          <p:spPr>
            <a:xfrm>
              <a:off x="3876840" y="3517920"/>
              <a:ext cx="1542960" cy="15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Text Box 17"/>
            <p:cNvSpPr/>
            <p:nvPr/>
          </p:nvSpPr>
          <p:spPr>
            <a:xfrm>
              <a:off x="4105440" y="3746520"/>
              <a:ext cx="1085760" cy="10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Oval 41"/>
          <p:cNvSpPr/>
          <p:nvPr/>
        </p:nvSpPr>
        <p:spPr>
          <a:xfrm>
            <a:off x="324000" y="1268280"/>
            <a:ext cx="1438200" cy="1511280"/>
          </a:xfrm>
          <a:prstGeom prst="ellipse">
            <a:avLst/>
          </a:prstGeom>
          <a:solidFill>
            <a:srgbClr val="855ada"/>
          </a:solid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9"/>
          <p:cNvGrpSpPr/>
          <p:nvPr/>
        </p:nvGrpSpPr>
        <p:grpSpPr>
          <a:xfrm>
            <a:off x="324000" y="1279440"/>
            <a:ext cx="1431720" cy="1476360"/>
            <a:chOff x="324000" y="1279440"/>
            <a:chExt cx="1431720" cy="1476360"/>
          </a:xfrm>
        </p:grpSpPr>
        <p:pic>
          <p:nvPicPr>
            <p:cNvPr id="72" name="Oval 52" descr=""/>
            <p:cNvPicPr/>
            <p:nvPr/>
          </p:nvPicPr>
          <p:blipFill>
            <a:blip r:embed="rId5"/>
            <a:stretch/>
          </p:blipFill>
          <p:spPr>
            <a:xfrm>
              <a:off x="324000" y="1279440"/>
              <a:ext cx="143172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21"/>
            <p:cNvSpPr/>
            <p:nvPr/>
          </p:nvSpPr>
          <p:spPr>
            <a:xfrm>
              <a:off x="537840" y="1501560"/>
              <a:ext cx="1002960" cy="103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67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60a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60a0a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60a0a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2081160" y="62064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3"/>
          </p:nvPr>
        </p:nvSpPr>
        <p:spPr>
          <a:xfrm>
            <a:off x="250920" y="6381360"/>
            <a:ext cx="22096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4"/>
          </p:nvPr>
        </p:nvSpPr>
        <p:spPr>
          <a:xfrm>
            <a:off x="3790440" y="6381360"/>
            <a:ext cx="19335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c60a0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60a0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00000" y="785880"/>
            <a:ext cx="6443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JUNIOR NEW CONCEPT ENGLISH     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br>
              <a:rPr sz="20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青少版新概念英语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1A</a:t>
            </a:r>
            <a:br>
              <a:rPr sz="2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Unit1 Meet the family</a:t>
            </a:r>
            <a:br>
              <a:rPr sz="24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认识一下我们全家吧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第一课时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7786800" y="6286680"/>
            <a:ext cx="10760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内容占位符 4" descr="SB1, unit 1, lesson 1, p.2, pict 2, A4, b&amp;w副本.jpg"/>
          <p:cNvPicPr/>
          <p:nvPr/>
        </p:nvPicPr>
        <p:blipFill>
          <a:blip r:embed="rId1"/>
          <a:stretch/>
        </p:blipFill>
        <p:spPr>
          <a:xfrm>
            <a:off x="1214280" y="1714680"/>
            <a:ext cx="6585120" cy="4647960"/>
          </a:xfrm>
          <a:prstGeom prst="rect">
            <a:avLst/>
          </a:prstGeom>
          <a:ln w="0">
            <a:noFill/>
          </a:ln>
        </p:spPr>
      </p:pic>
      <p:sp>
        <p:nvSpPr>
          <p:cNvPr id="157" name="页脚占位符 3"/>
          <p:cNvSpPr/>
          <p:nvPr/>
        </p:nvSpPr>
        <p:spPr>
          <a:xfrm>
            <a:off x="3419640" y="6553080"/>
            <a:ext cx="2590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60a0a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5"/>
          <p:cNvGrpSpPr/>
          <p:nvPr/>
        </p:nvGrpSpPr>
        <p:grpSpPr>
          <a:xfrm>
            <a:off x="23760" y="1006560"/>
            <a:ext cx="2852640" cy="2266920"/>
            <a:chOff x="23760" y="1006560"/>
            <a:chExt cx="2852640" cy="2266920"/>
          </a:xfrm>
        </p:grpSpPr>
        <p:pic>
          <p:nvPicPr>
            <p:cNvPr id="159" name="圆角矩形 7" descr=""/>
            <p:cNvPicPr/>
            <p:nvPr/>
          </p:nvPicPr>
          <p:blipFill>
            <a:blip r:embed="rId2"/>
            <a:stretch/>
          </p:blipFill>
          <p:spPr>
            <a:xfrm>
              <a:off x="23760" y="1006560"/>
              <a:ext cx="2852640" cy="22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Text Box 7"/>
            <p:cNvSpPr/>
            <p:nvPr/>
          </p:nvSpPr>
          <p:spPr>
            <a:xfrm rot="20226000">
              <a:off x="277920" y="1525320"/>
              <a:ext cx="2346120" cy="12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is is my family.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标题 5"/>
          <p:cNvSpPr/>
          <p:nvPr/>
        </p:nvSpPr>
        <p:spPr>
          <a:xfrm>
            <a:off x="2081160" y="620640"/>
            <a:ext cx="60199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t1 Meet the famil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内容占位符 4" descr="SB1, unit 1, lesson 1, p.2, pict 3, A4, b&amp;w (2)副本.jpg"/>
          <p:cNvPicPr/>
          <p:nvPr/>
        </p:nvPicPr>
        <p:blipFill>
          <a:blip r:embed="rId1"/>
          <a:stretch/>
        </p:blipFill>
        <p:spPr>
          <a:xfrm>
            <a:off x="1285920" y="1214280"/>
            <a:ext cx="6635880" cy="4676760"/>
          </a:xfrm>
          <a:prstGeom prst="rect">
            <a:avLst/>
          </a:prstGeom>
          <a:ln w="0">
            <a:noFill/>
          </a:ln>
        </p:spPr>
      </p:pic>
      <p:sp>
        <p:nvSpPr>
          <p:cNvPr id="163" name="页脚占位符 3"/>
          <p:cNvSpPr/>
          <p:nvPr/>
        </p:nvSpPr>
        <p:spPr>
          <a:xfrm>
            <a:off x="3419640" y="6553080"/>
            <a:ext cx="2590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60a0a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椭圆 5" descr=""/>
          <p:cNvPicPr/>
          <p:nvPr/>
        </p:nvPicPr>
        <p:blipFill>
          <a:blip r:embed="rId2"/>
          <a:stretch/>
        </p:blipFill>
        <p:spPr>
          <a:xfrm>
            <a:off x="4780080" y="706320"/>
            <a:ext cx="4230720" cy="3584520"/>
          </a:xfrm>
          <a:prstGeom prst="rect">
            <a:avLst/>
          </a:prstGeom>
          <a:ln w="0">
            <a:noFill/>
          </a:ln>
        </p:spPr>
      </p:pic>
      <p:grpSp>
        <p:nvGrpSpPr>
          <p:cNvPr id="165" name="Group 6"/>
          <p:cNvGrpSpPr/>
          <p:nvPr/>
        </p:nvGrpSpPr>
        <p:grpSpPr>
          <a:xfrm>
            <a:off x="128520" y="1841400"/>
            <a:ext cx="3168720" cy="768240"/>
            <a:chOff x="128520" y="1841400"/>
            <a:chExt cx="3168720" cy="768240"/>
          </a:xfrm>
        </p:grpSpPr>
        <p:pic>
          <p:nvPicPr>
            <p:cNvPr id="166" name="椭圆 7" descr=""/>
            <p:cNvPicPr/>
            <p:nvPr/>
          </p:nvPicPr>
          <p:blipFill>
            <a:blip r:embed="rId3"/>
            <a:stretch/>
          </p:blipFill>
          <p:spPr>
            <a:xfrm>
              <a:off x="128520" y="1841400"/>
              <a:ext cx="31687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Text Box 8"/>
            <p:cNvSpPr/>
            <p:nvPr/>
          </p:nvSpPr>
          <p:spPr>
            <a:xfrm>
              <a:off x="654120" y="2016000"/>
              <a:ext cx="212076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ow do you do?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标题 5"/>
          <p:cNvSpPr/>
          <p:nvPr/>
        </p:nvSpPr>
        <p:spPr>
          <a:xfrm>
            <a:off x="2081160" y="620640"/>
            <a:ext cx="60199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t1 Meet the famil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内容占位符 4" descr="SB1, unit 1, lesson 1, p.2, pict 4, A4, b&amp;w副本.jpg"/>
          <p:cNvPicPr/>
          <p:nvPr/>
        </p:nvPicPr>
        <p:blipFill>
          <a:blip r:embed="rId1"/>
          <a:stretch/>
        </p:blipFill>
        <p:spPr>
          <a:xfrm>
            <a:off x="974880" y="1066680"/>
            <a:ext cx="7767360" cy="10728360"/>
          </a:xfrm>
          <a:prstGeom prst="rect">
            <a:avLst/>
          </a:prstGeom>
          <a:ln w="0">
            <a:noFill/>
          </a:ln>
        </p:spPr>
      </p:pic>
      <p:sp>
        <p:nvSpPr>
          <p:cNvPr id="170" name="页脚占位符 3"/>
          <p:cNvSpPr/>
          <p:nvPr/>
        </p:nvSpPr>
        <p:spPr>
          <a:xfrm>
            <a:off x="3419640" y="6553080"/>
            <a:ext cx="2590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60a0a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圆角矩形 5"/>
          <p:cNvSpPr/>
          <p:nvPr/>
        </p:nvSpPr>
        <p:spPr>
          <a:xfrm>
            <a:off x="5500800" y="1214280"/>
            <a:ext cx="3143160" cy="235764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lliam: This is Lucy. Lucy’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 daughte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cy: Hello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标题 5"/>
          <p:cNvSpPr/>
          <p:nvPr/>
        </p:nvSpPr>
        <p:spPr>
          <a:xfrm>
            <a:off x="2081160" y="620640"/>
            <a:ext cx="60199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t1 Meet the famil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内容占位符 4" descr="SB1, unit 1, lesson 1, p.2, pict 5, A4, b&amp;w副本.jpg"/>
          <p:cNvPicPr/>
          <p:nvPr/>
        </p:nvPicPr>
        <p:blipFill>
          <a:blip r:embed="rId1"/>
          <a:stretch/>
        </p:blipFill>
        <p:spPr>
          <a:xfrm>
            <a:off x="1357200" y="1214280"/>
            <a:ext cx="7786800" cy="5488200"/>
          </a:xfrm>
          <a:prstGeom prst="rect">
            <a:avLst/>
          </a:prstGeom>
          <a:ln w="0">
            <a:noFill/>
          </a:ln>
        </p:spPr>
      </p:pic>
      <p:sp>
        <p:nvSpPr>
          <p:cNvPr id="174" name="页脚占位符 3"/>
          <p:cNvSpPr/>
          <p:nvPr/>
        </p:nvSpPr>
        <p:spPr>
          <a:xfrm>
            <a:off x="3419640" y="6553080"/>
            <a:ext cx="2590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60a0a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椭圆 5"/>
          <p:cNvSpPr/>
          <p:nvPr/>
        </p:nvSpPr>
        <p:spPr>
          <a:xfrm>
            <a:off x="214200" y="1214280"/>
            <a:ext cx="3286080" cy="242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lliam: This is my son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er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ert: Hi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081160" y="62064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Unit1 Meet the famil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内容占位符 4" descr="SB1, unit 1, lesson 1, p.2, pict 6, A4, b&amp;w副本.jpg"/>
          <p:cNvPicPr/>
          <p:nvPr/>
        </p:nvPicPr>
        <p:blipFill>
          <a:blip r:embed="rId1"/>
          <a:stretch/>
        </p:blipFill>
        <p:spPr>
          <a:xfrm>
            <a:off x="0" y="1071720"/>
            <a:ext cx="8929800" cy="5505120"/>
          </a:xfrm>
          <a:prstGeom prst="rect">
            <a:avLst/>
          </a:prstGeom>
          <a:ln w="0">
            <a:noFill/>
          </a:ln>
        </p:spPr>
      </p:pic>
      <p:sp>
        <p:nvSpPr>
          <p:cNvPr id="178" name="页脚占位符 3"/>
          <p:cNvSpPr/>
          <p:nvPr/>
        </p:nvSpPr>
        <p:spPr>
          <a:xfrm>
            <a:off x="3419640" y="6553080"/>
            <a:ext cx="2590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60a0a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椭圆 5"/>
          <p:cNvSpPr/>
          <p:nvPr/>
        </p:nvSpPr>
        <p:spPr>
          <a:xfrm>
            <a:off x="8429760" y="4714920"/>
            <a:ext cx="214200" cy="46080"/>
          </a:xfrm>
          <a:prstGeom prst="ellipse">
            <a:avLst/>
          </a:prstGeom>
          <a:solidFill>
            <a:srgbClr val="5e9c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椭圆 6"/>
          <p:cNvSpPr/>
          <p:nvPr/>
        </p:nvSpPr>
        <p:spPr>
          <a:xfrm>
            <a:off x="642960" y="1285920"/>
            <a:ext cx="2286000" cy="1143000"/>
          </a:xfrm>
          <a:prstGeom prst="ellipse">
            <a:avLst/>
          </a:prstGeom>
          <a:solidFill>
            <a:srgbClr val="42f6ed"/>
          </a:solidFill>
          <a:ln w="9360">
            <a:solidFill>
              <a:srgbClr val="e8e8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 !Nice to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et  you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椭圆 7"/>
          <p:cNvSpPr/>
          <p:nvPr/>
        </p:nvSpPr>
        <p:spPr>
          <a:xfrm>
            <a:off x="5857920" y="5143680"/>
            <a:ext cx="2571840" cy="1214280"/>
          </a:xfrm>
          <a:prstGeom prst="ellipse">
            <a:avLst/>
          </a:prstGeom>
          <a:solidFill>
            <a:srgbClr val="42f6e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this is Paul. Paul’s my nephew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标题 5"/>
          <p:cNvSpPr/>
          <p:nvPr/>
        </p:nvSpPr>
        <p:spPr>
          <a:xfrm>
            <a:off x="2233440" y="571680"/>
            <a:ext cx="60199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t1 Meet the famil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081160" y="62064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关于青少版新概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6840" y="1500120"/>
            <a:ext cx="81867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60a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60a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教学进度安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本套教材共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级，每级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单元内容，其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册包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-1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单元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册包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6-3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单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每个单元安排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课时的课堂教学，每课时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6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一课时教授“听力理解”和“对话练习”（也就是学生用书每课  的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页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语音”、“句型练习”（适当地讲解语法）、一项“书面练习”、 “听写”或“游戏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二课时教授“听力”、“听、说和写”（该练习只出现在“教学说明”和 录音材料里，学生用书里没有这部分内容）和“书面练习”中的 其他内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图片 4" descr="u=1775091067,553242580&amp;fm=0&amp;gp=44.jpg"/>
          <p:cNvPicPr/>
          <p:nvPr/>
        </p:nvPicPr>
        <p:blipFill>
          <a:blip r:embed="rId1"/>
          <a:stretch/>
        </p:blipFill>
        <p:spPr>
          <a:xfrm>
            <a:off x="5643720" y="571680"/>
            <a:ext cx="23572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081160" y="62064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青少版新概念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1A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知识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28760" y="1643040"/>
          <a:ext cx="8267400" cy="5126040"/>
        </p:xfrm>
        <a:graphic>
          <a:graphicData uri="http://schemas.openxmlformats.org/drawingml/2006/table">
            <a:tbl>
              <a:tblPr/>
              <a:tblGrid>
                <a:gridCol w="747720"/>
                <a:gridCol w="2859120"/>
                <a:gridCol w="2857320"/>
                <a:gridCol w="1803240"/>
              </a:tblGrid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单元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e9c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知识点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e9c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语音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e9c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语言技能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e9cda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代词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This is my…,Is this your …?Yes,It’s my…/It isn’t my…Whose…is this?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i:]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与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ɪ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向朋友做自我介绍，把朋友介绍给别人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f1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定冠词与不定冠词，名词所有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is this?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se is this …?What color is Robert’s bicycle?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e]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与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ӕ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询问物品的主人及颜色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8"/>
                    </a:solidFill>
                  </a:tcPr>
                </a:tc>
              </a:tr>
              <a:tr h="118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介词的特殊用法，不定代词在写作及口语表达中的应用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’s that boy?Which one?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ɒ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与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ɔ: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使用特殊疑问词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ch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及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动词引导的一般疑问句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f1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词性活用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，连词在写作与口语表达中的使用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u]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与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u:]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提出建议，询问别人的状态及感觉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8"/>
                    </a:solidFill>
                  </a:tcPr>
                </a:tc>
              </a:tr>
            </a:tbl>
          </a:graphicData>
        </a:graphic>
      </p:graphicFrame>
      <p:sp>
        <p:nvSpPr>
          <p:cNvPr id="128" name="页脚占位符 3"/>
          <p:cNvSpPr/>
          <p:nvPr/>
        </p:nvSpPr>
        <p:spPr>
          <a:xfrm>
            <a:off x="3419640" y="6553080"/>
            <a:ext cx="2590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60a0a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081160" y="62064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青少版新概念的学习任务分配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57200" y="1500120"/>
          <a:ext cx="8329680" cy="2481480"/>
        </p:xfrm>
        <a:graphic>
          <a:graphicData uri="http://schemas.openxmlformats.org/drawingml/2006/table">
            <a:tbl>
              <a:tblPr/>
              <a:tblGrid>
                <a:gridCol w="1843200"/>
                <a:gridCol w="2878200"/>
                <a:gridCol w="360828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级别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e9c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词汇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e9c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英语水平参照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e9cda"/>
                    </a:solidFill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一级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A,1B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约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个生词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个短语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相当于国家英语课程标准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级要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f1"/>
                    </a:solidFill>
                  </a:tcPr>
                </a:tc>
              </a:tr>
              <a:tr h="71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二级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A,2B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新增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个生词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个短语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相当于国家英语课程标准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级要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8"/>
                    </a:solidFill>
                  </a:tcPr>
                </a:tc>
              </a:tr>
              <a:tr h="69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三级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A,3B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新增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0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个生词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个短语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相当于国家英语课程标准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级要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f1"/>
                    </a:solidFill>
                  </a:tcPr>
                </a:tc>
              </a:tr>
            </a:tbl>
          </a:graphicData>
        </a:graphic>
      </p:graphicFrame>
      <p:sp>
        <p:nvSpPr>
          <p:cNvPr id="131" name="页脚占位符 3"/>
          <p:cNvSpPr/>
          <p:nvPr/>
        </p:nvSpPr>
        <p:spPr>
          <a:xfrm>
            <a:off x="3419640" y="6553080"/>
            <a:ext cx="2590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60a0a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26"/>
          <p:cNvGrpSpPr/>
          <p:nvPr/>
        </p:nvGrpSpPr>
        <p:grpSpPr>
          <a:xfrm>
            <a:off x="987480" y="4133880"/>
            <a:ext cx="6881760" cy="2022480"/>
            <a:chOff x="987480" y="4133880"/>
            <a:chExt cx="6881760" cy="2022480"/>
          </a:xfrm>
        </p:grpSpPr>
        <p:pic>
          <p:nvPicPr>
            <p:cNvPr id="133" name="椭圆 5" descr=""/>
            <p:cNvPicPr/>
            <p:nvPr/>
          </p:nvPicPr>
          <p:blipFill>
            <a:blip r:embed="rId1"/>
            <a:stretch/>
          </p:blipFill>
          <p:spPr>
            <a:xfrm>
              <a:off x="987480" y="4133880"/>
              <a:ext cx="6881760" cy="20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28"/>
            <p:cNvSpPr/>
            <p:nvPr/>
          </p:nvSpPr>
          <p:spPr>
            <a:xfrm>
              <a:off x="2005200" y="4437000"/>
              <a:ext cx="4848120" cy="14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其中小学毕业应达到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级水平。能用简单的英语互致问候、交换有关个人、家庭和朋友的简单信息。能根据所学内容表演小对话或歌谣。能在图片的帮助下听懂、读懂并讲述简单的故事。能根据图片或提示写简单的句子。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" name="图片 6" descr="u=2090525657,3553585116&amp;fm=0&amp;gp=12.jpg"/>
          <p:cNvPicPr/>
          <p:nvPr/>
        </p:nvPicPr>
        <p:blipFill>
          <a:blip r:embed="rId2"/>
          <a:stretch/>
        </p:blipFill>
        <p:spPr>
          <a:xfrm>
            <a:off x="142920" y="4286160"/>
            <a:ext cx="1562040" cy="207180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7" descr="u=2368865628,3960675064&amp;fm=0&amp;gp=32.jpg"/>
          <p:cNvPicPr/>
          <p:nvPr/>
        </p:nvPicPr>
        <p:blipFill>
          <a:blip r:embed="rId3"/>
          <a:stretch/>
        </p:blipFill>
        <p:spPr>
          <a:xfrm>
            <a:off x="6929280" y="4214880"/>
            <a:ext cx="197964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081160" y="62064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《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青少版新概念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》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与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《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新概念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》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的衔接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76160"/>
            <a:ext cx="8267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《新概念英语青少版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个级别的语法难度大致相当于《新概念英语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并略高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些。但是《青少版》的词汇量更大，《新概念英语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的词汇总量大约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0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而《青少版》每个级别的单词量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左右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个级别的词汇总量超过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0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因此，我们建议学习完《新概念英语青少版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个级别后，学生还是应该从头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习《新概念英语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《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青少版新概念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》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的教学特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《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新概念英语青少版》语法大纲更加强调渐进性，遵循的是“先听后说，先说后读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先读后写”的渐进性原则，所以每单元都从听力理解开始，进而依次引入语言表达、阅读和写作的训练。凡涉及新的语法结构，都会循环不断地复习前面学过的语法知识。 此外，《新概念英语青少版》还充分考虑了中国孩子学英语需要，加入了系统的语音学习内容。不仅如此，《新概念英语青少版》考虑到了中国国家课程标准对中、小学生的知识和力的要求，所以全套教材内容都能和课标相对应，适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级到初中的学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页脚占位符 3"/>
          <p:cNvSpPr/>
          <p:nvPr/>
        </p:nvSpPr>
        <p:spPr>
          <a:xfrm>
            <a:off x="3419640" y="6553080"/>
            <a:ext cx="2590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60a0a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081160" y="62064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5.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我的请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76160"/>
            <a:ext cx="8267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60a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Preparitio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朗文英汉汉英双解字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Parents’ coope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每天帮助孩子养成一个学习的好习惯，遗弃一个坏习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每天读、听课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钟，贵在坚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课前预习、课后复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页脚占位符 3"/>
          <p:cNvSpPr/>
          <p:nvPr/>
        </p:nvSpPr>
        <p:spPr>
          <a:xfrm>
            <a:off x="3419640" y="6553080"/>
            <a:ext cx="2590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60a0a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图片 8" descr="u=1559152941,2653688923&amp;fm=0&amp;gp=22.jpg"/>
          <p:cNvPicPr/>
          <p:nvPr/>
        </p:nvPicPr>
        <p:blipFill>
          <a:blip r:embed="rId1"/>
          <a:stretch/>
        </p:blipFill>
        <p:spPr>
          <a:xfrm>
            <a:off x="5286240" y="3857760"/>
            <a:ext cx="2622600" cy="26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4920" y="475920"/>
            <a:ext cx="62658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Unit1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New words and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76160"/>
            <a:ext cx="7972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60a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eet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[mi:t]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见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60a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he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[ðə]</a:t>
            </a:r>
            <a:r>
              <a:rPr b="0" lang="en-US" sz="2400" spc="-1" strike="noStrike">
                <a:solidFill>
                  <a:srgbClr val="000000"/>
                </a:solidFill>
                <a:latin typeface="Kingsoft Phonetic Plain"/>
                <a:ea typeface="Kingsoft Phonetic Plain"/>
              </a:rPr>
              <a:t>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efinite 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这，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60a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amily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[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æ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]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n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家，家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60a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Hello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[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ə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ləu]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gree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哈罗，你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60a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y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[maɪ]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ossessive  adj.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我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60a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name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[neim]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n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名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60a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s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z]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v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60a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his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[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]  demonstrativ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ron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这，这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60a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wife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[w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]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n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妻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60a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How do you do?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greeting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你好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60a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60a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页脚占位符 3"/>
          <p:cNvSpPr/>
          <p:nvPr/>
        </p:nvSpPr>
        <p:spPr>
          <a:xfrm>
            <a:off x="3419640" y="6553080"/>
            <a:ext cx="2590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60a0a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1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" dur="20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页脚占位符 3"/>
          <p:cNvSpPr/>
          <p:nvPr/>
        </p:nvSpPr>
        <p:spPr>
          <a:xfrm>
            <a:off x="3419640" y="6553080"/>
            <a:ext cx="2590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60a0a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76160"/>
            <a:ext cx="7972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60a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aughter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[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ɔ:tə]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n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女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60a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on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[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n]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n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儿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60a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Hi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[h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]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greeting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你好，嘿，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60a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nd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[ænd]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nj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60a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nephew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[΄nefju:]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n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外甥；侄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60a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Nice to meet you.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ixed phras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很高兴认识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60a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riend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[frend]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n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朋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60a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acher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[΄ti: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ə]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n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老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60a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rs.(+family name)    [΄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z]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夫人，太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081160" y="62064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New words and Expres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页脚占位符 3"/>
          <p:cNvSpPr/>
          <p:nvPr/>
        </p:nvSpPr>
        <p:spPr>
          <a:xfrm>
            <a:off x="3419640" y="6553080"/>
            <a:ext cx="2590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60a0a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20280" y="1814400"/>
            <a:ext cx="785988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9933"/>
                </a:solidFill>
                <a:latin typeface="Arial"/>
                <a:ea typeface="宋体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c60a0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2081160" y="62064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Unit1 Meet the famil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图片 6" descr="SB1, unit 1, lesson 1, p.2, pict 1, A4, b&amp;w.jpg"/>
          <p:cNvPicPr/>
          <p:nvPr/>
        </p:nvPicPr>
        <p:blipFill>
          <a:blip r:embed="rId1"/>
          <a:stretch/>
        </p:blipFill>
        <p:spPr>
          <a:xfrm>
            <a:off x="0" y="1143000"/>
            <a:ext cx="6929280" cy="5224320"/>
          </a:xfrm>
          <a:prstGeom prst="rect">
            <a:avLst/>
          </a:prstGeom>
          <a:ln w="0">
            <a:noFill/>
          </a:ln>
        </p:spPr>
      </p:pic>
      <p:sp>
        <p:nvSpPr>
          <p:cNvPr id="154" name="椭圆 7"/>
          <p:cNvSpPr/>
          <p:nvPr/>
        </p:nvSpPr>
        <p:spPr>
          <a:xfrm>
            <a:off x="5435640" y="1557360"/>
            <a:ext cx="3786120" cy="13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93c0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!My name 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lliam Jenki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7"/>
          <p:cNvSpPr/>
          <p:nvPr/>
        </p:nvSpPr>
        <p:spPr>
          <a:xfrm>
            <a:off x="7380360" y="3860640"/>
            <a:ext cx="1047600" cy="914400"/>
          </a:xfrm>
          <a:prstGeom prst="pie">
            <a:avLst/>
          </a:prstGeom>
          <a:solidFill>
            <a:srgbClr val="5e9c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6T01:31:24Z</dcterms:created>
  <dc:creator/>
  <dc:description/>
  <cp:keywords/>
  <dc:language>en-US</dc:language>
  <cp:lastModifiedBy/>
  <dcterms:modified xsi:type="dcterms:W3CDTF">2017-01-16T02:50:20Z</dcterms:modified>
  <cp:revision>1</cp:revision>
  <dc:subject/>
  <dc:title/>
</cp:coreProperties>
</file>