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4FC-80B3-45CD-A3FE-12E95EAE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002-7656-4DAA-8A2A-9D24C76B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432-55A7-4FEF-B2AB-B3C0F571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CAE-FD93-4BEE-9246-092F970C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C78-DC2E-45B3-B6FF-53D4952A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889-51E7-43CF-B141-77CF487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518E-3385-446E-AE50-8AE8AB6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D58-B15F-4A84-9998-76D3732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E3B-A460-47FD-A894-F98125B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DC2F-6E7E-4337-A3DE-0FA6A36C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DB6-1BC9-4DC5-B99D-6E81977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5B2-166C-45C2-B380-08643CA3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9ECC-1B9E-47AB-B572-8A28600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4CB-BBE7-43FE-AA13-8BF6A81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FBF-5818-4CC3-9179-13F9995B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3E9-CA8D-4F30-8CFF-7282B847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C169-880A-4F0C-BD33-6F05A716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785-C76E-4BB5-BD3B-D3883D9E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258-82D2-43A0-8C1F-AF583E42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E57-DCC8-482F-8B6A-23A2617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249-1261-498C-A59D-BADF9AA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940-5598-4E5F-A094-D673DEC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C82-93A3-4508-AB9A-60676CE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D34-6251-43A5-A54B-A4B3D4B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500-E67E-4A2D-90BD-A7FF5A4A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0EEB-ED9C-4AE3-8CAF-F756D144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2349360"/>
            <a:ext cx="60487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大数与凑整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5924520"/>
            <a:ext cx="6476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10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5640" y="0"/>
            <a:ext cx="7920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用四舍五入法、去尾法和进一法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48032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凑成整十万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1413000"/>
            <a:ext cx="784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四舍五入法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060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进一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852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去尾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3789360"/>
            <a:ext cx="74883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A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00000       B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40000       C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200000       D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5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1341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20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2708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72360" y="1989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92360" y="333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060640"/>
            <a:ext cx="8244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胖他们买了一袋巧克力共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块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准备每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块装一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些能装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3573360"/>
            <a:ext cx="12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92360" y="333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16286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他们还准备庆祝完元旦节后，全班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一起去公园去划船，每条船最多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438800"/>
            <a:ext cx="784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最少要买（   ）张船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4365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76360" y="1773360"/>
            <a:ext cx="6983280" cy="26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通过今天的学习，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你有什么体会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476360" y="1773360"/>
            <a:ext cx="6983280" cy="26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作业设计：练习册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465120" y="-384120"/>
            <a:ext cx="10150560" cy="8610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627280" y="1197000"/>
            <a:ext cx="388944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437000"/>
            <a:ext cx="9360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上海市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常住人口</a:t>
            </a:r>
            <a:r>
              <a:rPr b="1" lang="en-US" sz="44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1778259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3480" y="5157720"/>
            <a:ext cx="1725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5157720"/>
            <a:ext cx="810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千七百七十八万二千五百九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4365720"/>
            <a:ext cx="0" cy="86364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328760" y="-1320840"/>
            <a:ext cx="12490560" cy="856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700360" y="0"/>
            <a:ext cx="4248000" cy="316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3141720"/>
            <a:ext cx="8820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某品牌汽车一季度销售额为</a:t>
            </a:r>
            <a:r>
              <a:rPr b="1" lang="zh-CN" sz="44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二十亿三千零六十四万零四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元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581360"/>
            <a:ext cx="194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写作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462132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306400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用“去尾法”把下列各数凑整成整万数、整十万数、整百万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7280" y="1397160"/>
          <a:ext cx="8532720" cy="4911480"/>
        </p:xfrm>
        <a:graphic>
          <a:graphicData uri="http://schemas.openxmlformats.org/drawingml/2006/table">
            <a:tbl>
              <a:tblPr/>
              <a:tblGrid>
                <a:gridCol w="2052720"/>
                <a:gridCol w="2087640"/>
                <a:gridCol w="2089080"/>
                <a:gridCol w="2303280"/>
              </a:tblGrid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十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★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百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0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21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92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608720" cy="410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21563" t="0" r="49431" b="0"/>
          <a:stretch/>
        </p:blipFill>
        <p:spPr>
          <a:xfrm>
            <a:off x="3492360" y="0"/>
            <a:ext cx="2951280" cy="278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4140360" cy="2133720"/>
          </a:xfrm>
          <a:prstGeom prst="wedgeEllipseCallout">
            <a:avLst>
              <a:gd name="adj1" fmla="val 47430"/>
              <a:gd name="adj2" fmla="val 51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我的身高是</a:t>
            </a:r>
            <a:r>
              <a:rPr b="1" lang="en-US" sz="4800" spc="-1" strike="noStrike">
                <a:solidFill>
                  <a:srgbClr val="9900ff"/>
                </a:solidFill>
                <a:latin typeface="黑体"/>
                <a:ea typeface="黑体"/>
              </a:rPr>
              <a:t>134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4076640"/>
            <a:ext cx="914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7308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裙子只有</a:t>
            </a:r>
            <a:r>
              <a:rPr b="0" lang="en-US" sz="1800" spc="1" strike="noStrike">
                <a:ln w="7308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130</a:t>
            </a:r>
            <a:r>
              <a:rPr b="0" lang="zh-CN" sz="1800" spc="1" strike="noStrike">
                <a:ln w="7308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厘米和</a:t>
            </a:r>
            <a:r>
              <a:rPr b="0" lang="en-US" sz="1800" spc="1" strike="noStrike">
                <a:ln w="7308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140</a:t>
            </a:r>
            <a:r>
              <a:rPr b="0" lang="zh-CN" sz="1800" spc="1" strike="noStrike">
                <a:ln w="7308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厘米两种尺寸</a:t>
            </a:r>
            <a:endParaRPr b="0" lang="en-US" sz="1800" spc="1" strike="noStrike">
              <a:ln w="73080">
                <a:solidFill>
                  <a:srgbClr val="ff0000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7280" y="3213000"/>
            <a:ext cx="13381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?</a:t>
            </a:r>
            <a:endParaRPr b="0" lang="en-US" sz="1800" spc="-1" strike="noStrike">
              <a:ln w="9360">
                <a:solidFill>
                  <a:srgbClr val="cc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91004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34≈1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573408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73408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558972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566100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76392" t="0" r="0" b="0"/>
          <a:stretch/>
        </p:blipFill>
        <p:spPr>
          <a:xfrm>
            <a:off x="250920" y="4221000"/>
            <a:ext cx="1963800" cy="223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75977" b="0"/>
          <a:stretch/>
        </p:blipFill>
        <p:spPr>
          <a:xfrm>
            <a:off x="6443640" y="2276640"/>
            <a:ext cx="2003400" cy="21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909440" cy="1870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19280" y="0"/>
            <a:ext cx="4248000" cy="2158920"/>
          </a:xfrm>
          <a:prstGeom prst="wedgeEllipseCallout">
            <a:avLst>
              <a:gd name="adj1" fmla="val -58518"/>
              <a:gd name="adj2" fmla="val 285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我的身高是</a:t>
            </a:r>
            <a:r>
              <a:rPr b="1" lang="en-US" sz="4800" spc="-1" strike="noStrike">
                <a:solidFill>
                  <a:srgbClr val="9900ff"/>
                </a:solidFill>
                <a:latin typeface="黑体"/>
                <a:ea typeface="黑体"/>
              </a:rPr>
              <a:t>121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92640"/>
            <a:ext cx="4140360" cy="2133720"/>
          </a:xfrm>
          <a:prstGeom prst="wedgeEllipseCallout">
            <a:avLst>
              <a:gd name="adj1" fmla="val -59087"/>
              <a:gd name="adj2" fmla="val 36902"/>
            </a:avLst>
          </a:prstGeom>
          <a:solidFill>
            <a:srgbClr val="a1f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我的身高是</a:t>
            </a:r>
            <a:r>
              <a:rPr b="1" lang="en-US" sz="4800" spc="-1" strike="noStrike">
                <a:solidFill>
                  <a:srgbClr val="9900ff"/>
                </a:solidFill>
                <a:latin typeface="黑体"/>
                <a:ea typeface="黑体"/>
              </a:rPr>
              <a:t>149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2349360"/>
            <a:ext cx="4176720" cy="1871640"/>
          </a:xfrm>
          <a:prstGeom prst="wedgeEllipseCallout">
            <a:avLst>
              <a:gd name="adj1" fmla="val 52583"/>
              <a:gd name="adj2" fmla="val 42875"/>
            </a:avLst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我的身高是</a:t>
            </a:r>
            <a:r>
              <a:rPr b="1" lang="en-US" sz="4800" spc="-1" strike="noStrike">
                <a:solidFill>
                  <a:srgbClr val="9900ff"/>
                </a:solidFill>
                <a:latin typeface="黑体"/>
                <a:ea typeface="黑体"/>
              </a:rPr>
              <a:t>135</a:t>
            </a: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836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21≈1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084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49≈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213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35≈1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练一练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用“进一法”把下列各数凑整成整万数、整十万数、整百万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87280" y="1397160"/>
          <a:ext cx="8532720" cy="4911480"/>
        </p:xfrm>
        <a:graphic>
          <a:graphicData uri="http://schemas.openxmlformats.org/drawingml/2006/table">
            <a:tbl>
              <a:tblPr/>
              <a:tblGrid>
                <a:gridCol w="2052720"/>
                <a:gridCol w="2087640"/>
                <a:gridCol w="2089080"/>
                <a:gridCol w="2303280"/>
              </a:tblGrid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十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★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整百万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0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21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92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16000" y="1413000"/>
          <a:ext cx="8748720" cy="5111640"/>
        </p:xfrm>
        <a:graphic>
          <a:graphicData uri="http://schemas.openxmlformats.org/drawingml/2006/table">
            <a:tbl>
              <a:tblPr/>
              <a:tblGrid>
                <a:gridCol w="1908000"/>
                <a:gridCol w="2303640"/>
                <a:gridCol w="2305080"/>
                <a:gridCol w="2232000"/>
              </a:tblGrid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数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方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07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210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92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去尾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52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37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94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进一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53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38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95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四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五入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5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3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79</a:t>
                      </a: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0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2700360" y="2151000"/>
            <a:ext cx="1871640" cy="2557800"/>
            <a:chOff x="2700360" y="2151000"/>
            <a:chExt cx="1871640" cy="2557800"/>
          </a:xfrm>
        </p:grpSpPr>
        <p:sp>
          <p:nvSpPr>
            <p:cNvPr id="120" name=""/>
            <p:cNvSpPr/>
            <p:nvPr/>
          </p:nvSpPr>
          <p:spPr>
            <a:xfrm>
              <a:off x="2987640" y="2151000"/>
              <a:ext cx="13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7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0360" y="306864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0360" y="4005360"/>
              <a:ext cx="165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003640" y="2133720"/>
            <a:ext cx="1873080" cy="2575080"/>
            <a:chOff x="5003640" y="2133720"/>
            <a:chExt cx="1873080" cy="2575080"/>
          </a:xfrm>
        </p:grpSpPr>
        <p:sp>
          <p:nvSpPr>
            <p:cNvPr id="124" name=""/>
            <p:cNvSpPr/>
            <p:nvPr/>
          </p:nvSpPr>
          <p:spPr>
            <a:xfrm>
              <a:off x="5292720" y="2133720"/>
              <a:ext cx="13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210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03640" y="306864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5080" y="400536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272360" y="2133720"/>
            <a:ext cx="1908000" cy="2575080"/>
            <a:chOff x="7272360" y="2133720"/>
            <a:chExt cx="1908000" cy="2575080"/>
          </a:xfrm>
        </p:grpSpPr>
        <p:sp>
          <p:nvSpPr>
            <p:cNvPr id="128" name=""/>
            <p:cNvSpPr/>
            <p:nvPr/>
          </p:nvSpPr>
          <p:spPr>
            <a:xfrm>
              <a:off x="7596360" y="2133720"/>
              <a:ext cx="13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927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08720" y="306864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72360" y="400536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9280" y="5084640"/>
            <a:ext cx="1944720" cy="1440000"/>
          </a:xfrm>
          <a:prstGeom prst="flowChartProcess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5084640"/>
            <a:ext cx="2303640" cy="1440000"/>
          </a:xfrm>
          <a:prstGeom prst="flowChartProcess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5084640"/>
            <a:ext cx="2303280" cy="1440000"/>
          </a:xfrm>
          <a:prstGeom prst="flowChartProcess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1080" y="5084640"/>
            <a:ext cx="2303640" cy="1440000"/>
          </a:xfrm>
          <a:prstGeom prst="flowChartProcess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33360"/>
            <a:ext cx="8064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凑整到整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0"/>
            <a:ext cx="7920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用四舍五入法、去尾法和进一法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48032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凑成整万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413000"/>
            <a:ext cx="784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四舍五入法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2060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进一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852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48032≈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去尾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789360"/>
            <a:ext cx="74883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A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00000       B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40000       C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200000       D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5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1341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06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2708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259640" y="1989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6:59:02Z</dcterms:created>
  <dc:creator>zhang</dc:creator>
  <dc:description/>
  <dc:language>en-US</dc:language>
  <cp:lastModifiedBy>tuhuang</cp:lastModifiedBy>
  <cp:lastPrinted>1899-12-30T00:00:00Z</cp:lastPrinted>
  <dcterms:modified xsi:type="dcterms:W3CDTF">2009-06-07T09:32:52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