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6.gif" ContentType="image/gif"/>
  <Override PartName="/ppt/media/image9.wmf" ContentType="image/x-wmf"/>
  <Override PartName="/ppt/media/image5.gif" ContentType="image/gif"/>
  <Override PartName="/ppt/media/image8.wmf" ContentType="image/x-wmf"/>
  <Override PartName="/ppt/media/image13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2.png" ContentType="image/png"/>
  <Override PartName="/ppt/media/image10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3C74-94BD-49E0-A72E-C8A4323B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863E-02F1-4AA0-A730-A5E3864F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888F-5386-4B7F-96B7-8AE4E9D2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202-8F8B-4166-B1C5-68061694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6300-06C4-4732-8D09-5C26AF4A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422E-83E5-4D0E-B288-A0162716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E070-3D9E-49BC-ABD1-C254C712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7B73-E8C7-47FB-AA6C-CE9F0EDC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5F04-106C-4841-BEB2-C6D320B0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17BD-7091-4895-9B87-3DC6029E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3FA8-B1BD-497A-B294-DEC47528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C365-E732-487E-AEC5-6EE068DC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0B78-E165-4E6D-83C3-4328BAE9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793B-E4E1-4B58-B5D5-4529030A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5B51-E7FE-4C83-9001-783633E6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7F84-1215-4E54-8650-251966F9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5203-9BD8-4E63-BBC0-EBC6AE68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EF1A-29A1-4E2B-8859-C028C996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462B-EFB4-4C6D-895F-EFF0E3AF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C40-81C0-46D7-BD68-990E8413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3FF8-8DB8-41CA-8373-59D17895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638-D185-46BA-8C9F-1D9F1AC1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7531-2D6E-4724-81B9-0F3B86FD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539-87C4-40D1-8D3B-3C8EBB89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3A28-487F-4CB3-B5A3-DD51798DE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C444-26C5-47D9-8C33-716B40B9F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266920" y="2421000"/>
            <a:ext cx="4648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新魏"/>
              </a:rPr>
              <a:t>分数的大小比较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4968720" cy="1366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227640" y="3284640"/>
            <a:ext cx="1119240" cy="1224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195640" y="3860640"/>
            <a:ext cx="367164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742120" y="25909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推算的方法来比较下面分数的大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3086280" cy="800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48320" y="19810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隶书"/>
              </a:rPr>
              <a:t>考一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35053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08680" y="34290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11120" y="3352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91040" y="3276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95280" y="4495680"/>
            <a:ext cx="2286000" cy="914400"/>
            <a:chOff x="1295280" y="4495680"/>
            <a:chExt cx="2286000" cy="914400"/>
          </a:xfrm>
        </p:grpSpPr>
        <p:sp>
          <p:nvSpPr>
            <p:cNvPr id="94" name=""/>
            <p:cNvSpPr/>
            <p:nvPr/>
          </p:nvSpPr>
          <p:spPr>
            <a:xfrm>
              <a:off x="1295280" y="4495680"/>
              <a:ext cx="4572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52480" y="4495680"/>
              <a:ext cx="4572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24080" y="4495680"/>
              <a:ext cx="4572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66880" y="4495680"/>
              <a:ext cx="4572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09680" y="4495680"/>
              <a:ext cx="4572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572000" y="4495680"/>
            <a:ext cx="4572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4495680"/>
            <a:ext cx="4572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4495680"/>
            <a:ext cx="4572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4495680"/>
            <a:ext cx="4572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495680"/>
            <a:ext cx="4572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4495680"/>
            <a:ext cx="4572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4495680"/>
            <a:ext cx="4572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4438800"/>
            <a:ext cx="3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4438800"/>
            <a:ext cx="3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4437000"/>
            <a:ext cx="3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3720" y="4438800"/>
            <a:ext cx="3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39000" y="4438800"/>
            <a:ext cx="3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75360" y="4437000"/>
            <a:ext cx="3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81800" y="4424400"/>
            <a:ext cx="3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3213000"/>
            <a:ext cx="3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88000" y="3141720"/>
            <a:ext cx="3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3149640"/>
            <a:ext cx="41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3182760"/>
            <a:ext cx="41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9880" y="2590920"/>
            <a:ext cx="34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你们发现了什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438280" y="1828800"/>
            <a:ext cx="1096920" cy="1371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1218960" cy="137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81840" y="3809880"/>
                <a:ext cx="471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34320" y="3809880"/>
                <a:ext cx="471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4116960" y="167652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刚才我们用画一画，推一推等方法比较了几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数的大小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1112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452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4448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21000" y="4248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97240" y="4248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27280" y="495288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比较分母相同的分数的大小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分子大的分数就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828800" y="4876920"/>
            <a:ext cx="754200" cy="1292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92360" y="3740040"/>
            <a:ext cx="41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3732120"/>
            <a:ext cx="41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3716280"/>
            <a:ext cx="5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59280" y="3740040"/>
            <a:ext cx="5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313080" y="187020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用手势表示大于或小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7280" y="5181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一说，你是怎么判断得又快又准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828800" y="2362320"/>
                <a:ext cx="503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971800" y="2362320"/>
                <a:ext cx="501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471600" cy="914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943600" y="2362320"/>
            <a:ext cx="471600" cy="914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218120" y="3657600"/>
            <a:ext cx="353880" cy="914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5208480" y="3657600"/>
            <a:ext cx="354240" cy="914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2895480" y="3613320"/>
            <a:ext cx="484200" cy="882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1828800" y="3581280"/>
            <a:ext cx="503280" cy="916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362320" y="25909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2590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8098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99000" y="38862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53040" y="1295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2590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9720" y="3733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87840" y="2514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99000" y="39164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77120" y="392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3962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38920" y="3809880"/>
            <a:ext cx="4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00720" y="3645000"/>
            <a:ext cx="41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36640" y="306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你知道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2514600"/>
            <a:ext cx="73152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分数的产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的产生经历了一个漫长的历史过程。早在三千多年前古埃及的纸草书中就有关于分数的记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国大约在两千年前的数学著作《周髀算经》中，已经记载有一年（以天为单位）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还多一点，多出来的接近     天，出现了分数的运算及用分数表示一年的天数等内容。可见，分数及其运算在我国出现很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809880" y="4457880"/>
            <a:ext cx="236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065120" y="3070080"/>
            <a:ext cx="11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节课你们学习了什么？说一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411280" y="2349360"/>
            <a:ext cx="40608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业设计：练习册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411280" y="2349360"/>
            <a:ext cx="40608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聆听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06:27:23Z</dcterms:created>
  <dc:creator>lijing</dc:creator>
  <dc:description/>
  <dc:language>en-US</dc:language>
  <cp:lastModifiedBy>微软用户</cp:lastModifiedBy>
  <cp:lastPrinted>1899-12-30T00:00:00Z</cp:lastPrinted>
  <dcterms:modified xsi:type="dcterms:W3CDTF">2009-06-13T01:39:20Z</dcterms:modified>
  <cp:revision>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