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6.wmf" ContentType="image/x-wmf"/>
  <Override PartName="/ppt/media/image4.jpeg" ContentType="image/jpeg"/>
  <Override PartName="/ppt/media/image5.jpeg" ContentType="image/jpeg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0FBE-3990-4D10-9A4D-2C57FF29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40D0-C30A-4BDA-A594-99FF2083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B80B-C81D-411C-9A72-305E6161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83B9-FACB-428D-B0D8-F5580528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626E-08A0-407D-A2AA-EC770EE2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3343-01AE-46BD-9063-981AC6DF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8F1F-89B6-4E12-BF44-F9994653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D9FC9-0700-4588-B0BA-11940872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A303-E42D-4D5C-A9A9-3E77BB22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4706-5B4C-4705-BA38-2E0E6946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A405-81D8-4BAD-8589-CF7C90A8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B096-E4E8-411E-A6EB-D4388CE2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574D-8A4B-44AF-A10E-4E64D52D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89CBE-13FC-4357-8143-5575C71F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1A00-B8F5-40E8-9E0F-F1333168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CDB3-58ED-49DF-8046-7E21C2CE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B624-6428-4166-A56B-7EF6A74B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58F58-411C-4695-9AD9-4EBDC9A9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D8242-1EDD-4FB0-91C9-B2C78363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051C3-A9BB-4B0F-850B-173C05F6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A90F8-BAB3-4D92-A3B7-772A7D2C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F7B22-2BDB-4298-BA1B-B51F3C64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AD45-19BD-4B72-BA1D-C723015F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96725-9F8B-4B41-9BE8-E035DC91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9023A-6231-4B5A-B159-07D15DA3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535AB-C689-4956-A37C-BB4DAF92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7EC8F-A970-4717-8C83-3EC2CE65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4ED77-5CB8-43ED-8B9A-A7B2CF66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0C408-CF0C-405C-9FE7-00E0959B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A4E15-74E7-4EFA-A69F-DC6ED2DA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C581-1277-469E-A5A3-5354F45B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ABC5-7F5C-4CD7-8172-358F8421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BD6-B961-4D14-BED6-689937A0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8613-70BD-414B-8CB7-482F5E2D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6DCB-9D04-4C5B-80FF-C452D93A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3634-43C6-45F5-A5A9-9FC142D0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394D-A0C1-4709-B0FD-AA586F882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9241-6E8C-4891-BD8A-395BB091E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BD66-DA89-4191-A0C5-FC6CD0AF4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547640" y="2421000"/>
            <a:ext cx="5791320" cy="15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分数的加减计算</a:t>
            </a:r>
            <a:endParaRPr b="1" lang="en-US" sz="3200" spc="-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2615400" y="15228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看谁算得又对又快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228600" y="1143000"/>
            <a:ext cx="762120" cy="1328400"/>
            <a:chOff x="228600" y="1143000"/>
            <a:chExt cx="762120" cy="1328400"/>
          </a:xfrm>
        </p:grpSpPr>
        <p:sp>
          <p:nvSpPr>
            <p:cNvPr id="411" name=""/>
            <p:cNvSpPr/>
            <p:nvPr/>
          </p:nvSpPr>
          <p:spPr>
            <a:xfrm>
              <a:off x="38268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268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8600" y="1828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1981080" y="1143000"/>
            <a:ext cx="762120" cy="1328400"/>
            <a:chOff x="1981080" y="1143000"/>
            <a:chExt cx="762120" cy="1328400"/>
          </a:xfrm>
        </p:grpSpPr>
        <p:sp>
          <p:nvSpPr>
            <p:cNvPr id="415" name=""/>
            <p:cNvSpPr/>
            <p:nvPr/>
          </p:nvSpPr>
          <p:spPr>
            <a:xfrm>
              <a:off x="213516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13516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828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1207080" y="13716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</a:rPr>
              <a:t>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897280" y="13716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3429000" y="1143000"/>
            <a:ext cx="762120" cy="1328400"/>
            <a:chOff x="3429000" y="1143000"/>
            <a:chExt cx="762120" cy="1328400"/>
          </a:xfrm>
        </p:grpSpPr>
        <p:sp>
          <p:nvSpPr>
            <p:cNvPr id="421" name=""/>
            <p:cNvSpPr/>
            <p:nvPr/>
          </p:nvSpPr>
          <p:spPr>
            <a:xfrm>
              <a:off x="358308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58308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429000" y="1828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4724280" y="1143000"/>
            <a:ext cx="762120" cy="1328400"/>
            <a:chOff x="4724280" y="1143000"/>
            <a:chExt cx="762120" cy="1328400"/>
          </a:xfrm>
        </p:grpSpPr>
        <p:sp>
          <p:nvSpPr>
            <p:cNvPr id="425" name=""/>
            <p:cNvSpPr/>
            <p:nvPr/>
          </p:nvSpPr>
          <p:spPr>
            <a:xfrm>
              <a:off x="487836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7836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724280" y="1828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6477120" y="1143000"/>
            <a:ext cx="761760" cy="1328400"/>
            <a:chOff x="6477120" y="1143000"/>
            <a:chExt cx="761760" cy="1328400"/>
          </a:xfrm>
        </p:grpSpPr>
        <p:sp>
          <p:nvSpPr>
            <p:cNvPr id="429" name=""/>
            <p:cNvSpPr/>
            <p:nvPr/>
          </p:nvSpPr>
          <p:spPr>
            <a:xfrm>
              <a:off x="663048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63048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77120" y="1828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5703120" y="13716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</a:rPr>
              <a:t>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93320" y="13716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7924680" y="1143000"/>
            <a:ext cx="762120" cy="1328400"/>
            <a:chOff x="7924680" y="1143000"/>
            <a:chExt cx="762120" cy="1328400"/>
          </a:xfrm>
        </p:grpSpPr>
        <p:sp>
          <p:nvSpPr>
            <p:cNvPr id="435" name=""/>
            <p:cNvSpPr/>
            <p:nvPr/>
          </p:nvSpPr>
          <p:spPr>
            <a:xfrm>
              <a:off x="807876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07876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924680" y="1828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28600" y="2895480"/>
            <a:ext cx="762120" cy="1328400"/>
            <a:chOff x="228600" y="2895480"/>
            <a:chExt cx="762120" cy="1328400"/>
          </a:xfrm>
        </p:grpSpPr>
        <p:sp>
          <p:nvSpPr>
            <p:cNvPr id="439" name=""/>
            <p:cNvSpPr/>
            <p:nvPr/>
          </p:nvSpPr>
          <p:spPr>
            <a:xfrm>
              <a:off x="38268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8268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8600" y="3581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1981080" y="2895480"/>
            <a:ext cx="762120" cy="1328400"/>
            <a:chOff x="1981080" y="2895480"/>
            <a:chExt cx="762120" cy="1328400"/>
          </a:xfrm>
        </p:grpSpPr>
        <p:sp>
          <p:nvSpPr>
            <p:cNvPr id="443" name=""/>
            <p:cNvSpPr/>
            <p:nvPr/>
          </p:nvSpPr>
          <p:spPr>
            <a:xfrm>
              <a:off x="213516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13516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81080" y="3581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1207080" y="3124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</a:rPr>
              <a:t>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97280" y="312408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3429000" y="2895480"/>
            <a:ext cx="762120" cy="1328400"/>
            <a:chOff x="3429000" y="2895480"/>
            <a:chExt cx="762120" cy="1328400"/>
          </a:xfrm>
        </p:grpSpPr>
        <p:sp>
          <p:nvSpPr>
            <p:cNvPr id="449" name=""/>
            <p:cNvSpPr/>
            <p:nvPr/>
          </p:nvSpPr>
          <p:spPr>
            <a:xfrm>
              <a:off x="358308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8308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29000" y="3581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648320" y="2895480"/>
            <a:ext cx="761760" cy="1328400"/>
            <a:chOff x="4648320" y="2895480"/>
            <a:chExt cx="761760" cy="1328400"/>
          </a:xfrm>
        </p:grpSpPr>
        <p:sp>
          <p:nvSpPr>
            <p:cNvPr id="453" name=""/>
            <p:cNvSpPr/>
            <p:nvPr/>
          </p:nvSpPr>
          <p:spPr>
            <a:xfrm>
              <a:off x="480168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0168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648320" y="35812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6400800" y="2895480"/>
            <a:ext cx="762120" cy="1328400"/>
            <a:chOff x="6400800" y="2895480"/>
            <a:chExt cx="762120" cy="1328400"/>
          </a:xfrm>
        </p:grpSpPr>
        <p:sp>
          <p:nvSpPr>
            <p:cNvPr id="457" name=""/>
            <p:cNvSpPr/>
            <p:nvPr/>
          </p:nvSpPr>
          <p:spPr>
            <a:xfrm>
              <a:off x="655488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55488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400800" y="3581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5626800" y="31240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</a:rPr>
              <a:t>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317000" y="312408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7848720" y="2895480"/>
            <a:ext cx="761760" cy="1328400"/>
            <a:chOff x="7848720" y="2895480"/>
            <a:chExt cx="761760" cy="1328400"/>
          </a:xfrm>
        </p:grpSpPr>
        <p:sp>
          <p:nvSpPr>
            <p:cNvPr id="463" name=""/>
            <p:cNvSpPr/>
            <p:nvPr/>
          </p:nvSpPr>
          <p:spPr>
            <a:xfrm>
              <a:off x="800208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00208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848720" y="35812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52280" y="4724280"/>
            <a:ext cx="762120" cy="1328400"/>
            <a:chOff x="152280" y="4724280"/>
            <a:chExt cx="762120" cy="1328400"/>
          </a:xfrm>
        </p:grpSpPr>
        <p:sp>
          <p:nvSpPr>
            <p:cNvPr id="467" name=""/>
            <p:cNvSpPr/>
            <p:nvPr/>
          </p:nvSpPr>
          <p:spPr>
            <a:xfrm>
              <a:off x="30636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6360" y="5410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2280" y="54100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1905120" y="4724280"/>
            <a:ext cx="761760" cy="1328400"/>
            <a:chOff x="1905120" y="4724280"/>
            <a:chExt cx="761760" cy="1328400"/>
          </a:xfrm>
        </p:grpSpPr>
        <p:sp>
          <p:nvSpPr>
            <p:cNvPr id="471" name=""/>
            <p:cNvSpPr/>
            <p:nvPr/>
          </p:nvSpPr>
          <p:spPr>
            <a:xfrm>
              <a:off x="205848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058480" y="5410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05120" y="54100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1131120" y="49528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</a:rPr>
              <a:t>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21320" y="495288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3352680" y="4724280"/>
            <a:ext cx="762120" cy="1328400"/>
            <a:chOff x="3352680" y="4724280"/>
            <a:chExt cx="762120" cy="1328400"/>
          </a:xfrm>
        </p:grpSpPr>
        <p:sp>
          <p:nvSpPr>
            <p:cNvPr id="477" name=""/>
            <p:cNvSpPr/>
            <p:nvPr/>
          </p:nvSpPr>
          <p:spPr>
            <a:xfrm>
              <a:off x="350676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506760" y="5410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352680" y="54100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648320" y="4724280"/>
            <a:ext cx="761760" cy="1328400"/>
            <a:chOff x="4648320" y="4724280"/>
            <a:chExt cx="761760" cy="1328400"/>
          </a:xfrm>
        </p:grpSpPr>
        <p:sp>
          <p:nvSpPr>
            <p:cNvPr id="481" name=""/>
            <p:cNvSpPr/>
            <p:nvPr/>
          </p:nvSpPr>
          <p:spPr>
            <a:xfrm>
              <a:off x="480168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801680" y="5410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48320" y="54100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400800" y="4724280"/>
            <a:ext cx="762120" cy="1328400"/>
            <a:chOff x="6400800" y="4724280"/>
            <a:chExt cx="762120" cy="1328400"/>
          </a:xfrm>
        </p:grpSpPr>
        <p:sp>
          <p:nvSpPr>
            <p:cNvPr id="485" name=""/>
            <p:cNvSpPr/>
            <p:nvPr/>
          </p:nvSpPr>
          <p:spPr>
            <a:xfrm>
              <a:off x="655488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54880" y="5410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400800" y="54100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5626800" y="49528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Times New Roman"/>
              </a:rPr>
              <a:t>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7000" y="495288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7848720" y="4724280"/>
            <a:ext cx="761760" cy="1328400"/>
            <a:chOff x="7848720" y="4724280"/>
            <a:chExt cx="761760" cy="1328400"/>
          </a:xfrm>
        </p:grpSpPr>
        <p:sp>
          <p:nvSpPr>
            <p:cNvPr id="491" name=""/>
            <p:cNvSpPr/>
            <p:nvPr/>
          </p:nvSpPr>
          <p:spPr>
            <a:xfrm>
              <a:off x="800208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002080" y="5410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848720" y="54100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7317000" y="5759280"/>
            <a:ext cx="87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18720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bear016.gif (4227 字节)"/>
          <p:cNvPicPr/>
          <p:nvPr/>
        </p:nvPicPr>
        <p:blipFill>
          <a:blip r:embed="rId2"/>
          <a:stretch/>
        </p:blipFill>
        <p:spPr>
          <a:xfrm>
            <a:off x="228600" y="2209680"/>
            <a:ext cx="2619360" cy="358164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109440" y="255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3"/>
          <a:stretch/>
        </p:blipFill>
        <p:spPr>
          <a:xfrm>
            <a:off x="3809880" y="3429000"/>
            <a:ext cx="3505320" cy="298944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1981080" y="0"/>
            <a:ext cx="6782040" cy="3124080"/>
          </a:xfrm>
          <a:prstGeom prst="cloudCallout">
            <a:avLst>
              <a:gd name="adj1" fmla="val -37851"/>
              <a:gd name="adj2" fmla="val 421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6781680" y="1523880"/>
            <a:ext cx="533520" cy="1252080"/>
            <a:chOff x="6781680" y="1523880"/>
            <a:chExt cx="533520" cy="1252080"/>
          </a:xfrm>
        </p:grpSpPr>
        <p:sp>
          <p:nvSpPr>
            <p:cNvPr id="501" name=""/>
            <p:cNvSpPr/>
            <p:nvPr/>
          </p:nvSpPr>
          <p:spPr>
            <a:xfrm>
              <a:off x="6781680" y="2130480"/>
              <a:ext cx="533520" cy="2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859440" y="1523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859440" y="2133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3707640" y="533520"/>
            <a:ext cx="4064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妈妈买了一个大蛋糕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哥哥吃了这个蛋糕的    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弟弟吃了蛋糕的     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7772400" y="914400"/>
            <a:ext cx="533520" cy="1252080"/>
            <a:chOff x="7772400" y="914400"/>
            <a:chExt cx="533520" cy="1252080"/>
          </a:xfrm>
        </p:grpSpPr>
        <p:sp>
          <p:nvSpPr>
            <p:cNvPr id="506" name=""/>
            <p:cNvSpPr/>
            <p:nvPr/>
          </p:nvSpPr>
          <p:spPr>
            <a:xfrm>
              <a:off x="7772400" y="1521000"/>
              <a:ext cx="533520" cy="2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850160" y="914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850160" y="1523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1219320" y="1752480"/>
            <a:ext cx="6095880" cy="2362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2438280" y="1752480"/>
            <a:ext cx="3657600" cy="2362320"/>
            <a:chOff x="2438280" y="1752480"/>
            <a:chExt cx="3657600" cy="2362320"/>
          </a:xfrm>
        </p:grpSpPr>
        <p:sp>
          <p:nvSpPr>
            <p:cNvPr id="511" name=""/>
            <p:cNvSpPr/>
            <p:nvPr/>
          </p:nvSpPr>
          <p:spPr>
            <a:xfrm>
              <a:off x="2438280" y="1752480"/>
              <a:ext cx="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57600" y="1752480"/>
              <a:ext cx="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876560" y="1752480"/>
              <a:ext cx="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95880" y="1752480"/>
              <a:ext cx="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219320" y="1752480"/>
            <a:ext cx="2438280" cy="2362320"/>
            <a:chOff x="1219320" y="1752480"/>
            <a:chExt cx="2438280" cy="2362320"/>
          </a:xfrm>
        </p:grpSpPr>
        <p:sp>
          <p:nvSpPr>
            <p:cNvPr id="516" name=""/>
            <p:cNvSpPr/>
            <p:nvPr/>
          </p:nvSpPr>
          <p:spPr>
            <a:xfrm>
              <a:off x="1219320" y="1752480"/>
              <a:ext cx="1219320" cy="23623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438640" y="1752480"/>
              <a:ext cx="1218960" cy="23623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2438280" y="1752480"/>
            <a:ext cx="1219320" cy="2362320"/>
          </a:xfrm>
          <a:prstGeom prst="rect">
            <a:avLst/>
          </a:prstGeom>
          <a:solidFill>
            <a:srgbClr val="66ff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16218000">
            <a:off x="2855880" y="952200"/>
            <a:ext cx="380880" cy="1219320"/>
          </a:xfrm>
          <a:custGeom>
            <a:avLst/>
            <a:gdLst>
              <a:gd name="textAreaLeft" fmla="*/ 0 w 380880"/>
              <a:gd name="textAreaRight" fmla="*/ 13752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5400000">
            <a:off x="2285640" y="3276360"/>
            <a:ext cx="381240" cy="2362320"/>
          </a:xfrm>
          <a:custGeom>
            <a:avLst/>
            <a:gdLst>
              <a:gd name="textAreaLeft" fmla="*/ 0 w 381240"/>
              <a:gd name="textAreaRight" fmla="*/ 137520 w 38124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2057400" y="4800600"/>
            <a:ext cx="762120" cy="1328400"/>
            <a:chOff x="2057400" y="4800600"/>
            <a:chExt cx="762120" cy="1328400"/>
          </a:xfrm>
        </p:grpSpPr>
        <p:sp>
          <p:nvSpPr>
            <p:cNvPr id="522" name=""/>
            <p:cNvSpPr/>
            <p:nvPr/>
          </p:nvSpPr>
          <p:spPr>
            <a:xfrm>
              <a:off x="221148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211480" y="5486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057400" y="54864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2666880" y="152280"/>
            <a:ext cx="762120" cy="1328400"/>
            <a:chOff x="2666880" y="152280"/>
            <a:chExt cx="762120" cy="1328400"/>
          </a:xfrm>
        </p:grpSpPr>
        <p:sp>
          <p:nvSpPr>
            <p:cNvPr id="526" name=""/>
            <p:cNvSpPr/>
            <p:nvPr/>
          </p:nvSpPr>
          <p:spPr>
            <a:xfrm>
              <a:off x="2820960" y="152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20960" y="838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666880" y="8380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3202200" y="502920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4802400" y="4800600"/>
            <a:ext cx="1522080" cy="1328400"/>
            <a:chOff x="4802400" y="4800600"/>
            <a:chExt cx="1522080" cy="1328400"/>
          </a:xfrm>
        </p:grpSpPr>
        <p:sp>
          <p:nvSpPr>
            <p:cNvPr id="531" name=""/>
            <p:cNvSpPr/>
            <p:nvPr/>
          </p:nvSpPr>
          <p:spPr>
            <a:xfrm>
              <a:off x="4802400" y="502920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5562720" y="4800600"/>
              <a:ext cx="761760" cy="1328400"/>
              <a:chOff x="5562720" y="4800600"/>
              <a:chExt cx="761760" cy="1328400"/>
            </a:xfrm>
          </p:grpSpPr>
          <p:sp>
            <p:nvSpPr>
              <p:cNvPr id="533" name=""/>
              <p:cNvSpPr/>
              <p:nvPr/>
            </p:nvSpPr>
            <p:spPr>
              <a:xfrm>
                <a:off x="5716080" y="48006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716080" y="54864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562720" y="548640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6" name=""/>
          <p:cNvGrpSpPr/>
          <p:nvPr/>
        </p:nvGrpSpPr>
        <p:grpSpPr>
          <a:xfrm>
            <a:off x="3809880" y="4800600"/>
            <a:ext cx="762120" cy="1328400"/>
            <a:chOff x="3809880" y="4800600"/>
            <a:chExt cx="762120" cy="1328400"/>
          </a:xfrm>
        </p:grpSpPr>
        <p:sp>
          <p:nvSpPr>
            <p:cNvPr id="537" name=""/>
            <p:cNvSpPr/>
            <p:nvPr/>
          </p:nvSpPr>
          <p:spPr>
            <a:xfrm>
              <a:off x="396396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963960" y="5486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809880" y="54864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2438280" y="1752480"/>
            <a:ext cx="12193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4952880"/>
          </a:xfrm>
          <a:prstGeom prst="rect">
            <a:avLst/>
          </a:prstGeom>
          <a:ln w="0">
            <a:noFill/>
          </a:ln>
        </p:spPr>
      </p:pic>
      <p:grpSp>
        <p:nvGrpSpPr>
          <p:cNvPr id="542" name=""/>
          <p:cNvGrpSpPr/>
          <p:nvPr/>
        </p:nvGrpSpPr>
        <p:grpSpPr>
          <a:xfrm>
            <a:off x="5105520" y="2895480"/>
            <a:ext cx="761760" cy="1328400"/>
            <a:chOff x="5105520" y="2895480"/>
            <a:chExt cx="761760" cy="1328400"/>
          </a:xfrm>
        </p:grpSpPr>
        <p:sp>
          <p:nvSpPr>
            <p:cNvPr id="543" name=""/>
            <p:cNvSpPr/>
            <p:nvPr/>
          </p:nvSpPr>
          <p:spPr>
            <a:xfrm>
              <a:off x="525888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25888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105520" y="35812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1068480" y="4267080"/>
            <a:ext cx="409320" cy="1252080"/>
            <a:chOff x="1068480" y="4267080"/>
            <a:chExt cx="409320" cy="1252080"/>
          </a:xfrm>
        </p:grpSpPr>
        <p:sp>
          <p:nvSpPr>
            <p:cNvPr id="547" name=""/>
            <p:cNvSpPr/>
            <p:nvPr/>
          </p:nvSpPr>
          <p:spPr>
            <a:xfrm>
              <a:off x="1068480" y="48765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068480" y="4267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3430800" y="4267080"/>
            <a:ext cx="409320" cy="1176120"/>
            <a:chOff x="3430800" y="4267080"/>
            <a:chExt cx="409320" cy="1176120"/>
          </a:xfrm>
        </p:grpSpPr>
        <p:sp>
          <p:nvSpPr>
            <p:cNvPr id="550" name=""/>
            <p:cNvSpPr/>
            <p:nvPr/>
          </p:nvSpPr>
          <p:spPr>
            <a:xfrm>
              <a:off x="343080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430800" y="4267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6402600" y="4267080"/>
            <a:ext cx="409320" cy="1252080"/>
            <a:chOff x="6402600" y="4267080"/>
            <a:chExt cx="409320" cy="1252080"/>
          </a:xfrm>
        </p:grpSpPr>
        <p:sp>
          <p:nvSpPr>
            <p:cNvPr id="553" name=""/>
            <p:cNvSpPr/>
            <p:nvPr/>
          </p:nvSpPr>
          <p:spPr>
            <a:xfrm>
              <a:off x="6402600" y="48765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02600" y="4267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8307360" y="4267080"/>
            <a:ext cx="409320" cy="1252080"/>
            <a:chOff x="8307360" y="4267080"/>
            <a:chExt cx="409320" cy="1252080"/>
          </a:xfrm>
        </p:grpSpPr>
        <p:sp>
          <p:nvSpPr>
            <p:cNvPr id="556" name=""/>
            <p:cNvSpPr/>
            <p:nvPr/>
          </p:nvSpPr>
          <p:spPr>
            <a:xfrm>
              <a:off x="8307360" y="48765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307360" y="4267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505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5106960" y="4572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"/>
          <p:cNvGrpSpPr/>
          <p:nvPr/>
        </p:nvGrpSpPr>
        <p:grpSpPr>
          <a:xfrm>
            <a:off x="2286000" y="533520"/>
            <a:ext cx="762120" cy="1328040"/>
            <a:chOff x="2286000" y="533520"/>
            <a:chExt cx="762120" cy="1328040"/>
          </a:xfrm>
        </p:grpSpPr>
        <p:sp>
          <p:nvSpPr>
            <p:cNvPr id="560" name=""/>
            <p:cNvSpPr/>
            <p:nvPr/>
          </p:nvSpPr>
          <p:spPr>
            <a:xfrm>
              <a:off x="2440080" y="5335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440080" y="12189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86000" y="12189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4191120" y="533520"/>
            <a:ext cx="761760" cy="1328040"/>
            <a:chOff x="4191120" y="533520"/>
            <a:chExt cx="761760" cy="1328040"/>
          </a:xfrm>
        </p:grpSpPr>
        <p:sp>
          <p:nvSpPr>
            <p:cNvPr id="564" name=""/>
            <p:cNvSpPr/>
            <p:nvPr/>
          </p:nvSpPr>
          <p:spPr>
            <a:xfrm>
              <a:off x="4344480" y="5335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344480" y="12189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191120" y="12189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3205080" y="83664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5031000" y="533520"/>
            <a:ext cx="1522080" cy="1328040"/>
            <a:chOff x="5031000" y="533520"/>
            <a:chExt cx="1522080" cy="1328040"/>
          </a:xfrm>
        </p:grpSpPr>
        <p:sp>
          <p:nvSpPr>
            <p:cNvPr id="569" name=""/>
            <p:cNvSpPr/>
            <p:nvPr/>
          </p:nvSpPr>
          <p:spPr>
            <a:xfrm>
              <a:off x="5031000" y="76176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5791320" y="533520"/>
              <a:ext cx="761760" cy="1328040"/>
              <a:chOff x="5791320" y="533520"/>
              <a:chExt cx="761760" cy="1328040"/>
            </a:xfrm>
          </p:grpSpPr>
          <p:sp>
            <p:nvSpPr>
              <p:cNvPr id="571" name=""/>
              <p:cNvSpPr/>
              <p:nvPr/>
            </p:nvSpPr>
            <p:spPr>
              <a:xfrm>
                <a:off x="5944680" y="5335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944680" y="121896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791320" y="121896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4" name=""/>
          <p:cNvGrpSpPr/>
          <p:nvPr/>
        </p:nvGrpSpPr>
        <p:grpSpPr>
          <a:xfrm>
            <a:off x="2209680" y="2438280"/>
            <a:ext cx="762120" cy="1328400"/>
            <a:chOff x="2209680" y="2438280"/>
            <a:chExt cx="762120" cy="1328400"/>
          </a:xfrm>
        </p:grpSpPr>
        <p:sp>
          <p:nvSpPr>
            <p:cNvPr id="575" name=""/>
            <p:cNvSpPr/>
            <p:nvPr/>
          </p:nvSpPr>
          <p:spPr>
            <a:xfrm>
              <a:off x="2363760" y="2438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363760" y="3124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209680" y="31240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3962520" y="2438280"/>
            <a:ext cx="761760" cy="1328400"/>
            <a:chOff x="3962520" y="2438280"/>
            <a:chExt cx="761760" cy="1328400"/>
          </a:xfrm>
        </p:grpSpPr>
        <p:sp>
          <p:nvSpPr>
            <p:cNvPr id="579" name=""/>
            <p:cNvSpPr/>
            <p:nvPr/>
          </p:nvSpPr>
          <p:spPr>
            <a:xfrm>
              <a:off x="4115880" y="2438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115880" y="3124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962520" y="31240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3049560" y="271152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4954680" y="2438280"/>
            <a:ext cx="1293480" cy="1328400"/>
            <a:chOff x="4954680" y="2438280"/>
            <a:chExt cx="1293480" cy="1328400"/>
          </a:xfrm>
        </p:grpSpPr>
        <p:sp>
          <p:nvSpPr>
            <p:cNvPr id="584" name=""/>
            <p:cNvSpPr/>
            <p:nvPr/>
          </p:nvSpPr>
          <p:spPr>
            <a:xfrm>
              <a:off x="4954680" y="26668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5486400" y="2438280"/>
              <a:ext cx="761760" cy="1328400"/>
              <a:chOff x="5486400" y="2438280"/>
              <a:chExt cx="761760" cy="1328400"/>
            </a:xfrm>
          </p:grpSpPr>
          <p:sp>
            <p:nvSpPr>
              <p:cNvPr id="586" name=""/>
              <p:cNvSpPr/>
              <p:nvPr/>
            </p:nvSpPr>
            <p:spPr>
              <a:xfrm>
                <a:off x="5639760" y="24382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639760" y="31240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86400" y="312408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9" name=""/>
          <p:cNvSpPr/>
          <p:nvPr/>
        </p:nvSpPr>
        <p:spPr>
          <a:xfrm>
            <a:off x="2239200" y="393372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仔细观察，你发现了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52360" y="5373720"/>
            <a:ext cx="914400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相同分母的分数相减，分母不变，分子相减。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2615400" y="15228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看谁算得又对又快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228600" y="1143000"/>
            <a:ext cx="762120" cy="1328400"/>
            <a:chOff x="228600" y="1143000"/>
            <a:chExt cx="762120" cy="1328400"/>
          </a:xfrm>
        </p:grpSpPr>
        <p:sp>
          <p:nvSpPr>
            <p:cNvPr id="593" name=""/>
            <p:cNvSpPr/>
            <p:nvPr/>
          </p:nvSpPr>
          <p:spPr>
            <a:xfrm>
              <a:off x="38268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8268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28600" y="1828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1600200" y="1143000"/>
            <a:ext cx="762120" cy="1328400"/>
            <a:chOff x="1600200" y="1143000"/>
            <a:chExt cx="762120" cy="1328400"/>
          </a:xfrm>
        </p:grpSpPr>
        <p:sp>
          <p:nvSpPr>
            <p:cNvPr id="597" name=""/>
            <p:cNvSpPr/>
            <p:nvPr/>
          </p:nvSpPr>
          <p:spPr>
            <a:xfrm>
              <a:off x="175428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5428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600200" y="1828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1068480" y="141588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16400" y="13716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3048120" y="1143000"/>
            <a:ext cx="761760" cy="1328400"/>
            <a:chOff x="3048120" y="1143000"/>
            <a:chExt cx="761760" cy="1328400"/>
          </a:xfrm>
        </p:grpSpPr>
        <p:sp>
          <p:nvSpPr>
            <p:cNvPr id="603" name=""/>
            <p:cNvSpPr/>
            <p:nvPr/>
          </p:nvSpPr>
          <p:spPr>
            <a:xfrm>
              <a:off x="320148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20148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048120" y="1828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4724280" y="1143000"/>
            <a:ext cx="762120" cy="1328400"/>
            <a:chOff x="4724280" y="1143000"/>
            <a:chExt cx="762120" cy="1328400"/>
          </a:xfrm>
        </p:grpSpPr>
        <p:sp>
          <p:nvSpPr>
            <p:cNvPr id="607" name=""/>
            <p:cNvSpPr/>
            <p:nvPr/>
          </p:nvSpPr>
          <p:spPr>
            <a:xfrm>
              <a:off x="487836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7836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24280" y="1828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6019920" y="1143000"/>
            <a:ext cx="761760" cy="1328400"/>
            <a:chOff x="6019920" y="1143000"/>
            <a:chExt cx="761760" cy="1328400"/>
          </a:xfrm>
        </p:grpSpPr>
        <p:sp>
          <p:nvSpPr>
            <p:cNvPr id="611" name=""/>
            <p:cNvSpPr/>
            <p:nvPr/>
          </p:nvSpPr>
          <p:spPr>
            <a:xfrm>
              <a:off x="617328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17328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019920" y="18288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5564160" y="141588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936120" y="13716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7467480" y="1143000"/>
            <a:ext cx="762120" cy="1328400"/>
            <a:chOff x="7467480" y="1143000"/>
            <a:chExt cx="762120" cy="1328400"/>
          </a:xfrm>
        </p:grpSpPr>
        <p:sp>
          <p:nvSpPr>
            <p:cNvPr id="617" name=""/>
            <p:cNvSpPr/>
            <p:nvPr/>
          </p:nvSpPr>
          <p:spPr>
            <a:xfrm>
              <a:off x="7621560" y="11430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621560" y="1828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467480" y="18288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228600" y="2895480"/>
            <a:ext cx="762120" cy="1328400"/>
            <a:chOff x="228600" y="2895480"/>
            <a:chExt cx="762120" cy="1328400"/>
          </a:xfrm>
        </p:grpSpPr>
        <p:sp>
          <p:nvSpPr>
            <p:cNvPr id="621" name=""/>
            <p:cNvSpPr/>
            <p:nvPr/>
          </p:nvSpPr>
          <p:spPr>
            <a:xfrm>
              <a:off x="38268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268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28600" y="3581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1600200" y="2895480"/>
            <a:ext cx="762120" cy="1328400"/>
            <a:chOff x="1600200" y="2895480"/>
            <a:chExt cx="762120" cy="1328400"/>
          </a:xfrm>
        </p:grpSpPr>
        <p:sp>
          <p:nvSpPr>
            <p:cNvPr id="625" name=""/>
            <p:cNvSpPr/>
            <p:nvPr/>
          </p:nvSpPr>
          <p:spPr>
            <a:xfrm>
              <a:off x="175428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5428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600200" y="3581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1068480" y="316872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516400" y="312408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048120" y="2895480"/>
            <a:ext cx="761760" cy="1328400"/>
            <a:chOff x="3048120" y="2895480"/>
            <a:chExt cx="761760" cy="1328400"/>
          </a:xfrm>
        </p:grpSpPr>
        <p:sp>
          <p:nvSpPr>
            <p:cNvPr id="631" name=""/>
            <p:cNvSpPr/>
            <p:nvPr/>
          </p:nvSpPr>
          <p:spPr>
            <a:xfrm>
              <a:off x="3201480" y="28954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01480" y="3581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48120" y="35812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4648320" y="2895480"/>
            <a:ext cx="792000" cy="1328400"/>
            <a:chOff x="4648320" y="2895480"/>
            <a:chExt cx="792000" cy="1328400"/>
          </a:xfrm>
        </p:grpSpPr>
        <p:sp>
          <p:nvSpPr>
            <p:cNvPr id="635" name=""/>
            <p:cNvSpPr/>
            <p:nvPr/>
          </p:nvSpPr>
          <p:spPr>
            <a:xfrm>
              <a:off x="4802040" y="28954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802400" y="358128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648320" y="3581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5943600" y="2895480"/>
            <a:ext cx="792000" cy="1328400"/>
            <a:chOff x="5943600" y="2895480"/>
            <a:chExt cx="792000" cy="1328400"/>
          </a:xfrm>
        </p:grpSpPr>
        <p:sp>
          <p:nvSpPr>
            <p:cNvPr id="639" name=""/>
            <p:cNvSpPr/>
            <p:nvPr/>
          </p:nvSpPr>
          <p:spPr>
            <a:xfrm>
              <a:off x="6097320" y="28954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97680" y="358128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943600" y="3581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5488200" y="316872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9800" y="312408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391520" y="2895480"/>
            <a:ext cx="792000" cy="1328400"/>
            <a:chOff x="7391520" y="2895480"/>
            <a:chExt cx="792000" cy="1328400"/>
          </a:xfrm>
        </p:grpSpPr>
        <p:sp>
          <p:nvSpPr>
            <p:cNvPr id="645" name=""/>
            <p:cNvSpPr/>
            <p:nvPr/>
          </p:nvSpPr>
          <p:spPr>
            <a:xfrm>
              <a:off x="7545240" y="28954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545600" y="3581280"/>
              <a:ext cx="63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391520" y="35812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5030640" y="4724280"/>
            <a:ext cx="3032280" cy="1328400"/>
            <a:chOff x="5030640" y="4724280"/>
            <a:chExt cx="3032280" cy="1328400"/>
          </a:xfrm>
        </p:grpSpPr>
        <p:grpSp>
          <p:nvGrpSpPr>
            <p:cNvPr id="649" name=""/>
            <p:cNvGrpSpPr/>
            <p:nvPr/>
          </p:nvGrpSpPr>
          <p:grpSpPr>
            <a:xfrm>
              <a:off x="5943600" y="4724280"/>
              <a:ext cx="762120" cy="1328400"/>
              <a:chOff x="5943600" y="4724280"/>
              <a:chExt cx="762120" cy="1328400"/>
            </a:xfrm>
          </p:grpSpPr>
          <p:sp>
            <p:nvSpPr>
              <p:cNvPr id="650" name=""/>
              <p:cNvSpPr/>
              <p:nvPr/>
            </p:nvSpPr>
            <p:spPr>
              <a:xfrm>
                <a:off x="6097680" y="47242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097680" y="54100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Times New Roman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943600" y="5410080"/>
                <a:ext cx="76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5488200" y="499716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859800" y="49528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cc"/>
                  </a:solidFill>
                  <a:latin typeface="Times New Roman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30640" y="502920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516440" y="5029200"/>
              <a:ext cx="546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</a:rPr>
                <a:t>？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228600" y="4756320"/>
            <a:ext cx="762120" cy="1328040"/>
            <a:chOff x="228600" y="4756320"/>
            <a:chExt cx="762120" cy="1328040"/>
          </a:xfrm>
        </p:grpSpPr>
        <p:sp>
          <p:nvSpPr>
            <p:cNvPr id="658" name=""/>
            <p:cNvSpPr/>
            <p:nvPr/>
          </p:nvSpPr>
          <p:spPr>
            <a:xfrm>
              <a:off x="382680" y="47563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82680" y="54417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8600" y="54417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1600200" y="4756320"/>
            <a:ext cx="762120" cy="1328040"/>
            <a:chOff x="1600200" y="4756320"/>
            <a:chExt cx="762120" cy="1328040"/>
          </a:xfrm>
        </p:grpSpPr>
        <p:sp>
          <p:nvSpPr>
            <p:cNvPr id="662" name=""/>
            <p:cNvSpPr/>
            <p:nvPr/>
          </p:nvSpPr>
          <p:spPr>
            <a:xfrm>
              <a:off x="1754280" y="47563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754280" y="54417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600200" y="54417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1068480" y="5029200"/>
            <a:ext cx="40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516400" y="49849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3048120" y="4756320"/>
            <a:ext cx="761760" cy="1328040"/>
            <a:chOff x="3048120" y="4756320"/>
            <a:chExt cx="761760" cy="1328040"/>
          </a:xfrm>
        </p:grpSpPr>
        <p:sp>
          <p:nvSpPr>
            <p:cNvPr id="668" name=""/>
            <p:cNvSpPr/>
            <p:nvPr/>
          </p:nvSpPr>
          <p:spPr>
            <a:xfrm>
              <a:off x="3201480" y="47563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201480" y="54417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048120" y="54417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" descr=""/>
          <p:cNvPicPr/>
          <p:nvPr/>
        </p:nvPicPr>
        <p:blipFill>
          <a:blip r:embed="rId2"/>
          <a:srcRect l="0" t="0" r="0" b="55215"/>
          <a:stretch/>
        </p:blipFill>
        <p:spPr>
          <a:xfrm>
            <a:off x="0" y="228600"/>
            <a:ext cx="9144000" cy="2666880"/>
          </a:xfrm>
          <a:prstGeom prst="rect">
            <a:avLst/>
          </a:prstGeom>
          <a:ln w="0">
            <a:noFill/>
          </a:ln>
        </p:spPr>
      </p:pic>
      <p:grpSp>
        <p:nvGrpSpPr>
          <p:cNvPr id="672" name=""/>
          <p:cNvGrpSpPr/>
          <p:nvPr/>
        </p:nvGrpSpPr>
        <p:grpSpPr>
          <a:xfrm>
            <a:off x="3201840" y="304920"/>
            <a:ext cx="3108960" cy="1328040"/>
            <a:chOff x="3201840" y="304920"/>
            <a:chExt cx="3108960" cy="1328040"/>
          </a:xfrm>
        </p:grpSpPr>
        <p:grpSp>
          <p:nvGrpSpPr>
            <p:cNvPr id="673" name=""/>
            <p:cNvGrpSpPr/>
            <p:nvPr/>
          </p:nvGrpSpPr>
          <p:grpSpPr>
            <a:xfrm>
              <a:off x="4191120" y="304920"/>
              <a:ext cx="761760" cy="1328040"/>
              <a:chOff x="4191120" y="304920"/>
              <a:chExt cx="761760" cy="1328040"/>
            </a:xfrm>
          </p:grpSpPr>
          <p:sp>
            <p:nvSpPr>
              <p:cNvPr id="674" name=""/>
              <p:cNvSpPr/>
              <p:nvPr/>
            </p:nvSpPr>
            <p:spPr>
              <a:xfrm>
                <a:off x="4344480" y="3049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344480" y="99036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Times New Roman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191120" y="99036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3659400" y="57744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201840" y="53316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63840" y="609480"/>
              <a:ext cx="1146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cc"/>
                  </a:solidFill>
                  <a:latin typeface="Times New Roman"/>
                </a:rPr>
                <a:t>=</a:t>
              </a:r>
              <a:r>
                <a:rPr b="1" lang="zh-CN" sz="5400" spc="-1" strike="noStrike">
                  <a:solidFill>
                    <a:srgbClr val="ff5050"/>
                  </a:solidFill>
                  <a:latin typeface="Times New Roman"/>
                </a:rPr>
                <a:t>？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2568960" y="4952880"/>
            <a:ext cx="3984120" cy="1328400"/>
            <a:chOff x="2568960" y="4952880"/>
            <a:chExt cx="3984120" cy="1328400"/>
          </a:xfrm>
        </p:grpSpPr>
        <p:sp>
          <p:nvSpPr>
            <p:cNvPr id="681" name=""/>
            <p:cNvSpPr/>
            <p:nvPr/>
          </p:nvSpPr>
          <p:spPr>
            <a:xfrm>
              <a:off x="2568960" y="5333760"/>
              <a:ext cx="392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ff"/>
                  </a:solidFill>
                  <a:latin typeface="Times New Roman"/>
                </a:rPr>
                <a:t>1</a:t>
              </a:r>
              <a:r>
                <a:rPr b="1" lang="zh-CN" sz="4000" spc="-1" strike="noStrike">
                  <a:solidFill>
                    <a:srgbClr val="ff00ff"/>
                  </a:solidFill>
                  <a:latin typeface="Times New Roman"/>
                </a:rPr>
                <a:t>为什么可以看作       ？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2" name=""/>
            <p:cNvGrpSpPr/>
            <p:nvPr/>
          </p:nvGrpSpPr>
          <p:grpSpPr>
            <a:xfrm>
              <a:off x="5791320" y="4952880"/>
              <a:ext cx="761760" cy="1328400"/>
              <a:chOff x="5791320" y="4952880"/>
              <a:chExt cx="761760" cy="1328400"/>
            </a:xfrm>
          </p:grpSpPr>
          <p:sp>
            <p:nvSpPr>
              <p:cNvPr id="683" name=""/>
              <p:cNvSpPr/>
              <p:nvPr/>
            </p:nvSpPr>
            <p:spPr>
              <a:xfrm>
                <a:off x="5944680" y="49528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944680" y="56386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791320" y="563868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6" name=""/>
          <p:cNvGrpSpPr/>
          <p:nvPr/>
        </p:nvGrpSpPr>
        <p:grpSpPr>
          <a:xfrm>
            <a:off x="1677960" y="3352680"/>
            <a:ext cx="2476440" cy="1328400"/>
            <a:chOff x="1677960" y="3352680"/>
            <a:chExt cx="2476440" cy="1328400"/>
          </a:xfrm>
        </p:grpSpPr>
        <p:grpSp>
          <p:nvGrpSpPr>
            <p:cNvPr id="687" name=""/>
            <p:cNvGrpSpPr/>
            <p:nvPr/>
          </p:nvGrpSpPr>
          <p:grpSpPr>
            <a:xfrm>
              <a:off x="2667240" y="3352680"/>
              <a:ext cx="761760" cy="1328400"/>
              <a:chOff x="2667240" y="3352680"/>
              <a:chExt cx="761760" cy="1328400"/>
            </a:xfrm>
          </p:grpSpPr>
          <p:sp>
            <p:nvSpPr>
              <p:cNvPr id="688" name=""/>
              <p:cNvSpPr/>
              <p:nvPr/>
            </p:nvSpPr>
            <p:spPr>
              <a:xfrm>
                <a:off x="2820600" y="33526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820600" y="40384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cc"/>
                    </a:solidFill>
                    <a:latin typeface="Times New Roman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667240" y="403848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1" name=""/>
            <p:cNvSpPr/>
            <p:nvPr/>
          </p:nvSpPr>
          <p:spPr>
            <a:xfrm>
              <a:off x="2135520" y="362556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cc"/>
                  </a:solidFill>
                  <a:latin typeface="Times New Roman"/>
                </a:rPr>
                <a:t>-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677960" y="358128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83440" y="365760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cc"/>
                  </a:solidFill>
                  <a:latin typeface="Times New Roman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4191120" y="3352680"/>
            <a:ext cx="2133000" cy="1328400"/>
            <a:chOff x="4191120" y="3352680"/>
            <a:chExt cx="2133000" cy="1328400"/>
          </a:xfrm>
        </p:grpSpPr>
        <p:grpSp>
          <p:nvGrpSpPr>
            <p:cNvPr id="695" name=""/>
            <p:cNvGrpSpPr/>
            <p:nvPr/>
          </p:nvGrpSpPr>
          <p:grpSpPr>
            <a:xfrm>
              <a:off x="4191120" y="3352680"/>
              <a:ext cx="761760" cy="1328400"/>
              <a:chOff x="4191120" y="3352680"/>
              <a:chExt cx="761760" cy="1328400"/>
            </a:xfrm>
          </p:grpSpPr>
          <p:sp>
            <p:nvSpPr>
              <p:cNvPr id="696" name=""/>
              <p:cNvSpPr/>
              <p:nvPr/>
            </p:nvSpPr>
            <p:spPr>
              <a:xfrm>
                <a:off x="4344480" y="33526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344480" y="40384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191120" y="403848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5562360" y="3352680"/>
              <a:ext cx="761760" cy="1328400"/>
              <a:chOff x="5562360" y="3352680"/>
              <a:chExt cx="761760" cy="1328400"/>
            </a:xfrm>
          </p:grpSpPr>
          <p:sp>
            <p:nvSpPr>
              <p:cNvPr id="700" name=""/>
              <p:cNvSpPr/>
              <p:nvPr/>
            </p:nvSpPr>
            <p:spPr>
              <a:xfrm>
                <a:off x="5715720" y="33526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05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15720" y="40384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562360" y="403848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3" name=""/>
            <p:cNvSpPr/>
            <p:nvPr/>
          </p:nvSpPr>
          <p:spPr>
            <a:xfrm>
              <a:off x="5030280" y="362556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5050"/>
                  </a:solidFill>
                  <a:latin typeface="Times New Roman"/>
                </a:rPr>
                <a:t>-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6478920" y="3352680"/>
            <a:ext cx="1293480" cy="1328400"/>
            <a:chOff x="6478920" y="3352680"/>
            <a:chExt cx="1293480" cy="1328400"/>
          </a:xfrm>
        </p:grpSpPr>
        <p:sp>
          <p:nvSpPr>
            <p:cNvPr id="705" name=""/>
            <p:cNvSpPr/>
            <p:nvPr/>
          </p:nvSpPr>
          <p:spPr>
            <a:xfrm>
              <a:off x="6478920" y="35812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5050"/>
                  </a:solidFill>
                  <a:latin typeface="Times New Roman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7010640" y="3352680"/>
              <a:ext cx="761760" cy="1328400"/>
              <a:chOff x="7010640" y="3352680"/>
              <a:chExt cx="761760" cy="1328400"/>
            </a:xfrm>
          </p:grpSpPr>
          <p:sp>
            <p:nvSpPr>
              <p:cNvPr id="707" name=""/>
              <p:cNvSpPr/>
              <p:nvPr/>
            </p:nvSpPr>
            <p:spPr>
              <a:xfrm>
                <a:off x="7164000" y="33526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050"/>
                    </a:solidFill>
                    <a:latin typeface="Times New Roman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164000" y="40384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010640" y="403848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"/>
          <p:cNvSpPr/>
          <p:nvPr/>
        </p:nvSpPr>
        <p:spPr>
          <a:xfrm>
            <a:off x="2561400" y="5334120"/>
            <a:ext cx="424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ff5050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还可以看作几分之几 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367840" y="63072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" descr="bear016.gif (4227 字节)"/>
          <p:cNvPicPr/>
          <p:nvPr/>
        </p:nvPicPr>
        <p:blipFill>
          <a:blip r:embed="rId2"/>
          <a:stretch/>
        </p:blipFill>
        <p:spPr>
          <a:xfrm>
            <a:off x="380880" y="2209680"/>
            <a:ext cx="1727280" cy="236232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/>
          <p:nvPr/>
        </p:nvSpPr>
        <p:spPr>
          <a:xfrm>
            <a:off x="1600200" y="0"/>
            <a:ext cx="7010280" cy="3124080"/>
          </a:xfrm>
          <a:prstGeom prst="cloudCallout">
            <a:avLst>
              <a:gd name="adj1" fmla="val -38768"/>
              <a:gd name="adj2" fmla="val 34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6705720" y="1523880"/>
            <a:ext cx="533160" cy="1252080"/>
            <a:chOff x="6705720" y="1523880"/>
            <a:chExt cx="533160" cy="1252080"/>
          </a:xfrm>
        </p:grpSpPr>
        <p:sp>
          <p:nvSpPr>
            <p:cNvPr id="715" name=""/>
            <p:cNvSpPr/>
            <p:nvPr/>
          </p:nvSpPr>
          <p:spPr>
            <a:xfrm>
              <a:off x="6705720" y="2130480"/>
              <a:ext cx="533160" cy="2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83120" y="1523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783120" y="2133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631320" y="533520"/>
            <a:ext cx="4064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妈妈做了一个蛋糕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哥哥吃了这个蛋糕的    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弟弟吃了蛋糕的     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7696080" y="914400"/>
            <a:ext cx="533520" cy="1252080"/>
            <a:chOff x="7696080" y="914400"/>
            <a:chExt cx="533520" cy="1252080"/>
          </a:xfrm>
        </p:grpSpPr>
        <p:sp>
          <p:nvSpPr>
            <p:cNvPr id="720" name=""/>
            <p:cNvSpPr/>
            <p:nvPr/>
          </p:nvSpPr>
          <p:spPr>
            <a:xfrm>
              <a:off x="7696080" y="1521000"/>
              <a:ext cx="533520" cy="2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773840" y="914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773840" y="1523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2245680" y="548640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隶书"/>
              </a:rPr>
              <a:t>还剩这个蛋糕的几分之几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3"/>
          <a:stretch/>
        </p:blipFill>
        <p:spPr>
          <a:xfrm>
            <a:off x="3352680" y="2286000"/>
            <a:ext cx="350532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179280" y="0"/>
            <a:ext cx="4751640" cy="1152360"/>
          </a:xfrm>
          <a:prstGeom prst="cloudCallout">
            <a:avLst>
              <a:gd name="adj1" fmla="val -51736"/>
              <a:gd name="adj2" fmla="val 56337"/>
            </a:avLst>
          </a:prstGeom>
          <a:solidFill>
            <a:srgbClr val="ffff00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思维训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1258920" y="1484280"/>
            <a:ext cx="6213600" cy="3745080"/>
            <a:chOff x="1258920" y="1484280"/>
            <a:chExt cx="6213600" cy="3745080"/>
          </a:xfrm>
        </p:grpSpPr>
        <mc:AlternateContent>
          <mc:Choice xmlns:a14="http://schemas.microsoft.com/office/drawing/2010/main" Requires="a14">
            <p:sp>
              <p:nvSpPr>
                <p:cNvPr id="727" name=""/>
                <p:cNvSpPr txBox="1"/>
                <p:nvPr/>
              </p:nvSpPr>
              <p:spPr>
                <a:xfrm>
                  <a:off x="2313000" y="1616040"/>
                  <a:ext cx="982800" cy="14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8" name=""/>
                <p:cNvSpPr txBox="1"/>
                <p:nvPr/>
              </p:nvSpPr>
              <p:spPr>
                <a:xfrm>
                  <a:off x="3968640" y="1616040"/>
                  <a:ext cx="982800" cy="142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9" name=""/>
                <p:cNvSpPr txBox="1"/>
                <p:nvPr/>
              </p:nvSpPr>
              <p:spPr>
                <a:xfrm>
                  <a:off x="4329000" y="3776760"/>
                  <a:ext cx="982800" cy="142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0" name=""/>
                <p:cNvSpPr txBox="1"/>
                <p:nvPr/>
              </p:nvSpPr>
              <p:spPr>
                <a:xfrm>
                  <a:off x="6489720" y="3776760"/>
                  <a:ext cx="982800" cy="142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731" name=""/>
            <p:cNvGrpSpPr/>
            <p:nvPr/>
          </p:nvGrpSpPr>
          <p:grpSpPr>
            <a:xfrm>
              <a:off x="3465720" y="2047680"/>
              <a:ext cx="431640" cy="431640"/>
              <a:chOff x="3465720" y="2047680"/>
              <a:chExt cx="431640" cy="431640"/>
            </a:xfrm>
          </p:grpSpPr>
          <p:sp>
            <p:nvSpPr>
              <p:cNvPr id="732" name=""/>
              <p:cNvSpPr/>
              <p:nvPr/>
            </p:nvSpPr>
            <p:spPr>
              <a:xfrm>
                <a:off x="3465720" y="2263680"/>
                <a:ext cx="431640" cy="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681720" y="2047680"/>
                <a:ext cx="0" cy="4316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3610080" y="4495680"/>
              <a:ext cx="50328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626080" y="4495680"/>
              <a:ext cx="50328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626080" y="4352760"/>
              <a:ext cx="50328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192640" y="2336760"/>
              <a:ext cx="50328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192640" y="2192400"/>
              <a:ext cx="50328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9" name=""/>
                <p:cNvSpPr txBox="1"/>
                <p:nvPr/>
              </p:nvSpPr>
              <p:spPr>
                <a:xfrm>
                  <a:off x="1376280" y="1976400"/>
                  <a:ext cx="519120" cy="59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pic>
          <p:nvPicPr>
            <p:cNvPr id="740" name="" descr=""/>
            <p:cNvPicPr/>
            <p:nvPr/>
          </p:nvPicPr>
          <p:blipFill>
            <a:blip r:embed="rId2"/>
            <a:stretch/>
          </p:blipFill>
          <p:spPr>
            <a:xfrm>
              <a:off x="1258920" y="4280040"/>
              <a:ext cx="61272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" descr=""/>
            <p:cNvPicPr/>
            <p:nvPr/>
          </p:nvPicPr>
          <p:blipFill>
            <a:blip r:embed="rId3"/>
            <a:stretch/>
          </p:blipFill>
          <p:spPr>
            <a:xfrm>
              <a:off x="5796000" y="1484280"/>
              <a:ext cx="817560" cy="15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2" name="" descr=""/>
            <p:cNvPicPr/>
            <p:nvPr/>
          </p:nvPicPr>
          <p:blipFill>
            <a:blip r:embed="rId4"/>
            <a:stretch/>
          </p:blipFill>
          <p:spPr>
            <a:xfrm>
              <a:off x="2340000" y="3645000"/>
              <a:ext cx="816120" cy="1584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18900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填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90792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         的分数单位是（        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268360" y="649440"/>
            <a:ext cx="685800" cy="1038240"/>
            <a:chOff x="2268360" y="649440"/>
            <a:chExt cx="685800" cy="1038240"/>
          </a:xfrm>
        </p:grpSpPr>
        <p:sp>
          <p:nvSpPr>
            <p:cNvPr id="127" name=""/>
            <p:cNvSpPr/>
            <p:nvPr/>
          </p:nvSpPr>
          <p:spPr>
            <a:xfrm>
              <a:off x="2268360" y="118260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268360" y="649440"/>
              <a:ext cx="685800" cy="1038240"/>
              <a:chOff x="2268360" y="649440"/>
              <a:chExt cx="685800" cy="1038240"/>
            </a:xfrm>
          </p:grpSpPr>
          <p:sp>
            <p:nvSpPr>
              <p:cNvPr id="129" name=""/>
              <p:cNvSpPr/>
              <p:nvPr/>
            </p:nvSpPr>
            <p:spPr>
              <a:xfrm>
                <a:off x="2268360" y="64944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268360" y="11062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5724360" y="620640"/>
            <a:ext cx="685800" cy="1038600"/>
            <a:chOff x="5724360" y="620640"/>
            <a:chExt cx="685800" cy="1038600"/>
          </a:xfrm>
        </p:grpSpPr>
        <p:sp>
          <p:nvSpPr>
            <p:cNvPr id="132" name=""/>
            <p:cNvSpPr/>
            <p:nvPr/>
          </p:nvSpPr>
          <p:spPr>
            <a:xfrm>
              <a:off x="5724360" y="11541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5724360" y="620640"/>
              <a:ext cx="685800" cy="1038600"/>
              <a:chOff x="5724360" y="620640"/>
              <a:chExt cx="685800" cy="1038600"/>
            </a:xfrm>
          </p:grpSpPr>
          <p:sp>
            <p:nvSpPr>
              <p:cNvPr id="134" name=""/>
              <p:cNvSpPr/>
              <p:nvPr/>
            </p:nvSpPr>
            <p:spPr>
              <a:xfrm>
                <a:off x="5724360" y="62064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724360" y="107784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" name=""/>
          <p:cNvSpPr/>
          <p:nvPr/>
        </p:nvSpPr>
        <p:spPr>
          <a:xfrm>
            <a:off x="539640" y="16970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         里有（     ）个     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157480" y="1433520"/>
            <a:ext cx="685800" cy="1038600"/>
            <a:chOff x="2157480" y="1433520"/>
            <a:chExt cx="685800" cy="1038600"/>
          </a:xfrm>
        </p:grpSpPr>
        <p:sp>
          <p:nvSpPr>
            <p:cNvPr id="138" name=""/>
            <p:cNvSpPr/>
            <p:nvPr/>
          </p:nvSpPr>
          <p:spPr>
            <a:xfrm>
              <a:off x="2157480" y="1967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2157480" y="1433520"/>
              <a:ext cx="685800" cy="1038600"/>
              <a:chOff x="2157480" y="1433520"/>
              <a:chExt cx="685800" cy="1038600"/>
            </a:xfrm>
          </p:grpSpPr>
          <p:sp>
            <p:nvSpPr>
              <p:cNvPr id="140" name=""/>
              <p:cNvSpPr/>
              <p:nvPr/>
            </p:nvSpPr>
            <p:spPr>
              <a:xfrm>
                <a:off x="2157480" y="143352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157480" y="189072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5511960" y="1413000"/>
            <a:ext cx="685800" cy="1038240"/>
            <a:chOff x="5511960" y="1413000"/>
            <a:chExt cx="685800" cy="1038240"/>
          </a:xfrm>
        </p:grpSpPr>
        <p:sp>
          <p:nvSpPr>
            <p:cNvPr id="143" name=""/>
            <p:cNvSpPr/>
            <p:nvPr/>
          </p:nvSpPr>
          <p:spPr>
            <a:xfrm>
              <a:off x="5511960" y="19461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5511960" y="1413000"/>
              <a:ext cx="685800" cy="1038240"/>
              <a:chOff x="5511960" y="1413000"/>
              <a:chExt cx="685800" cy="1038240"/>
            </a:xfrm>
          </p:grpSpPr>
          <p:sp>
            <p:nvSpPr>
              <p:cNvPr id="145" name=""/>
              <p:cNvSpPr/>
              <p:nvPr/>
            </p:nvSpPr>
            <p:spPr>
              <a:xfrm>
                <a:off x="5511960" y="141300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511960" y="186984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" name=""/>
          <p:cNvSpPr/>
          <p:nvPr/>
        </p:nvSpPr>
        <p:spPr>
          <a:xfrm>
            <a:off x="549360" y="249228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         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（         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195640" y="2266920"/>
            <a:ext cx="685800" cy="1038600"/>
            <a:chOff x="2195640" y="2266920"/>
            <a:chExt cx="685800" cy="1038600"/>
          </a:xfrm>
        </p:grpSpPr>
        <p:sp>
          <p:nvSpPr>
            <p:cNvPr id="149" name=""/>
            <p:cNvSpPr/>
            <p:nvPr/>
          </p:nvSpPr>
          <p:spPr>
            <a:xfrm>
              <a:off x="2195640" y="28004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195640" y="2266920"/>
              <a:ext cx="685800" cy="1038600"/>
              <a:chOff x="2195640" y="2266920"/>
              <a:chExt cx="685800" cy="1038600"/>
            </a:xfrm>
          </p:grpSpPr>
          <p:sp>
            <p:nvSpPr>
              <p:cNvPr id="151" name=""/>
              <p:cNvSpPr/>
              <p:nvPr/>
            </p:nvSpPr>
            <p:spPr>
              <a:xfrm>
                <a:off x="2195640" y="226692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195640" y="272412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539640" y="3284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      是（      ）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844720" y="3068640"/>
            <a:ext cx="685800" cy="1038600"/>
            <a:chOff x="2844720" y="3068640"/>
            <a:chExt cx="685800" cy="1038600"/>
          </a:xfrm>
        </p:grpSpPr>
        <p:sp>
          <p:nvSpPr>
            <p:cNvPr id="155" name=""/>
            <p:cNvSpPr/>
            <p:nvPr/>
          </p:nvSpPr>
          <p:spPr>
            <a:xfrm>
              <a:off x="2844720" y="36021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2844720" y="3068640"/>
              <a:ext cx="685800" cy="1038600"/>
              <a:chOff x="2844720" y="3068640"/>
              <a:chExt cx="685800" cy="1038600"/>
            </a:xfrm>
          </p:grpSpPr>
          <p:sp>
            <p:nvSpPr>
              <p:cNvPr id="157" name=""/>
              <p:cNvSpPr/>
              <p:nvPr/>
            </p:nvSpPr>
            <p:spPr>
              <a:xfrm>
                <a:off x="2844720" y="306864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844720" y="352584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9" name=""/>
          <p:cNvGrpSpPr/>
          <p:nvPr/>
        </p:nvGrpSpPr>
        <p:grpSpPr>
          <a:xfrm>
            <a:off x="4297320" y="3098880"/>
            <a:ext cx="685800" cy="1038240"/>
            <a:chOff x="4297320" y="3098880"/>
            <a:chExt cx="685800" cy="1038240"/>
          </a:xfrm>
        </p:grpSpPr>
        <p:sp>
          <p:nvSpPr>
            <p:cNvPr id="160" name=""/>
            <p:cNvSpPr/>
            <p:nvPr/>
          </p:nvSpPr>
          <p:spPr>
            <a:xfrm>
              <a:off x="4297320" y="3632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4297320" y="3098880"/>
              <a:ext cx="685800" cy="1038240"/>
              <a:chOff x="4297320" y="3098880"/>
              <a:chExt cx="685800" cy="1038240"/>
            </a:xfrm>
          </p:grpSpPr>
          <p:sp>
            <p:nvSpPr>
              <p:cNvPr id="162" name=""/>
              <p:cNvSpPr/>
              <p:nvPr/>
            </p:nvSpPr>
            <p:spPr>
              <a:xfrm>
                <a:off x="4297320" y="309888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297320" y="355572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4282920" y="2205000"/>
            <a:ext cx="685800" cy="1038600"/>
            <a:chOff x="4282920" y="2205000"/>
            <a:chExt cx="685800" cy="1038600"/>
          </a:xfrm>
        </p:grpSpPr>
        <p:sp>
          <p:nvSpPr>
            <p:cNvPr id="165" name=""/>
            <p:cNvSpPr/>
            <p:nvPr/>
          </p:nvSpPr>
          <p:spPr>
            <a:xfrm>
              <a:off x="4282920" y="2738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4282920" y="2205000"/>
              <a:ext cx="685800" cy="1038600"/>
              <a:chOff x="4282920" y="2205000"/>
              <a:chExt cx="685800" cy="1038600"/>
            </a:xfrm>
          </p:grpSpPr>
          <p:sp>
            <p:nvSpPr>
              <p:cNvPr id="167" name=""/>
              <p:cNvSpPr/>
              <p:nvPr/>
            </p:nvSpPr>
            <p:spPr>
              <a:xfrm>
                <a:off x="4282920" y="220500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282920" y="266220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" name=""/>
          <p:cNvSpPr/>
          <p:nvPr/>
        </p:nvSpPr>
        <p:spPr>
          <a:xfrm>
            <a:off x="2627280" y="59990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67280" y="161928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40766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里面有（   ）个      ，即是（    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143680" y="3841920"/>
            <a:ext cx="685800" cy="1038240"/>
            <a:chOff x="5143680" y="3841920"/>
            <a:chExt cx="685800" cy="1038240"/>
          </a:xfrm>
        </p:grpSpPr>
        <p:sp>
          <p:nvSpPr>
            <p:cNvPr id="173" name=""/>
            <p:cNvSpPr/>
            <p:nvPr/>
          </p:nvSpPr>
          <p:spPr>
            <a:xfrm>
              <a:off x="5143680" y="4375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5143680" y="3841920"/>
              <a:ext cx="685800" cy="1038240"/>
              <a:chOff x="5143680" y="3841920"/>
              <a:chExt cx="685800" cy="1038240"/>
            </a:xfrm>
          </p:grpSpPr>
          <p:sp>
            <p:nvSpPr>
              <p:cNvPr id="175" name=""/>
              <p:cNvSpPr/>
              <p:nvPr/>
            </p:nvSpPr>
            <p:spPr>
              <a:xfrm>
                <a:off x="5143680" y="384192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143680" y="429876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7251840" y="3860640"/>
            <a:ext cx="685800" cy="1038600"/>
            <a:chOff x="7251840" y="3860640"/>
            <a:chExt cx="685800" cy="1038600"/>
          </a:xfrm>
        </p:grpSpPr>
        <p:sp>
          <p:nvSpPr>
            <p:cNvPr id="178" name=""/>
            <p:cNvSpPr/>
            <p:nvPr/>
          </p:nvSpPr>
          <p:spPr>
            <a:xfrm>
              <a:off x="7251840" y="439416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7251840" y="3860640"/>
              <a:ext cx="685800" cy="1038600"/>
              <a:chOff x="7251840" y="3860640"/>
              <a:chExt cx="685800" cy="1038600"/>
            </a:xfrm>
          </p:grpSpPr>
          <p:sp>
            <p:nvSpPr>
              <p:cNvPr id="180" name=""/>
              <p:cNvSpPr/>
              <p:nvPr/>
            </p:nvSpPr>
            <p:spPr>
              <a:xfrm>
                <a:off x="7251840" y="386064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251840" y="431784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3868560" y="404172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7200" y="20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bear016.gif (4227 字节)"/>
          <p:cNvPicPr/>
          <p:nvPr/>
        </p:nvPicPr>
        <p:blipFill>
          <a:blip r:embed="rId2"/>
          <a:stretch/>
        </p:blipFill>
        <p:spPr>
          <a:xfrm>
            <a:off x="228600" y="2209680"/>
            <a:ext cx="2619360" cy="3581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09440" y="255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809880" y="3429000"/>
            <a:ext cx="3505320" cy="2989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981080" y="0"/>
            <a:ext cx="6782040" cy="3124080"/>
          </a:xfrm>
          <a:prstGeom prst="cloudCallout">
            <a:avLst>
              <a:gd name="adj1" fmla="val -37851"/>
              <a:gd name="adj2" fmla="val 421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781680" y="1523880"/>
            <a:ext cx="533520" cy="1252080"/>
            <a:chOff x="6781680" y="1523880"/>
            <a:chExt cx="533520" cy="1252080"/>
          </a:xfrm>
        </p:grpSpPr>
        <p:sp>
          <p:nvSpPr>
            <p:cNvPr id="189" name=""/>
            <p:cNvSpPr/>
            <p:nvPr/>
          </p:nvSpPr>
          <p:spPr>
            <a:xfrm>
              <a:off x="6781680" y="2130480"/>
              <a:ext cx="533520" cy="2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59440" y="1523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59440" y="21333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3707640" y="533520"/>
            <a:ext cx="4064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妈妈买了一个大蛋糕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哥哥吃了这个蛋糕的    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熊弟弟吃了蛋糕的     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772400" y="914400"/>
            <a:ext cx="533520" cy="1252080"/>
            <a:chOff x="7772400" y="914400"/>
            <a:chExt cx="533520" cy="1252080"/>
          </a:xfrm>
        </p:grpSpPr>
        <p:sp>
          <p:nvSpPr>
            <p:cNvPr id="194" name=""/>
            <p:cNvSpPr/>
            <p:nvPr/>
          </p:nvSpPr>
          <p:spPr>
            <a:xfrm>
              <a:off x="7772400" y="1521000"/>
              <a:ext cx="533520" cy="2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50160" y="9144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50160" y="1523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066680" y="1143000"/>
            <a:ext cx="6096240" cy="23623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286000" y="1143000"/>
            <a:ext cx="3657600" cy="2362320"/>
            <a:chOff x="2286000" y="1143000"/>
            <a:chExt cx="3657600" cy="2362320"/>
          </a:xfrm>
        </p:grpSpPr>
        <p:sp>
          <p:nvSpPr>
            <p:cNvPr id="199" name=""/>
            <p:cNvSpPr/>
            <p:nvPr/>
          </p:nvSpPr>
          <p:spPr>
            <a:xfrm>
              <a:off x="2286000" y="1143000"/>
              <a:ext cx="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05320" y="1143000"/>
              <a:ext cx="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24280" y="1143000"/>
              <a:ext cx="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3600" y="1143000"/>
              <a:ext cx="0" cy="2362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066680" y="1143000"/>
            <a:ext cx="2438280" cy="2362320"/>
            <a:chOff x="1066680" y="1143000"/>
            <a:chExt cx="2438280" cy="2362320"/>
          </a:xfrm>
        </p:grpSpPr>
        <p:sp>
          <p:nvSpPr>
            <p:cNvPr id="204" name=""/>
            <p:cNvSpPr/>
            <p:nvPr/>
          </p:nvSpPr>
          <p:spPr>
            <a:xfrm>
              <a:off x="1066680" y="1143000"/>
              <a:ext cx="1219320" cy="23623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143000"/>
              <a:ext cx="1218960" cy="23623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505320" y="1143000"/>
            <a:ext cx="1218960" cy="2362320"/>
          </a:xfrm>
          <a:prstGeom prst="rect">
            <a:avLst/>
          </a:prstGeom>
          <a:solidFill>
            <a:srgbClr val="66ff3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3999960" y="3314520"/>
            <a:ext cx="380880" cy="106668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2133720" y="2666520"/>
            <a:ext cx="380880" cy="2362320"/>
          </a:xfrm>
          <a:custGeom>
            <a:avLst/>
            <a:gdLst>
              <a:gd name="textAreaLeft" fmla="*/ 0 w 380880"/>
              <a:gd name="textAreaRight" fmla="*/ 137520 w 3808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905120" y="4191120"/>
            <a:ext cx="761760" cy="1328040"/>
            <a:chOff x="1905120" y="4191120"/>
            <a:chExt cx="761760" cy="1328040"/>
          </a:xfrm>
        </p:grpSpPr>
        <p:sp>
          <p:nvSpPr>
            <p:cNvPr id="210" name=""/>
            <p:cNvSpPr/>
            <p:nvPr/>
          </p:nvSpPr>
          <p:spPr>
            <a:xfrm>
              <a:off x="2058480" y="41911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58480" y="48765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05120" y="48765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809880" y="4191120"/>
            <a:ext cx="762120" cy="1328040"/>
            <a:chOff x="3809880" y="4191120"/>
            <a:chExt cx="762120" cy="1328040"/>
          </a:xfrm>
        </p:grpSpPr>
        <p:sp>
          <p:nvSpPr>
            <p:cNvPr id="214" name=""/>
            <p:cNvSpPr/>
            <p:nvPr/>
          </p:nvSpPr>
          <p:spPr>
            <a:xfrm>
              <a:off x="3963960" y="41911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963960" y="48765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09880" y="48765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2959920" y="44197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650120" y="4191120"/>
            <a:ext cx="1522080" cy="1328040"/>
            <a:chOff x="4650120" y="4191120"/>
            <a:chExt cx="1522080" cy="1328040"/>
          </a:xfrm>
        </p:grpSpPr>
        <p:sp>
          <p:nvSpPr>
            <p:cNvPr id="219" name=""/>
            <p:cNvSpPr/>
            <p:nvPr/>
          </p:nvSpPr>
          <p:spPr>
            <a:xfrm>
              <a:off x="4650120" y="441936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5410440" y="4191120"/>
              <a:ext cx="761760" cy="1328040"/>
              <a:chOff x="5410440" y="4191120"/>
              <a:chExt cx="761760" cy="1328040"/>
            </a:xfrm>
          </p:grpSpPr>
          <p:sp>
            <p:nvSpPr>
              <p:cNvPr id="221" name=""/>
              <p:cNvSpPr/>
              <p:nvPr/>
            </p:nvSpPr>
            <p:spPr>
              <a:xfrm>
                <a:off x="5563800" y="41911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563800" y="487656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410440" y="487656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295280" y="2514600"/>
            <a:ext cx="1447920" cy="1143000"/>
            <a:chOff x="1295280" y="2514600"/>
            <a:chExt cx="1447920" cy="1143000"/>
          </a:xfrm>
        </p:grpSpPr>
        <p:sp>
          <p:nvSpPr>
            <p:cNvPr id="225" name=""/>
            <p:cNvSpPr/>
            <p:nvPr/>
          </p:nvSpPr>
          <p:spPr>
            <a:xfrm>
              <a:off x="1295280" y="2514600"/>
              <a:ext cx="4827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6044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60440" y="2514600"/>
              <a:ext cx="4827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78040" y="2514600"/>
              <a:ext cx="48240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78040" y="3086280"/>
              <a:ext cx="48240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9528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581280" y="2514600"/>
            <a:ext cx="1447920" cy="1143000"/>
            <a:chOff x="3581280" y="2514600"/>
            <a:chExt cx="1447920" cy="1143000"/>
          </a:xfrm>
        </p:grpSpPr>
        <p:sp>
          <p:nvSpPr>
            <p:cNvPr id="232" name=""/>
            <p:cNvSpPr/>
            <p:nvPr/>
          </p:nvSpPr>
          <p:spPr>
            <a:xfrm>
              <a:off x="3581280" y="2514600"/>
              <a:ext cx="48276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644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46440" y="2514600"/>
              <a:ext cx="48276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64040" y="2514600"/>
              <a:ext cx="48240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64040" y="3086280"/>
              <a:ext cx="482400" cy="5713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81280" y="3086280"/>
              <a:ext cx="482760" cy="5713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1295280" y="2514600"/>
            <a:ext cx="4827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48680" y="26668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676520" y="4114800"/>
            <a:ext cx="761760" cy="1328400"/>
            <a:chOff x="1676520" y="4114800"/>
            <a:chExt cx="761760" cy="1328400"/>
          </a:xfrm>
        </p:grpSpPr>
        <p:sp>
          <p:nvSpPr>
            <p:cNvPr id="241" name=""/>
            <p:cNvSpPr/>
            <p:nvPr/>
          </p:nvSpPr>
          <p:spPr>
            <a:xfrm>
              <a:off x="1829880" y="4114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2988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76520" y="48006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429000" y="4114800"/>
            <a:ext cx="762120" cy="1328400"/>
            <a:chOff x="3429000" y="4114800"/>
            <a:chExt cx="762120" cy="1328400"/>
          </a:xfrm>
        </p:grpSpPr>
        <p:sp>
          <p:nvSpPr>
            <p:cNvPr id="245" name=""/>
            <p:cNvSpPr/>
            <p:nvPr/>
          </p:nvSpPr>
          <p:spPr>
            <a:xfrm>
              <a:off x="3583080" y="4114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8308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29000" y="48006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655000" y="43434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251460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685800" y="2514600"/>
            <a:ext cx="1447920" cy="1143000"/>
            <a:chOff x="685800" y="2514600"/>
            <a:chExt cx="1447920" cy="1143000"/>
          </a:xfrm>
        </p:grpSpPr>
        <p:sp>
          <p:nvSpPr>
            <p:cNvPr id="251" name=""/>
            <p:cNvSpPr/>
            <p:nvPr/>
          </p:nvSpPr>
          <p:spPr>
            <a:xfrm>
              <a:off x="685800" y="2514600"/>
              <a:ext cx="4827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5096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50960" y="2514600"/>
              <a:ext cx="4827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168560" y="2514600"/>
              <a:ext cx="48240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68560" y="3086280"/>
              <a:ext cx="48240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580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2971800" y="2514600"/>
            <a:ext cx="1447920" cy="1143000"/>
            <a:chOff x="2971800" y="2514600"/>
            <a:chExt cx="1447920" cy="1143000"/>
          </a:xfrm>
        </p:grpSpPr>
        <p:sp>
          <p:nvSpPr>
            <p:cNvPr id="258" name=""/>
            <p:cNvSpPr/>
            <p:nvPr/>
          </p:nvSpPr>
          <p:spPr>
            <a:xfrm>
              <a:off x="2971800" y="2514600"/>
              <a:ext cx="48276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3696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36960" y="2514600"/>
              <a:ext cx="48276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54560" y="2514600"/>
              <a:ext cx="48240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54560" y="3086280"/>
              <a:ext cx="482400" cy="5713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71800" y="3086280"/>
              <a:ext cx="482760" cy="5713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685800" y="2514600"/>
            <a:ext cx="4827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39200" y="26668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066680" y="4114800"/>
            <a:ext cx="762120" cy="1328400"/>
            <a:chOff x="1066680" y="4114800"/>
            <a:chExt cx="762120" cy="1328400"/>
          </a:xfrm>
        </p:grpSpPr>
        <p:sp>
          <p:nvSpPr>
            <p:cNvPr id="267" name=""/>
            <p:cNvSpPr/>
            <p:nvPr/>
          </p:nvSpPr>
          <p:spPr>
            <a:xfrm>
              <a:off x="1220760" y="4114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2076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66680" y="48006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819520" y="4114800"/>
            <a:ext cx="761760" cy="1328400"/>
            <a:chOff x="2819520" y="4114800"/>
            <a:chExt cx="761760" cy="1328400"/>
          </a:xfrm>
        </p:grpSpPr>
        <p:sp>
          <p:nvSpPr>
            <p:cNvPr id="271" name=""/>
            <p:cNvSpPr/>
            <p:nvPr/>
          </p:nvSpPr>
          <p:spPr>
            <a:xfrm>
              <a:off x="2972880" y="4114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288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19520" y="48006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045520" y="43434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715000" y="2590920"/>
            <a:ext cx="1447920" cy="1143000"/>
            <a:chOff x="5715000" y="2590920"/>
            <a:chExt cx="1447920" cy="1143000"/>
          </a:xfrm>
        </p:grpSpPr>
        <p:sp>
          <p:nvSpPr>
            <p:cNvPr id="276" name=""/>
            <p:cNvSpPr/>
            <p:nvPr/>
          </p:nvSpPr>
          <p:spPr>
            <a:xfrm>
              <a:off x="6680160" y="316260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5715000" y="2590920"/>
              <a:ext cx="1447920" cy="1143000"/>
              <a:chOff x="5715000" y="2590920"/>
              <a:chExt cx="1447920" cy="1143000"/>
            </a:xfrm>
          </p:grpSpPr>
          <p:sp>
            <p:nvSpPr>
              <p:cNvPr id="278" name=""/>
              <p:cNvSpPr/>
              <p:nvPr/>
            </p:nvSpPr>
            <p:spPr>
              <a:xfrm>
                <a:off x="5715000" y="2590920"/>
                <a:ext cx="48276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680160" y="2590920"/>
                <a:ext cx="48276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197760" y="2590920"/>
                <a:ext cx="48240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197760" y="3162600"/>
                <a:ext cx="482400" cy="5713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715000" y="3162600"/>
                <a:ext cx="482760" cy="5713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3" name=""/>
          <p:cNvSpPr/>
          <p:nvPr/>
        </p:nvSpPr>
        <p:spPr>
          <a:xfrm>
            <a:off x="4495680" y="3124080"/>
            <a:ext cx="1067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251460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685800" y="2514600"/>
            <a:ext cx="1447920" cy="1143000"/>
            <a:chOff x="685800" y="2514600"/>
            <a:chExt cx="1447920" cy="1143000"/>
          </a:xfrm>
        </p:grpSpPr>
        <p:sp>
          <p:nvSpPr>
            <p:cNvPr id="286" name=""/>
            <p:cNvSpPr/>
            <p:nvPr/>
          </p:nvSpPr>
          <p:spPr>
            <a:xfrm>
              <a:off x="685800" y="2514600"/>
              <a:ext cx="4827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5096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50960" y="2514600"/>
              <a:ext cx="4827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68560" y="2514600"/>
              <a:ext cx="48240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68560" y="3086280"/>
              <a:ext cx="48240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580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971800" y="2514600"/>
            <a:ext cx="1447920" cy="1143000"/>
            <a:chOff x="2971800" y="2514600"/>
            <a:chExt cx="1447920" cy="1143000"/>
          </a:xfrm>
        </p:grpSpPr>
        <p:sp>
          <p:nvSpPr>
            <p:cNvPr id="293" name=""/>
            <p:cNvSpPr/>
            <p:nvPr/>
          </p:nvSpPr>
          <p:spPr>
            <a:xfrm>
              <a:off x="2971800" y="2514600"/>
              <a:ext cx="48276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3696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936960" y="2514600"/>
              <a:ext cx="48276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54560" y="2514600"/>
              <a:ext cx="48240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454560" y="3086280"/>
              <a:ext cx="482400" cy="5713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971800" y="3086280"/>
              <a:ext cx="482760" cy="5713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685800" y="2514600"/>
            <a:ext cx="4827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39200" y="26668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066680" y="4114800"/>
            <a:ext cx="762120" cy="1328400"/>
            <a:chOff x="1066680" y="4114800"/>
            <a:chExt cx="762120" cy="1328400"/>
          </a:xfrm>
        </p:grpSpPr>
        <p:sp>
          <p:nvSpPr>
            <p:cNvPr id="302" name=""/>
            <p:cNvSpPr/>
            <p:nvPr/>
          </p:nvSpPr>
          <p:spPr>
            <a:xfrm>
              <a:off x="1220760" y="4114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2076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66680" y="48006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819520" y="4114800"/>
            <a:ext cx="761760" cy="1328400"/>
            <a:chOff x="2819520" y="4114800"/>
            <a:chExt cx="761760" cy="1328400"/>
          </a:xfrm>
        </p:grpSpPr>
        <p:sp>
          <p:nvSpPr>
            <p:cNvPr id="306" name=""/>
            <p:cNvSpPr/>
            <p:nvPr/>
          </p:nvSpPr>
          <p:spPr>
            <a:xfrm>
              <a:off x="2972880" y="4114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288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19520" y="48006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2045520" y="43434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5715000" y="2590920"/>
            <a:ext cx="1447920" cy="1143000"/>
            <a:chOff x="5715000" y="2590920"/>
            <a:chExt cx="1447920" cy="1143000"/>
          </a:xfrm>
        </p:grpSpPr>
        <p:sp>
          <p:nvSpPr>
            <p:cNvPr id="311" name=""/>
            <p:cNvSpPr/>
            <p:nvPr/>
          </p:nvSpPr>
          <p:spPr>
            <a:xfrm>
              <a:off x="6680160" y="316260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5715000" y="2590920"/>
              <a:ext cx="1447920" cy="1143000"/>
              <a:chOff x="5715000" y="2590920"/>
              <a:chExt cx="1447920" cy="1143000"/>
            </a:xfrm>
          </p:grpSpPr>
          <p:sp>
            <p:nvSpPr>
              <p:cNvPr id="313" name=""/>
              <p:cNvSpPr/>
              <p:nvPr/>
            </p:nvSpPr>
            <p:spPr>
              <a:xfrm>
                <a:off x="5715000" y="2590920"/>
                <a:ext cx="48276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680160" y="2590920"/>
                <a:ext cx="48276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197760" y="2590920"/>
                <a:ext cx="48240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197760" y="3162600"/>
                <a:ext cx="482400" cy="5713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715000" y="3162600"/>
                <a:ext cx="482760" cy="5713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8" name=""/>
          <p:cNvSpPr/>
          <p:nvPr/>
        </p:nvSpPr>
        <p:spPr>
          <a:xfrm>
            <a:off x="4495680" y="3124080"/>
            <a:ext cx="1067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251460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14400" y="205740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98108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76520" y="1905120"/>
            <a:ext cx="482400" cy="571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133720" y="1828800"/>
            <a:ext cx="48240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14600" y="182880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182880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29000" y="182880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62520" y="1828800"/>
            <a:ext cx="48240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72000" y="1905120"/>
            <a:ext cx="482760" cy="571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105520" y="1981080"/>
            <a:ext cx="48240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680160" y="316224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553080" y="2362320"/>
            <a:ext cx="482760" cy="571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05740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638680" y="198108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0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1371600" y="2514600"/>
            <a:ext cx="1447920" cy="1143000"/>
            <a:chOff x="1371600" y="2514600"/>
            <a:chExt cx="1447920" cy="1143000"/>
          </a:xfrm>
        </p:grpSpPr>
        <p:sp>
          <p:nvSpPr>
            <p:cNvPr id="335" name=""/>
            <p:cNvSpPr/>
            <p:nvPr/>
          </p:nvSpPr>
          <p:spPr>
            <a:xfrm>
              <a:off x="1371600" y="2514600"/>
              <a:ext cx="4827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33676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336760" y="2514600"/>
              <a:ext cx="48276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54360" y="2514600"/>
              <a:ext cx="482400" cy="57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54360" y="3086280"/>
              <a:ext cx="48240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7160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657600" y="2514600"/>
            <a:ext cx="1447920" cy="1143000"/>
            <a:chOff x="3657600" y="2514600"/>
            <a:chExt cx="1447920" cy="1143000"/>
          </a:xfrm>
        </p:grpSpPr>
        <p:sp>
          <p:nvSpPr>
            <p:cNvPr id="342" name=""/>
            <p:cNvSpPr/>
            <p:nvPr/>
          </p:nvSpPr>
          <p:spPr>
            <a:xfrm>
              <a:off x="3657600" y="2514600"/>
              <a:ext cx="48276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22760" y="308628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22760" y="2514600"/>
              <a:ext cx="48276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40360" y="2514600"/>
              <a:ext cx="482400" cy="57168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140360" y="3086280"/>
              <a:ext cx="482400" cy="5713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57600" y="3086280"/>
              <a:ext cx="482760" cy="5713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1371600" y="2514600"/>
            <a:ext cx="4827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25000" y="26668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752480" y="4114800"/>
            <a:ext cx="762120" cy="1328400"/>
            <a:chOff x="1752480" y="4114800"/>
            <a:chExt cx="762120" cy="1328400"/>
          </a:xfrm>
        </p:grpSpPr>
        <p:sp>
          <p:nvSpPr>
            <p:cNvPr id="351" name=""/>
            <p:cNvSpPr/>
            <p:nvPr/>
          </p:nvSpPr>
          <p:spPr>
            <a:xfrm>
              <a:off x="1906560" y="4114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90656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752480" y="48006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505320" y="4114800"/>
            <a:ext cx="761760" cy="1328400"/>
            <a:chOff x="3505320" y="4114800"/>
            <a:chExt cx="761760" cy="1328400"/>
          </a:xfrm>
        </p:grpSpPr>
        <p:sp>
          <p:nvSpPr>
            <p:cNvPr id="355" name=""/>
            <p:cNvSpPr/>
            <p:nvPr/>
          </p:nvSpPr>
          <p:spPr>
            <a:xfrm>
              <a:off x="3658680" y="41148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58680" y="480060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05320" y="48006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2731320" y="43434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400800" y="2590920"/>
            <a:ext cx="1447920" cy="1143000"/>
            <a:chOff x="6400800" y="2590920"/>
            <a:chExt cx="1447920" cy="1143000"/>
          </a:xfrm>
        </p:grpSpPr>
        <p:sp>
          <p:nvSpPr>
            <p:cNvPr id="360" name=""/>
            <p:cNvSpPr/>
            <p:nvPr/>
          </p:nvSpPr>
          <p:spPr>
            <a:xfrm>
              <a:off x="7365960" y="3162600"/>
              <a:ext cx="4827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6400800" y="2590920"/>
              <a:ext cx="1447920" cy="1143000"/>
              <a:chOff x="6400800" y="2590920"/>
              <a:chExt cx="1447920" cy="1143000"/>
            </a:xfrm>
          </p:grpSpPr>
          <p:sp>
            <p:nvSpPr>
              <p:cNvPr id="362" name=""/>
              <p:cNvSpPr/>
              <p:nvPr/>
            </p:nvSpPr>
            <p:spPr>
              <a:xfrm>
                <a:off x="6400800" y="2590920"/>
                <a:ext cx="48276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65960" y="2590920"/>
                <a:ext cx="48276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883560" y="2590920"/>
                <a:ext cx="482400" cy="5716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883560" y="3162600"/>
                <a:ext cx="482400" cy="5713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400800" y="3162600"/>
                <a:ext cx="482760" cy="5713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7" name=""/>
          <p:cNvSpPr/>
          <p:nvPr/>
        </p:nvSpPr>
        <p:spPr>
          <a:xfrm>
            <a:off x="5181480" y="3124080"/>
            <a:ext cx="10670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421520" y="4114800"/>
            <a:ext cx="1293480" cy="1328400"/>
            <a:chOff x="4421520" y="4114800"/>
            <a:chExt cx="1293480" cy="1328400"/>
          </a:xfrm>
        </p:grpSpPr>
        <p:sp>
          <p:nvSpPr>
            <p:cNvPr id="369" name=""/>
            <p:cNvSpPr/>
            <p:nvPr/>
          </p:nvSpPr>
          <p:spPr>
            <a:xfrm>
              <a:off x="4421520" y="434340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4953240" y="4114800"/>
              <a:ext cx="761760" cy="1328400"/>
              <a:chOff x="4953240" y="4114800"/>
              <a:chExt cx="761760" cy="1328400"/>
            </a:xfrm>
          </p:grpSpPr>
          <p:sp>
            <p:nvSpPr>
              <p:cNvPr id="371" name=""/>
              <p:cNvSpPr/>
              <p:nvPr/>
            </p:nvSpPr>
            <p:spPr>
              <a:xfrm>
                <a:off x="5106600" y="41148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106600" y="480060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953240" y="480060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4" name=""/>
          <p:cNvSpPr/>
          <p:nvPr/>
        </p:nvSpPr>
        <p:spPr>
          <a:xfrm>
            <a:off x="5792760" y="4343400"/>
            <a:ext cx="108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365960" y="3162240"/>
            <a:ext cx="482760" cy="571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2286000" y="533520"/>
            <a:ext cx="762120" cy="1328040"/>
            <a:chOff x="2286000" y="533520"/>
            <a:chExt cx="762120" cy="1328040"/>
          </a:xfrm>
        </p:grpSpPr>
        <p:sp>
          <p:nvSpPr>
            <p:cNvPr id="377" name=""/>
            <p:cNvSpPr/>
            <p:nvPr/>
          </p:nvSpPr>
          <p:spPr>
            <a:xfrm>
              <a:off x="2440080" y="5335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440080" y="12189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86000" y="12189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4191120" y="533520"/>
            <a:ext cx="761760" cy="1328040"/>
            <a:chOff x="4191120" y="533520"/>
            <a:chExt cx="761760" cy="1328040"/>
          </a:xfrm>
        </p:grpSpPr>
        <p:sp>
          <p:nvSpPr>
            <p:cNvPr id="381" name=""/>
            <p:cNvSpPr/>
            <p:nvPr/>
          </p:nvSpPr>
          <p:spPr>
            <a:xfrm>
              <a:off x="4344480" y="5335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44480" y="121896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191120" y="12189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339360" y="7621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031000" y="533520"/>
            <a:ext cx="1522080" cy="1328040"/>
            <a:chOff x="5031000" y="533520"/>
            <a:chExt cx="1522080" cy="1328040"/>
          </a:xfrm>
        </p:grpSpPr>
        <p:sp>
          <p:nvSpPr>
            <p:cNvPr id="386" name=""/>
            <p:cNvSpPr/>
            <p:nvPr/>
          </p:nvSpPr>
          <p:spPr>
            <a:xfrm>
              <a:off x="5031000" y="76176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5791320" y="533520"/>
              <a:ext cx="761760" cy="1328040"/>
              <a:chOff x="5791320" y="533520"/>
              <a:chExt cx="761760" cy="1328040"/>
            </a:xfrm>
          </p:grpSpPr>
          <p:sp>
            <p:nvSpPr>
              <p:cNvPr id="388" name=""/>
              <p:cNvSpPr/>
              <p:nvPr/>
            </p:nvSpPr>
            <p:spPr>
              <a:xfrm>
                <a:off x="5944680" y="53352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944680" y="121896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791320" y="121896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1" name=""/>
          <p:cNvGrpSpPr/>
          <p:nvPr/>
        </p:nvGrpSpPr>
        <p:grpSpPr>
          <a:xfrm>
            <a:off x="2209680" y="2438280"/>
            <a:ext cx="762120" cy="1328400"/>
            <a:chOff x="2209680" y="2438280"/>
            <a:chExt cx="762120" cy="1328400"/>
          </a:xfrm>
        </p:grpSpPr>
        <p:sp>
          <p:nvSpPr>
            <p:cNvPr id="392" name=""/>
            <p:cNvSpPr/>
            <p:nvPr/>
          </p:nvSpPr>
          <p:spPr>
            <a:xfrm>
              <a:off x="2363760" y="2438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363760" y="3124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209680" y="31240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962520" y="2438280"/>
            <a:ext cx="761760" cy="1328400"/>
            <a:chOff x="3962520" y="2438280"/>
            <a:chExt cx="761760" cy="1328400"/>
          </a:xfrm>
        </p:grpSpPr>
        <p:sp>
          <p:nvSpPr>
            <p:cNvPr id="396" name=""/>
            <p:cNvSpPr/>
            <p:nvPr/>
          </p:nvSpPr>
          <p:spPr>
            <a:xfrm>
              <a:off x="4115880" y="2438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115880" y="31240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12408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3186720" y="26668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8720" y="2438280"/>
            <a:ext cx="1293480" cy="1328400"/>
            <a:chOff x="4878720" y="2438280"/>
            <a:chExt cx="1293480" cy="1328400"/>
          </a:xfrm>
        </p:grpSpPr>
        <p:sp>
          <p:nvSpPr>
            <p:cNvPr id="401" name=""/>
            <p:cNvSpPr/>
            <p:nvPr/>
          </p:nvSpPr>
          <p:spPr>
            <a:xfrm>
              <a:off x="4878720" y="2666880"/>
              <a:ext cx="570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5410440" y="2438280"/>
              <a:ext cx="761760" cy="1328400"/>
              <a:chOff x="5410440" y="2438280"/>
              <a:chExt cx="761760" cy="1328400"/>
            </a:xfrm>
          </p:grpSpPr>
          <p:sp>
            <p:nvSpPr>
              <p:cNvPr id="403" name=""/>
              <p:cNvSpPr/>
              <p:nvPr/>
            </p:nvSpPr>
            <p:spPr>
              <a:xfrm>
                <a:off x="5563800" y="24382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563800" y="3124080"/>
                <a:ext cx="40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410440" y="312408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6" name=""/>
          <p:cNvSpPr/>
          <p:nvPr/>
        </p:nvSpPr>
        <p:spPr>
          <a:xfrm>
            <a:off x="6249960" y="2666880"/>
            <a:ext cx="108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= 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312280" y="3933720"/>
            <a:ext cx="456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仔细观察，你发现了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252360" y="5373720"/>
            <a:ext cx="914400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相同分母的分数相加，分母不变，分子相加。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8T11:58:39Z</dcterms:created>
  <dc:creator>Legend User</dc:creator>
  <dc:description/>
  <dc:language>en-US</dc:language>
  <cp:lastModifiedBy>LENOVO</cp:lastModifiedBy>
  <cp:lastPrinted>1899-12-30T00:00:00Z</cp:lastPrinted>
  <dcterms:modified xsi:type="dcterms:W3CDTF">2008-11-30T06:44:30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